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385-49A6-4AAD-801F-105843A3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7D0-3FF6-4472-85D8-01CD1FE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066-510E-468C-8DAB-C408D6BF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E8A-5A3F-4D49-A4D2-BD917C6D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2A8-B0B3-4D1A-9612-8704A26D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F38-78AE-4E36-85EE-BC684E4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86D-98A7-4830-B4A0-999D825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46E-576A-4541-982B-AF6D3CE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CC0-ACC7-47DD-94A1-8DDF74E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21E-DED9-4EEC-B339-5B6A46B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A99-7EAE-47BA-A70C-EC72640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859-6C97-4CEA-8A0A-AAF6F69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55C-4B63-4DC1-A29A-CDB964966CC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fa703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fa7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fa7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fa7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000000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f79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000000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7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f79701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833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833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f79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b97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f77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f9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c55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f797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f77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fa7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f77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f79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c55d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fa7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f77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47Z</dcterms:modified>
  <cp:revision>2572</cp:revision>
  <dc:subject/>
  <dc:title>ICONIC</dc:title>
</cp:coreProperties>
</file>