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  <p:sldId id="269" r:id="rId39"/>
    <p:sldId id="270" r:id="rId40"/>
    <p:sldId id="271" r:id="rId41"/>
    <p:sldId id="272" r:id="rId42"/>
    <p:sldId id="273" r:id="rId43"/>
    <p:sldId id="274" r:id="rId44"/>
    <p:sldId id="275" r:id="rId45"/>
    <p:sldId id="276" r:id="rId46"/>
    <p:sldId id="277" r:id="rId47"/>
    <p:sldId id="278" r:id="rId48"/>
    <p:sldId id="279" r:id="rId49"/>
    <p:sldId id="280" r:id="rId50"/>
    <p:sldId id="281" r:id="rId51"/>
    <p:sldId id="282" r:id="rId52"/>
    <p:sldId id="283" r:id="rId53"/>
    <p:sldId id="284" r:id="rId54"/>
    <p:sldId id="285" r:id="rId5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slide" Target="slides/slide14.xml"/><Relationship Id="rId40" Type="http://schemas.openxmlformats.org/officeDocument/2006/relationships/slide" Target="slides/slide15.xml"/><Relationship Id="rId41" Type="http://schemas.openxmlformats.org/officeDocument/2006/relationships/slide" Target="slides/slide16.xml"/><Relationship Id="rId42" Type="http://schemas.openxmlformats.org/officeDocument/2006/relationships/slide" Target="slides/slide17.xml"/><Relationship Id="rId43" Type="http://schemas.openxmlformats.org/officeDocument/2006/relationships/slide" Target="slides/slide18.xml"/><Relationship Id="rId44" Type="http://schemas.openxmlformats.org/officeDocument/2006/relationships/slide" Target="slides/slide19.xml"/><Relationship Id="rId45" Type="http://schemas.openxmlformats.org/officeDocument/2006/relationships/slide" Target="slides/slide20.xml"/><Relationship Id="rId46" Type="http://schemas.openxmlformats.org/officeDocument/2006/relationships/slide" Target="slides/slide21.xml"/><Relationship Id="rId47" Type="http://schemas.openxmlformats.org/officeDocument/2006/relationships/slide" Target="slides/slide22.xml"/><Relationship Id="rId48" Type="http://schemas.openxmlformats.org/officeDocument/2006/relationships/slide" Target="slides/slide23.xml"/><Relationship Id="rId49" Type="http://schemas.openxmlformats.org/officeDocument/2006/relationships/slide" Target="slides/slide24.xml"/><Relationship Id="rId50" Type="http://schemas.openxmlformats.org/officeDocument/2006/relationships/slide" Target="slides/slide25.xml"/><Relationship Id="rId51" Type="http://schemas.openxmlformats.org/officeDocument/2006/relationships/slide" Target="slides/slide26.xml"/><Relationship Id="rId52" Type="http://schemas.openxmlformats.org/officeDocument/2006/relationships/slide" Target="slides/slide27.xml"/><Relationship Id="rId53" Type="http://schemas.openxmlformats.org/officeDocument/2006/relationships/slide" Target="slides/slide28.xml"/><Relationship Id="rId54" Type="http://schemas.openxmlformats.org/officeDocument/2006/relationships/slide" Target="slides/slide29.xml"/><Relationship Id="rId55" Type="http://schemas.openxmlformats.org/officeDocument/2006/relationships/slide" Target="slides/slide30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429E-F9E6-414E-9A31-296CF234D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F37F-3F3A-4921-8F05-2D3DB0A47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8EC6-D32D-4CB3-B921-301DDD204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B0AA-95CE-46C4-9BA3-EF937A9CC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7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7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275A-7C45-486D-B309-FB79D7ED1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1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1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5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5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9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0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8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8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8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2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2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0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0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1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FA76-E5EF-40C0-9F8C-E4A440F72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AAB4-25E8-4C9D-A9ED-1C6653884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82EA-82A9-49C6-990D-8C9E732A1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5EE3-4A03-480A-AA7F-31EC2B667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CE66-ACF4-4134-BF69-A6F92535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F03F-9B7E-459E-86AF-4220488B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5D25-679F-4AAA-B81A-836FD623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A07B8-83DD-47A6-A0C5-43DBAA53544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dcebe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dcebe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82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83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dcebe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84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dcebe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24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25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dcebe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26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dcebe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66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67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dcebe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68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dcebe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08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09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dcebe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10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dcebe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50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51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dcebe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52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dcebe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92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93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dcebe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94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dcebe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34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35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dcebe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36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dcebe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76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77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dcebe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78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dcebe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18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19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dcebe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20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dcebe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60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61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dcebe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62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dcebe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6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7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dcebe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8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dcebe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02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03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dcebe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04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dcebe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44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45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dcebe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46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dcebe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86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87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dcebe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88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dcebe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28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29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dcebe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30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dcebe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70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71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dcebe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72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dcebe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9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dcebe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0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dcebe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0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1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dcebe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2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dcebe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2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3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dcebe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4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dcebe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14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15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dcebe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16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dcebe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56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57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dcebe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58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dcebe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98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99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dcebe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00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dcebe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40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41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dcebe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42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dcebe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8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0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1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0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0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6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b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Freeform 4"/>
          <p:cNvSpPr/>
          <p:nvPr/>
        </p:nvSpPr>
        <p:spPr>
          <a:xfrm>
            <a:off x="125280" y="2522520"/>
            <a:ext cx="6499440" cy="4335480"/>
          </a:xfrm>
          <a:custGeom>
            <a:avLst/>
            <a:gdLst/>
            <a:ahLst/>
            <a:rect l="l" t="t" r="r" b="b"/>
            <a:pathLst>
              <a:path w="7468994" h="4981713">
                <a:moveTo>
                  <a:pt x="7447267" y="4981714"/>
                </a:moveTo>
                <a:lnTo>
                  <a:pt x="125082" y="4981714"/>
                </a:lnTo>
                <a:cubicBezTo>
                  <a:pt x="-71450" y="4683391"/>
                  <a:pt x="-32525" y="4247781"/>
                  <a:pt x="214681" y="3981462"/>
                </a:cubicBezTo>
                <a:cubicBezTo>
                  <a:pt x="380162" y="3803217"/>
                  <a:pt x="622414" y="3690695"/>
                  <a:pt x="778688" y="3505847"/>
                </a:cubicBezTo>
                <a:cubicBezTo>
                  <a:pt x="977633" y="3270516"/>
                  <a:pt x="1007605" y="2953079"/>
                  <a:pt x="979220" y="2658757"/>
                </a:cubicBezTo>
                <a:cubicBezTo>
                  <a:pt x="950836" y="2364434"/>
                  <a:pt x="872096" y="2072906"/>
                  <a:pt x="883399" y="1777631"/>
                </a:cubicBezTo>
                <a:cubicBezTo>
                  <a:pt x="894702" y="1482356"/>
                  <a:pt x="1017130" y="1168221"/>
                  <a:pt x="1296086" y="1011440"/>
                </a:cubicBezTo>
                <a:cubicBezTo>
                  <a:pt x="1607490" y="836370"/>
                  <a:pt x="2018144" y="902283"/>
                  <a:pt x="2361171" y="784173"/>
                </a:cubicBezTo>
                <a:cubicBezTo>
                  <a:pt x="2665463" y="679462"/>
                  <a:pt x="2884157" y="443115"/>
                  <a:pt x="3134791" y="256171"/>
                </a:cubicBezTo>
                <a:cubicBezTo>
                  <a:pt x="3385426" y="69227"/>
                  <a:pt x="3733152" y="-76125"/>
                  <a:pt x="4030459" y="43573"/>
                </a:cubicBezTo>
                <a:cubicBezTo>
                  <a:pt x="4284777" y="145998"/>
                  <a:pt x="4410507" y="411809"/>
                  <a:pt x="4428922" y="661428"/>
                </a:cubicBezTo>
                <a:cubicBezTo>
                  <a:pt x="4447337" y="911046"/>
                  <a:pt x="4382821" y="1159331"/>
                  <a:pt x="4370883" y="1409331"/>
                </a:cubicBezTo>
                <a:cubicBezTo>
                  <a:pt x="4358945" y="1659330"/>
                  <a:pt x="4411903" y="1931872"/>
                  <a:pt x="4616247" y="2102052"/>
                </a:cubicBezTo>
                <a:cubicBezTo>
                  <a:pt x="4811764" y="2264930"/>
                  <a:pt x="5099418" y="2297124"/>
                  <a:pt x="5366118" y="2299410"/>
                </a:cubicBezTo>
                <a:cubicBezTo>
                  <a:pt x="5632818" y="2301633"/>
                  <a:pt x="5909297" y="2283472"/>
                  <a:pt x="6156757" y="2372943"/>
                </a:cubicBezTo>
                <a:cubicBezTo>
                  <a:pt x="6546520" y="2513786"/>
                  <a:pt x="6778041" y="2937522"/>
                  <a:pt x="6663614" y="3300424"/>
                </a:cubicBezTo>
                <a:cubicBezTo>
                  <a:pt x="6588429" y="3538930"/>
                  <a:pt x="6384722" y="3774579"/>
                  <a:pt x="6478257" y="4007878"/>
                </a:cubicBezTo>
                <a:cubicBezTo>
                  <a:pt x="6533566" y="4145800"/>
                  <a:pt x="6680886" y="4235843"/>
                  <a:pt x="6827952" y="4299597"/>
                </a:cubicBezTo>
                <a:cubicBezTo>
                  <a:pt x="6975018" y="4363351"/>
                  <a:pt x="7134022" y="4412627"/>
                  <a:pt x="7255624" y="4510480"/>
                </a:cubicBezTo>
                <a:cubicBezTo>
                  <a:pt x="7377164" y="4608334"/>
                  <a:pt x="7525309" y="4852873"/>
                  <a:pt x="7447267" y="4981714"/>
                </a:cubicBezTo>
                <a:close/>
              </a:path>
            </a:pathLst>
          </a:custGeom>
          <a:solidFill>
            <a:srgbClr val="8fd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2422080" y="2905200"/>
            <a:ext cx="4637160" cy="104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Roboto Black"/>
              </a:rPr>
              <a:t>Gumdent</a:t>
            </a:r>
            <a:r>
              <a:rPr b="0" lang="en-US" sz="6600" spc="-1" strike="noStrike">
                <a:solidFill>
                  <a:srgbClr val="fe6b1a"/>
                </a:solidFill>
                <a:latin typeface="Roboto Black"/>
              </a:rPr>
              <a:t>.</a:t>
            </a:r>
            <a:endParaRPr b="0" lang="en-US" sz="6600" spc="-1" strike="noStrike">
              <a:solidFill>
                <a:srgbClr val="ffffff"/>
              </a:solidFill>
              <a:latin typeface="Roboto Black"/>
            </a:endParaRPr>
          </a:p>
        </p:txBody>
      </p:sp>
      <p:grpSp>
        <p:nvGrpSpPr>
          <p:cNvPr id="1013" name="Group 20"/>
          <p:cNvGrpSpPr/>
          <p:nvPr/>
        </p:nvGrpSpPr>
        <p:grpSpPr>
          <a:xfrm>
            <a:off x="1494000" y="2905200"/>
            <a:ext cx="745920" cy="1047600"/>
            <a:chOff x="1494000" y="2905200"/>
            <a:chExt cx="745920" cy="1047600"/>
          </a:xfrm>
        </p:grpSpPr>
        <p:sp>
          <p:nvSpPr>
            <p:cNvPr id="1014" name="Freeform 16"/>
            <p:cNvSpPr/>
            <p:nvPr/>
          </p:nvSpPr>
          <p:spPr>
            <a:xfrm>
              <a:off x="1494000" y="2905200"/>
              <a:ext cx="745920" cy="1047600"/>
            </a:xfrm>
            <a:custGeom>
              <a:avLst/>
              <a:gdLst/>
              <a:ahLst/>
              <a:rect l="l" t="t" r="r" b="b"/>
              <a:pathLst>
                <a:path w="2796977" h="3931284">
                  <a:moveTo>
                    <a:pt x="2655868" y="1373895"/>
                  </a:moveTo>
                  <a:cubicBezTo>
                    <a:pt x="2645264" y="1386595"/>
                    <a:pt x="2634088" y="1398978"/>
                    <a:pt x="2622214" y="1411043"/>
                  </a:cubicBezTo>
                  <a:cubicBezTo>
                    <a:pt x="2380659" y="1654946"/>
                    <a:pt x="2312206" y="1979812"/>
                    <a:pt x="2300015" y="2224986"/>
                  </a:cubicBezTo>
                  <a:cubicBezTo>
                    <a:pt x="2289728" y="2429646"/>
                    <a:pt x="2318683" y="2578681"/>
                    <a:pt x="2318683" y="2578681"/>
                  </a:cubicBezTo>
                  <a:cubicBezTo>
                    <a:pt x="2318683" y="2578681"/>
                    <a:pt x="2325732" y="2703839"/>
                    <a:pt x="2319445" y="2878020"/>
                  </a:cubicBezTo>
                  <a:cubicBezTo>
                    <a:pt x="2304903" y="3279467"/>
                    <a:pt x="2219433" y="3941391"/>
                    <a:pt x="1812842" y="3931167"/>
                  </a:cubicBezTo>
                  <a:cubicBezTo>
                    <a:pt x="1812842" y="3931167"/>
                    <a:pt x="1715306" y="3925389"/>
                    <a:pt x="1704003" y="3768417"/>
                  </a:cubicBezTo>
                  <a:cubicBezTo>
                    <a:pt x="1700638" y="3721998"/>
                    <a:pt x="1704829" y="3662372"/>
                    <a:pt x="1721339" y="3585791"/>
                  </a:cubicBezTo>
                  <a:cubicBezTo>
                    <a:pt x="1760645" y="3403228"/>
                    <a:pt x="1767122" y="3045088"/>
                    <a:pt x="1707559" y="2756354"/>
                  </a:cubicBezTo>
                  <a:cubicBezTo>
                    <a:pt x="1657648" y="2514165"/>
                    <a:pt x="1561128" y="2320807"/>
                    <a:pt x="1398505" y="2320807"/>
                  </a:cubicBezTo>
                  <a:cubicBezTo>
                    <a:pt x="1235881" y="2320807"/>
                    <a:pt x="1139424" y="2514165"/>
                    <a:pt x="1089450" y="2756354"/>
                  </a:cubicBezTo>
                  <a:cubicBezTo>
                    <a:pt x="1029887" y="3045088"/>
                    <a:pt x="1036428" y="3403228"/>
                    <a:pt x="1075734" y="3585791"/>
                  </a:cubicBezTo>
                  <a:cubicBezTo>
                    <a:pt x="1092054" y="3661610"/>
                    <a:pt x="1096308" y="3720792"/>
                    <a:pt x="1093133" y="3766956"/>
                  </a:cubicBezTo>
                  <a:cubicBezTo>
                    <a:pt x="1082338" y="3925325"/>
                    <a:pt x="984167" y="3931167"/>
                    <a:pt x="984167" y="3931167"/>
                  </a:cubicBezTo>
                  <a:cubicBezTo>
                    <a:pt x="401174" y="3945772"/>
                    <a:pt x="478262" y="2578617"/>
                    <a:pt x="478262" y="2578617"/>
                  </a:cubicBezTo>
                  <a:cubicBezTo>
                    <a:pt x="478262" y="2578617"/>
                    <a:pt x="618026" y="1858591"/>
                    <a:pt x="174796" y="1410979"/>
                  </a:cubicBezTo>
                  <a:cubicBezTo>
                    <a:pt x="163874" y="1399994"/>
                    <a:pt x="153587" y="1388627"/>
                    <a:pt x="143808" y="1377070"/>
                  </a:cubicBezTo>
                  <a:cubicBezTo>
                    <a:pt x="-5290" y="1199715"/>
                    <a:pt x="-24340" y="953525"/>
                    <a:pt x="22968" y="718258"/>
                  </a:cubicBezTo>
                  <a:cubicBezTo>
                    <a:pt x="98660" y="342274"/>
                    <a:pt x="344024" y="-5769"/>
                    <a:pt x="499154" y="73"/>
                  </a:cubicBezTo>
                  <a:cubicBezTo>
                    <a:pt x="685463" y="7058"/>
                    <a:pt x="897617" y="238896"/>
                    <a:pt x="1126026" y="356943"/>
                  </a:cubicBezTo>
                  <a:cubicBezTo>
                    <a:pt x="1214609" y="402790"/>
                    <a:pt x="1305604" y="431492"/>
                    <a:pt x="1398505" y="423300"/>
                  </a:cubicBezTo>
                  <a:cubicBezTo>
                    <a:pt x="1730927" y="452510"/>
                    <a:pt x="2039283" y="9788"/>
                    <a:pt x="2297855" y="73"/>
                  </a:cubicBezTo>
                  <a:cubicBezTo>
                    <a:pt x="2549378" y="-9389"/>
                    <a:pt x="3038328" y="911869"/>
                    <a:pt x="2655868" y="137389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015" name="Freeform 17"/>
            <p:cNvSpPr/>
            <p:nvPr/>
          </p:nvSpPr>
          <p:spPr>
            <a:xfrm>
              <a:off x="1532160" y="3272040"/>
              <a:ext cx="253080" cy="680760"/>
            </a:xfrm>
            <a:custGeom>
              <a:avLst/>
              <a:gdLst/>
              <a:ahLst/>
              <a:rect l="l" t="t" r="r" b="b"/>
              <a:pathLst>
                <a:path w="949325" h="2554213">
                  <a:moveTo>
                    <a:pt x="949325" y="2389886"/>
                  </a:moveTo>
                  <a:cubicBezTo>
                    <a:pt x="938530" y="2548255"/>
                    <a:pt x="840359" y="2554097"/>
                    <a:pt x="840359" y="2554097"/>
                  </a:cubicBezTo>
                  <a:cubicBezTo>
                    <a:pt x="257366" y="2568702"/>
                    <a:pt x="334455" y="1201547"/>
                    <a:pt x="334455" y="1201547"/>
                  </a:cubicBezTo>
                  <a:cubicBezTo>
                    <a:pt x="334455" y="1201547"/>
                    <a:pt x="474218" y="481521"/>
                    <a:pt x="30988" y="33909"/>
                  </a:cubicBezTo>
                  <a:cubicBezTo>
                    <a:pt x="20066" y="22923"/>
                    <a:pt x="9779" y="11557"/>
                    <a:pt x="0" y="0"/>
                  </a:cubicBezTo>
                  <a:cubicBezTo>
                    <a:pt x="160020" y="120650"/>
                    <a:pt x="285242" y="285305"/>
                    <a:pt x="354394" y="470535"/>
                  </a:cubicBezTo>
                  <a:cubicBezTo>
                    <a:pt x="463169" y="762191"/>
                    <a:pt x="433451" y="1082548"/>
                    <a:pt x="421449" y="1392619"/>
                  </a:cubicBezTo>
                  <a:cubicBezTo>
                    <a:pt x="409448" y="1702689"/>
                    <a:pt x="422720" y="2033079"/>
                    <a:pt x="600266" y="2290953"/>
                  </a:cubicBezTo>
                  <a:cubicBezTo>
                    <a:pt x="644589" y="2355406"/>
                    <a:pt x="703961" y="2416937"/>
                    <a:pt x="781876" y="2433257"/>
                  </a:cubicBezTo>
                  <a:cubicBezTo>
                    <a:pt x="840486" y="2445449"/>
                    <a:pt x="904558" y="2428558"/>
                    <a:pt x="949325" y="2389886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016" name="Freeform 18"/>
            <p:cNvSpPr/>
            <p:nvPr/>
          </p:nvSpPr>
          <p:spPr>
            <a:xfrm>
              <a:off x="1948320" y="3271320"/>
              <a:ext cx="253800" cy="681480"/>
            </a:xfrm>
            <a:custGeom>
              <a:avLst/>
              <a:gdLst/>
              <a:ahLst/>
              <a:rect l="l" t="t" r="r" b="b"/>
              <a:pathLst>
                <a:path w="951864" h="2557515">
                  <a:moveTo>
                    <a:pt x="596011" y="851217"/>
                  </a:moveTo>
                  <a:cubicBezTo>
                    <a:pt x="585724" y="1055878"/>
                    <a:pt x="614680" y="1204913"/>
                    <a:pt x="614680" y="1204913"/>
                  </a:cubicBezTo>
                  <a:cubicBezTo>
                    <a:pt x="614680" y="1204913"/>
                    <a:pt x="621728" y="1330071"/>
                    <a:pt x="615442" y="1504251"/>
                  </a:cubicBezTo>
                  <a:cubicBezTo>
                    <a:pt x="600900" y="1905698"/>
                    <a:pt x="515429" y="2567622"/>
                    <a:pt x="108839" y="2557399"/>
                  </a:cubicBezTo>
                  <a:cubicBezTo>
                    <a:pt x="108839" y="2557399"/>
                    <a:pt x="11303" y="2551620"/>
                    <a:pt x="0" y="2394649"/>
                  </a:cubicBezTo>
                  <a:cubicBezTo>
                    <a:pt x="44641" y="2432240"/>
                    <a:pt x="107886" y="2448560"/>
                    <a:pt x="165735" y="2436432"/>
                  </a:cubicBezTo>
                  <a:cubicBezTo>
                    <a:pt x="243713" y="2420112"/>
                    <a:pt x="303022" y="2358581"/>
                    <a:pt x="347345" y="2294128"/>
                  </a:cubicBezTo>
                  <a:cubicBezTo>
                    <a:pt x="524827" y="2036254"/>
                    <a:pt x="538099" y="1705927"/>
                    <a:pt x="526098" y="1395794"/>
                  </a:cubicBezTo>
                  <a:cubicBezTo>
                    <a:pt x="514096" y="1085723"/>
                    <a:pt x="484378" y="765365"/>
                    <a:pt x="593217" y="473710"/>
                  </a:cubicBezTo>
                  <a:cubicBezTo>
                    <a:pt x="662940" y="286829"/>
                    <a:pt x="789750" y="120967"/>
                    <a:pt x="951865" y="0"/>
                  </a:cubicBezTo>
                  <a:cubicBezTo>
                    <a:pt x="941261" y="12700"/>
                    <a:pt x="930085" y="25082"/>
                    <a:pt x="918210" y="37147"/>
                  </a:cubicBezTo>
                  <a:cubicBezTo>
                    <a:pt x="676656" y="281241"/>
                    <a:pt x="608203" y="606107"/>
                    <a:pt x="596011" y="851217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017" name="Freeform 19"/>
            <p:cNvSpPr/>
            <p:nvPr/>
          </p:nvSpPr>
          <p:spPr>
            <a:xfrm>
              <a:off x="1784520" y="3497760"/>
              <a:ext cx="164880" cy="141840"/>
            </a:xfrm>
            <a:custGeom>
              <a:avLst/>
              <a:gdLst/>
              <a:ahLst/>
              <a:rect l="l" t="t" r="r" b="b"/>
              <a:pathLst>
                <a:path w="618631" h="532129">
                  <a:moveTo>
                    <a:pt x="618599" y="532130"/>
                  </a:moveTo>
                  <a:lnTo>
                    <a:pt x="618599" y="532130"/>
                  </a:lnTo>
                  <a:cubicBezTo>
                    <a:pt x="568625" y="289941"/>
                    <a:pt x="472168" y="96583"/>
                    <a:pt x="309481" y="96583"/>
                  </a:cubicBezTo>
                  <a:cubicBezTo>
                    <a:pt x="146794" y="96583"/>
                    <a:pt x="50401" y="289941"/>
                    <a:pt x="427" y="532130"/>
                  </a:cubicBezTo>
                  <a:cubicBezTo>
                    <a:pt x="427" y="532130"/>
                    <a:pt x="-24275" y="0"/>
                    <a:pt x="302115" y="0"/>
                  </a:cubicBezTo>
                  <a:cubicBezTo>
                    <a:pt x="628505" y="0"/>
                    <a:pt x="618599" y="532130"/>
                    <a:pt x="618599" y="532130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018" name="TextBox 36"/>
          <p:cNvSpPr/>
          <p:nvPr/>
        </p:nvSpPr>
        <p:spPr>
          <a:xfrm>
            <a:off x="6807240" y="3108600"/>
            <a:ext cx="3852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ffffff"/>
                </a:solidFill>
                <a:latin typeface="Open Sans"/>
              </a:rPr>
              <a:t>He shuddered all over, and edged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19" name="Freeform 37"/>
          <p:cNvSpPr/>
          <p:nvPr/>
        </p:nvSpPr>
        <p:spPr>
          <a:xfrm>
            <a:off x="3840120" y="2198520"/>
            <a:ext cx="384120" cy="384480"/>
          </a:xfrm>
          <a:custGeom>
            <a:avLst/>
            <a:gdLst/>
            <a:ahLst/>
            <a:rect l="l" t="t" r="r" b="b"/>
            <a:pathLst>
              <a:path w="1190625" h="1190625">
                <a:moveTo>
                  <a:pt x="1190625" y="595313"/>
                </a:moveTo>
                <a:cubicBezTo>
                  <a:pt x="1190625" y="924094"/>
                  <a:pt x="924095" y="1190625"/>
                  <a:pt x="595313" y="1190625"/>
                </a:cubicBezTo>
                <a:cubicBezTo>
                  <a:pt x="266530" y="1190625"/>
                  <a:pt x="0" y="924094"/>
                  <a:pt x="0" y="595312"/>
                </a:cubicBezTo>
                <a:cubicBezTo>
                  <a:pt x="0" y="266530"/>
                  <a:pt x="266530" y="0"/>
                  <a:pt x="595313" y="0"/>
                </a:cubicBezTo>
                <a:cubicBezTo>
                  <a:pt x="924095" y="0"/>
                  <a:pt x="1190625" y="266530"/>
                  <a:pt x="1190625" y="595313"/>
                </a:cubicBezTo>
                <a:close/>
              </a:path>
            </a:pathLst>
          </a:custGeom>
          <a:solidFill>
            <a:srgbClr val="8fd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20" name="Freeform 38"/>
          <p:cNvSpPr/>
          <p:nvPr/>
        </p:nvSpPr>
        <p:spPr>
          <a:xfrm>
            <a:off x="6124680" y="5497560"/>
            <a:ext cx="590400" cy="590400"/>
          </a:xfrm>
          <a:custGeom>
            <a:avLst/>
            <a:gdLst/>
            <a:ahLst/>
            <a:rect l="l" t="t" r="r" b="b"/>
            <a:pathLst>
              <a:path w="1190625" h="1190625">
                <a:moveTo>
                  <a:pt x="1190625" y="595313"/>
                </a:moveTo>
                <a:cubicBezTo>
                  <a:pt x="1190625" y="924094"/>
                  <a:pt x="924095" y="1190625"/>
                  <a:pt x="595313" y="1190625"/>
                </a:cubicBezTo>
                <a:cubicBezTo>
                  <a:pt x="266530" y="1190625"/>
                  <a:pt x="0" y="924094"/>
                  <a:pt x="0" y="595312"/>
                </a:cubicBezTo>
                <a:cubicBezTo>
                  <a:pt x="0" y="266530"/>
                  <a:pt x="266530" y="0"/>
                  <a:pt x="595313" y="0"/>
                </a:cubicBezTo>
                <a:cubicBezTo>
                  <a:pt x="924095" y="0"/>
                  <a:pt x="1190625" y="266530"/>
                  <a:pt x="1190625" y="595313"/>
                </a:cubicBezTo>
                <a:close/>
              </a:path>
            </a:pathLst>
          </a:custGeom>
          <a:solidFill>
            <a:srgbClr val="8fd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21" name="Freeform 39"/>
          <p:cNvSpPr/>
          <p:nvPr/>
        </p:nvSpPr>
        <p:spPr>
          <a:xfrm>
            <a:off x="3641760" y="1778040"/>
            <a:ext cx="195120" cy="195120"/>
          </a:xfrm>
          <a:custGeom>
            <a:avLst/>
            <a:gdLst/>
            <a:ahLst/>
            <a:rect l="l" t="t" r="r" b="b"/>
            <a:pathLst>
              <a:path w="1190625" h="1190625">
                <a:moveTo>
                  <a:pt x="1190625" y="595313"/>
                </a:moveTo>
                <a:cubicBezTo>
                  <a:pt x="1190625" y="924094"/>
                  <a:pt x="924095" y="1190625"/>
                  <a:pt x="595313" y="1190625"/>
                </a:cubicBezTo>
                <a:cubicBezTo>
                  <a:pt x="266530" y="1190625"/>
                  <a:pt x="0" y="924094"/>
                  <a:pt x="0" y="595312"/>
                </a:cubicBezTo>
                <a:cubicBezTo>
                  <a:pt x="0" y="266530"/>
                  <a:pt x="266530" y="0"/>
                  <a:pt x="595313" y="0"/>
                </a:cubicBezTo>
                <a:cubicBezTo>
                  <a:pt x="924095" y="0"/>
                  <a:pt x="1190625" y="266530"/>
                  <a:pt x="1190625" y="595313"/>
                </a:cubicBezTo>
                <a:close/>
              </a:path>
            </a:pathLst>
          </a:custGeom>
          <a:solidFill>
            <a:srgbClr val="8fd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1218960" y="955800"/>
            <a:ext cx="975348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boto Black"/>
              </a:rPr>
              <a:t>What We Can Do?</a:t>
            </a:r>
            <a:endParaRPr b="0" lang="en-US" sz="32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444" name="TextBox 226"/>
          <p:cNvSpPr/>
          <p:nvPr/>
        </p:nvSpPr>
        <p:spPr>
          <a:xfrm>
            <a:off x="1219320" y="4888440"/>
            <a:ext cx="28652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shuddered all over, and edged away from his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45" name="TextBox 227"/>
          <p:cNvSpPr/>
          <p:nvPr/>
        </p:nvSpPr>
        <p:spPr>
          <a:xfrm>
            <a:off x="1219320" y="4649400"/>
            <a:ext cx="286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46" name="TextBox 234"/>
          <p:cNvSpPr/>
          <p:nvPr/>
        </p:nvSpPr>
        <p:spPr>
          <a:xfrm>
            <a:off x="4662360" y="4888440"/>
            <a:ext cx="2867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shuddered all over, and edged away from his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47" name="TextBox 235"/>
          <p:cNvSpPr/>
          <p:nvPr/>
        </p:nvSpPr>
        <p:spPr>
          <a:xfrm>
            <a:off x="4662360" y="4649400"/>
            <a:ext cx="28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Description Two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48" name="TextBox 237"/>
          <p:cNvSpPr/>
          <p:nvPr/>
        </p:nvSpPr>
        <p:spPr>
          <a:xfrm>
            <a:off x="8107200" y="4888440"/>
            <a:ext cx="28656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shuddered all over, and edged away from his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49" name="TextBox 238"/>
          <p:cNvSpPr/>
          <p:nvPr/>
        </p:nvSpPr>
        <p:spPr>
          <a:xfrm>
            <a:off x="8107200" y="4649400"/>
            <a:ext cx="286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Description Thre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450" name="Group 239"/>
          <p:cNvGrpSpPr/>
          <p:nvPr/>
        </p:nvGrpSpPr>
        <p:grpSpPr>
          <a:xfrm>
            <a:off x="4970520" y="2549520"/>
            <a:ext cx="2251080" cy="1538280"/>
            <a:chOff x="4970520" y="2549520"/>
            <a:chExt cx="2251080" cy="1538280"/>
          </a:xfrm>
        </p:grpSpPr>
        <p:sp>
          <p:nvSpPr>
            <p:cNvPr id="1451" name="Freeform 240"/>
            <p:cNvSpPr/>
            <p:nvPr/>
          </p:nvSpPr>
          <p:spPr>
            <a:xfrm>
              <a:off x="7054920" y="3381480"/>
              <a:ext cx="148680" cy="148680"/>
            </a:xfrm>
            <a:custGeom>
              <a:avLst/>
              <a:gdLst/>
              <a:ahLst/>
              <a:rect l="l" t="t" r="r" b="b"/>
              <a:pathLst>
                <a:path w="148844" h="148844">
                  <a:moveTo>
                    <a:pt x="148844" y="74422"/>
                  </a:moveTo>
                  <a:cubicBezTo>
                    <a:pt x="148844" y="115524"/>
                    <a:pt x="115524" y="148844"/>
                    <a:pt x="74422" y="148844"/>
                  </a:cubicBezTo>
                  <a:cubicBezTo>
                    <a:pt x="33320" y="148844"/>
                    <a:pt x="0" y="115524"/>
                    <a:pt x="0" y="74422"/>
                  </a:cubicBezTo>
                  <a:cubicBezTo>
                    <a:pt x="0" y="33320"/>
                    <a:pt x="33320" y="0"/>
                    <a:pt x="74422" y="0"/>
                  </a:cubicBezTo>
                  <a:cubicBezTo>
                    <a:pt x="115524" y="0"/>
                    <a:pt x="148844" y="33320"/>
                    <a:pt x="148844" y="74422"/>
                  </a:cubicBezTo>
                  <a:close/>
                </a:path>
              </a:pathLst>
            </a:custGeom>
            <a:solidFill>
              <a:srgbClr val="dce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52" name="Freeform 241"/>
            <p:cNvSpPr/>
            <p:nvPr/>
          </p:nvSpPr>
          <p:spPr>
            <a:xfrm>
              <a:off x="5559840" y="2566440"/>
              <a:ext cx="240840" cy="240480"/>
            </a:xfrm>
            <a:custGeom>
              <a:avLst/>
              <a:gdLst/>
              <a:ahLst/>
              <a:rect l="l" t="t" r="r" b="b"/>
              <a:pathLst>
                <a:path w="240792" h="240791">
                  <a:moveTo>
                    <a:pt x="240792" y="120396"/>
                  </a:moveTo>
                  <a:cubicBezTo>
                    <a:pt x="240792" y="186889"/>
                    <a:pt x="186889" y="240792"/>
                    <a:pt x="120396" y="240792"/>
                  </a:cubicBezTo>
                  <a:cubicBezTo>
                    <a:pt x="53903" y="240792"/>
                    <a:pt x="0" y="186889"/>
                    <a:pt x="0" y="120396"/>
                  </a:cubicBezTo>
                  <a:cubicBezTo>
                    <a:pt x="0" y="53903"/>
                    <a:pt x="53903" y="0"/>
                    <a:pt x="120396" y="0"/>
                  </a:cubicBezTo>
                  <a:cubicBezTo>
                    <a:pt x="186889" y="0"/>
                    <a:pt x="240792" y="53903"/>
                    <a:pt x="240792" y="120396"/>
                  </a:cubicBezTo>
                  <a:close/>
                </a:path>
              </a:pathLst>
            </a:custGeom>
            <a:solidFill>
              <a:srgbClr val="dce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53" name="Freeform 242"/>
            <p:cNvSpPr/>
            <p:nvPr/>
          </p:nvSpPr>
          <p:spPr>
            <a:xfrm>
              <a:off x="7142760" y="3106080"/>
              <a:ext cx="60840" cy="60840"/>
            </a:xfrm>
            <a:custGeom>
              <a:avLst/>
              <a:gdLst/>
              <a:ahLst/>
              <a:rect l="l" t="t" r="r" b="b"/>
              <a:pathLst>
                <a:path w="61086" h="61087">
                  <a:moveTo>
                    <a:pt x="61087" y="30544"/>
                  </a:moveTo>
                  <a:cubicBezTo>
                    <a:pt x="61087" y="47412"/>
                    <a:pt x="47412" y="61087"/>
                    <a:pt x="30543" y="61087"/>
                  </a:cubicBezTo>
                  <a:cubicBezTo>
                    <a:pt x="13674" y="61087"/>
                    <a:pt x="-1" y="47412"/>
                    <a:pt x="-1" y="30544"/>
                  </a:cubicBezTo>
                  <a:cubicBezTo>
                    <a:pt x="-1" y="13675"/>
                    <a:pt x="13674" y="0"/>
                    <a:pt x="30543" y="0"/>
                  </a:cubicBezTo>
                  <a:cubicBezTo>
                    <a:pt x="47412" y="0"/>
                    <a:pt x="61087" y="13675"/>
                    <a:pt x="61087" y="30544"/>
                  </a:cubicBezTo>
                  <a:close/>
                </a:path>
              </a:pathLst>
            </a:custGeom>
            <a:solidFill>
              <a:srgbClr val="dce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54" name="Freeform 243"/>
            <p:cNvSpPr/>
            <p:nvPr/>
          </p:nvSpPr>
          <p:spPr>
            <a:xfrm>
              <a:off x="5004720" y="2549520"/>
              <a:ext cx="2142720" cy="1503720"/>
            </a:xfrm>
            <a:custGeom>
              <a:avLst/>
              <a:gdLst/>
              <a:ahLst/>
              <a:rect l="l" t="t" r="r" b="b"/>
              <a:pathLst>
                <a:path w="2140972" h="1503999">
                  <a:moveTo>
                    <a:pt x="2069563" y="1504000"/>
                  </a:moveTo>
                  <a:cubicBezTo>
                    <a:pt x="2130206" y="1438341"/>
                    <a:pt x="2148367" y="1339598"/>
                    <a:pt x="2138398" y="1248920"/>
                  </a:cubicBezTo>
                  <a:cubicBezTo>
                    <a:pt x="2128428" y="1158179"/>
                    <a:pt x="2093884" y="1072771"/>
                    <a:pt x="2061182" y="988126"/>
                  </a:cubicBezTo>
                  <a:cubicBezTo>
                    <a:pt x="2028479" y="903480"/>
                    <a:pt x="1996793" y="816295"/>
                    <a:pt x="1993173" y="725045"/>
                  </a:cubicBezTo>
                  <a:cubicBezTo>
                    <a:pt x="1989553" y="634748"/>
                    <a:pt x="2013557" y="546102"/>
                    <a:pt x="2033686" y="458155"/>
                  </a:cubicBezTo>
                  <a:cubicBezTo>
                    <a:pt x="2053815" y="370207"/>
                    <a:pt x="2070199" y="278323"/>
                    <a:pt x="2051529" y="190058"/>
                  </a:cubicBezTo>
                  <a:cubicBezTo>
                    <a:pt x="2032861" y="101793"/>
                    <a:pt x="1970694" y="17846"/>
                    <a:pt x="1885540" y="2606"/>
                  </a:cubicBezTo>
                  <a:cubicBezTo>
                    <a:pt x="1821660" y="-8888"/>
                    <a:pt x="1757016" y="19179"/>
                    <a:pt x="1702978" y="56581"/>
                  </a:cubicBezTo>
                  <a:cubicBezTo>
                    <a:pt x="1648939" y="93982"/>
                    <a:pt x="1601187" y="140972"/>
                    <a:pt x="1545053" y="174881"/>
                  </a:cubicBezTo>
                  <a:cubicBezTo>
                    <a:pt x="1488920" y="208790"/>
                    <a:pt x="1420022" y="228602"/>
                    <a:pt x="1359189" y="205298"/>
                  </a:cubicBezTo>
                  <a:cubicBezTo>
                    <a:pt x="1278671" y="174500"/>
                    <a:pt x="1234284" y="78361"/>
                    <a:pt x="1154275" y="46103"/>
                  </a:cubicBezTo>
                  <a:cubicBezTo>
                    <a:pt x="1076551" y="14798"/>
                    <a:pt x="985872" y="55057"/>
                    <a:pt x="930373" y="119954"/>
                  </a:cubicBezTo>
                  <a:cubicBezTo>
                    <a:pt x="890750" y="166309"/>
                    <a:pt x="858365" y="220982"/>
                    <a:pt x="833409" y="278513"/>
                  </a:cubicBezTo>
                  <a:cubicBezTo>
                    <a:pt x="817915" y="314200"/>
                    <a:pt x="782291" y="337314"/>
                    <a:pt x="743366" y="335346"/>
                  </a:cubicBezTo>
                  <a:cubicBezTo>
                    <a:pt x="672246" y="331726"/>
                    <a:pt x="599158" y="362905"/>
                    <a:pt x="553501" y="420563"/>
                  </a:cubicBezTo>
                  <a:cubicBezTo>
                    <a:pt x="512163" y="472696"/>
                    <a:pt x="492478" y="542673"/>
                    <a:pt x="443773" y="587250"/>
                  </a:cubicBezTo>
                  <a:cubicBezTo>
                    <a:pt x="415325" y="613285"/>
                    <a:pt x="379511" y="628335"/>
                    <a:pt x="345729" y="646115"/>
                  </a:cubicBezTo>
                  <a:cubicBezTo>
                    <a:pt x="204124" y="720854"/>
                    <a:pt x="91475" y="853633"/>
                    <a:pt x="37309" y="1009589"/>
                  </a:cubicBezTo>
                  <a:cubicBezTo>
                    <a:pt x="-16856" y="1165545"/>
                    <a:pt x="-11840" y="1343027"/>
                    <a:pt x="51026" y="1495364"/>
                  </a:cubicBezTo>
                  <a:lnTo>
                    <a:pt x="2069563" y="1504000"/>
                  </a:lnTo>
                  <a:close/>
                </a:path>
              </a:pathLst>
            </a:custGeom>
            <a:solidFill>
              <a:srgbClr val="dce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55" name="Freeform 244"/>
            <p:cNvSpPr/>
            <p:nvPr/>
          </p:nvSpPr>
          <p:spPr>
            <a:xfrm>
              <a:off x="4970520" y="3996000"/>
              <a:ext cx="2251080" cy="91800"/>
            </a:xfrm>
            <a:custGeom>
              <a:avLst/>
              <a:gdLst/>
              <a:ahLst/>
              <a:rect l="l" t="t" r="r" b="b"/>
              <a:pathLst>
                <a:path w="2249551" h="92075">
                  <a:moveTo>
                    <a:pt x="2249551" y="46037"/>
                  </a:moveTo>
                  <a:cubicBezTo>
                    <a:pt x="2249551" y="71463"/>
                    <a:pt x="1745972" y="92075"/>
                    <a:pt x="1124775" y="92075"/>
                  </a:cubicBezTo>
                  <a:cubicBezTo>
                    <a:pt x="503579" y="92075"/>
                    <a:pt x="0" y="71463"/>
                    <a:pt x="0" y="46037"/>
                  </a:cubicBezTo>
                  <a:cubicBezTo>
                    <a:pt x="0" y="20611"/>
                    <a:pt x="503579" y="0"/>
                    <a:pt x="1124775" y="0"/>
                  </a:cubicBezTo>
                  <a:cubicBezTo>
                    <a:pt x="1745972" y="0"/>
                    <a:pt x="2249551" y="20611"/>
                    <a:pt x="2249551" y="46037"/>
                  </a:cubicBezTo>
                  <a:close/>
                </a:path>
              </a:pathLst>
            </a:custGeom>
            <a:solidFill>
              <a:srgbClr val="bfd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56" name="Freeform 245"/>
            <p:cNvSpPr/>
            <p:nvPr/>
          </p:nvSpPr>
          <p:spPr>
            <a:xfrm>
              <a:off x="5148720" y="3242520"/>
              <a:ext cx="477720" cy="586080"/>
            </a:xfrm>
            <a:custGeom>
              <a:avLst/>
              <a:gdLst/>
              <a:ahLst/>
              <a:rect l="l" t="t" r="r" b="b"/>
              <a:pathLst>
                <a:path w="477329" h="586358">
                  <a:moveTo>
                    <a:pt x="477329" y="376999"/>
                  </a:moveTo>
                  <a:cubicBezTo>
                    <a:pt x="477329" y="378016"/>
                    <a:pt x="477329" y="379032"/>
                    <a:pt x="477329" y="380048"/>
                  </a:cubicBezTo>
                  <a:cubicBezTo>
                    <a:pt x="477329" y="389319"/>
                    <a:pt x="477076" y="398208"/>
                    <a:pt x="476631" y="406654"/>
                  </a:cubicBezTo>
                  <a:cubicBezTo>
                    <a:pt x="475552" y="425450"/>
                    <a:pt x="473329" y="442087"/>
                    <a:pt x="469646" y="455549"/>
                  </a:cubicBezTo>
                  <a:cubicBezTo>
                    <a:pt x="439293" y="565341"/>
                    <a:pt x="250063" y="586359"/>
                    <a:pt x="250063" y="586359"/>
                  </a:cubicBezTo>
                  <a:cubicBezTo>
                    <a:pt x="250063" y="586359"/>
                    <a:pt x="245935" y="586359"/>
                    <a:pt x="238696" y="586105"/>
                  </a:cubicBezTo>
                  <a:cubicBezTo>
                    <a:pt x="231458" y="586359"/>
                    <a:pt x="227330" y="586359"/>
                    <a:pt x="227330" y="586359"/>
                  </a:cubicBezTo>
                  <a:cubicBezTo>
                    <a:pt x="227330" y="586359"/>
                    <a:pt x="38100" y="565341"/>
                    <a:pt x="7747" y="455549"/>
                  </a:cubicBezTo>
                  <a:cubicBezTo>
                    <a:pt x="4254" y="442913"/>
                    <a:pt x="2095" y="427545"/>
                    <a:pt x="952" y="410210"/>
                  </a:cubicBezTo>
                  <a:cubicBezTo>
                    <a:pt x="317" y="400050"/>
                    <a:pt x="0" y="389192"/>
                    <a:pt x="0" y="377825"/>
                  </a:cubicBezTo>
                  <a:lnTo>
                    <a:pt x="0" y="377825"/>
                  </a:lnTo>
                  <a:cubicBezTo>
                    <a:pt x="190" y="239776"/>
                    <a:pt x="46291" y="25717"/>
                    <a:pt x="46291" y="25717"/>
                  </a:cubicBezTo>
                  <a:lnTo>
                    <a:pt x="206502" y="2349"/>
                  </a:lnTo>
                  <a:cubicBezTo>
                    <a:pt x="217170" y="762"/>
                    <a:pt x="227902" y="0"/>
                    <a:pt x="238696" y="0"/>
                  </a:cubicBezTo>
                  <a:cubicBezTo>
                    <a:pt x="249428" y="0"/>
                    <a:pt x="260223" y="762"/>
                    <a:pt x="270891" y="2349"/>
                  </a:cubicBezTo>
                  <a:lnTo>
                    <a:pt x="431102" y="25717"/>
                  </a:lnTo>
                  <a:cubicBezTo>
                    <a:pt x="431038" y="25654"/>
                    <a:pt x="476948" y="238951"/>
                    <a:pt x="477329" y="37699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57" name="Freeform 246"/>
            <p:cNvSpPr/>
            <p:nvPr/>
          </p:nvSpPr>
          <p:spPr>
            <a:xfrm>
              <a:off x="6103800" y="3242160"/>
              <a:ext cx="477360" cy="586080"/>
            </a:xfrm>
            <a:custGeom>
              <a:avLst/>
              <a:gdLst/>
              <a:ahLst/>
              <a:rect l="l" t="t" r="r" b="b"/>
              <a:pathLst>
                <a:path w="477297" h="586358">
                  <a:moveTo>
                    <a:pt x="476504" y="407797"/>
                  </a:moveTo>
                  <a:cubicBezTo>
                    <a:pt x="475424" y="426149"/>
                    <a:pt x="473202" y="442341"/>
                    <a:pt x="469583" y="455549"/>
                  </a:cubicBezTo>
                  <a:cubicBezTo>
                    <a:pt x="439230" y="565341"/>
                    <a:pt x="250000" y="586359"/>
                    <a:pt x="250000" y="586359"/>
                  </a:cubicBezTo>
                  <a:cubicBezTo>
                    <a:pt x="250000" y="586359"/>
                    <a:pt x="245872" y="586359"/>
                    <a:pt x="238633" y="586105"/>
                  </a:cubicBezTo>
                  <a:cubicBezTo>
                    <a:pt x="231394" y="586359"/>
                    <a:pt x="227267" y="586359"/>
                    <a:pt x="227267" y="586359"/>
                  </a:cubicBezTo>
                  <a:cubicBezTo>
                    <a:pt x="227267" y="586359"/>
                    <a:pt x="38037" y="565341"/>
                    <a:pt x="7684" y="455549"/>
                  </a:cubicBezTo>
                  <a:cubicBezTo>
                    <a:pt x="3937" y="442087"/>
                    <a:pt x="1715" y="425514"/>
                    <a:pt x="699" y="406654"/>
                  </a:cubicBezTo>
                  <a:cubicBezTo>
                    <a:pt x="254" y="398208"/>
                    <a:pt x="0" y="389319"/>
                    <a:pt x="0" y="380048"/>
                  </a:cubicBezTo>
                  <a:lnTo>
                    <a:pt x="0" y="376999"/>
                  </a:lnTo>
                  <a:cubicBezTo>
                    <a:pt x="318" y="238951"/>
                    <a:pt x="46292" y="25718"/>
                    <a:pt x="46292" y="25718"/>
                  </a:cubicBezTo>
                  <a:lnTo>
                    <a:pt x="206502" y="2349"/>
                  </a:lnTo>
                  <a:cubicBezTo>
                    <a:pt x="217170" y="762"/>
                    <a:pt x="227902" y="0"/>
                    <a:pt x="238697" y="0"/>
                  </a:cubicBezTo>
                  <a:cubicBezTo>
                    <a:pt x="249492" y="0"/>
                    <a:pt x="260223" y="762"/>
                    <a:pt x="270891" y="2349"/>
                  </a:cubicBezTo>
                  <a:lnTo>
                    <a:pt x="431102" y="25718"/>
                  </a:lnTo>
                  <a:cubicBezTo>
                    <a:pt x="431038" y="25718"/>
                    <a:pt x="484378" y="273495"/>
                    <a:pt x="476504" y="40779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58" name="Freeform 247"/>
            <p:cNvSpPr/>
            <p:nvPr/>
          </p:nvSpPr>
          <p:spPr>
            <a:xfrm>
              <a:off x="5113080" y="3648960"/>
              <a:ext cx="1512360" cy="381600"/>
            </a:xfrm>
            <a:custGeom>
              <a:avLst/>
              <a:gdLst/>
              <a:ahLst/>
              <a:rect l="l" t="t" r="r" b="b"/>
              <a:pathLst>
                <a:path w="1511363" h="381889">
                  <a:moveTo>
                    <a:pt x="1511363" y="56007"/>
                  </a:moveTo>
                  <a:lnTo>
                    <a:pt x="1511363" y="266192"/>
                  </a:lnTo>
                  <a:cubicBezTo>
                    <a:pt x="1511363" y="330073"/>
                    <a:pt x="1459548" y="381889"/>
                    <a:pt x="1395666" y="381889"/>
                  </a:cubicBezTo>
                  <a:lnTo>
                    <a:pt x="115634" y="381889"/>
                  </a:lnTo>
                  <a:cubicBezTo>
                    <a:pt x="51753" y="381889"/>
                    <a:pt x="0" y="330073"/>
                    <a:pt x="0" y="266192"/>
                  </a:cubicBezTo>
                  <a:lnTo>
                    <a:pt x="0" y="56007"/>
                  </a:lnTo>
                  <a:cubicBezTo>
                    <a:pt x="0" y="31940"/>
                    <a:pt x="15113" y="11493"/>
                    <a:pt x="36385" y="3556"/>
                  </a:cubicBezTo>
                  <a:cubicBezTo>
                    <a:pt x="37528" y="20892"/>
                    <a:pt x="39688" y="36322"/>
                    <a:pt x="43180" y="48895"/>
                  </a:cubicBezTo>
                  <a:cubicBezTo>
                    <a:pt x="73533" y="158686"/>
                    <a:pt x="262763" y="179705"/>
                    <a:pt x="262763" y="179705"/>
                  </a:cubicBezTo>
                  <a:cubicBezTo>
                    <a:pt x="262763" y="179705"/>
                    <a:pt x="266891" y="179705"/>
                    <a:pt x="274129" y="179451"/>
                  </a:cubicBezTo>
                  <a:cubicBezTo>
                    <a:pt x="281369" y="179705"/>
                    <a:pt x="285496" y="179705"/>
                    <a:pt x="285496" y="179705"/>
                  </a:cubicBezTo>
                  <a:cubicBezTo>
                    <a:pt x="285496" y="179705"/>
                    <a:pt x="474726" y="158686"/>
                    <a:pt x="505079" y="48895"/>
                  </a:cubicBezTo>
                  <a:cubicBezTo>
                    <a:pt x="508826" y="35433"/>
                    <a:pt x="511048" y="18860"/>
                    <a:pt x="512064" y="0"/>
                  </a:cubicBezTo>
                  <a:lnTo>
                    <a:pt x="513461" y="0"/>
                  </a:lnTo>
                  <a:cubicBezTo>
                    <a:pt x="514541" y="18796"/>
                    <a:pt x="516763" y="35433"/>
                    <a:pt x="520446" y="48895"/>
                  </a:cubicBezTo>
                  <a:cubicBezTo>
                    <a:pt x="550799" y="158686"/>
                    <a:pt x="740029" y="179705"/>
                    <a:pt x="740029" y="179705"/>
                  </a:cubicBezTo>
                  <a:cubicBezTo>
                    <a:pt x="740029" y="179705"/>
                    <a:pt x="744157" y="179705"/>
                    <a:pt x="751396" y="179451"/>
                  </a:cubicBezTo>
                  <a:cubicBezTo>
                    <a:pt x="758635" y="179705"/>
                    <a:pt x="762762" y="179705"/>
                    <a:pt x="762762" y="179705"/>
                  </a:cubicBezTo>
                  <a:cubicBezTo>
                    <a:pt x="762762" y="179705"/>
                    <a:pt x="951992" y="158686"/>
                    <a:pt x="982345" y="48895"/>
                  </a:cubicBezTo>
                  <a:cubicBezTo>
                    <a:pt x="986091" y="35433"/>
                    <a:pt x="988314" y="18860"/>
                    <a:pt x="989330" y="0"/>
                  </a:cubicBezTo>
                  <a:lnTo>
                    <a:pt x="990727" y="0"/>
                  </a:lnTo>
                  <a:cubicBezTo>
                    <a:pt x="991807" y="18796"/>
                    <a:pt x="994029" y="35433"/>
                    <a:pt x="997712" y="48895"/>
                  </a:cubicBezTo>
                  <a:cubicBezTo>
                    <a:pt x="1028065" y="158686"/>
                    <a:pt x="1217295" y="179705"/>
                    <a:pt x="1217295" y="179705"/>
                  </a:cubicBezTo>
                  <a:cubicBezTo>
                    <a:pt x="1217295" y="179705"/>
                    <a:pt x="1221422" y="179705"/>
                    <a:pt x="1228662" y="179451"/>
                  </a:cubicBezTo>
                  <a:cubicBezTo>
                    <a:pt x="1235901" y="179705"/>
                    <a:pt x="1240028" y="179705"/>
                    <a:pt x="1240028" y="179705"/>
                  </a:cubicBezTo>
                  <a:cubicBezTo>
                    <a:pt x="1240028" y="179705"/>
                    <a:pt x="1429258" y="158686"/>
                    <a:pt x="1459611" y="48895"/>
                  </a:cubicBezTo>
                  <a:cubicBezTo>
                    <a:pt x="1463231" y="35687"/>
                    <a:pt x="1465453" y="19495"/>
                    <a:pt x="1466533" y="1143"/>
                  </a:cubicBezTo>
                  <a:cubicBezTo>
                    <a:pt x="1492123" y="6350"/>
                    <a:pt x="1511363" y="28956"/>
                    <a:pt x="1511363" y="56007"/>
                  </a:cubicBezTo>
                  <a:close/>
                </a:path>
              </a:pathLst>
            </a:custGeom>
            <a:solidFill>
              <a:srgbClr val="f4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59" name="Freeform 248"/>
            <p:cNvSpPr/>
            <p:nvPr/>
          </p:nvSpPr>
          <p:spPr>
            <a:xfrm>
              <a:off x="5760720" y="2612520"/>
              <a:ext cx="735480" cy="734400"/>
            </a:xfrm>
            <a:custGeom>
              <a:avLst/>
              <a:gdLst/>
              <a:ahLst/>
              <a:rect l="l" t="t" r="r" b="b"/>
              <a:pathLst>
                <a:path w="734869" h="734792">
                  <a:moveTo>
                    <a:pt x="703079" y="386537"/>
                  </a:moveTo>
                  <a:cubicBezTo>
                    <a:pt x="677362" y="433400"/>
                    <a:pt x="637039" y="474929"/>
                    <a:pt x="586112" y="480390"/>
                  </a:cubicBezTo>
                  <a:cubicBezTo>
                    <a:pt x="583001" y="480708"/>
                    <a:pt x="579826" y="480961"/>
                    <a:pt x="576651" y="481025"/>
                  </a:cubicBezTo>
                  <a:cubicBezTo>
                    <a:pt x="568269" y="481215"/>
                    <a:pt x="560014" y="481914"/>
                    <a:pt x="552013" y="483120"/>
                  </a:cubicBezTo>
                  <a:cubicBezTo>
                    <a:pt x="521723" y="487692"/>
                    <a:pt x="494482" y="499249"/>
                    <a:pt x="470987" y="513410"/>
                  </a:cubicBezTo>
                  <a:cubicBezTo>
                    <a:pt x="467812" y="515315"/>
                    <a:pt x="464700" y="517283"/>
                    <a:pt x="461716" y="519252"/>
                  </a:cubicBezTo>
                  <a:cubicBezTo>
                    <a:pt x="455175" y="523570"/>
                    <a:pt x="448889" y="528078"/>
                    <a:pt x="443047" y="532650"/>
                  </a:cubicBezTo>
                  <a:lnTo>
                    <a:pt x="443047" y="532650"/>
                  </a:lnTo>
                  <a:cubicBezTo>
                    <a:pt x="436125" y="538048"/>
                    <a:pt x="429648" y="543509"/>
                    <a:pt x="423743" y="548906"/>
                  </a:cubicBezTo>
                  <a:cubicBezTo>
                    <a:pt x="394660" y="575323"/>
                    <a:pt x="378213" y="599325"/>
                    <a:pt x="378213" y="599325"/>
                  </a:cubicBezTo>
                  <a:cubicBezTo>
                    <a:pt x="378213" y="599325"/>
                    <a:pt x="362148" y="617233"/>
                    <a:pt x="337700" y="640029"/>
                  </a:cubicBezTo>
                  <a:cubicBezTo>
                    <a:pt x="283281" y="690702"/>
                    <a:pt x="187332" y="765568"/>
                    <a:pt x="133675" y="721373"/>
                  </a:cubicBezTo>
                  <a:cubicBezTo>
                    <a:pt x="131706" y="719785"/>
                    <a:pt x="129865" y="718007"/>
                    <a:pt x="128023" y="716102"/>
                  </a:cubicBezTo>
                  <a:cubicBezTo>
                    <a:pt x="128023" y="716102"/>
                    <a:pt x="115958" y="702449"/>
                    <a:pt x="135770" y="679653"/>
                  </a:cubicBezTo>
                  <a:cubicBezTo>
                    <a:pt x="141612" y="672922"/>
                    <a:pt x="150248" y="665365"/>
                    <a:pt x="162821" y="657174"/>
                  </a:cubicBezTo>
                  <a:cubicBezTo>
                    <a:pt x="192730" y="637616"/>
                    <a:pt x="242196" y="589864"/>
                    <a:pt x="273502" y="542874"/>
                  </a:cubicBezTo>
                  <a:cubicBezTo>
                    <a:pt x="299791" y="503440"/>
                    <a:pt x="313253" y="464451"/>
                    <a:pt x="291790" y="443052"/>
                  </a:cubicBezTo>
                  <a:cubicBezTo>
                    <a:pt x="289948" y="441211"/>
                    <a:pt x="287980" y="439623"/>
                    <a:pt x="285884" y="438289"/>
                  </a:cubicBezTo>
                  <a:cubicBezTo>
                    <a:pt x="263659" y="424065"/>
                    <a:pt x="228036" y="437400"/>
                    <a:pt x="191968" y="461403"/>
                  </a:cubicBezTo>
                  <a:cubicBezTo>
                    <a:pt x="144978" y="492709"/>
                    <a:pt x="97226" y="542175"/>
                    <a:pt x="77668" y="572084"/>
                  </a:cubicBezTo>
                  <a:cubicBezTo>
                    <a:pt x="69540" y="584530"/>
                    <a:pt x="62047" y="593102"/>
                    <a:pt x="55379" y="598945"/>
                  </a:cubicBezTo>
                  <a:cubicBezTo>
                    <a:pt x="32456" y="619011"/>
                    <a:pt x="18740" y="606818"/>
                    <a:pt x="18740" y="606818"/>
                  </a:cubicBezTo>
                  <a:cubicBezTo>
                    <a:pt x="-60127" y="531889"/>
                    <a:pt x="135453" y="356628"/>
                    <a:pt x="135453" y="356628"/>
                  </a:cubicBezTo>
                  <a:cubicBezTo>
                    <a:pt x="135453" y="356628"/>
                    <a:pt x="251531" y="277380"/>
                    <a:pt x="253817" y="158254"/>
                  </a:cubicBezTo>
                  <a:cubicBezTo>
                    <a:pt x="253880" y="155333"/>
                    <a:pt x="254071" y="152412"/>
                    <a:pt x="254325" y="149555"/>
                  </a:cubicBezTo>
                  <a:cubicBezTo>
                    <a:pt x="258706" y="105803"/>
                    <a:pt x="289631" y="69926"/>
                    <a:pt x="327731" y="44272"/>
                  </a:cubicBezTo>
                  <a:cubicBezTo>
                    <a:pt x="388691" y="3251"/>
                    <a:pt x="468256" y="-11608"/>
                    <a:pt x="487941" y="9664"/>
                  </a:cubicBezTo>
                  <a:cubicBezTo>
                    <a:pt x="511563" y="35191"/>
                    <a:pt x="532201" y="62560"/>
                    <a:pt x="546298" y="108724"/>
                  </a:cubicBezTo>
                  <a:cubicBezTo>
                    <a:pt x="551759" y="126631"/>
                    <a:pt x="559887" y="142506"/>
                    <a:pt x="573222" y="153683"/>
                  </a:cubicBezTo>
                  <a:cubicBezTo>
                    <a:pt x="613100" y="201498"/>
                    <a:pt x="689744" y="214134"/>
                    <a:pt x="725178" y="246900"/>
                  </a:cubicBezTo>
                  <a:cubicBezTo>
                    <a:pt x="744164" y="264363"/>
                    <a:pt x="734448" y="329387"/>
                    <a:pt x="703079" y="3865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60" name="Freeform 249"/>
            <p:cNvSpPr/>
            <p:nvPr/>
          </p:nvSpPr>
          <p:spPr>
            <a:xfrm>
              <a:off x="6025680" y="3024360"/>
              <a:ext cx="206280" cy="120600"/>
            </a:xfrm>
            <a:custGeom>
              <a:avLst/>
              <a:gdLst/>
              <a:ahLst/>
              <a:rect l="l" t="t" r="r" b="b"/>
              <a:pathLst>
                <a:path w="206375" h="120777">
                  <a:moveTo>
                    <a:pt x="206375" y="101537"/>
                  </a:moveTo>
                  <a:cubicBezTo>
                    <a:pt x="203200" y="103442"/>
                    <a:pt x="200088" y="105410"/>
                    <a:pt x="197104" y="107379"/>
                  </a:cubicBezTo>
                  <a:cubicBezTo>
                    <a:pt x="190563" y="111697"/>
                    <a:pt x="184277" y="116205"/>
                    <a:pt x="178435" y="120777"/>
                  </a:cubicBezTo>
                  <a:lnTo>
                    <a:pt x="178435" y="120777"/>
                  </a:lnTo>
                  <a:lnTo>
                    <a:pt x="22098" y="25083"/>
                  </a:lnTo>
                  <a:lnTo>
                    <a:pt x="8382" y="16701"/>
                  </a:lnTo>
                  <a:lnTo>
                    <a:pt x="0" y="0"/>
                  </a:lnTo>
                  <a:lnTo>
                    <a:pt x="206375" y="101537"/>
                  </a:ln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61" name="Freeform 250"/>
            <p:cNvSpPr/>
            <p:nvPr/>
          </p:nvSpPr>
          <p:spPr>
            <a:xfrm>
              <a:off x="5894640" y="2998800"/>
              <a:ext cx="569880" cy="348120"/>
            </a:xfrm>
            <a:custGeom>
              <a:avLst/>
              <a:gdLst/>
              <a:ahLst/>
              <a:rect l="l" t="t" r="r" b="b"/>
              <a:pathLst>
                <a:path w="569404" h="348255">
                  <a:moveTo>
                    <a:pt x="569404" y="0"/>
                  </a:moveTo>
                  <a:cubicBezTo>
                    <a:pt x="543687" y="46863"/>
                    <a:pt x="503364" y="88392"/>
                    <a:pt x="452438" y="93853"/>
                  </a:cubicBezTo>
                  <a:cubicBezTo>
                    <a:pt x="449326" y="94171"/>
                    <a:pt x="446151" y="94424"/>
                    <a:pt x="442976" y="94488"/>
                  </a:cubicBezTo>
                  <a:cubicBezTo>
                    <a:pt x="434594" y="94679"/>
                    <a:pt x="426339" y="95377"/>
                    <a:pt x="418338" y="96583"/>
                  </a:cubicBezTo>
                  <a:cubicBezTo>
                    <a:pt x="388048" y="101155"/>
                    <a:pt x="360807" y="112713"/>
                    <a:pt x="337312" y="126873"/>
                  </a:cubicBezTo>
                  <a:cubicBezTo>
                    <a:pt x="334137" y="128778"/>
                    <a:pt x="331025" y="130746"/>
                    <a:pt x="328041" y="132715"/>
                  </a:cubicBezTo>
                  <a:cubicBezTo>
                    <a:pt x="321500" y="137033"/>
                    <a:pt x="315214" y="141542"/>
                    <a:pt x="309372" y="146114"/>
                  </a:cubicBezTo>
                  <a:lnTo>
                    <a:pt x="309372" y="146114"/>
                  </a:lnTo>
                  <a:cubicBezTo>
                    <a:pt x="302450" y="151511"/>
                    <a:pt x="295973" y="156972"/>
                    <a:pt x="290068" y="162370"/>
                  </a:cubicBezTo>
                  <a:cubicBezTo>
                    <a:pt x="260985" y="188786"/>
                    <a:pt x="244538" y="212789"/>
                    <a:pt x="244538" y="212789"/>
                  </a:cubicBezTo>
                  <a:cubicBezTo>
                    <a:pt x="244538" y="212789"/>
                    <a:pt x="228473" y="230696"/>
                    <a:pt x="204025" y="253492"/>
                  </a:cubicBezTo>
                  <a:cubicBezTo>
                    <a:pt x="149606" y="304165"/>
                    <a:pt x="53657" y="379032"/>
                    <a:pt x="0" y="334836"/>
                  </a:cubicBezTo>
                  <a:cubicBezTo>
                    <a:pt x="45085" y="337185"/>
                    <a:pt x="90741" y="319024"/>
                    <a:pt x="128079" y="292608"/>
                  </a:cubicBezTo>
                  <a:cubicBezTo>
                    <a:pt x="171894" y="261557"/>
                    <a:pt x="206819" y="219774"/>
                    <a:pt x="243395" y="180467"/>
                  </a:cubicBezTo>
                  <a:cubicBezTo>
                    <a:pt x="279971" y="141097"/>
                    <a:pt x="319976" y="102933"/>
                    <a:pt x="369570" y="82105"/>
                  </a:cubicBezTo>
                  <a:cubicBezTo>
                    <a:pt x="406082" y="66739"/>
                    <a:pt x="446088" y="61595"/>
                    <a:pt x="483489" y="48577"/>
                  </a:cubicBezTo>
                  <a:cubicBezTo>
                    <a:pt x="514731" y="37592"/>
                    <a:pt x="543878" y="21018"/>
                    <a:pt x="569404" y="0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62" name="Freeform 251"/>
            <p:cNvSpPr/>
            <p:nvPr/>
          </p:nvSpPr>
          <p:spPr>
            <a:xfrm>
              <a:off x="6013080" y="2959200"/>
              <a:ext cx="331920" cy="210600"/>
            </a:xfrm>
            <a:custGeom>
              <a:avLst/>
              <a:gdLst/>
              <a:ahLst/>
              <a:rect l="l" t="t" r="r" b="b"/>
              <a:pathLst>
                <a:path w="331660" h="210883">
                  <a:moveTo>
                    <a:pt x="331660" y="167005"/>
                  </a:moveTo>
                  <a:lnTo>
                    <a:pt x="309690" y="210883"/>
                  </a:lnTo>
                  <a:lnTo>
                    <a:pt x="274066" y="207454"/>
                  </a:lnTo>
                  <a:lnTo>
                    <a:pt x="209550" y="172339"/>
                  </a:lnTo>
                  <a:lnTo>
                    <a:pt x="12446" y="64960"/>
                  </a:lnTo>
                  <a:lnTo>
                    <a:pt x="0" y="43942"/>
                  </a:lnTo>
                  <a:lnTo>
                    <a:pt x="28003" y="0"/>
                  </a:lnTo>
                  <a:lnTo>
                    <a:pt x="49784" y="0"/>
                  </a:lnTo>
                  <a:lnTo>
                    <a:pt x="299847" y="136207"/>
                  </a:lnTo>
                  <a:lnTo>
                    <a:pt x="311404" y="142494"/>
                  </a:lnTo>
                  <a:lnTo>
                    <a:pt x="324422" y="158242"/>
                  </a:lnTo>
                  <a:lnTo>
                    <a:pt x="331660" y="167005"/>
                  </a:lnTo>
                  <a:close/>
                </a:path>
              </a:pathLst>
            </a:custGeom>
            <a:solidFill>
              <a:srgbClr val="6068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63" name="Freeform 252"/>
            <p:cNvSpPr/>
            <p:nvPr/>
          </p:nvSpPr>
          <p:spPr>
            <a:xfrm>
              <a:off x="6323040" y="3126240"/>
              <a:ext cx="37440" cy="50760"/>
            </a:xfrm>
            <a:custGeom>
              <a:avLst/>
              <a:gdLst/>
              <a:ahLst/>
              <a:rect l="l" t="t" r="r" b="b"/>
              <a:pathLst>
                <a:path w="37591" h="50990">
                  <a:moveTo>
                    <a:pt x="-27944" y="6985"/>
                  </a:moveTo>
                  <a:lnTo>
                    <a:pt x="14986" y="-14546"/>
                  </a:lnTo>
                  <a:lnTo>
                    <a:pt x="0" y="-21657"/>
                  </a:lnTo>
                  <a:lnTo>
                    <a:pt x="21971" y="0"/>
                  </a:lnTo>
                  <a:lnTo>
                    <a:pt x="-32516" y="4953"/>
                  </a:lnTo>
                  <a:lnTo>
                    <a:pt x="-27944" y="6985"/>
                  </a:lnTo>
                  <a:close/>
                </a:path>
              </a:pathLst>
            </a:custGeom>
            <a:solidFill>
              <a:srgbClr val="494e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64" name="Freeform 253"/>
            <p:cNvSpPr/>
            <p:nvPr/>
          </p:nvSpPr>
          <p:spPr>
            <a:xfrm>
              <a:off x="6337800" y="3109320"/>
              <a:ext cx="27360" cy="23760"/>
            </a:xfrm>
            <a:custGeom>
              <a:avLst/>
              <a:gdLst/>
              <a:ahLst/>
              <a:rect l="l" t="t" r="r" b="b"/>
              <a:pathLst>
                <a:path w="27558" h="24066">
                  <a:moveTo>
                    <a:pt x="27559" y="17082"/>
                  </a:moveTo>
                  <a:lnTo>
                    <a:pt x="27559" y="17082"/>
                  </a:lnTo>
                  <a:cubicBezTo>
                    <a:pt x="25019" y="20892"/>
                    <a:pt x="22796" y="24067"/>
                    <a:pt x="22796" y="24067"/>
                  </a:cubicBezTo>
                  <a:lnTo>
                    <a:pt x="7239" y="17082"/>
                  </a:lnTo>
                  <a:lnTo>
                    <a:pt x="0" y="8318"/>
                  </a:lnTo>
                  <a:lnTo>
                    <a:pt x="4000" y="0"/>
                  </a:lnTo>
                  <a:lnTo>
                    <a:pt x="27559" y="17082"/>
                  </a:lnTo>
                  <a:close/>
                </a:path>
              </a:pathLst>
            </a:custGeom>
            <a:solidFill>
              <a:srgbClr val="3b3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65" name="Freeform 254"/>
            <p:cNvSpPr/>
            <p:nvPr/>
          </p:nvSpPr>
          <p:spPr>
            <a:xfrm>
              <a:off x="6693480" y="3339000"/>
              <a:ext cx="296640" cy="151200"/>
            </a:xfrm>
            <a:custGeom>
              <a:avLst/>
              <a:gdLst/>
              <a:ahLst/>
              <a:rect l="l" t="t" r="r" b="b"/>
              <a:pathLst>
                <a:path w="296450" h="151320">
                  <a:moveTo>
                    <a:pt x="273812" y="151320"/>
                  </a:moveTo>
                  <a:cubicBezTo>
                    <a:pt x="273812" y="151320"/>
                    <a:pt x="210503" y="125920"/>
                    <a:pt x="144335" y="99504"/>
                  </a:cubicBezTo>
                  <a:cubicBezTo>
                    <a:pt x="81471" y="74422"/>
                    <a:pt x="16129" y="48451"/>
                    <a:pt x="0" y="42418"/>
                  </a:cubicBezTo>
                  <a:cubicBezTo>
                    <a:pt x="15494" y="33592"/>
                    <a:pt x="20828" y="20511"/>
                    <a:pt x="20828" y="20511"/>
                  </a:cubicBezTo>
                  <a:lnTo>
                    <a:pt x="47054" y="5207"/>
                  </a:lnTo>
                  <a:lnTo>
                    <a:pt x="47054" y="5207"/>
                  </a:lnTo>
                  <a:lnTo>
                    <a:pt x="57912" y="18098"/>
                  </a:lnTo>
                  <a:cubicBezTo>
                    <a:pt x="57912" y="18098"/>
                    <a:pt x="67373" y="11493"/>
                    <a:pt x="82106" y="0"/>
                  </a:cubicBezTo>
                  <a:lnTo>
                    <a:pt x="151130" y="39561"/>
                  </a:lnTo>
                  <a:lnTo>
                    <a:pt x="291846" y="120332"/>
                  </a:lnTo>
                  <a:cubicBezTo>
                    <a:pt x="291783" y="120332"/>
                    <a:pt x="310197" y="148336"/>
                    <a:pt x="273812" y="151320"/>
                  </a:cubicBezTo>
                  <a:close/>
                </a:path>
              </a:pathLst>
            </a:custGeom>
            <a:solidFill>
              <a:srgbClr val="fe6b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66" name="Freeform 255"/>
            <p:cNvSpPr/>
            <p:nvPr/>
          </p:nvSpPr>
          <p:spPr>
            <a:xfrm>
              <a:off x="6338160" y="3133080"/>
              <a:ext cx="372600" cy="203400"/>
            </a:xfrm>
            <a:custGeom>
              <a:avLst/>
              <a:gdLst/>
              <a:ahLst/>
              <a:rect l="l" t="t" r="r" b="b"/>
              <a:pathLst>
                <a:path w="372554" h="203453">
                  <a:moveTo>
                    <a:pt x="372554" y="169291"/>
                  </a:moveTo>
                  <a:cubicBezTo>
                    <a:pt x="370332" y="171260"/>
                    <a:pt x="369125" y="172339"/>
                    <a:pt x="369125" y="172339"/>
                  </a:cubicBezTo>
                  <a:cubicBezTo>
                    <a:pt x="369125" y="172339"/>
                    <a:pt x="361061" y="181737"/>
                    <a:pt x="349060" y="189674"/>
                  </a:cubicBezTo>
                  <a:cubicBezTo>
                    <a:pt x="339852" y="195707"/>
                    <a:pt x="328295" y="200977"/>
                    <a:pt x="316230" y="200406"/>
                  </a:cubicBezTo>
                  <a:lnTo>
                    <a:pt x="297371" y="160782"/>
                  </a:lnTo>
                  <a:cubicBezTo>
                    <a:pt x="297371" y="160782"/>
                    <a:pt x="281940" y="166052"/>
                    <a:pt x="292290" y="203454"/>
                  </a:cubicBezTo>
                  <a:lnTo>
                    <a:pt x="270256" y="203010"/>
                  </a:lnTo>
                  <a:lnTo>
                    <a:pt x="89726" y="104648"/>
                  </a:lnTo>
                  <a:cubicBezTo>
                    <a:pt x="34925" y="81026"/>
                    <a:pt x="0" y="44005"/>
                    <a:pt x="0" y="44005"/>
                  </a:cubicBezTo>
                  <a:lnTo>
                    <a:pt x="22606" y="0"/>
                  </a:lnTo>
                  <a:cubicBezTo>
                    <a:pt x="22606" y="0"/>
                    <a:pt x="82423" y="11113"/>
                    <a:pt x="118237" y="30607"/>
                  </a:cubicBezTo>
                  <a:lnTo>
                    <a:pt x="228536" y="90678"/>
                  </a:lnTo>
                  <a:lnTo>
                    <a:pt x="372554" y="169291"/>
                  </a:lnTo>
                  <a:close/>
                </a:path>
              </a:pathLst>
            </a:custGeom>
            <a:solidFill>
              <a:srgbClr val="fe6b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67" name="Freeform 256"/>
            <p:cNvSpPr/>
            <p:nvPr/>
          </p:nvSpPr>
          <p:spPr>
            <a:xfrm>
              <a:off x="6313320" y="3093480"/>
              <a:ext cx="28440" cy="24120"/>
            </a:xfrm>
            <a:custGeom>
              <a:avLst/>
              <a:gdLst/>
              <a:ahLst/>
              <a:rect l="l" t="t" r="r" b="b"/>
              <a:pathLst>
                <a:path w="28575" h="24129">
                  <a:moveTo>
                    <a:pt x="28575" y="15811"/>
                  </a:moveTo>
                  <a:lnTo>
                    <a:pt x="24574" y="24130"/>
                  </a:lnTo>
                  <a:lnTo>
                    <a:pt x="11557" y="8382"/>
                  </a:lnTo>
                  <a:lnTo>
                    <a:pt x="0" y="2095"/>
                  </a:lnTo>
                  <a:cubicBezTo>
                    <a:pt x="8001" y="889"/>
                    <a:pt x="16192" y="190"/>
                    <a:pt x="24638" y="0"/>
                  </a:cubicBezTo>
                  <a:lnTo>
                    <a:pt x="28575" y="15811"/>
                  </a:lnTo>
                  <a:close/>
                </a:path>
              </a:pathLst>
            </a:custGeom>
            <a:solidFill>
              <a:srgbClr val="2527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68" name="Freeform 257"/>
            <p:cNvSpPr/>
            <p:nvPr/>
          </p:nvSpPr>
          <p:spPr>
            <a:xfrm>
              <a:off x="6360840" y="3119040"/>
              <a:ext cx="421920" cy="158760"/>
            </a:xfrm>
            <a:custGeom>
              <a:avLst/>
              <a:gdLst/>
              <a:ahLst/>
              <a:rect l="l" t="t" r="r" b="b"/>
              <a:pathLst>
                <a:path w="421767" h="159055">
                  <a:moveTo>
                    <a:pt x="421767" y="111875"/>
                  </a:moveTo>
                  <a:cubicBezTo>
                    <a:pt x="406082" y="129464"/>
                    <a:pt x="389699" y="145974"/>
                    <a:pt x="376174" y="159055"/>
                  </a:cubicBezTo>
                  <a:lnTo>
                    <a:pt x="294577" y="133147"/>
                  </a:lnTo>
                  <a:cubicBezTo>
                    <a:pt x="298132" y="130544"/>
                    <a:pt x="291211" y="121654"/>
                    <a:pt x="283718" y="118225"/>
                  </a:cubicBezTo>
                  <a:cubicBezTo>
                    <a:pt x="276034" y="114669"/>
                    <a:pt x="250127" y="101397"/>
                    <a:pt x="247714" y="99429"/>
                  </a:cubicBezTo>
                  <a:cubicBezTo>
                    <a:pt x="245364" y="97587"/>
                    <a:pt x="226885" y="95047"/>
                    <a:pt x="236918" y="114859"/>
                  </a:cubicBezTo>
                  <a:lnTo>
                    <a:pt x="205931" y="105017"/>
                  </a:lnTo>
                  <a:lnTo>
                    <a:pt x="95631" y="44946"/>
                  </a:lnTo>
                  <a:cubicBezTo>
                    <a:pt x="59753" y="25388"/>
                    <a:pt x="0" y="14339"/>
                    <a:pt x="0" y="14339"/>
                  </a:cubicBezTo>
                  <a:lnTo>
                    <a:pt x="4699" y="7354"/>
                  </a:lnTo>
                  <a:lnTo>
                    <a:pt x="4699" y="7354"/>
                  </a:lnTo>
                  <a:cubicBezTo>
                    <a:pt x="18478" y="1512"/>
                    <a:pt x="47498" y="-5791"/>
                    <a:pt x="91504" y="7417"/>
                  </a:cubicBezTo>
                  <a:cubicBezTo>
                    <a:pt x="130937" y="19292"/>
                    <a:pt x="247841" y="56376"/>
                    <a:pt x="331343" y="83046"/>
                  </a:cubicBezTo>
                  <a:cubicBezTo>
                    <a:pt x="382968" y="99429"/>
                    <a:pt x="421767" y="111875"/>
                    <a:pt x="421767" y="111875"/>
                  </a:cubicBezTo>
                  <a:close/>
                </a:path>
              </a:pathLst>
            </a:custGeom>
            <a:solidFill>
              <a:srgbClr val="d14b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69" name="Freeform 258"/>
            <p:cNvSpPr/>
            <p:nvPr/>
          </p:nvSpPr>
          <p:spPr>
            <a:xfrm>
              <a:off x="6737400" y="3277800"/>
              <a:ext cx="360" cy="6120"/>
            </a:xfrm>
            <a:custGeom>
              <a:avLst/>
              <a:gdLst/>
              <a:ahLst/>
              <a:rect l="l" t="t" r="r" b="b"/>
              <a:pathLst>
                <a:path w="63" h="6350">
                  <a:moveTo>
                    <a:pt x="64" y="0"/>
                  </a:move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70" name="Freeform 259"/>
            <p:cNvSpPr/>
            <p:nvPr/>
          </p:nvSpPr>
          <p:spPr>
            <a:xfrm>
              <a:off x="6707520" y="3074400"/>
              <a:ext cx="230040" cy="282600"/>
            </a:xfrm>
            <a:custGeom>
              <a:avLst/>
              <a:gdLst/>
              <a:ahLst/>
              <a:rect l="l" t="t" r="r" b="b"/>
              <a:pathLst>
                <a:path w="229948" h="282829">
                  <a:moveTo>
                    <a:pt x="225806" y="72898"/>
                  </a:moveTo>
                  <a:cubicBezTo>
                    <a:pt x="212725" y="121793"/>
                    <a:pt x="170752" y="171767"/>
                    <a:pt x="130429" y="210630"/>
                  </a:cubicBezTo>
                  <a:cubicBezTo>
                    <a:pt x="107124" y="233172"/>
                    <a:pt x="84328" y="251968"/>
                    <a:pt x="67945" y="264732"/>
                  </a:cubicBezTo>
                  <a:cubicBezTo>
                    <a:pt x="53277" y="276225"/>
                    <a:pt x="43752" y="282829"/>
                    <a:pt x="43752" y="282829"/>
                  </a:cubicBezTo>
                  <a:lnTo>
                    <a:pt x="32893" y="269939"/>
                  </a:lnTo>
                  <a:lnTo>
                    <a:pt x="32893" y="269939"/>
                  </a:lnTo>
                  <a:lnTo>
                    <a:pt x="0" y="231013"/>
                  </a:lnTo>
                  <a:cubicBezTo>
                    <a:pt x="0" y="231013"/>
                    <a:pt x="1207" y="229933"/>
                    <a:pt x="3429" y="227965"/>
                  </a:cubicBezTo>
                  <a:cubicBezTo>
                    <a:pt x="8255" y="223583"/>
                    <a:pt x="17844" y="214884"/>
                    <a:pt x="29591" y="203517"/>
                  </a:cubicBezTo>
                  <a:cubicBezTo>
                    <a:pt x="43053" y="190436"/>
                    <a:pt x="59499" y="173926"/>
                    <a:pt x="75185" y="156337"/>
                  </a:cubicBezTo>
                  <a:cubicBezTo>
                    <a:pt x="89281" y="140526"/>
                    <a:pt x="102807" y="123889"/>
                    <a:pt x="113030" y="108267"/>
                  </a:cubicBezTo>
                  <a:cubicBezTo>
                    <a:pt x="118364" y="100139"/>
                    <a:pt x="122810" y="92202"/>
                    <a:pt x="125985" y="84899"/>
                  </a:cubicBezTo>
                  <a:cubicBezTo>
                    <a:pt x="150495" y="28004"/>
                    <a:pt x="180213" y="0"/>
                    <a:pt x="201232" y="0"/>
                  </a:cubicBezTo>
                  <a:cubicBezTo>
                    <a:pt x="222250" y="0"/>
                    <a:pt x="228347" y="26289"/>
                    <a:pt x="228347" y="26289"/>
                  </a:cubicBezTo>
                  <a:cubicBezTo>
                    <a:pt x="231267" y="41402"/>
                    <a:pt x="230061" y="57086"/>
                    <a:pt x="225806" y="7289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71" name="Freeform 260"/>
            <p:cNvSpPr/>
            <p:nvPr/>
          </p:nvSpPr>
          <p:spPr>
            <a:xfrm>
              <a:off x="6608520" y="3294000"/>
              <a:ext cx="105480" cy="95400"/>
            </a:xfrm>
            <a:custGeom>
              <a:avLst/>
              <a:gdLst/>
              <a:ahLst/>
              <a:rect l="l" t="t" r="r" b="b"/>
              <a:pathLst>
                <a:path w="105541" h="95667">
                  <a:moveTo>
                    <a:pt x="105541" y="65786"/>
                  </a:moveTo>
                  <a:cubicBezTo>
                    <a:pt x="105541" y="65786"/>
                    <a:pt x="100208" y="78867"/>
                    <a:pt x="84713" y="87693"/>
                  </a:cubicBezTo>
                  <a:lnTo>
                    <a:pt x="84713" y="87693"/>
                  </a:lnTo>
                  <a:cubicBezTo>
                    <a:pt x="75506" y="92964"/>
                    <a:pt x="62679" y="96774"/>
                    <a:pt x="45280" y="95377"/>
                  </a:cubicBezTo>
                  <a:cubicBezTo>
                    <a:pt x="-1392" y="91758"/>
                    <a:pt x="4" y="42227"/>
                    <a:pt x="4" y="42227"/>
                  </a:cubicBezTo>
                  <a:lnTo>
                    <a:pt x="22039" y="42672"/>
                  </a:lnTo>
                  <a:cubicBezTo>
                    <a:pt x="11688" y="5270"/>
                    <a:pt x="27119" y="0"/>
                    <a:pt x="27119" y="0"/>
                  </a:cubicBezTo>
                  <a:lnTo>
                    <a:pt x="45978" y="39624"/>
                  </a:lnTo>
                  <a:cubicBezTo>
                    <a:pt x="58044" y="40195"/>
                    <a:pt x="69600" y="34925"/>
                    <a:pt x="78808" y="28892"/>
                  </a:cubicBezTo>
                  <a:cubicBezTo>
                    <a:pt x="83444" y="42482"/>
                    <a:pt x="105541" y="65786"/>
                    <a:pt x="105541" y="65786"/>
                  </a:cubicBezTo>
                  <a:close/>
                </a:path>
              </a:pathLst>
            </a:custGeom>
            <a:solidFill>
              <a:srgbClr val="8fd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72" name="Freeform 261"/>
            <p:cNvSpPr/>
            <p:nvPr/>
          </p:nvSpPr>
          <p:spPr>
            <a:xfrm>
              <a:off x="6687720" y="3305520"/>
              <a:ext cx="52920" cy="54000"/>
            </a:xfrm>
            <a:custGeom>
              <a:avLst/>
              <a:gdLst/>
              <a:ahLst/>
              <a:rect l="l" t="t" r="r" b="b"/>
              <a:pathLst>
                <a:path w="52958" h="54229">
                  <a:moveTo>
                    <a:pt x="-12577" y="-26610"/>
                  </a:moveTo>
                  <a:lnTo>
                    <a:pt x="26733" y="-11307"/>
                  </a:lnTo>
                  <a:cubicBezTo>
                    <a:pt x="26733" y="-11307"/>
                    <a:pt x="4635" y="30924"/>
                    <a:pt x="0" y="17335"/>
                  </a:cubicBezTo>
                  <a:cubicBezTo>
                    <a:pt x="12001" y="9398"/>
                    <a:pt x="20065" y="0"/>
                    <a:pt x="20065" y="0"/>
                  </a:cubicBezTo>
                  <a:lnTo>
                    <a:pt x="-12577" y="-26610"/>
                  </a:lnTo>
                  <a:close/>
                </a:path>
              </a:pathLst>
            </a:custGeom>
            <a:solidFill>
              <a:srgbClr val="f8a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73" name="Freeform 262"/>
            <p:cNvSpPr/>
            <p:nvPr/>
          </p:nvSpPr>
          <p:spPr>
            <a:xfrm>
              <a:off x="6820560" y="3039480"/>
              <a:ext cx="344880" cy="490680"/>
            </a:xfrm>
            <a:custGeom>
              <a:avLst/>
              <a:gdLst/>
              <a:ahLst/>
              <a:rect l="l" t="t" r="r" b="b"/>
              <a:pathLst>
                <a:path w="344761" h="491000">
                  <a:moveTo>
                    <a:pt x="231273" y="483616"/>
                  </a:moveTo>
                  <a:cubicBezTo>
                    <a:pt x="222383" y="481838"/>
                    <a:pt x="212795" y="479679"/>
                    <a:pt x="202508" y="477139"/>
                  </a:cubicBezTo>
                  <a:cubicBezTo>
                    <a:pt x="36519" y="436245"/>
                    <a:pt x="2229" y="456311"/>
                    <a:pt x="2229" y="456311"/>
                  </a:cubicBezTo>
                  <a:cubicBezTo>
                    <a:pt x="2229" y="456311"/>
                    <a:pt x="10929" y="434911"/>
                    <a:pt x="17469" y="399415"/>
                  </a:cubicBezTo>
                  <a:cubicBezTo>
                    <a:pt x="83636" y="425831"/>
                    <a:pt x="146945" y="451231"/>
                    <a:pt x="146945" y="451231"/>
                  </a:cubicBezTo>
                  <a:cubicBezTo>
                    <a:pt x="183331" y="448246"/>
                    <a:pt x="164916" y="420243"/>
                    <a:pt x="164916" y="420243"/>
                  </a:cubicBezTo>
                  <a:lnTo>
                    <a:pt x="24200" y="339471"/>
                  </a:lnTo>
                  <a:cubicBezTo>
                    <a:pt x="25342" y="311467"/>
                    <a:pt x="23946" y="279717"/>
                    <a:pt x="17659" y="245808"/>
                  </a:cubicBezTo>
                  <a:cubicBezTo>
                    <a:pt x="70999" y="194373"/>
                    <a:pt x="127133" y="123571"/>
                    <a:pt x="115640" y="61404"/>
                  </a:cubicBezTo>
                  <a:cubicBezTo>
                    <a:pt x="115640" y="61404"/>
                    <a:pt x="109544" y="35115"/>
                    <a:pt x="88525" y="35115"/>
                  </a:cubicBezTo>
                  <a:cubicBezTo>
                    <a:pt x="67507" y="35115"/>
                    <a:pt x="37789" y="63119"/>
                    <a:pt x="13278" y="120015"/>
                  </a:cubicBezTo>
                  <a:cubicBezTo>
                    <a:pt x="10103" y="127381"/>
                    <a:pt x="5658" y="135255"/>
                    <a:pt x="324" y="143383"/>
                  </a:cubicBezTo>
                  <a:cubicBezTo>
                    <a:pt x="-502" y="125730"/>
                    <a:pt x="324" y="110363"/>
                    <a:pt x="1975" y="97218"/>
                  </a:cubicBezTo>
                  <a:cubicBezTo>
                    <a:pt x="7436" y="54483"/>
                    <a:pt x="22295" y="35052"/>
                    <a:pt x="22295" y="35052"/>
                  </a:cubicBezTo>
                  <a:cubicBezTo>
                    <a:pt x="64015" y="34226"/>
                    <a:pt x="124911" y="0"/>
                    <a:pt x="124911" y="0"/>
                  </a:cubicBezTo>
                  <a:cubicBezTo>
                    <a:pt x="124911" y="0"/>
                    <a:pt x="215017" y="124270"/>
                    <a:pt x="236671" y="238570"/>
                  </a:cubicBezTo>
                  <a:cubicBezTo>
                    <a:pt x="258388" y="352806"/>
                    <a:pt x="343415" y="455422"/>
                    <a:pt x="343415" y="455422"/>
                  </a:cubicBezTo>
                  <a:cubicBezTo>
                    <a:pt x="343415" y="455422"/>
                    <a:pt x="365449" y="510476"/>
                    <a:pt x="231273" y="4836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74" name="Freeform 263"/>
            <p:cNvSpPr/>
            <p:nvPr/>
          </p:nvSpPr>
          <p:spPr>
            <a:xfrm>
              <a:off x="6840360" y="3012840"/>
              <a:ext cx="105120" cy="61560"/>
            </a:xfrm>
            <a:custGeom>
              <a:avLst/>
              <a:gdLst/>
              <a:ahLst/>
              <a:rect l="l" t="t" r="r" b="b"/>
              <a:pathLst>
                <a:path w="105092" h="61595">
                  <a:moveTo>
                    <a:pt x="105093" y="26543"/>
                  </a:moveTo>
                  <a:cubicBezTo>
                    <a:pt x="105093" y="26543"/>
                    <a:pt x="44197" y="60770"/>
                    <a:pt x="2477" y="61595"/>
                  </a:cubicBezTo>
                  <a:lnTo>
                    <a:pt x="0" y="37402"/>
                  </a:lnTo>
                  <a:cubicBezTo>
                    <a:pt x="0" y="37402"/>
                    <a:pt x="9970" y="35115"/>
                    <a:pt x="24257" y="30798"/>
                  </a:cubicBezTo>
                  <a:cubicBezTo>
                    <a:pt x="44641" y="24575"/>
                    <a:pt x="73851" y="14161"/>
                    <a:pt x="95886" y="0"/>
                  </a:cubicBezTo>
                  <a:lnTo>
                    <a:pt x="105093" y="26543"/>
                  </a:lnTo>
                  <a:close/>
                </a:path>
              </a:pathLst>
            </a:custGeom>
            <a:solidFill>
              <a:srgbClr val="8fd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75" name="Freeform 264"/>
            <p:cNvSpPr/>
            <p:nvPr/>
          </p:nvSpPr>
          <p:spPr>
            <a:xfrm>
              <a:off x="6692400" y="3136680"/>
              <a:ext cx="129960" cy="93960"/>
            </a:xfrm>
            <a:custGeom>
              <a:avLst/>
              <a:gdLst/>
              <a:ahLst/>
              <a:rect l="l" t="t" r="r" b="b"/>
              <a:pathLst>
                <a:path w="129920" h="94170">
                  <a:moveTo>
                    <a:pt x="128270" y="46101"/>
                  </a:moveTo>
                  <a:cubicBezTo>
                    <a:pt x="118046" y="61722"/>
                    <a:pt x="104521" y="78359"/>
                    <a:pt x="90424" y="94170"/>
                  </a:cubicBezTo>
                  <a:cubicBezTo>
                    <a:pt x="90424" y="94170"/>
                    <a:pt x="51562" y="81724"/>
                    <a:pt x="0" y="65278"/>
                  </a:cubicBezTo>
                  <a:cubicBezTo>
                    <a:pt x="0" y="65278"/>
                    <a:pt x="115062" y="24384"/>
                    <a:pt x="129921" y="0"/>
                  </a:cubicBezTo>
                  <a:cubicBezTo>
                    <a:pt x="128270" y="13081"/>
                    <a:pt x="127508" y="28385"/>
                    <a:pt x="128270" y="46101"/>
                  </a:cubicBezTo>
                  <a:close/>
                </a:path>
              </a:pathLst>
            </a:custGeom>
            <a:solidFill>
              <a:srgbClr val="e2e3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76" name="Freeform 265"/>
            <p:cNvSpPr/>
            <p:nvPr/>
          </p:nvSpPr>
          <p:spPr>
            <a:xfrm>
              <a:off x="6594840" y="3216960"/>
              <a:ext cx="61560" cy="35640"/>
            </a:xfrm>
            <a:custGeom>
              <a:avLst/>
              <a:gdLst/>
              <a:ahLst/>
              <a:rect l="l" t="t" r="r" b="b"/>
              <a:pathLst>
                <a:path w="61643" h="35950">
                  <a:moveTo>
                    <a:pt x="60684" y="34974"/>
                  </a:moveTo>
                  <a:cubicBezTo>
                    <a:pt x="60557" y="35038"/>
                    <a:pt x="60493" y="35101"/>
                    <a:pt x="60366" y="35165"/>
                  </a:cubicBezTo>
                  <a:cubicBezTo>
                    <a:pt x="59477" y="35609"/>
                    <a:pt x="16297" y="40562"/>
                    <a:pt x="4041" y="18655"/>
                  </a:cubicBezTo>
                  <a:cubicBezTo>
                    <a:pt x="3661" y="17956"/>
                    <a:pt x="3343" y="17321"/>
                    <a:pt x="2962" y="16686"/>
                  </a:cubicBezTo>
                  <a:cubicBezTo>
                    <a:pt x="-7071" y="-3126"/>
                    <a:pt x="11408" y="-649"/>
                    <a:pt x="13757" y="1256"/>
                  </a:cubicBezTo>
                  <a:cubicBezTo>
                    <a:pt x="16170" y="3224"/>
                    <a:pt x="42078" y="16496"/>
                    <a:pt x="49762" y="20052"/>
                  </a:cubicBezTo>
                  <a:cubicBezTo>
                    <a:pt x="57318" y="23481"/>
                    <a:pt x="64239" y="32371"/>
                    <a:pt x="60684" y="34974"/>
                  </a:cubicBezTo>
                  <a:close/>
                </a:path>
              </a:pathLst>
            </a:custGeom>
            <a:solidFill>
              <a:srgbClr val="8fd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77" name="Freeform 266"/>
            <p:cNvSpPr/>
            <p:nvPr/>
          </p:nvSpPr>
          <p:spPr>
            <a:xfrm>
              <a:off x="6744600" y="2793600"/>
              <a:ext cx="196920" cy="180000"/>
            </a:xfrm>
            <a:custGeom>
              <a:avLst/>
              <a:gdLst/>
              <a:ahLst/>
              <a:rect l="l" t="t" r="r" b="b"/>
              <a:pathLst>
                <a:path w="197049" h="180153">
                  <a:moveTo>
                    <a:pt x="175260" y="180154"/>
                  </a:moveTo>
                  <a:lnTo>
                    <a:pt x="156972" y="136212"/>
                  </a:lnTo>
                  <a:cubicBezTo>
                    <a:pt x="156972" y="136212"/>
                    <a:pt x="178181" y="110622"/>
                    <a:pt x="154178" y="101414"/>
                  </a:cubicBezTo>
                  <a:cubicBezTo>
                    <a:pt x="154178" y="101414"/>
                    <a:pt x="143002" y="97794"/>
                    <a:pt x="135382" y="108589"/>
                  </a:cubicBezTo>
                  <a:cubicBezTo>
                    <a:pt x="133605" y="111129"/>
                    <a:pt x="131509" y="112590"/>
                    <a:pt x="129223" y="113162"/>
                  </a:cubicBezTo>
                  <a:cubicBezTo>
                    <a:pt x="121793" y="115003"/>
                    <a:pt x="112459" y="106812"/>
                    <a:pt x="106617" y="91825"/>
                  </a:cubicBezTo>
                  <a:cubicBezTo>
                    <a:pt x="106617" y="91825"/>
                    <a:pt x="74231" y="109796"/>
                    <a:pt x="45911" y="85856"/>
                  </a:cubicBezTo>
                  <a:cubicBezTo>
                    <a:pt x="45911" y="85856"/>
                    <a:pt x="46356" y="102493"/>
                    <a:pt x="39434" y="109732"/>
                  </a:cubicBezTo>
                  <a:cubicBezTo>
                    <a:pt x="37275" y="111955"/>
                    <a:pt x="34480" y="113288"/>
                    <a:pt x="30734" y="113034"/>
                  </a:cubicBezTo>
                  <a:cubicBezTo>
                    <a:pt x="14732" y="111828"/>
                    <a:pt x="-22415" y="37152"/>
                    <a:pt x="18732" y="23118"/>
                  </a:cubicBezTo>
                  <a:cubicBezTo>
                    <a:pt x="59880" y="9148"/>
                    <a:pt x="67056" y="26293"/>
                    <a:pt x="67056" y="26293"/>
                  </a:cubicBezTo>
                  <a:cubicBezTo>
                    <a:pt x="67056" y="26293"/>
                    <a:pt x="77597" y="-19236"/>
                    <a:pt x="148273" y="9529"/>
                  </a:cubicBezTo>
                  <a:cubicBezTo>
                    <a:pt x="218885" y="38295"/>
                    <a:pt x="191580" y="107002"/>
                    <a:pt x="191580" y="107002"/>
                  </a:cubicBezTo>
                  <a:cubicBezTo>
                    <a:pt x="191580" y="107002"/>
                    <a:pt x="211518" y="163326"/>
                    <a:pt x="175260" y="180154"/>
                  </a:cubicBezTo>
                  <a:close/>
                </a:path>
              </a:pathLst>
            </a:custGeom>
            <a:solidFill>
              <a:srgbClr val="803d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78" name="Freeform 267"/>
            <p:cNvSpPr/>
            <p:nvPr/>
          </p:nvSpPr>
          <p:spPr>
            <a:xfrm>
              <a:off x="6783840" y="2879280"/>
              <a:ext cx="152280" cy="164160"/>
            </a:xfrm>
            <a:custGeom>
              <a:avLst/>
              <a:gdLst/>
              <a:ahLst/>
              <a:rect l="l" t="t" r="r" b="b"/>
              <a:pathLst>
                <a:path w="152209" h="164274">
                  <a:moveTo>
                    <a:pt x="135827" y="94298"/>
                  </a:moveTo>
                  <a:lnTo>
                    <a:pt x="117539" y="50356"/>
                  </a:lnTo>
                  <a:cubicBezTo>
                    <a:pt x="117539" y="50356"/>
                    <a:pt x="138747" y="24765"/>
                    <a:pt x="114745" y="15558"/>
                  </a:cubicBezTo>
                  <a:cubicBezTo>
                    <a:pt x="114745" y="15558"/>
                    <a:pt x="103569" y="11938"/>
                    <a:pt x="95948" y="22733"/>
                  </a:cubicBezTo>
                  <a:cubicBezTo>
                    <a:pt x="94171" y="25273"/>
                    <a:pt x="92075" y="26734"/>
                    <a:pt x="89789" y="27305"/>
                  </a:cubicBezTo>
                  <a:cubicBezTo>
                    <a:pt x="82359" y="29146"/>
                    <a:pt x="73025" y="20955"/>
                    <a:pt x="67184" y="5969"/>
                  </a:cubicBezTo>
                  <a:cubicBezTo>
                    <a:pt x="67184" y="5969"/>
                    <a:pt x="34798" y="23940"/>
                    <a:pt x="6477" y="0"/>
                  </a:cubicBezTo>
                  <a:cubicBezTo>
                    <a:pt x="6477" y="0"/>
                    <a:pt x="6922" y="16637"/>
                    <a:pt x="0" y="23876"/>
                  </a:cubicBezTo>
                  <a:lnTo>
                    <a:pt x="127" y="24003"/>
                  </a:lnTo>
                  <a:cubicBezTo>
                    <a:pt x="1460" y="32321"/>
                    <a:pt x="2922" y="40005"/>
                    <a:pt x="4572" y="47117"/>
                  </a:cubicBezTo>
                  <a:cubicBezTo>
                    <a:pt x="9208" y="67437"/>
                    <a:pt x="14986" y="82868"/>
                    <a:pt x="21399" y="94552"/>
                  </a:cubicBezTo>
                  <a:cubicBezTo>
                    <a:pt x="22225" y="96139"/>
                    <a:pt x="23114" y="97599"/>
                    <a:pt x="24003" y="98996"/>
                  </a:cubicBezTo>
                  <a:lnTo>
                    <a:pt x="59182" y="66739"/>
                  </a:lnTo>
                  <a:lnTo>
                    <a:pt x="95695" y="88329"/>
                  </a:lnTo>
                  <a:lnTo>
                    <a:pt x="86423" y="122999"/>
                  </a:lnTo>
                  <a:cubicBezTo>
                    <a:pt x="81852" y="124778"/>
                    <a:pt x="76772" y="126174"/>
                    <a:pt x="71310" y="126683"/>
                  </a:cubicBezTo>
                  <a:lnTo>
                    <a:pt x="80582" y="164274"/>
                  </a:lnTo>
                  <a:cubicBezTo>
                    <a:pt x="100965" y="158052"/>
                    <a:pt x="130175" y="147638"/>
                    <a:pt x="152209" y="133477"/>
                  </a:cubicBezTo>
                  <a:lnTo>
                    <a:pt x="135827" y="94298"/>
                  </a:lnTo>
                  <a:close/>
                  <a:moveTo>
                    <a:pt x="30417" y="48006"/>
                  </a:moveTo>
                  <a:cubicBezTo>
                    <a:pt x="29147" y="48641"/>
                    <a:pt x="27560" y="48070"/>
                    <a:pt x="26988" y="46736"/>
                  </a:cubicBezTo>
                  <a:lnTo>
                    <a:pt x="21210" y="34481"/>
                  </a:lnTo>
                  <a:cubicBezTo>
                    <a:pt x="20574" y="33211"/>
                    <a:pt x="21146" y="31623"/>
                    <a:pt x="22416" y="31052"/>
                  </a:cubicBezTo>
                  <a:cubicBezTo>
                    <a:pt x="22797" y="30861"/>
                    <a:pt x="23114" y="30798"/>
                    <a:pt x="23495" y="30798"/>
                  </a:cubicBezTo>
                  <a:cubicBezTo>
                    <a:pt x="24447" y="30798"/>
                    <a:pt x="25400" y="31369"/>
                    <a:pt x="25845" y="32258"/>
                  </a:cubicBezTo>
                  <a:lnTo>
                    <a:pt x="31623" y="44514"/>
                  </a:lnTo>
                  <a:cubicBezTo>
                    <a:pt x="32258" y="45847"/>
                    <a:pt x="31750" y="47435"/>
                    <a:pt x="30417" y="48006"/>
                  </a:cubicBezTo>
                  <a:close/>
                </a:path>
              </a:pathLst>
            </a:custGeom>
            <a:solidFill>
              <a:srgbClr val="f8a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79" name="Freeform 268"/>
            <p:cNvSpPr/>
            <p:nvPr/>
          </p:nvSpPr>
          <p:spPr>
            <a:xfrm>
              <a:off x="6788520" y="2926440"/>
              <a:ext cx="16560" cy="50760"/>
            </a:xfrm>
            <a:custGeom>
              <a:avLst/>
              <a:gdLst/>
              <a:ahLst/>
              <a:rect l="l" t="t" r="r" b="b"/>
              <a:pathLst>
                <a:path w="16763" h="50863">
                  <a:moveTo>
                    <a:pt x="16763" y="-18101"/>
                  </a:moveTo>
                  <a:lnTo>
                    <a:pt x="1460" y="-14672"/>
                  </a:lnTo>
                  <a:lnTo>
                    <a:pt x="0" y="0"/>
                  </a:lnTo>
                  <a:cubicBezTo>
                    <a:pt x="4635" y="20320"/>
                    <a:pt x="10351" y="-29722"/>
                    <a:pt x="16763" y="-18101"/>
                  </a:cubicBezTo>
                  <a:close/>
                </a:path>
              </a:pathLst>
            </a:custGeom>
            <a:solidFill>
              <a:srgbClr val="d16b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80" name="Freeform 269"/>
            <p:cNvSpPr/>
            <p:nvPr/>
          </p:nvSpPr>
          <p:spPr>
            <a:xfrm>
              <a:off x="6807960" y="2905200"/>
              <a:ext cx="95040" cy="101160"/>
            </a:xfrm>
            <a:custGeom>
              <a:avLst/>
              <a:gdLst/>
              <a:ahLst/>
              <a:rect l="l" t="t" r="r" b="b"/>
              <a:pathLst>
                <a:path w="95059" h="101184">
                  <a:moveTo>
                    <a:pt x="95059" y="26099"/>
                  </a:moveTo>
                  <a:lnTo>
                    <a:pt x="94361" y="24193"/>
                  </a:lnTo>
                  <a:lnTo>
                    <a:pt x="70359" y="61722"/>
                  </a:lnTo>
                  <a:lnTo>
                    <a:pt x="36640" y="41783"/>
                  </a:lnTo>
                  <a:lnTo>
                    <a:pt x="68008" y="0"/>
                  </a:lnTo>
                  <a:lnTo>
                    <a:pt x="64833" y="1016"/>
                  </a:lnTo>
                  <a:lnTo>
                    <a:pt x="35179" y="40958"/>
                  </a:lnTo>
                  <a:lnTo>
                    <a:pt x="0" y="73152"/>
                  </a:lnTo>
                  <a:cubicBezTo>
                    <a:pt x="14669" y="96965"/>
                    <a:pt x="32258" y="102426"/>
                    <a:pt x="47371" y="100965"/>
                  </a:cubicBezTo>
                  <a:cubicBezTo>
                    <a:pt x="52769" y="100457"/>
                    <a:pt x="57912" y="99060"/>
                    <a:pt x="62484" y="97282"/>
                  </a:cubicBezTo>
                  <a:lnTo>
                    <a:pt x="71755" y="62611"/>
                  </a:lnTo>
                  <a:lnTo>
                    <a:pt x="71755" y="62611"/>
                  </a:lnTo>
                  <a:lnTo>
                    <a:pt x="95059" y="260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81" name="Freeform 270"/>
            <p:cNvSpPr/>
            <p:nvPr/>
          </p:nvSpPr>
          <p:spPr>
            <a:xfrm>
              <a:off x="6805080" y="2910240"/>
              <a:ext cx="10800" cy="17280"/>
            </a:xfrm>
            <a:custGeom>
              <a:avLst/>
              <a:gdLst/>
              <a:ahLst/>
              <a:rect l="l" t="t" r="r" b="b"/>
              <a:pathLst>
                <a:path w="10946" h="17467">
                  <a:moveTo>
                    <a:pt x="9468" y="17208"/>
                  </a:moveTo>
                  <a:cubicBezTo>
                    <a:pt x="8199" y="17843"/>
                    <a:pt x="6611" y="17272"/>
                    <a:pt x="6039" y="15939"/>
                  </a:cubicBezTo>
                  <a:lnTo>
                    <a:pt x="261" y="3683"/>
                  </a:lnTo>
                  <a:cubicBezTo>
                    <a:pt x="-375" y="2413"/>
                    <a:pt x="198" y="826"/>
                    <a:pt x="1467" y="254"/>
                  </a:cubicBezTo>
                  <a:cubicBezTo>
                    <a:pt x="1849" y="64"/>
                    <a:pt x="2166" y="0"/>
                    <a:pt x="2547" y="0"/>
                  </a:cubicBezTo>
                  <a:cubicBezTo>
                    <a:pt x="3499" y="0"/>
                    <a:pt x="4452" y="571"/>
                    <a:pt x="4896" y="1461"/>
                  </a:cubicBezTo>
                  <a:lnTo>
                    <a:pt x="10674" y="13716"/>
                  </a:lnTo>
                  <a:cubicBezTo>
                    <a:pt x="11310" y="15049"/>
                    <a:pt x="10802" y="16637"/>
                    <a:pt x="9468" y="17208"/>
                  </a:cubicBez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82" name="Freeform 271"/>
            <p:cNvSpPr/>
            <p:nvPr/>
          </p:nvSpPr>
          <p:spPr>
            <a:xfrm>
              <a:off x="5725080" y="3562200"/>
              <a:ext cx="133200" cy="127800"/>
            </a:xfrm>
            <a:custGeom>
              <a:avLst/>
              <a:gdLst/>
              <a:ahLst/>
              <a:rect l="l" t="t" r="r" b="b"/>
              <a:pathLst>
                <a:path w="133413" h="127889">
                  <a:moveTo>
                    <a:pt x="12954" y="125984"/>
                  </a:moveTo>
                  <a:cubicBezTo>
                    <a:pt x="12954" y="125984"/>
                    <a:pt x="33528" y="80645"/>
                    <a:pt x="0" y="45530"/>
                  </a:cubicBezTo>
                  <a:cubicBezTo>
                    <a:pt x="0" y="45530"/>
                    <a:pt x="39116" y="57086"/>
                    <a:pt x="75692" y="0"/>
                  </a:cubicBezTo>
                  <a:cubicBezTo>
                    <a:pt x="75692" y="0"/>
                    <a:pt x="98425" y="53404"/>
                    <a:pt x="133414" y="47625"/>
                  </a:cubicBezTo>
                  <a:cubicBezTo>
                    <a:pt x="133414" y="47625"/>
                    <a:pt x="94615" y="75120"/>
                    <a:pt x="97854" y="127889"/>
                  </a:cubicBezTo>
                  <a:cubicBezTo>
                    <a:pt x="97854" y="127952"/>
                    <a:pt x="44641" y="93155"/>
                    <a:pt x="12954" y="12598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83" name="Freeform 272"/>
            <p:cNvSpPr/>
            <p:nvPr/>
          </p:nvSpPr>
          <p:spPr>
            <a:xfrm>
              <a:off x="6591240" y="3490560"/>
              <a:ext cx="460440" cy="501840"/>
            </a:xfrm>
            <a:custGeom>
              <a:avLst/>
              <a:gdLst/>
              <a:ahLst/>
              <a:rect l="l" t="t" r="r" b="b"/>
              <a:pathLst>
                <a:path w="460184" h="502103">
                  <a:moveTo>
                    <a:pt x="460184" y="32204"/>
                  </a:moveTo>
                  <a:lnTo>
                    <a:pt x="460184" y="32204"/>
                  </a:lnTo>
                  <a:cubicBezTo>
                    <a:pt x="453707" y="51635"/>
                    <a:pt x="410273" y="91069"/>
                    <a:pt x="358584" y="132026"/>
                  </a:cubicBezTo>
                  <a:cubicBezTo>
                    <a:pt x="319468" y="163014"/>
                    <a:pt x="275527" y="194955"/>
                    <a:pt x="239331" y="219720"/>
                  </a:cubicBezTo>
                  <a:cubicBezTo>
                    <a:pt x="218948" y="233689"/>
                    <a:pt x="200978" y="245437"/>
                    <a:pt x="187706" y="253502"/>
                  </a:cubicBezTo>
                  <a:cubicBezTo>
                    <a:pt x="119952" y="294586"/>
                    <a:pt x="31178" y="502104"/>
                    <a:pt x="31178" y="502104"/>
                  </a:cubicBezTo>
                  <a:lnTo>
                    <a:pt x="0" y="502104"/>
                  </a:lnTo>
                  <a:cubicBezTo>
                    <a:pt x="0" y="502104"/>
                    <a:pt x="8572" y="298079"/>
                    <a:pt x="109410" y="185176"/>
                  </a:cubicBezTo>
                  <a:cubicBezTo>
                    <a:pt x="210248" y="72273"/>
                    <a:pt x="231077" y="4899"/>
                    <a:pt x="231077" y="4899"/>
                  </a:cubicBezTo>
                  <a:cubicBezTo>
                    <a:pt x="231077" y="4899"/>
                    <a:pt x="265366" y="-15103"/>
                    <a:pt x="431355" y="25727"/>
                  </a:cubicBezTo>
                  <a:cubicBezTo>
                    <a:pt x="441706" y="28267"/>
                    <a:pt x="451294" y="30426"/>
                    <a:pt x="460184" y="32204"/>
                  </a:cubicBezTo>
                  <a:close/>
                </a:path>
              </a:pathLst>
            </a:custGeom>
            <a:solidFill>
              <a:srgbClr val="8fd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84" name="Freeform 273"/>
            <p:cNvSpPr/>
            <p:nvPr/>
          </p:nvSpPr>
          <p:spPr>
            <a:xfrm>
              <a:off x="6830640" y="3622680"/>
              <a:ext cx="208440" cy="365040"/>
            </a:xfrm>
            <a:custGeom>
              <a:avLst/>
              <a:gdLst/>
              <a:ahLst/>
              <a:rect l="l" t="t" r="r" b="b"/>
              <a:pathLst>
                <a:path w="208534" h="365379">
                  <a:moveTo>
                    <a:pt x="208535" y="352108"/>
                  </a:moveTo>
                  <a:lnTo>
                    <a:pt x="201867" y="355283"/>
                  </a:lnTo>
                  <a:lnTo>
                    <a:pt x="180467" y="365379"/>
                  </a:lnTo>
                  <a:cubicBezTo>
                    <a:pt x="84710" y="304673"/>
                    <a:pt x="0" y="87694"/>
                    <a:pt x="0" y="87694"/>
                  </a:cubicBezTo>
                  <a:cubicBezTo>
                    <a:pt x="36195" y="62865"/>
                    <a:pt x="80073" y="30988"/>
                    <a:pt x="119253" y="0"/>
                  </a:cubicBezTo>
                  <a:cubicBezTo>
                    <a:pt x="61976" y="71374"/>
                    <a:pt x="208535" y="352108"/>
                    <a:pt x="208535" y="352108"/>
                  </a:cubicBezTo>
                  <a:close/>
                </a:path>
              </a:pathLst>
            </a:custGeom>
            <a:solidFill>
              <a:srgbClr val="50b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85" name="Freeform 274"/>
            <p:cNvSpPr/>
            <p:nvPr/>
          </p:nvSpPr>
          <p:spPr>
            <a:xfrm>
              <a:off x="6591240" y="3992760"/>
              <a:ext cx="23400" cy="23400"/>
            </a:xfrm>
            <a:custGeom>
              <a:avLst/>
              <a:gdLst/>
              <a:ahLst/>
              <a:rect l="l" t="t" r="r" b="b"/>
              <a:pathLst>
                <a:path w="23494" h="23530">
                  <a:moveTo>
                    <a:pt x="23495" y="0"/>
                  </a:moveTo>
                  <a:lnTo>
                    <a:pt x="22352" y="19495"/>
                  </a:lnTo>
                  <a:cubicBezTo>
                    <a:pt x="12192" y="28575"/>
                    <a:pt x="0" y="19495"/>
                    <a:pt x="0" y="19495"/>
                  </a:cubicBezTo>
                  <a:lnTo>
                    <a:pt x="0" y="0"/>
                  </a:lnTo>
                  <a:lnTo>
                    <a:pt x="2349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86" name="Freeform 275"/>
            <p:cNvSpPr/>
            <p:nvPr/>
          </p:nvSpPr>
          <p:spPr>
            <a:xfrm>
              <a:off x="6517080" y="4012200"/>
              <a:ext cx="125640" cy="40680"/>
            </a:xfrm>
            <a:custGeom>
              <a:avLst/>
              <a:gdLst/>
              <a:ahLst/>
              <a:rect l="l" t="t" r="r" b="b"/>
              <a:pathLst>
                <a:path w="125539" h="40737">
                  <a:moveTo>
                    <a:pt x="125540" y="40738"/>
                  </a:moveTo>
                  <a:lnTo>
                    <a:pt x="94869" y="40738"/>
                  </a:lnTo>
                  <a:lnTo>
                    <a:pt x="87630" y="28165"/>
                  </a:lnTo>
                  <a:lnTo>
                    <a:pt x="81153" y="40738"/>
                  </a:lnTo>
                  <a:lnTo>
                    <a:pt x="0" y="40738"/>
                  </a:lnTo>
                  <a:lnTo>
                    <a:pt x="0" y="27085"/>
                  </a:lnTo>
                  <a:cubicBezTo>
                    <a:pt x="46927" y="26323"/>
                    <a:pt x="74359" y="98"/>
                    <a:pt x="74359" y="98"/>
                  </a:cubicBezTo>
                  <a:cubicBezTo>
                    <a:pt x="74359" y="98"/>
                    <a:pt x="86487" y="9178"/>
                    <a:pt x="96710" y="98"/>
                  </a:cubicBezTo>
                  <a:cubicBezTo>
                    <a:pt x="119824" y="-2315"/>
                    <a:pt x="125540" y="40738"/>
                    <a:pt x="125540" y="40738"/>
                  </a:cubicBez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87" name="Freeform 276"/>
            <p:cNvSpPr/>
            <p:nvPr/>
          </p:nvSpPr>
          <p:spPr>
            <a:xfrm>
              <a:off x="7011360" y="3978000"/>
              <a:ext cx="34920" cy="35640"/>
            </a:xfrm>
            <a:custGeom>
              <a:avLst/>
              <a:gdLst/>
              <a:ahLst/>
              <a:rect l="l" t="t" r="r" b="b"/>
              <a:pathLst>
                <a:path w="35052" h="35935">
                  <a:moveTo>
                    <a:pt x="-30484" y="27622"/>
                  </a:moveTo>
                  <a:cubicBezTo>
                    <a:pt x="30924" y="-26801"/>
                    <a:pt x="15748" y="-30040"/>
                    <a:pt x="15748" y="-30040"/>
                  </a:cubicBezTo>
                  <a:lnTo>
                    <a:pt x="0" y="10096"/>
                  </a:lnTo>
                  <a:lnTo>
                    <a:pt x="21399" y="0"/>
                  </a:lnTo>
                  <a:lnTo>
                    <a:pt x="-30484" y="276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88" name="Freeform 277"/>
            <p:cNvSpPr/>
            <p:nvPr/>
          </p:nvSpPr>
          <p:spPr>
            <a:xfrm>
              <a:off x="6953400" y="4005720"/>
              <a:ext cx="124560" cy="51120"/>
            </a:xfrm>
            <a:custGeom>
              <a:avLst/>
              <a:gdLst/>
              <a:ahLst/>
              <a:rect l="l" t="t" r="r" b="b"/>
              <a:pathLst>
                <a:path w="124714" h="51371">
                  <a:moveTo>
                    <a:pt x="124714" y="51372"/>
                  </a:moveTo>
                  <a:lnTo>
                    <a:pt x="102807" y="51372"/>
                  </a:lnTo>
                  <a:lnTo>
                    <a:pt x="95186" y="37021"/>
                  </a:lnTo>
                  <a:lnTo>
                    <a:pt x="87313" y="51372"/>
                  </a:lnTo>
                  <a:lnTo>
                    <a:pt x="0" y="51372"/>
                  </a:lnTo>
                  <a:lnTo>
                    <a:pt x="0" y="39116"/>
                  </a:lnTo>
                  <a:cubicBezTo>
                    <a:pt x="60452" y="40259"/>
                    <a:pt x="73851" y="7874"/>
                    <a:pt x="73851" y="7874"/>
                  </a:cubicBezTo>
                  <a:cubicBezTo>
                    <a:pt x="73851" y="7874"/>
                    <a:pt x="89027" y="11113"/>
                    <a:pt x="93155" y="0"/>
                  </a:cubicBezTo>
                  <a:cubicBezTo>
                    <a:pt x="121793" y="317"/>
                    <a:pt x="124714" y="51372"/>
                    <a:pt x="124714" y="51372"/>
                  </a:cubicBez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89" name="Freeform 278"/>
            <p:cNvSpPr/>
            <p:nvPr/>
          </p:nvSpPr>
          <p:spPr>
            <a:xfrm>
              <a:off x="6838200" y="3147480"/>
              <a:ext cx="95400" cy="155880"/>
            </a:xfrm>
            <a:custGeom>
              <a:avLst/>
              <a:gdLst/>
              <a:ahLst/>
              <a:rect l="l" t="t" r="r" b="b"/>
              <a:pathLst>
                <a:path w="95377" h="156209">
                  <a:moveTo>
                    <a:pt x="95377" y="0"/>
                  </a:moveTo>
                  <a:cubicBezTo>
                    <a:pt x="95059" y="3302"/>
                    <a:pt x="84010" y="105283"/>
                    <a:pt x="2984" y="156210"/>
                  </a:cubicBezTo>
                  <a:lnTo>
                    <a:pt x="0" y="137732"/>
                  </a:lnTo>
                  <a:cubicBezTo>
                    <a:pt x="40322" y="98806"/>
                    <a:pt x="82296" y="48895"/>
                    <a:pt x="95377" y="0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90" name="Freeform 279"/>
            <p:cNvSpPr/>
            <p:nvPr/>
          </p:nvSpPr>
          <p:spPr>
            <a:xfrm>
              <a:off x="5148720" y="3619440"/>
              <a:ext cx="477720" cy="209160"/>
            </a:xfrm>
            <a:custGeom>
              <a:avLst/>
              <a:gdLst/>
              <a:ahLst/>
              <a:rect l="l" t="t" r="r" b="b"/>
              <a:pathLst>
                <a:path w="477329" h="209359">
                  <a:moveTo>
                    <a:pt x="477329" y="0"/>
                  </a:moveTo>
                  <a:cubicBezTo>
                    <a:pt x="477329" y="1016"/>
                    <a:pt x="477329" y="2032"/>
                    <a:pt x="477329" y="3048"/>
                  </a:cubicBezTo>
                  <a:cubicBezTo>
                    <a:pt x="477329" y="12319"/>
                    <a:pt x="477076" y="21209"/>
                    <a:pt x="476631" y="29655"/>
                  </a:cubicBezTo>
                  <a:cubicBezTo>
                    <a:pt x="475552" y="48451"/>
                    <a:pt x="473329" y="65088"/>
                    <a:pt x="469646" y="78549"/>
                  </a:cubicBezTo>
                  <a:cubicBezTo>
                    <a:pt x="439293" y="188341"/>
                    <a:pt x="250063" y="209360"/>
                    <a:pt x="250063" y="209360"/>
                  </a:cubicBezTo>
                  <a:cubicBezTo>
                    <a:pt x="250063" y="209360"/>
                    <a:pt x="245935" y="209360"/>
                    <a:pt x="238696" y="209105"/>
                  </a:cubicBezTo>
                  <a:cubicBezTo>
                    <a:pt x="231458" y="209360"/>
                    <a:pt x="227330" y="209360"/>
                    <a:pt x="227330" y="209360"/>
                  </a:cubicBezTo>
                  <a:cubicBezTo>
                    <a:pt x="227330" y="209360"/>
                    <a:pt x="38100" y="188341"/>
                    <a:pt x="7747" y="78549"/>
                  </a:cubicBezTo>
                  <a:cubicBezTo>
                    <a:pt x="4254" y="65913"/>
                    <a:pt x="2095" y="50546"/>
                    <a:pt x="952" y="33211"/>
                  </a:cubicBezTo>
                  <a:cubicBezTo>
                    <a:pt x="317" y="23051"/>
                    <a:pt x="0" y="12192"/>
                    <a:pt x="0" y="826"/>
                  </a:cubicBezTo>
                  <a:cubicBezTo>
                    <a:pt x="635" y="2921"/>
                    <a:pt x="52451" y="175196"/>
                    <a:pt x="238633" y="175196"/>
                  </a:cubicBezTo>
                  <a:cubicBezTo>
                    <a:pt x="426021" y="175196"/>
                    <a:pt x="477329" y="0"/>
                    <a:pt x="477329" y="0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91" name="Freeform 280"/>
            <p:cNvSpPr/>
            <p:nvPr/>
          </p:nvSpPr>
          <p:spPr>
            <a:xfrm>
              <a:off x="6103800" y="3619440"/>
              <a:ext cx="477720" cy="209160"/>
            </a:xfrm>
            <a:custGeom>
              <a:avLst/>
              <a:gdLst/>
              <a:ahLst/>
              <a:rect l="l" t="t" r="r" b="b"/>
              <a:pathLst>
                <a:path w="477329" h="209359">
                  <a:moveTo>
                    <a:pt x="477330" y="0"/>
                  </a:moveTo>
                  <a:cubicBezTo>
                    <a:pt x="477330" y="1016"/>
                    <a:pt x="477330" y="2032"/>
                    <a:pt x="477330" y="3048"/>
                  </a:cubicBezTo>
                  <a:cubicBezTo>
                    <a:pt x="477330" y="12319"/>
                    <a:pt x="477076" y="21209"/>
                    <a:pt x="476631" y="29655"/>
                  </a:cubicBezTo>
                  <a:cubicBezTo>
                    <a:pt x="475552" y="48451"/>
                    <a:pt x="473329" y="65088"/>
                    <a:pt x="469647" y="78549"/>
                  </a:cubicBezTo>
                  <a:cubicBezTo>
                    <a:pt x="439293" y="188341"/>
                    <a:pt x="250063" y="209360"/>
                    <a:pt x="250063" y="209360"/>
                  </a:cubicBezTo>
                  <a:cubicBezTo>
                    <a:pt x="250063" y="209360"/>
                    <a:pt x="245936" y="209360"/>
                    <a:pt x="238697" y="209105"/>
                  </a:cubicBezTo>
                  <a:cubicBezTo>
                    <a:pt x="231458" y="209360"/>
                    <a:pt x="227330" y="209360"/>
                    <a:pt x="227330" y="209360"/>
                  </a:cubicBezTo>
                  <a:cubicBezTo>
                    <a:pt x="227330" y="209360"/>
                    <a:pt x="38100" y="188341"/>
                    <a:pt x="7747" y="78549"/>
                  </a:cubicBezTo>
                  <a:cubicBezTo>
                    <a:pt x="4255" y="65913"/>
                    <a:pt x="2096" y="50546"/>
                    <a:pt x="953" y="33211"/>
                  </a:cubicBezTo>
                  <a:cubicBezTo>
                    <a:pt x="318" y="23051"/>
                    <a:pt x="0" y="12192"/>
                    <a:pt x="0" y="826"/>
                  </a:cubicBezTo>
                  <a:cubicBezTo>
                    <a:pt x="635" y="2921"/>
                    <a:pt x="52451" y="175196"/>
                    <a:pt x="238633" y="175196"/>
                  </a:cubicBezTo>
                  <a:cubicBezTo>
                    <a:pt x="426022" y="175196"/>
                    <a:pt x="477330" y="0"/>
                    <a:pt x="477330" y="0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92" name="Freeform 281"/>
            <p:cNvSpPr/>
            <p:nvPr/>
          </p:nvSpPr>
          <p:spPr>
            <a:xfrm>
              <a:off x="6013080" y="2959200"/>
              <a:ext cx="49680" cy="64800"/>
            </a:xfrm>
            <a:custGeom>
              <a:avLst/>
              <a:gdLst/>
              <a:ahLst/>
              <a:rect l="l" t="t" r="r" b="b"/>
              <a:pathLst>
                <a:path w="49784" h="64960">
                  <a:moveTo>
                    <a:pt x="12446" y="-576"/>
                  </a:moveTo>
                  <a:lnTo>
                    <a:pt x="-15752" y="0"/>
                  </a:lnTo>
                  <a:lnTo>
                    <a:pt x="28003" y="0"/>
                  </a:lnTo>
                  <a:lnTo>
                    <a:pt x="0" y="-21594"/>
                  </a:lnTo>
                  <a:lnTo>
                    <a:pt x="12446" y="-576"/>
                  </a:lnTo>
                  <a:close/>
                </a:path>
              </a:pathLst>
            </a:custGeom>
            <a:solidFill>
              <a:srgbClr val="9395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93" name="Freeform 282"/>
            <p:cNvSpPr/>
            <p:nvPr/>
          </p:nvSpPr>
          <p:spPr>
            <a:xfrm>
              <a:off x="6287400" y="3101760"/>
              <a:ext cx="57600" cy="68040"/>
            </a:xfrm>
            <a:custGeom>
              <a:avLst/>
              <a:gdLst/>
              <a:ahLst/>
              <a:rect l="l" t="t" r="r" b="b"/>
              <a:pathLst>
                <a:path w="57594" h="68389">
                  <a:moveTo>
                    <a:pt x="37338" y="0"/>
                  </a:moveTo>
                  <a:lnTo>
                    <a:pt x="0" y="64960"/>
                  </a:lnTo>
                  <a:lnTo>
                    <a:pt x="35624" y="68389"/>
                  </a:lnTo>
                  <a:lnTo>
                    <a:pt x="57595" y="24511"/>
                  </a:lnTo>
                  <a:lnTo>
                    <a:pt x="37338" y="0"/>
                  </a:lnTo>
                  <a:close/>
                </a:path>
              </a:pathLst>
            </a:custGeom>
            <a:solidFill>
              <a:srgbClr val="9395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94" name="Freeform 283"/>
            <p:cNvSpPr/>
            <p:nvPr/>
          </p:nvSpPr>
          <p:spPr>
            <a:xfrm>
              <a:off x="6855480" y="2985120"/>
              <a:ext cx="42120" cy="32040"/>
            </a:xfrm>
            <a:custGeom>
              <a:avLst/>
              <a:gdLst/>
              <a:ahLst/>
              <a:rect l="l" t="t" r="r" b="b"/>
              <a:pathLst>
                <a:path w="42291" h="32067">
                  <a:moveTo>
                    <a:pt x="15049" y="17272"/>
                  </a:moveTo>
                  <a:cubicBezTo>
                    <a:pt x="15049" y="17272"/>
                    <a:pt x="-28642" y="8890"/>
                    <a:pt x="-23245" y="0"/>
                  </a:cubicBezTo>
                  <a:cubicBezTo>
                    <a:pt x="-23245" y="0"/>
                    <a:pt x="-27182" y="26924"/>
                    <a:pt x="2731" y="32067"/>
                  </a:cubicBezTo>
                  <a:lnTo>
                    <a:pt x="0" y="20955"/>
                  </a:lnTo>
                  <a:cubicBezTo>
                    <a:pt x="0" y="21018"/>
                    <a:pt x="9589" y="20256"/>
                    <a:pt x="15049" y="17272"/>
                  </a:cubicBezTo>
                  <a:close/>
                </a:path>
              </a:pathLst>
            </a:custGeom>
            <a:solidFill>
              <a:srgbClr val="d16b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95" name="Freeform 284"/>
            <p:cNvSpPr/>
            <p:nvPr/>
          </p:nvSpPr>
          <p:spPr>
            <a:xfrm>
              <a:off x="5794560" y="3314160"/>
              <a:ext cx="41760" cy="190440"/>
            </a:xfrm>
            <a:custGeom>
              <a:avLst/>
              <a:gdLst/>
              <a:ahLst/>
              <a:rect l="l" t="t" r="r" b="b"/>
              <a:pathLst>
                <a:path w="41900" h="190726">
                  <a:moveTo>
                    <a:pt x="11666" y="185574"/>
                  </a:moveTo>
                  <a:cubicBezTo>
                    <a:pt x="7856" y="161825"/>
                    <a:pt x="7221" y="137568"/>
                    <a:pt x="9444" y="113628"/>
                  </a:cubicBezTo>
                  <a:cubicBezTo>
                    <a:pt x="11666" y="89689"/>
                    <a:pt x="17000" y="66003"/>
                    <a:pt x="25064" y="43334"/>
                  </a:cubicBezTo>
                  <a:cubicBezTo>
                    <a:pt x="29637" y="30570"/>
                    <a:pt x="35098" y="18188"/>
                    <a:pt x="41384" y="6186"/>
                  </a:cubicBezTo>
                  <a:cubicBezTo>
                    <a:pt x="43861" y="1551"/>
                    <a:pt x="36749" y="-2640"/>
                    <a:pt x="34336" y="2059"/>
                  </a:cubicBezTo>
                  <a:cubicBezTo>
                    <a:pt x="22715" y="24093"/>
                    <a:pt x="13825" y="47588"/>
                    <a:pt x="8110" y="71782"/>
                  </a:cubicBezTo>
                  <a:cubicBezTo>
                    <a:pt x="2395" y="95912"/>
                    <a:pt x="-399" y="120740"/>
                    <a:pt x="46" y="145505"/>
                  </a:cubicBezTo>
                  <a:cubicBezTo>
                    <a:pt x="300" y="159666"/>
                    <a:pt x="1570" y="173763"/>
                    <a:pt x="3792" y="187733"/>
                  </a:cubicBezTo>
                  <a:cubicBezTo>
                    <a:pt x="4173" y="189892"/>
                    <a:pt x="6840" y="191162"/>
                    <a:pt x="8809" y="190590"/>
                  </a:cubicBezTo>
                  <a:cubicBezTo>
                    <a:pt x="11095" y="189955"/>
                    <a:pt x="11984" y="187796"/>
                    <a:pt x="11666" y="185574"/>
                  </a:cubicBezTo>
                  <a:lnTo>
                    <a:pt x="11666" y="1855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96" name="Freeform 285"/>
            <p:cNvSpPr/>
            <p:nvPr/>
          </p:nvSpPr>
          <p:spPr>
            <a:xfrm>
              <a:off x="5771880" y="3448080"/>
              <a:ext cx="10800" cy="71640"/>
            </a:xfrm>
            <a:custGeom>
              <a:avLst/>
              <a:gdLst/>
              <a:ahLst/>
              <a:rect l="l" t="t" r="r" b="b"/>
              <a:pathLst>
                <a:path w="11084" h="71938">
                  <a:moveTo>
                    <a:pt x="11016" y="66802"/>
                  </a:moveTo>
                  <a:cubicBezTo>
                    <a:pt x="8095" y="46101"/>
                    <a:pt x="7524" y="25019"/>
                    <a:pt x="9048" y="4128"/>
                  </a:cubicBezTo>
                  <a:cubicBezTo>
                    <a:pt x="9238" y="1905"/>
                    <a:pt x="7079" y="0"/>
                    <a:pt x="4920" y="0"/>
                  </a:cubicBezTo>
                  <a:cubicBezTo>
                    <a:pt x="2571" y="0"/>
                    <a:pt x="983" y="1905"/>
                    <a:pt x="793" y="4128"/>
                  </a:cubicBezTo>
                  <a:cubicBezTo>
                    <a:pt x="-795" y="25781"/>
                    <a:pt x="31" y="47435"/>
                    <a:pt x="3015" y="68961"/>
                  </a:cubicBezTo>
                  <a:cubicBezTo>
                    <a:pt x="3333" y="71184"/>
                    <a:pt x="6127" y="72327"/>
                    <a:pt x="8032" y="71819"/>
                  </a:cubicBezTo>
                  <a:cubicBezTo>
                    <a:pt x="10571" y="71184"/>
                    <a:pt x="11334" y="68961"/>
                    <a:pt x="11016" y="66802"/>
                  </a:cubicBezTo>
                  <a:lnTo>
                    <a:pt x="11016" y="668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97" name="Freeform 286"/>
            <p:cNvSpPr/>
            <p:nvPr/>
          </p:nvSpPr>
          <p:spPr>
            <a:xfrm>
              <a:off x="6617520" y="3406680"/>
              <a:ext cx="102960" cy="51480"/>
            </a:xfrm>
            <a:custGeom>
              <a:avLst/>
              <a:gdLst/>
              <a:ahLst/>
              <a:rect l="l" t="t" r="r" b="b"/>
              <a:pathLst>
                <a:path w="103220" h="51572">
                  <a:moveTo>
                    <a:pt x="1239" y="7019"/>
                  </a:moveTo>
                  <a:cubicBezTo>
                    <a:pt x="21750" y="26640"/>
                    <a:pt x="45689" y="44547"/>
                    <a:pt x="74201" y="49945"/>
                  </a:cubicBezTo>
                  <a:cubicBezTo>
                    <a:pt x="82392" y="51469"/>
                    <a:pt x="90774" y="52040"/>
                    <a:pt x="99093" y="51151"/>
                  </a:cubicBezTo>
                  <a:cubicBezTo>
                    <a:pt x="101315" y="50961"/>
                    <a:pt x="103221" y="49437"/>
                    <a:pt x="103221" y="47024"/>
                  </a:cubicBezTo>
                  <a:cubicBezTo>
                    <a:pt x="103221" y="44992"/>
                    <a:pt x="101315" y="42706"/>
                    <a:pt x="99093" y="42896"/>
                  </a:cubicBezTo>
                  <a:cubicBezTo>
                    <a:pt x="71471" y="45690"/>
                    <a:pt x="45372" y="33244"/>
                    <a:pt x="24290" y="16353"/>
                  </a:cubicBezTo>
                  <a:cubicBezTo>
                    <a:pt x="18321" y="11591"/>
                    <a:pt x="12606" y="6447"/>
                    <a:pt x="7081" y="1113"/>
                  </a:cubicBezTo>
                  <a:cubicBezTo>
                    <a:pt x="3272" y="-2443"/>
                    <a:pt x="-2571" y="3336"/>
                    <a:pt x="1239" y="7019"/>
                  </a:cubicBezTo>
                  <a:lnTo>
                    <a:pt x="1239" y="70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98" name="Freeform 287"/>
            <p:cNvSpPr/>
            <p:nvPr/>
          </p:nvSpPr>
          <p:spPr>
            <a:xfrm>
              <a:off x="6602400" y="3432600"/>
              <a:ext cx="51480" cy="36720"/>
            </a:xfrm>
            <a:custGeom>
              <a:avLst/>
              <a:gdLst/>
              <a:ahLst/>
              <a:rect l="l" t="t" r="r" b="b"/>
              <a:pathLst>
                <a:path w="51518" h="36977">
                  <a:moveTo>
                    <a:pt x="1168" y="6906"/>
                  </a:moveTo>
                  <a:cubicBezTo>
                    <a:pt x="13297" y="20686"/>
                    <a:pt x="29044" y="30973"/>
                    <a:pt x="46507" y="36751"/>
                  </a:cubicBezTo>
                  <a:cubicBezTo>
                    <a:pt x="51524" y="38402"/>
                    <a:pt x="53683" y="30528"/>
                    <a:pt x="48666" y="28877"/>
                  </a:cubicBezTo>
                  <a:cubicBezTo>
                    <a:pt x="32537" y="23543"/>
                    <a:pt x="18186" y="13891"/>
                    <a:pt x="6947" y="1191"/>
                  </a:cubicBezTo>
                  <a:cubicBezTo>
                    <a:pt x="5486" y="-460"/>
                    <a:pt x="2628" y="-333"/>
                    <a:pt x="1168" y="1191"/>
                  </a:cubicBezTo>
                  <a:cubicBezTo>
                    <a:pt x="-483" y="2779"/>
                    <a:pt x="-292" y="5255"/>
                    <a:pt x="1168" y="6906"/>
                  </a:cubicBezTo>
                  <a:lnTo>
                    <a:pt x="1168" y="69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99" name="Freeform 288"/>
            <p:cNvSpPr/>
            <p:nvPr/>
          </p:nvSpPr>
          <p:spPr>
            <a:xfrm>
              <a:off x="5713920" y="3045600"/>
              <a:ext cx="55440" cy="84600"/>
            </a:xfrm>
            <a:custGeom>
              <a:avLst/>
              <a:gdLst/>
              <a:ahLst/>
              <a:rect l="l" t="t" r="r" b="b"/>
              <a:pathLst>
                <a:path w="55606" h="84708">
                  <a:moveTo>
                    <a:pt x="8131" y="81856"/>
                  </a:moveTo>
                  <a:cubicBezTo>
                    <a:pt x="14798" y="59885"/>
                    <a:pt x="25847" y="39184"/>
                    <a:pt x="40643" y="21531"/>
                  </a:cubicBezTo>
                  <a:cubicBezTo>
                    <a:pt x="44961" y="16388"/>
                    <a:pt x="49533" y="11498"/>
                    <a:pt x="54359" y="6926"/>
                  </a:cubicBezTo>
                  <a:cubicBezTo>
                    <a:pt x="58169" y="3307"/>
                    <a:pt x="52391" y="-2472"/>
                    <a:pt x="48580" y="1147"/>
                  </a:cubicBezTo>
                  <a:cubicBezTo>
                    <a:pt x="31054" y="17785"/>
                    <a:pt x="16894" y="37978"/>
                    <a:pt x="7369" y="60203"/>
                  </a:cubicBezTo>
                  <a:cubicBezTo>
                    <a:pt x="4638" y="66553"/>
                    <a:pt x="2225" y="73093"/>
                    <a:pt x="193" y="79697"/>
                  </a:cubicBezTo>
                  <a:cubicBezTo>
                    <a:pt x="-1331" y="84713"/>
                    <a:pt x="6607" y="86872"/>
                    <a:pt x="8131" y="81856"/>
                  </a:cubicBezTo>
                  <a:lnTo>
                    <a:pt x="8131" y="818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00" name="Freeform 289"/>
            <p:cNvSpPr/>
            <p:nvPr/>
          </p:nvSpPr>
          <p:spPr>
            <a:xfrm>
              <a:off x="5717160" y="3023640"/>
              <a:ext cx="41760" cy="50040"/>
            </a:xfrm>
            <a:custGeom>
              <a:avLst/>
              <a:gdLst/>
              <a:ahLst/>
              <a:rect l="l" t="t" r="r" b="b"/>
              <a:pathLst>
                <a:path w="41732" h="50091">
                  <a:moveTo>
                    <a:pt x="7608" y="48031"/>
                  </a:moveTo>
                  <a:cubicBezTo>
                    <a:pt x="15990" y="32410"/>
                    <a:pt x="27166" y="18503"/>
                    <a:pt x="40564" y="6946"/>
                  </a:cubicBezTo>
                  <a:cubicBezTo>
                    <a:pt x="42215" y="5486"/>
                    <a:pt x="42025" y="2628"/>
                    <a:pt x="40564" y="1168"/>
                  </a:cubicBezTo>
                  <a:cubicBezTo>
                    <a:pt x="38913" y="-483"/>
                    <a:pt x="36437" y="-293"/>
                    <a:pt x="34786" y="1168"/>
                  </a:cubicBezTo>
                  <a:cubicBezTo>
                    <a:pt x="20879" y="13169"/>
                    <a:pt x="9195" y="27774"/>
                    <a:pt x="496" y="43967"/>
                  </a:cubicBezTo>
                  <a:cubicBezTo>
                    <a:pt x="-1917" y="48539"/>
                    <a:pt x="5131" y="52730"/>
                    <a:pt x="7608" y="48031"/>
                  </a:cubicBezTo>
                  <a:lnTo>
                    <a:pt x="7608" y="480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grpSp>
        <p:nvGrpSpPr>
          <p:cNvPr id="1501" name="Group 290"/>
          <p:cNvGrpSpPr/>
          <p:nvPr/>
        </p:nvGrpSpPr>
        <p:grpSpPr>
          <a:xfrm>
            <a:off x="8385120" y="2612880"/>
            <a:ext cx="2249640" cy="1489320"/>
            <a:chOff x="8385120" y="2612880"/>
            <a:chExt cx="2249640" cy="1489320"/>
          </a:xfrm>
        </p:grpSpPr>
        <p:sp>
          <p:nvSpPr>
            <p:cNvPr id="1502" name="Freeform 291"/>
            <p:cNvSpPr/>
            <p:nvPr/>
          </p:nvSpPr>
          <p:spPr>
            <a:xfrm>
              <a:off x="8482320" y="2619360"/>
              <a:ext cx="1742760" cy="1458720"/>
            </a:xfrm>
            <a:custGeom>
              <a:avLst/>
              <a:gdLst/>
              <a:ahLst/>
              <a:rect l="l" t="t" r="r" b="b"/>
              <a:pathLst>
                <a:path w="1742665" h="1459028">
                  <a:moveTo>
                    <a:pt x="1384406" y="1459028"/>
                  </a:moveTo>
                  <a:cubicBezTo>
                    <a:pt x="1349164" y="1425437"/>
                    <a:pt x="1370309" y="1364794"/>
                    <a:pt x="1402885" y="1328599"/>
                  </a:cubicBezTo>
                  <a:cubicBezTo>
                    <a:pt x="1435460" y="1292404"/>
                    <a:pt x="1479212" y="1261035"/>
                    <a:pt x="1489372" y="1213410"/>
                  </a:cubicBezTo>
                  <a:cubicBezTo>
                    <a:pt x="1504167" y="1144005"/>
                    <a:pt x="1439714" y="1071996"/>
                    <a:pt x="1464670" y="1005575"/>
                  </a:cubicBezTo>
                  <a:cubicBezTo>
                    <a:pt x="1486577" y="947345"/>
                    <a:pt x="1565826" y="927724"/>
                    <a:pt x="1589257" y="870129"/>
                  </a:cubicBezTo>
                  <a:cubicBezTo>
                    <a:pt x="1615673" y="805296"/>
                    <a:pt x="1557698" y="737541"/>
                    <a:pt x="1551411" y="667755"/>
                  </a:cubicBezTo>
                  <a:cubicBezTo>
                    <a:pt x="1545823" y="605588"/>
                    <a:pt x="1582145" y="547613"/>
                    <a:pt x="1622150" y="499734"/>
                  </a:cubicBezTo>
                  <a:cubicBezTo>
                    <a:pt x="1662155" y="451855"/>
                    <a:pt x="1708574" y="406643"/>
                    <a:pt x="1730164" y="348096"/>
                  </a:cubicBezTo>
                  <a:cubicBezTo>
                    <a:pt x="1761278" y="263641"/>
                    <a:pt x="1731878" y="163946"/>
                    <a:pt x="1668950" y="99557"/>
                  </a:cubicBezTo>
                  <a:cubicBezTo>
                    <a:pt x="1606021" y="35168"/>
                    <a:pt x="1514708" y="3608"/>
                    <a:pt x="1424792" y="306"/>
                  </a:cubicBezTo>
                  <a:cubicBezTo>
                    <a:pt x="1334813" y="-2932"/>
                    <a:pt x="1245722" y="19864"/>
                    <a:pt x="1161458" y="51551"/>
                  </a:cubicBezTo>
                  <a:cubicBezTo>
                    <a:pt x="1012360" y="107558"/>
                    <a:pt x="865230" y="193283"/>
                    <a:pt x="706416" y="181345"/>
                  </a:cubicBezTo>
                  <a:cubicBezTo>
                    <a:pt x="604753" y="173725"/>
                    <a:pt x="511090" y="126417"/>
                    <a:pt x="415967" y="89714"/>
                  </a:cubicBezTo>
                  <a:cubicBezTo>
                    <a:pt x="320844" y="53011"/>
                    <a:pt x="214101" y="26468"/>
                    <a:pt x="118152" y="60949"/>
                  </a:cubicBezTo>
                  <a:cubicBezTo>
                    <a:pt x="51859" y="84761"/>
                    <a:pt x="-7006" y="147626"/>
                    <a:pt x="677" y="217667"/>
                  </a:cubicBezTo>
                  <a:cubicBezTo>
                    <a:pt x="9949" y="302884"/>
                    <a:pt x="105834" y="351334"/>
                    <a:pt x="138727" y="430519"/>
                  </a:cubicBezTo>
                  <a:cubicBezTo>
                    <a:pt x="184192" y="539866"/>
                    <a:pt x="98785" y="676073"/>
                    <a:pt x="156570" y="779451"/>
                  </a:cubicBezTo>
                  <a:cubicBezTo>
                    <a:pt x="186605" y="833172"/>
                    <a:pt x="248772" y="863017"/>
                    <a:pt x="278617" y="916802"/>
                  </a:cubicBezTo>
                  <a:cubicBezTo>
                    <a:pt x="334878" y="1018211"/>
                    <a:pt x="256392" y="1162293"/>
                    <a:pt x="326940" y="1254304"/>
                  </a:cubicBezTo>
                  <a:cubicBezTo>
                    <a:pt x="356849" y="1293230"/>
                    <a:pt x="405871" y="1310946"/>
                    <a:pt x="448670" y="1335013"/>
                  </a:cubicBezTo>
                  <a:cubicBezTo>
                    <a:pt x="491469" y="1359079"/>
                    <a:pt x="533569" y="1399339"/>
                    <a:pt x="529760" y="1448297"/>
                  </a:cubicBezTo>
                  <a:lnTo>
                    <a:pt x="1384406" y="1459028"/>
                  </a:lnTo>
                  <a:close/>
                </a:path>
              </a:pathLst>
            </a:custGeom>
            <a:solidFill>
              <a:srgbClr val="dce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03" name="Freeform 292"/>
            <p:cNvSpPr/>
            <p:nvPr/>
          </p:nvSpPr>
          <p:spPr>
            <a:xfrm>
              <a:off x="8385120" y="4010400"/>
              <a:ext cx="2249640" cy="91800"/>
            </a:xfrm>
            <a:custGeom>
              <a:avLst/>
              <a:gdLst/>
              <a:ahLst/>
              <a:rect l="l" t="t" r="r" b="b"/>
              <a:pathLst>
                <a:path w="2249550" h="92075">
                  <a:moveTo>
                    <a:pt x="2249551" y="46038"/>
                  </a:moveTo>
                  <a:cubicBezTo>
                    <a:pt x="2249551" y="71464"/>
                    <a:pt x="1745972" y="92075"/>
                    <a:pt x="1124776" y="92075"/>
                  </a:cubicBezTo>
                  <a:cubicBezTo>
                    <a:pt x="503579" y="92075"/>
                    <a:pt x="0" y="71464"/>
                    <a:pt x="0" y="46038"/>
                  </a:cubicBezTo>
                  <a:cubicBezTo>
                    <a:pt x="0" y="20612"/>
                    <a:pt x="503579" y="0"/>
                    <a:pt x="1124776" y="0"/>
                  </a:cubicBezTo>
                  <a:cubicBezTo>
                    <a:pt x="1745972" y="0"/>
                    <a:pt x="2249551" y="20612"/>
                    <a:pt x="2249551" y="46038"/>
                  </a:cubicBezTo>
                  <a:close/>
                </a:path>
              </a:pathLst>
            </a:custGeom>
            <a:solidFill>
              <a:srgbClr val="bfd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04" name="Freeform 293"/>
            <p:cNvSpPr/>
            <p:nvPr/>
          </p:nvSpPr>
          <p:spPr>
            <a:xfrm>
              <a:off x="10193040" y="3114000"/>
              <a:ext cx="18000" cy="6840"/>
            </a:xfrm>
            <a:custGeom>
              <a:avLst/>
              <a:gdLst/>
              <a:ahLst/>
              <a:rect l="l" t="t" r="r" b="b"/>
              <a:pathLst>
                <a:path w="18033" h="6921">
                  <a:moveTo>
                    <a:pt x="18034" y="0"/>
                  </a:moveTo>
                  <a:cubicBezTo>
                    <a:pt x="18034" y="0"/>
                    <a:pt x="10668" y="4318"/>
                    <a:pt x="0" y="6921"/>
                  </a:cubicBezTo>
                </a:path>
              </a:pathLst>
            </a:custGeom>
            <a:solidFill>
              <a:srgbClr val="f4ccc1"/>
            </a:solidFill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05" name="Freeform 294"/>
            <p:cNvSpPr/>
            <p:nvPr/>
          </p:nvSpPr>
          <p:spPr>
            <a:xfrm>
              <a:off x="10099080" y="2942280"/>
              <a:ext cx="161640" cy="154080"/>
            </a:xfrm>
            <a:custGeom>
              <a:avLst/>
              <a:gdLst/>
              <a:ahLst/>
              <a:rect l="l" t="t" r="r" b="b"/>
              <a:pathLst>
                <a:path w="161711" h="154169">
                  <a:moveTo>
                    <a:pt x="141121" y="154169"/>
                  </a:moveTo>
                  <a:lnTo>
                    <a:pt x="125437" y="142358"/>
                  </a:lnTo>
                  <a:cubicBezTo>
                    <a:pt x="125437" y="142358"/>
                    <a:pt x="144169" y="113593"/>
                    <a:pt x="134136" y="103560"/>
                  </a:cubicBezTo>
                  <a:cubicBezTo>
                    <a:pt x="124103" y="93527"/>
                    <a:pt x="114070" y="107497"/>
                    <a:pt x="114070" y="107497"/>
                  </a:cubicBezTo>
                  <a:cubicBezTo>
                    <a:pt x="115403" y="94860"/>
                    <a:pt x="107085" y="85272"/>
                    <a:pt x="107085" y="85272"/>
                  </a:cubicBezTo>
                  <a:cubicBezTo>
                    <a:pt x="63524" y="108830"/>
                    <a:pt x="28663" y="64825"/>
                    <a:pt x="28663" y="64825"/>
                  </a:cubicBezTo>
                  <a:cubicBezTo>
                    <a:pt x="28663" y="64825"/>
                    <a:pt x="28853" y="85843"/>
                    <a:pt x="31710" y="109656"/>
                  </a:cubicBezTo>
                  <a:lnTo>
                    <a:pt x="31520" y="109656"/>
                  </a:lnTo>
                  <a:cubicBezTo>
                    <a:pt x="-37505" y="81335"/>
                    <a:pt x="26059" y="20311"/>
                    <a:pt x="41680" y="9834"/>
                  </a:cubicBezTo>
                  <a:cubicBezTo>
                    <a:pt x="54570" y="1261"/>
                    <a:pt x="91401" y="-11439"/>
                    <a:pt x="124928" y="20756"/>
                  </a:cubicBezTo>
                  <a:cubicBezTo>
                    <a:pt x="132294" y="27868"/>
                    <a:pt x="139533" y="37075"/>
                    <a:pt x="146265" y="49013"/>
                  </a:cubicBezTo>
                  <a:cubicBezTo>
                    <a:pt x="150773" y="56951"/>
                    <a:pt x="154139" y="64507"/>
                    <a:pt x="156552" y="71683"/>
                  </a:cubicBezTo>
                  <a:cubicBezTo>
                    <a:pt x="174141" y="124134"/>
                    <a:pt x="141121" y="154169"/>
                    <a:pt x="141121" y="154169"/>
                  </a:cubicBezTo>
                  <a:close/>
                </a:path>
              </a:pathLst>
            </a:custGeom>
            <a:solidFill>
              <a:srgbClr val="6068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06" name="Freeform 295"/>
            <p:cNvSpPr/>
            <p:nvPr/>
          </p:nvSpPr>
          <p:spPr>
            <a:xfrm>
              <a:off x="10123560" y="3055680"/>
              <a:ext cx="14400" cy="35280"/>
            </a:xfrm>
            <a:custGeom>
              <a:avLst/>
              <a:gdLst/>
              <a:ahLst/>
              <a:rect l="l" t="t" r="r" b="b"/>
              <a:pathLst>
                <a:path w="14478" h="35369">
                  <a:moveTo>
                    <a:pt x="14478" y="-31627"/>
                  </a:moveTo>
                  <a:lnTo>
                    <a:pt x="0" y="-30166"/>
                  </a:lnTo>
                  <a:lnTo>
                    <a:pt x="7874" y="0"/>
                  </a:lnTo>
                  <a:cubicBezTo>
                    <a:pt x="9334" y="11493"/>
                    <a:pt x="11430" y="23495"/>
                    <a:pt x="14478" y="-31627"/>
                  </a:cubicBezTo>
                  <a:close/>
                </a:path>
              </a:pathLst>
            </a:custGeom>
            <a:solidFill>
              <a:srgbClr val="d16b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07" name="Freeform 296"/>
            <p:cNvSpPr/>
            <p:nvPr/>
          </p:nvSpPr>
          <p:spPr>
            <a:xfrm>
              <a:off x="10145160" y="3046680"/>
              <a:ext cx="9000" cy="15480"/>
            </a:xfrm>
            <a:custGeom>
              <a:avLst/>
              <a:gdLst/>
              <a:ahLst/>
              <a:rect l="l" t="t" r="r" b="b"/>
              <a:pathLst>
                <a:path w="9321" h="15656">
                  <a:moveTo>
                    <a:pt x="6661" y="15557"/>
                  </a:moveTo>
                  <a:cubicBezTo>
                    <a:pt x="4756" y="16002"/>
                    <a:pt x="2851" y="14923"/>
                    <a:pt x="2343" y="13017"/>
                  </a:cubicBezTo>
                  <a:lnTo>
                    <a:pt x="121" y="4445"/>
                  </a:lnTo>
                  <a:cubicBezTo>
                    <a:pt x="-388" y="2540"/>
                    <a:pt x="756" y="635"/>
                    <a:pt x="2660" y="127"/>
                  </a:cubicBezTo>
                  <a:cubicBezTo>
                    <a:pt x="2978" y="64"/>
                    <a:pt x="3232" y="0"/>
                    <a:pt x="3549" y="0"/>
                  </a:cubicBezTo>
                  <a:cubicBezTo>
                    <a:pt x="5137" y="0"/>
                    <a:pt x="6534" y="1079"/>
                    <a:pt x="6979" y="2667"/>
                  </a:cubicBezTo>
                  <a:lnTo>
                    <a:pt x="9201" y="11239"/>
                  </a:lnTo>
                  <a:cubicBezTo>
                    <a:pt x="9709" y="13145"/>
                    <a:pt x="8566" y="15049"/>
                    <a:pt x="6661" y="15557"/>
                  </a:cubicBezTo>
                  <a:close/>
                </a:path>
              </a:pathLst>
            </a:custGeom>
            <a:solidFill>
              <a:srgbClr val="2527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08" name="Freeform 297"/>
            <p:cNvSpPr/>
            <p:nvPr/>
          </p:nvSpPr>
          <p:spPr>
            <a:xfrm>
              <a:off x="9563760" y="3142080"/>
              <a:ext cx="12960" cy="13320"/>
            </a:xfrm>
            <a:custGeom>
              <a:avLst/>
              <a:gdLst/>
              <a:ahLst/>
              <a:rect l="l" t="t" r="r" b="b"/>
              <a:pathLst>
                <a:path w="13303" h="13343">
                  <a:moveTo>
                    <a:pt x="13303" y="3524"/>
                  </a:moveTo>
                  <a:cubicBezTo>
                    <a:pt x="13303" y="4413"/>
                    <a:pt x="12986" y="5302"/>
                    <a:pt x="12287" y="6001"/>
                  </a:cubicBezTo>
                  <a:lnTo>
                    <a:pt x="6064" y="12287"/>
                  </a:lnTo>
                  <a:cubicBezTo>
                    <a:pt x="4668" y="13684"/>
                    <a:pt x="2444" y="13684"/>
                    <a:pt x="1048" y="12351"/>
                  </a:cubicBezTo>
                  <a:cubicBezTo>
                    <a:pt x="-349" y="10954"/>
                    <a:pt x="-349" y="8731"/>
                    <a:pt x="1048" y="7334"/>
                  </a:cubicBezTo>
                  <a:lnTo>
                    <a:pt x="7270" y="1048"/>
                  </a:lnTo>
                  <a:cubicBezTo>
                    <a:pt x="8605" y="-349"/>
                    <a:pt x="10890" y="-349"/>
                    <a:pt x="12224" y="1048"/>
                  </a:cubicBezTo>
                  <a:cubicBezTo>
                    <a:pt x="12922" y="1683"/>
                    <a:pt x="13303" y="2635"/>
                    <a:pt x="13303" y="3524"/>
                  </a:cubicBezTo>
                  <a:close/>
                </a:path>
              </a:pathLst>
            </a:custGeom>
            <a:solidFill>
              <a:srgbClr val="f4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09" name="Freeform 298"/>
            <p:cNvSpPr/>
            <p:nvPr/>
          </p:nvSpPr>
          <p:spPr>
            <a:xfrm>
              <a:off x="9598680" y="3164040"/>
              <a:ext cx="12600" cy="13680"/>
            </a:xfrm>
            <a:custGeom>
              <a:avLst/>
              <a:gdLst/>
              <a:ahLst/>
              <a:rect l="l" t="t" r="r" b="b"/>
              <a:pathLst>
                <a:path w="12892" h="13733">
                  <a:moveTo>
                    <a:pt x="12893" y="3501"/>
                  </a:moveTo>
                  <a:cubicBezTo>
                    <a:pt x="12893" y="4327"/>
                    <a:pt x="12639" y="5152"/>
                    <a:pt x="12004" y="5787"/>
                  </a:cubicBezTo>
                  <a:lnTo>
                    <a:pt x="6162" y="12518"/>
                  </a:lnTo>
                  <a:cubicBezTo>
                    <a:pt x="4892" y="13979"/>
                    <a:pt x="2669" y="14169"/>
                    <a:pt x="1209" y="12836"/>
                  </a:cubicBezTo>
                  <a:cubicBezTo>
                    <a:pt x="66" y="11883"/>
                    <a:pt x="-251" y="10296"/>
                    <a:pt x="193" y="8962"/>
                  </a:cubicBezTo>
                  <a:cubicBezTo>
                    <a:pt x="320" y="8581"/>
                    <a:pt x="574" y="8200"/>
                    <a:pt x="828" y="7883"/>
                  </a:cubicBezTo>
                  <a:lnTo>
                    <a:pt x="6670" y="1215"/>
                  </a:lnTo>
                  <a:cubicBezTo>
                    <a:pt x="7940" y="-245"/>
                    <a:pt x="10163" y="-436"/>
                    <a:pt x="11623" y="898"/>
                  </a:cubicBezTo>
                  <a:cubicBezTo>
                    <a:pt x="12512" y="1533"/>
                    <a:pt x="12893" y="2549"/>
                    <a:pt x="12893" y="3501"/>
                  </a:cubicBezTo>
                  <a:close/>
                </a:path>
              </a:pathLst>
            </a:custGeom>
            <a:solidFill>
              <a:srgbClr val="f4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10" name="Freeform 299"/>
            <p:cNvSpPr/>
            <p:nvPr/>
          </p:nvSpPr>
          <p:spPr>
            <a:xfrm>
              <a:off x="10224360" y="2928240"/>
              <a:ext cx="75960" cy="85680"/>
            </a:xfrm>
            <a:custGeom>
              <a:avLst/>
              <a:gdLst/>
              <a:ahLst/>
              <a:rect l="l" t="t" r="r" b="b"/>
              <a:pathLst>
                <a:path w="76229" h="86034">
                  <a:moveTo>
                    <a:pt x="74803" y="65086"/>
                  </a:moveTo>
                  <a:cubicBezTo>
                    <a:pt x="71248" y="75245"/>
                    <a:pt x="61151" y="82040"/>
                    <a:pt x="50736" y="84517"/>
                  </a:cubicBezTo>
                  <a:cubicBezTo>
                    <a:pt x="44450" y="85977"/>
                    <a:pt x="38100" y="86231"/>
                    <a:pt x="31624" y="85914"/>
                  </a:cubicBezTo>
                  <a:cubicBezTo>
                    <a:pt x="29211" y="78738"/>
                    <a:pt x="25845" y="71182"/>
                    <a:pt x="21337" y="63244"/>
                  </a:cubicBezTo>
                  <a:cubicBezTo>
                    <a:pt x="14605" y="51306"/>
                    <a:pt x="7366" y="42035"/>
                    <a:pt x="0" y="34986"/>
                  </a:cubicBezTo>
                  <a:cubicBezTo>
                    <a:pt x="3049" y="27367"/>
                    <a:pt x="7112" y="20127"/>
                    <a:pt x="12065" y="13587"/>
                  </a:cubicBezTo>
                  <a:cubicBezTo>
                    <a:pt x="16574" y="7618"/>
                    <a:pt x="22289" y="1839"/>
                    <a:pt x="29655" y="379"/>
                  </a:cubicBezTo>
                  <a:cubicBezTo>
                    <a:pt x="37085" y="-1145"/>
                    <a:pt x="44831" y="2093"/>
                    <a:pt x="50610" y="7110"/>
                  </a:cubicBezTo>
                  <a:cubicBezTo>
                    <a:pt x="56324" y="12127"/>
                    <a:pt x="60389" y="18667"/>
                    <a:pt x="64326" y="25208"/>
                  </a:cubicBezTo>
                  <a:cubicBezTo>
                    <a:pt x="68009" y="31304"/>
                    <a:pt x="71755" y="37463"/>
                    <a:pt x="74041" y="44194"/>
                  </a:cubicBezTo>
                  <a:cubicBezTo>
                    <a:pt x="76391" y="50861"/>
                    <a:pt x="77153" y="58355"/>
                    <a:pt x="74803" y="65086"/>
                  </a:cubicBezTo>
                  <a:close/>
                </a:path>
              </a:pathLst>
            </a:custGeom>
            <a:solidFill>
              <a:srgbClr val="6068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11" name="Freeform 300"/>
            <p:cNvSpPr/>
            <p:nvPr/>
          </p:nvSpPr>
          <p:spPr>
            <a:xfrm>
              <a:off x="10130760" y="3152520"/>
              <a:ext cx="138240" cy="115920"/>
            </a:xfrm>
            <a:custGeom>
              <a:avLst/>
              <a:gdLst/>
              <a:ahLst/>
              <a:rect l="l" t="t" r="r" b="b"/>
              <a:pathLst>
                <a:path w="138375" h="115953">
                  <a:moveTo>
                    <a:pt x="138376" y="40643"/>
                  </a:moveTo>
                  <a:lnTo>
                    <a:pt x="138376" y="40643"/>
                  </a:lnTo>
                  <a:cubicBezTo>
                    <a:pt x="137803" y="53470"/>
                    <a:pt x="132089" y="66932"/>
                    <a:pt x="116595" y="76076"/>
                  </a:cubicBezTo>
                  <a:cubicBezTo>
                    <a:pt x="86877" y="93729"/>
                    <a:pt x="36203" y="115954"/>
                    <a:pt x="36203" y="115954"/>
                  </a:cubicBezTo>
                  <a:cubicBezTo>
                    <a:pt x="36203" y="115954"/>
                    <a:pt x="19313" y="59439"/>
                    <a:pt x="9" y="51565"/>
                  </a:cubicBezTo>
                  <a:cubicBezTo>
                    <a:pt x="-690" y="51247"/>
                    <a:pt x="40395" y="33086"/>
                    <a:pt x="62303" y="17529"/>
                  </a:cubicBezTo>
                  <a:cubicBezTo>
                    <a:pt x="64652" y="15878"/>
                    <a:pt x="66747" y="14227"/>
                    <a:pt x="68589" y="12639"/>
                  </a:cubicBezTo>
                  <a:cubicBezTo>
                    <a:pt x="81098" y="1781"/>
                    <a:pt x="99641" y="-1966"/>
                    <a:pt x="113674" y="955"/>
                  </a:cubicBezTo>
                  <a:cubicBezTo>
                    <a:pt x="120849" y="2416"/>
                    <a:pt x="126755" y="5654"/>
                    <a:pt x="130184" y="10544"/>
                  </a:cubicBezTo>
                  <a:cubicBezTo>
                    <a:pt x="132026" y="13211"/>
                    <a:pt x="133677" y="16449"/>
                    <a:pt x="135073" y="20132"/>
                  </a:cubicBezTo>
                  <a:cubicBezTo>
                    <a:pt x="135073" y="20132"/>
                    <a:pt x="135073" y="20196"/>
                    <a:pt x="135073" y="20196"/>
                  </a:cubicBezTo>
                  <a:cubicBezTo>
                    <a:pt x="135201" y="21148"/>
                    <a:pt x="136534" y="28514"/>
                    <a:pt x="138376" y="40643"/>
                  </a:cubicBezTo>
                  <a:close/>
                </a:path>
              </a:pathLst>
            </a:custGeom>
            <a:solidFill>
              <a:srgbClr val="fe6b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12" name="Freeform 301"/>
            <p:cNvSpPr/>
            <p:nvPr/>
          </p:nvSpPr>
          <p:spPr>
            <a:xfrm>
              <a:off x="10127880" y="3007440"/>
              <a:ext cx="116280" cy="162360"/>
            </a:xfrm>
            <a:custGeom>
              <a:avLst/>
              <a:gdLst/>
              <a:ahLst/>
              <a:rect l="l" t="t" r="r" b="b"/>
              <a:pathLst>
                <a:path w="116585" h="162686">
                  <a:moveTo>
                    <a:pt x="112458" y="89345"/>
                  </a:moveTo>
                  <a:lnTo>
                    <a:pt x="96774" y="77533"/>
                  </a:lnTo>
                  <a:cubicBezTo>
                    <a:pt x="96774" y="77533"/>
                    <a:pt x="115506" y="48768"/>
                    <a:pt x="105473" y="38735"/>
                  </a:cubicBezTo>
                  <a:cubicBezTo>
                    <a:pt x="95441" y="28702"/>
                    <a:pt x="85407" y="42672"/>
                    <a:pt x="85407" y="42672"/>
                  </a:cubicBezTo>
                  <a:cubicBezTo>
                    <a:pt x="86740" y="30036"/>
                    <a:pt x="78422" y="20447"/>
                    <a:pt x="78422" y="20447"/>
                  </a:cubicBezTo>
                  <a:cubicBezTo>
                    <a:pt x="34861" y="44005"/>
                    <a:pt x="0" y="0"/>
                    <a:pt x="0" y="0"/>
                  </a:cubicBezTo>
                  <a:cubicBezTo>
                    <a:pt x="0" y="0"/>
                    <a:pt x="191" y="21018"/>
                    <a:pt x="3048" y="44831"/>
                  </a:cubicBezTo>
                  <a:cubicBezTo>
                    <a:pt x="3175" y="45974"/>
                    <a:pt x="3302" y="47117"/>
                    <a:pt x="3492" y="48260"/>
                  </a:cubicBezTo>
                  <a:lnTo>
                    <a:pt x="3492" y="48260"/>
                  </a:lnTo>
                  <a:cubicBezTo>
                    <a:pt x="4953" y="59754"/>
                    <a:pt x="7112" y="71692"/>
                    <a:pt x="10160" y="82105"/>
                  </a:cubicBezTo>
                  <a:cubicBezTo>
                    <a:pt x="12002" y="88329"/>
                    <a:pt x="14160" y="94043"/>
                    <a:pt x="16701" y="98742"/>
                  </a:cubicBezTo>
                  <a:lnTo>
                    <a:pt x="46672" y="71183"/>
                  </a:lnTo>
                  <a:lnTo>
                    <a:pt x="77089" y="95377"/>
                  </a:lnTo>
                  <a:lnTo>
                    <a:pt x="62674" y="114173"/>
                  </a:lnTo>
                  <a:cubicBezTo>
                    <a:pt x="63564" y="113983"/>
                    <a:pt x="64389" y="113792"/>
                    <a:pt x="65215" y="113601"/>
                  </a:cubicBezTo>
                  <a:lnTo>
                    <a:pt x="65215" y="162687"/>
                  </a:lnTo>
                  <a:lnTo>
                    <a:pt x="65215" y="162687"/>
                  </a:lnTo>
                  <a:cubicBezTo>
                    <a:pt x="67564" y="161036"/>
                    <a:pt x="69659" y="159385"/>
                    <a:pt x="71501" y="157798"/>
                  </a:cubicBezTo>
                  <a:cubicBezTo>
                    <a:pt x="84010" y="146939"/>
                    <a:pt x="102553" y="143192"/>
                    <a:pt x="116586" y="146114"/>
                  </a:cubicBezTo>
                  <a:lnTo>
                    <a:pt x="112458" y="89345"/>
                  </a:lnTo>
                  <a:close/>
                  <a:moveTo>
                    <a:pt x="24130" y="55054"/>
                  </a:moveTo>
                  <a:cubicBezTo>
                    <a:pt x="22225" y="55499"/>
                    <a:pt x="20320" y="54420"/>
                    <a:pt x="19812" y="52514"/>
                  </a:cubicBezTo>
                  <a:lnTo>
                    <a:pt x="17590" y="43942"/>
                  </a:lnTo>
                  <a:cubicBezTo>
                    <a:pt x="17081" y="42037"/>
                    <a:pt x="18224" y="40132"/>
                    <a:pt x="20129" y="39624"/>
                  </a:cubicBezTo>
                  <a:cubicBezTo>
                    <a:pt x="20447" y="39561"/>
                    <a:pt x="20701" y="39497"/>
                    <a:pt x="21018" y="39497"/>
                  </a:cubicBezTo>
                  <a:cubicBezTo>
                    <a:pt x="22606" y="39497"/>
                    <a:pt x="24003" y="40576"/>
                    <a:pt x="24447" y="42164"/>
                  </a:cubicBezTo>
                  <a:lnTo>
                    <a:pt x="26670" y="50736"/>
                  </a:lnTo>
                  <a:cubicBezTo>
                    <a:pt x="27178" y="52642"/>
                    <a:pt x="26035" y="54546"/>
                    <a:pt x="24130" y="55054"/>
                  </a:cubicBezTo>
                  <a:close/>
                </a:path>
              </a:pathLst>
            </a:custGeom>
            <a:solidFill>
              <a:srgbClr val="f8a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13" name="Freeform 302"/>
            <p:cNvSpPr/>
            <p:nvPr/>
          </p:nvSpPr>
          <p:spPr>
            <a:xfrm>
              <a:off x="10110240" y="3193200"/>
              <a:ext cx="176760" cy="293760"/>
            </a:xfrm>
            <a:custGeom>
              <a:avLst/>
              <a:gdLst/>
              <a:ahLst/>
              <a:rect l="l" t="t" r="r" b="b"/>
              <a:pathLst>
                <a:path w="176980" h="294067">
                  <a:moveTo>
                    <a:pt x="172720" y="267780"/>
                  </a:moveTo>
                  <a:cubicBezTo>
                    <a:pt x="85534" y="317437"/>
                    <a:pt x="13843" y="281496"/>
                    <a:pt x="13843" y="281496"/>
                  </a:cubicBezTo>
                  <a:cubicBezTo>
                    <a:pt x="13843" y="281496"/>
                    <a:pt x="33465" y="163195"/>
                    <a:pt x="28257" y="145542"/>
                  </a:cubicBezTo>
                  <a:cubicBezTo>
                    <a:pt x="27686" y="143701"/>
                    <a:pt x="26988" y="141732"/>
                    <a:pt x="26162" y="139764"/>
                  </a:cubicBezTo>
                  <a:cubicBezTo>
                    <a:pt x="20828" y="127190"/>
                    <a:pt x="10351" y="113157"/>
                    <a:pt x="4191" y="100648"/>
                  </a:cubicBezTo>
                  <a:cubicBezTo>
                    <a:pt x="3810" y="99822"/>
                    <a:pt x="3429" y="98996"/>
                    <a:pt x="3048" y="98171"/>
                  </a:cubicBezTo>
                  <a:cubicBezTo>
                    <a:pt x="1715" y="95187"/>
                    <a:pt x="635" y="92265"/>
                    <a:pt x="0" y="89471"/>
                  </a:cubicBezTo>
                  <a:cubicBezTo>
                    <a:pt x="18796" y="86360"/>
                    <a:pt x="37973" y="81788"/>
                    <a:pt x="56705" y="75248"/>
                  </a:cubicBezTo>
                  <a:cubicBezTo>
                    <a:pt x="56705" y="75248"/>
                    <a:pt x="107379" y="53023"/>
                    <a:pt x="137096" y="35370"/>
                  </a:cubicBezTo>
                  <a:cubicBezTo>
                    <a:pt x="141668" y="32639"/>
                    <a:pt x="145415" y="29527"/>
                    <a:pt x="148399" y="26226"/>
                  </a:cubicBezTo>
                  <a:cubicBezTo>
                    <a:pt x="155511" y="18288"/>
                    <a:pt x="158432" y="9017"/>
                    <a:pt x="158814" y="0"/>
                  </a:cubicBezTo>
                  <a:cubicBezTo>
                    <a:pt x="166815" y="51245"/>
                    <a:pt x="185293" y="187008"/>
                    <a:pt x="172720" y="267780"/>
                  </a:cubicBezTo>
                  <a:close/>
                </a:path>
              </a:pathLst>
            </a:custGeom>
            <a:solidFill>
              <a:srgbClr val="fe6b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14" name="Freeform 303"/>
            <p:cNvSpPr/>
            <p:nvPr/>
          </p:nvSpPr>
          <p:spPr>
            <a:xfrm>
              <a:off x="9961560" y="3461040"/>
              <a:ext cx="327240" cy="549720"/>
            </a:xfrm>
            <a:custGeom>
              <a:avLst/>
              <a:gdLst/>
              <a:ahLst/>
              <a:rect l="l" t="t" r="r" b="b"/>
              <a:pathLst>
                <a:path w="327349" h="549903">
                  <a:moveTo>
                    <a:pt x="295593" y="113474"/>
                  </a:moveTo>
                  <a:cubicBezTo>
                    <a:pt x="295593" y="113474"/>
                    <a:pt x="295593" y="113474"/>
                    <a:pt x="295593" y="113474"/>
                  </a:cubicBezTo>
                  <a:cubicBezTo>
                    <a:pt x="286259" y="122936"/>
                    <a:pt x="274892" y="131635"/>
                    <a:pt x="261684" y="139827"/>
                  </a:cubicBezTo>
                  <a:cubicBezTo>
                    <a:pt x="228727" y="160274"/>
                    <a:pt x="200152" y="186245"/>
                    <a:pt x="175324" y="216154"/>
                  </a:cubicBezTo>
                  <a:lnTo>
                    <a:pt x="175324" y="216154"/>
                  </a:lnTo>
                  <a:cubicBezTo>
                    <a:pt x="100267" y="306578"/>
                    <a:pt x="60452" y="432626"/>
                    <a:pt x="42990" y="548640"/>
                  </a:cubicBezTo>
                  <a:cubicBezTo>
                    <a:pt x="42990" y="548640"/>
                    <a:pt x="42164" y="548767"/>
                    <a:pt x="40704" y="548958"/>
                  </a:cubicBezTo>
                  <a:cubicBezTo>
                    <a:pt x="36005" y="549529"/>
                    <a:pt x="24892" y="550545"/>
                    <a:pt x="15177" y="549339"/>
                  </a:cubicBezTo>
                  <a:cubicBezTo>
                    <a:pt x="8637" y="548513"/>
                    <a:pt x="2794" y="546671"/>
                    <a:pt x="0" y="542989"/>
                  </a:cubicBezTo>
                  <a:cubicBezTo>
                    <a:pt x="0" y="542989"/>
                    <a:pt x="51626" y="133350"/>
                    <a:pt x="162751" y="13716"/>
                  </a:cubicBezTo>
                  <a:cubicBezTo>
                    <a:pt x="162751" y="13716"/>
                    <a:pt x="234442" y="49657"/>
                    <a:pt x="321628" y="0"/>
                  </a:cubicBezTo>
                  <a:cubicBezTo>
                    <a:pt x="334773" y="47561"/>
                    <a:pt x="324930" y="83883"/>
                    <a:pt x="295593" y="113474"/>
                  </a:cubicBezTo>
                  <a:close/>
                </a:path>
              </a:pathLst>
            </a:custGeom>
            <a:solidFill>
              <a:srgbClr val="fe6b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15" name="Freeform 304"/>
            <p:cNvSpPr/>
            <p:nvPr/>
          </p:nvSpPr>
          <p:spPr>
            <a:xfrm>
              <a:off x="10136520" y="3574440"/>
              <a:ext cx="136800" cy="417960"/>
            </a:xfrm>
            <a:custGeom>
              <a:avLst/>
              <a:gdLst/>
              <a:ahLst/>
              <a:rect l="l" t="t" r="r" b="b"/>
              <a:pathLst>
                <a:path w="136957" h="418147">
                  <a:moveTo>
                    <a:pt x="136957" y="406781"/>
                  </a:moveTo>
                  <a:cubicBezTo>
                    <a:pt x="136957" y="406781"/>
                    <a:pt x="133275" y="408940"/>
                    <a:pt x="127496" y="411353"/>
                  </a:cubicBezTo>
                  <a:cubicBezTo>
                    <a:pt x="120956" y="414083"/>
                    <a:pt x="111812" y="417195"/>
                    <a:pt x="102096" y="418147"/>
                  </a:cubicBezTo>
                  <a:cubicBezTo>
                    <a:pt x="102096" y="418147"/>
                    <a:pt x="-6489" y="195072"/>
                    <a:pt x="306" y="102679"/>
                  </a:cubicBezTo>
                  <a:lnTo>
                    <a:pt x="306" y="102679"/>
                  </a:lnTo>
                  <a:cubicBezTo>
                    <a:pt x="25134" y="72835"/>
                    <a:pt x="53709" y="46799"/>
                    <a:pt x="86666" y="26352"/>
                  </a:cubicBezTo>
                  <a:cubicBezTo>
                    <a:pt x="99874" y="18161"/>
                    <a:pt x="111240" y="9398"/>
                    <a:pt x="120575" y="0"/>
                  </a:cubicBezTo>
                  <a:cubicBezTo>
                    <a:pt x="119876" y="2222"/>
                    <a:pt x="56313" y="228155"/>
                    <a:pt x="136957" y="406781"/>
                  </a:cubicBezTo>
                  <a:close/>
                </a:path>
              </a:pathLst>
            </a:custGeom>
            <a:solidFill>
              <a:srgbClr val="d14b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16" name="Freeform 305"/>
            <p:cNvSpPr/>
            <p:nvPr/>
          </p:nvSpPr>
          <p:spPr>
            <a:xfrm>
              <a:off x="9975240" y="4010040"/>
              <a:ext cx="26640" cy="24120"/>
            </a:xfrm>
            <a:custGeom>
              <a:avLst/>
              <a:gdLst/>
              <a:ahLst/>
              <a:rect l="l" t="t" r="r" b="b"/>
              <a:pathLst>
                <a:path w="26733" h="24237">
                  <a:moveTo>
                    <a:pt x="26733" y="0"/>
                  </a:moveTo>
                  <a:lnTo>
                    <a:pt x="24511" y="21717"/>
                  </a:lnTo>
                  <a:cubicBezTo>
                    <a:pt x="13081" y="28258"/>
                    <a:pt x="0" y="20002"/>
                    <a:pt x="0" y="20002"/>
                  </a:cubicBezTo>
                  <a:lnTo>
                    <a:pt x="1270" y="381"/>
                  </a:lnTo>
                  <a:cubicBezTo>
                    <a:pt x="10922" y="1588"/>
                    <a:pt x="22034" y="571"/>
                    <a:pt x="2673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17" name="Freeform 306"/>
            <p:cNvSpPr/>
            <p:nvPr/>
          </p:nvSpPr>
          <p:spPr>
            <a:xfrm>
              <a:off x="9907920" y="4029840"/>
              <a:ext cx="108720" cy="52200"/>
            </a:xfrm>
            <a:custGeom>
              <a:avLst/>
              <a:gdLst/>
              <a:ahLst/>
              <a:rect l="l" t="t" r="r" b="b"/>
              <a:pathLst>
                <a:path w="108764" h="52451">
                  <a:moveTo>
                    <a:pt x="108764" y="52451"/>
                  </a:moveTo>
                  <a:lnTo>
                    <a:pt x="90095" y="52451"/>
                  </a:lnTo>
                  <a:lnTo>
                    <a:pt x="81586" y="36449"/>
                  </a:lnTo>
                  <a:lnTo>
                    <a:pt x="72823" y="52451"/>
                  </a:lnTo>
                  <a:lnTo>
                    <a:pt x="940" y="52451"/>
                  </a:lnTo>
                  <a:cubicBezTo>
                    <a:pt x="-2488" y="45149"/>
                    <a:pt x="4560" y="35433"/>
                    <a:pt x="4560" y="35433"/>
                  </a:cubicBezTo>
                  <a:cubicBezTo>
                    <a:pt x="31992" y="34925"/>
                    <a:pt x="67235" y="0"/>
                    <a:pt x="67235" y="0"/>
                  </a:cubicBezTo>
                  <a:cubicBezTo>
                    <a:pt x="67235" y="0"/>
                    <a:pt x="80379" y="8255"/>
                    <a:pt x="91746" y="1715"/>
                  </a:cubicBezTo>
                  <a:cubicBezTo>
                    <a:pt x="109018" y="1905"/>
                    <a:pt x="108764" y="52451"/>
                    <a:pt x="108764" y="52451"/>
                  </a:cubicBez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18" name="Freeform 307"/>
            <p:cNvSpPr/>
            <p:nvPr/>
          </p:nvSpPr>
          <p:spPr>
            <a:xfrm>
              <a:off x="10238400" y="3985920"/>
              <a:ext cx="37440" cy="37440"/>
            </a:xfrm>
            <a:custGeom>
              <a:avLst/>
              <a:gdLst/>
              <a:ahLst/>
              <a:rect l="l" t="t" r="r" b="b"/>
              <a:pathLst>
                <a:path w="37719" h="37576">
                  <a:moveTo>
                    <a:pt x="-27817" y="25845"/>
                  </a:moveTo>
                  <a:cubicBezTo>
                    <a:pt x="31179" y="-26547"/>
                    <a:pt x="16828" y="-28007"/>
                    <a:pt x="16828" y="-28007"/>
                  </a:cubicBezTo>
                  <a:lnTo>
                    <a:pt x="0" y="6795"/>
                  </a:lnTo>
                  <a:cubicBezTo>
                    <a:pt x="9652" y="5905"/>
                    <a:pt x="18860" y="2794"/>
                    <a:pt x="25400" y="0"/>
                  </a:cubicBezTo>
                  <a:lnTo>
                    <a:pt x="-27817" y="258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19" name="Freeform 308"/>
            <p:cNvSpPr/>
            <p:nvPr/>
          </p:nvSpPr>
          <p:spPr>
            <a:xfrm>
              <a:off x="10210680" y="4010400"/>
              <a:ext cx="114120" cy="71640"/>
            </a:xfrm>
            <a:custGeom>
              <a:avLst/>
              <a:gdLst/>
              <a:ahLst/>
              <a:rect l="l" t="t" r="r" b="b"/>
              <a:pathLst>
                <a:path w="114172" h="71986">
                  <a:moveTo>
                    <a:pt x="97218" y="42459"/>
                  </a:moveTo>
                  <a:lnTo>
                    <a:pt x="80454" y="33379"/>
                  </a:lnTo>
                  <a:lnTo>
                    <a:pt x="84074" y="51095"/>
                  </a:lnTo>
                  <a:lnTo>
                    <a:pt x="50292" y="71987"/>
                  </a:lnTo>
                  <a:lnTo>
                    <a:pt x="0" y="71987"/>
                  </a:lnTo>
                  <a:lnTo>
                    <a:pt x="4127" y="57191"/>
                  </a:lnTo>
                  <a:cubicBezTo>
                    <a:pt x="17208" y="56937"/>
                    <a:pt x="38417" y="42777"/>
                    <a:pt x="38417" y="42777"/>
                  </a:cubicBezTo>
                  <a:lnTo>
                    <a:pt x="44703" y="12995"/>
                  </a:lnTo>
                  <a:cubicBezTo>
                    <a:pt x="44703" y="12995"/>
                    <a:pt x="59055" y="14456"/>
                    <a:pt x="65595" y="1311"/>
                  </a:cubicBezTo>
                  <a:cubicBezTo>
                    <a:pt x="86233" y="-7198"/>
                    <a:pt x="114173" y="28489"/>
                    <a:pt x="114173" y="28489"/>
                  </a:cubicBezTo>
                  <a:lnTo>
                    <a:pt x="97218" y="42459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20" name="Freeform 309"/>
            <p:cNvSpPr/>
            <p:nvPr/>
          </p:nvSpPr>
          <p:spPr>
            <a:xfrm>
              <a:off x="9551520" y="2989800"/>
              <a:ext cx="449640" cy="527400"/>
            </a:xfrm>
            <a:custGeom>
              <a:avLst/>
              <a:gdLst/>
              <a:ahLst/>
              <a:rect l="l" t="t" r="r" b="b"/>
              <a:pathLst>
                <a:path w="449663" h="527475">
                  <a:moveTo>
                    <a:pt x="449663" y="169399"/>
                  </a:moveTo>
                  <a:cubicBezTo>
                    <a:pt x="449663" y="170351"/>
                    <a:pt x="449663" y="171304"/>
                    <a:pt x="449663" y="172256"/>
                  </a:cubicBezTo>
                  <a:cubicBezTo>
                    <a:pt x="449600" y="198799"/>
                    <a:pt x="447759" y="228263"/>
                    <a:pt x="444837" y="258426"/>
                  </a:cubicBezTo>
                  <a:lnTo>
                    <a:pt x="444837" y="258426"/>
                  </a:lnTo>
                  <a:cubicBezTo>
                    <a:pt x="444266" y="264522"/>
                    <a:pt x="443631" y="270618"/>
                    <a:pt x="442996" y="276714"/>
                  </a:cubicBezTo>
                  <a:cubicBezTo>
                    <a:pt x="442234" y="283445"/>
                    <a:pt x="441473" y="290112"/>
                    <a:pt x="440711" y="296780"/>
                  </a:cubicBezTo>
                  <a:cubicBezTo>
                    <a:pt x="440393" y="299193"/>
                    <a:pt x="440138" y="301606"/>
                    <a:pt x="439821" y="304019"/>
                  </a:cubicBezTo>
                  <a:cubicBezTo>
                    <a:pt x="436583" y="329800"/>
                    <a:pt x="432836" y="355263"/>
                    <a:pt x="429090" y="378822"/>
                  </a:cubicBezTo>
                  <a:cubicBezTo>
                    <a:pt x="426804" y="393173"/>
                    <a:pt x="424454" y="406762"/>
                    <a:pt x="422232" y="419462"/>
                  </a:cubicBezTo>
                  <a:cubicBezTo>
                    <a:pt x="420454" y="429431"/>
                    <a:pt x="418803" y="438829"/>
                    <a:pt x="417152" y="447465"/>
                  </a:cubicBezTo>
                  <a:cubicBezTo>
                    <a:pt x="410802" y="481438"/>
                    <a:pt x="406103" y="503282"/>
                    <a:pt x="406103" y="503282"/>
                  </a:cubicBezTo>
                  <a:lnTo>
                    <a:pt x="255163" y="525253"/>
                  </a:lnTo>
                  <a:cubicBezTo>
                    <a:pt x="245130" y="526713"/>
                    <a:pt x="234970" y="527475"/>
                    <a:pt x="224873" y="527475"/>
                  </a:cubicBezTo>
                  <a:cubicBezTo>
                    <a:pt x="214777" y="527475"/>
                    <a:pt x="204617" y="526713"/>
                    <a:pt x="194521" y="525253"/>
                  </a:cubicBezTo>
                  <a:lnTo>
                    <a:pt x="43645" y="503282"/>
                  </a:lnTo>
                  <a:cubicBezTo>
                    <a:pt x="43645" y="503282"/>
                    <a:pt x="38755" y="480549"/>
                    <a:pt x="32278" y="445497"/>
                  </a:cubicBezTo>
                  <a:cubicBezTo>
                    <a:pt x="32278" y="445497"/>
                    <a:pt x="32278" y="445497"/>
                    <a:pt x="32278" y="445497"/>
                  </a:cubicBezTo>
                  <a:cubicBezTo>
                    <a:pt x="30818" y="437432"/>
                    <a:pt x="29230" y="428796"/>
                    <a:pt x="27579" y="419525"/>
                  </a:cubicBezTo>
                  <a:cubicBezTo>
                    <a:pt x="26817" y="415144"/>
                    <a:pt x="25992" y="410635"/>
                    <a:pt x="25230" y="406000"/>
                  </a:cubicBezTo>
                  <a:cubicBezTo>
                    <a:pt x="23896" y="398189"/>
                    <a:pt x="22562" y="390125"/>
                    <a:pt x="21166" y="381743"/>
                  </a:cubicBezTo>
                  <a:cubicBezTo>
                    <a:pt x="18753" y="366757"/>
                    <a:pt x="16340" y="351009"/>
                    <a:pt x="14054" y="334816"/>
                  </a:cubicBezTo>
                  <a:cubicBezTo>
                    <a:pt x="12022" y="320402"/>
                    <a:pt x="10117" y="305670"/>
                    <a:pt x="8338" y="290874"/>
                  </a:cubicBezTo>
                  <a:cubicBezTo>
                    <a:pt x="5798" y="269284"/>
                    <a:pt x="3640" y="247567"/>
                    <a:pt x="2179" y="226612"/>
                  </a:cubicBezTo>
                  <a:cubicBezTo>
                    <a:pt x="1290" y="213785"/>
                    <a:pt x="592" y="201212"/>
                    <a:pt x="274" y="189084"/>
                  </a:cubicBezTo>
                  <a:cubicBezTo>
                    <a:pt x="-234" y="171939"/>
                    <a:pt x="-43" y="155746"/>
                    <a:pt x="909" y="141014"/>
                  </a:cubicBezTo>
                  <a:cubicBezTo>
                    <a:pt x="1163" y="137141"/>
                    <a:pt x="1481" y="133394"/>
                    <a:pt x="1861" y="129775"/>
                  </a:cubicBezTo>
                  <a:cubicBezTo>
                    <a:pt x="3005" y="117964"/>
                    <a:pt x="4783" y="107422"/>
                    <a:pt x="7323" y="98279"/>
                  </a:cubicBezTo>
                  <a:cubicBezTo>
                    <a:pt x="12974" y="77832"/>
                    <a:pt x="24531" y="61639"/>
                    <a:pt x="39327" y="48749"/>
                  </a:cubicBezTo>
                  <a:cubicBezTo>
                    <a:pt x="59011" y="31731"/>
                    <a:pt x="84538" y="20618"/>
                    <a:pt x="110002" y="13379"/>
                  </a:cubicBezTo>
                  <a:cubicBezTo>
                    <a:pt x="162262" y="-1480"/>
                    <a:pt x="214142" y="44"/>
                    <a:pt x="214142" y="44"/>
                  </a:cubicBezTo>
                  <a:cubicBezTo>
                    <a:pt x="214142" y="44"/>
                    <a:pt x="218016" y="44"/>
                    <a:pt x="224811" y="298"/>
                  </a:cubicBezTo>
                  <a:cubicBezTo>
                    <a:pt x="231605" y="44"/>
                    <a:pt x="235478" y="44"/>
                    <a:pt x="235478" y="44"/>
                  </a:cubicBezTo>
                  <a:cubicBezTo>
                    <a:pt x="235478" y="44"/>
                    <a:pt x="287358" y="-1480"/>
                    <a:pt x="339618" y="13379"/>
                  </a:cubicBezTo>
                  <a:cubicBezTo>
                    <a:pt x="384259" y="26079"/>
                    <a:pt x="429153" y="50654"/>
                    <a:pt x="442361" y="98279"/>
                  </a:cubicBezTo>
                  <a:cubicBezTo>
                    <a:pt x="445854" y="110979"/>
                    <a:pt x="447949" y="126600"/>
                    <a:pt x="448965" y="144316"/>
                  </a:cubicBezTo>
                  <a:cubicBezTo>
                    <a:pt x="449410" y="152317"/>
                    <a:pt x="449600" y="160636"/>
                    <a:pt x="449663" y="16939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21" name="Freeform 310"/>
            <p:cNvSpPr/>
            <p:nvPr/>
          </p:nvSpPr>
          <p:spPr>
            <a:xfrm>
              <a:off x="9097920" y="2698200"/>
              <a:ext cx="451440" cy="552240"/>
            </a:xfrm>
            <a:custGeom>
              <a:avLst/>
              <a:gdLst/>
              <a:ahLst/>
              <a:rect l="l" t="t" r="r" b="b"/>
              <a:pathLst>
                <a:path w="451537" h="552450">
                  <a:moveTo>
                    <a:pt x="451538" y="194310"/>
                  </a:moveTo>
                  <a:cubicBezTo>
                    <a:pt x="451538" y="195263"/>
                    <a:pt x="451538" y="196215"/>
                    <a:pt x="451538" y="197167"/>
                  </a:cubicBezTo>
                  <a:cubicBezTo>
                    <a:pt x="451474" y="207772"/>
                    <a:pt x="451220" y="218821"/>
                    <a:pt x="450649" y="230188"/>
                  </a:cubicBezTo>
                  <a:cubicBezTo>
                    <a:pt x="446966" y="307023"/>
                    <a:pt x="432361" y="398653"/>
                    <a:pt x="421248" y="459804"/>
                  </a:cubicBezTo>
                  <a:cubicBezTo>
                    <a:pt x="421248" y="459804"/>
                    <a:pt x="421248" y="459867"/>
                    <a:pt x="421185" y="459994"/>
                  </a:cubicBezTo>
                  <a:cubicBezTo>
                    <a:pt x="421185" y="459994"/>
                    <a:pt x="421185" y="459994"/>
                    <a:pt x="421185" y="460058"/>
                  </a:cubicBezTo>
                  <a:cubicBezTo>
                    <a:pt x="421058" y="460629"/>
                    <a:pt x="420994" y="461137"/>
                    <a:pt x="420868" y="461708"/>
                  </a:cubicBezTo>
                  <a:cubicBezTo>
                    <a:pt x="420868" y="461772"/>
                    <a:pt x="420868" y="461772"/>
                    <a:pt x="420868" y="461772"/>
                  </a:cubicBezTo>
                  <a:cubicBezTo>
                    <a:pt x="413565" y="501714"/>
                    <a:pt x="407850" y="528193"/>
                    <a:pt x="407850" y="528193"/>
                  </a:cubicBezTo>
                  <a:lnTo>
                    <a:pt x="256910" y="550227"/>
                  </a:lnTo>
                  <a:cubicBezTo>
                    <a:pt x="246878" y="551688"/>
                    <a:pt x="236718" y="552450"/>
                    <a:pt x="226621" y="552450"/>
                  </a:cubicBezTo>
                  <a:cubicBezTo>
                    <a:pt x="216524" y="552450"/>
                    <a:pt x="206365" y="551688"/>
                    <a:pt x="196332" y="550227"/>
                  </a:cubicBezTo>
                  <a:lnTo>
                    <a:pt x="6974" y="528193"/>
                  </a:lnTo>
                  <a:cubicBezTo>
                    <a:pt x="6974" y="528193"/>
                    <a:pt x="5514" y="500888"/>
                    <a:pt x="3990" y="459867"/>
                  </a:cubicBezTo>
                  <a:cubicBezTo>
                    <a:pt x="2657" y="424879"/>
                    <a:pt x="1196" y="379984"/>
                    <a:pt x="497" y="333629"/>
                  </a:cubicBezTo>
                  <a:cubicBezTo>
                    <a:pt x="-74" y="298831"/>
                    <a:pt x="-201" y="263208"/>
                    <a:pt x="370" y="230314"/>
                  </a:cubicBezTo>
                  <a:cubicBezTo>
                    <a:pt x="624" y="214186"/>
                    <a:pt x="1069" y="198692"/>
                    <a:pt x="1768" y="184214"/>
                  </a:cubicBezTo>
                  <a:cubicBezTo>
                    <a:pt x="1768" y="184214"/>
                    <a:pt x="1768" y="184150"/>
                    <a:pt x="1768" y="184150"/>
                  </a:cubicBezTo>
                  <a:cubicBezTo>
                    <a:pt x="2085" y="177864"/>
                    <a:pt x="2403" y="171831"/>
                    <a:pt x="2783" y="165989"/>
                  </a:cubicBezTo>
                  <a:cubicBezTo>
                    <a:pt x="3863" y="149606"/>
                    <a:pt x="5895" y="135128"/>
                    <a:pt x="9197" y="123254"/>
                  </a:cubicBezTo>
                  <a:cubicBezTo>
                    <a:pt x="37835" y="19812"/>
                    <a:pt x="216080" y="0"/>
                    <a:pt x="216080" y="0"/>
                  </a:cubicBezTo>
                  <a:cubicBezTo>
                    <a:pt x="216080" y="0"/>
                    <a:pt x="219954" y="0"/>
                    <a:pt x="226748" y="254"/>
                  </a:cubicBezTo>
                  <a:cubicBezTo>
                    <a:pt x="233543" y="0"/>
                    <a:pt x="237416" y="0"/>
                    <a:pt x="237416" y="0"/>
                  </a:cubicBezTo>
                  <a:cubicBezTo>
                    <a:pt x="237416" y="0"/>
                    <a:pt x="415660" y="19812"/>
                    <a:pt x="444299" y="123254"/>
                  </a:cubicBezTo>
                  <a:cubicBezTo>
                    <a:pt x="447792" y="135954"/>
                    <a:pt x="449887" y="151574"/>
                    <a:pt x="450903" y="169291"/>
                  </a:cubicBezTo>
                  <a:cubicBezTo>
                    <a:pt x="451220" y="177229"/>
                    <a:pt x="451474" y="185611"/>
                    <a:pt x="451538" y="1943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22" name="Freeform 311"/>
            <p:cNvSpPr/>
            <p:nvPr/>
          </p:nvSpPr>
          <p:spPr>
            <a:xfrm>
              <a:off x="8650080" y="2698200"/>
              <a:ext cx="449640" cy="552240"/>
            </a:xfrm>
            <a:custGeom>
              <a:avLst/>
              <a:gdLst/>
              <a:ahLst/>
              <a:rect l="l" t="t" r="r" b="b"/>
              <a:pathLst>
                <a:path w="449657" h="552450">
                  <a:moveTo>
                    <a:pt x="449658" y="194374"/>
                  </a:moveTo>
                  <a:lnTo>
                    <a:pt x="449658" y="197231"/>
                  </a:lnTo>
                  <a:cubicBezTo>
                    <a:pt x="449658" y="207836"/>
                    <a:pt x="449594" y="218885"/>
                    <a:pt x="449467" y="230251"/>
                  </a:cubicBezTo>
                  <a:cubicBezTo>
                    <a:pt x="449213" y="263144"/>
                    <a:pt x="448769" y="298831"/>
                    <a:pt x="448260" y="333566"/>
                  </a:cubicBezTo>
                  <a:cubicBezTo>
                    <a:pt x="447625" y="375095"/>
                    <a:pt x="446863" y="415481"/>
                    <a:pt x="446229" y="448564"/>
                  </a:cubicBezTo>
                  <a:cubicBezTo>
                    <a:pt x="445276" y="495808"/>
                    <a:pt x="444514" y="528193"/>
                    <a:pt x="444514" y="528193"/>
                  </a:cubicBezTo>
                  <a:lnTo>
                    <a:pt x="255157" y="550228"/>
                  </a:lnTo>
                  <a:cubicBezTo>
                    <a:pt x="245124" y="551688"/>
                    <a:pt x="234964" y="552450"/>
                    <a:pt x="224868" y="552450"/>
                  </a:cubicBezTo>
                  <a:cubicBezTo>
                    <a:pt x="214771" y="552450"/>
                    <a:pt x="204611" y="551688"/>
                    <a:pt x="194578" y="550228"/>
                  </a:cubicBezTo>
                  <a:lnTo>
                    <a:pt x="43638" y="528193"/>
                  </a:lnTo>
                  <a:cubicBezTo>
                    <a:pt x="43638" y="528193"/>
                    <a:pt x="35447" y="490030"/>
                    <a:pt x="26112" y="436182"/>
                  </a:cubicBezTo>
                  <a:cubicBezTo>
                    <a:pt x="26112" y="436118"/>
                    <a:pt x="26112" y="436118"/>
                    <a:pt x="26112" y="436118"/>
                  </a:cubicBezTo>
                  <a:cubicBezTo>
                    <a:pt x="15254" y="373253"/>
                    <a:pt x="2935" y="289052"/>
                    <a:pt x="458" y="219329"/>
                  </a:cubicBezTo>
                  <a:cubicBezTo>
                    <a:pt x="-240" y="200216"/>
                    <a:pt x="-177" y="182182"/>
                    <a:pt x="903" y="165989"/>
                  </a:cubicBezTo>
                  <a:cubicBezTo>
                    <a:pt x="1983" y="149606"/>
                    <a:pt x="4014" y="135128"/>
                    <a:pt x="7317" y="123254"/>
                  </a:cubicBezTo>
                  <a:cubicBezTo>
                    <a:pt x="35955" y="19812"/>
                    <a:pt x="214199" y="0"/>
                    <a:pt x="214199" y="0"/>
                  </a:cubicBezTo>
                  <a:cubicBezTo>
                    <a:pt x="214199" y="0"/>
                    <a:pt x="218073" y="0"/>
                    <a:pt x="224868" y="254"/>
                  </a:cubicBezTo>
                  <a:cubicBezTo>
                    <a:pt x="231662" y="0"/>
                    <a:pt x="235535" y="0"/>
                    <a:pt x="235535" y="0"/>
                  </a:cubicBezTo>
                  <a:cubicBezTo>
                    <a:pt x="235535" y="0"/>
                    <a:pt x="413780" y="19812"/>
                    <a:pt x="442419" y="123254"/>
                  </a:cubicBezTo>
                  <a:cubicBezTo>
                    <a:pt x="445911" y="135954"/>
                    <a:pt x="448070" y="151574"/>
                    <a:pt x="449022" y="169291"/>
                  </a:cubicBezTo>
                  <a:cubicBezTo>
                    <a:pt x="449276" y="174117"/>
                    <a:pt x="449467" y="179007"/>
                    <a:pt x="449594" y="184150"/>
                  </a:cubicBezTo>
                  <a:cubicBezTo>
                    <a:pt x="449594" y="184150"/>
                    <a:pt x="449594" y="184150"/>
                    <a:pt x="449594" y="184214"/>
                  </a:cubicBezTo>
                  <a:cubicBezTo>
                    <a:pt x="449594" y="187516"/>
                    <a:pt x="449658" y="190945"/>
                    <a:pt x="449658" y="19437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23" name="Freeform 312"/>
            <p:cNvSpPr/>
            <p:nvPr/>
          </p:nvSpPr>
          <p:spPr>
            <a:xfrm>
              <a:off x="9972720" y="3291480"/>
              <a:ext cx="163440" cy="117720"/>
            </a:xfrm>
            <a:custGeom>
              <a:avLst/>
              <a:gdLst/>
              <a:ahLst/>
              <a:rect l="l" t="t" r="r" b="b"/>
              <a:pathLst>
                <a:path w="163576" h="117919">
                  <a:moveTo>
                    <a:pt x="163576" y="41593"/>
                  </a:moveTo>
                  <a:cubicBezTo>
                    <a:pt x="163576" y="41593"/>
                    <a:pt x="94488" y="110998"/>
                    <a:pt x="0" y="117920"/>
                  </a:cubicBezTo>
                  <a:cubicBezTo>
                    <a:pt x="2222" y="105283"/>
                    <a:pt x="4508" y="91630"/>
                    <a:pt x="6858" y="77280"/>
                  </a:cubicBezTo>
                  <a:cubicBezTo>
                    <a:pt x="74168" y="64834"/>
                    <a:pt x="140462" y="0"/>
                    <a:pt x="140462" y="0"/>
                  </a:cubicBezTo>
                  <a:cubicBezTo>
                    <a:pt x="146368" y="13145"/>
                    <a:pt x="157861" y="28194"/>
                    <a:pt x="163576" y="41593"/>
                  </a:cubicBezTo>
                  <a:close/>
                </a:path>
              </a:pathLst>
            </a:custGeom>
            <a:solidFill>
              <a:srgbClr val="f8a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24" name="Freeform 313"/>
            <p:cNvSpPr/>
            <p:nvPr/>
          </p:nvSpPr>
          <p:spPr>
            <a:xfrm>
              <a:off x="9660600" y="2907360"/>
              <a:ext cx="229320" cy="95400"/>
            </a:xfrm>
            <a:custGeom>
              <a:avLst/>
              <a:gdLst/>
              <a:ahLst/>
              <a:rect l="l" t="t" r="r" b="b"/>
              <a:pathLst>
                <a:path w="229616" h="95694">
                  <a:moveTo>
                    <a:pt x="229616" y="14541"/>
                  </a:moveTo>
                  <a:lnTo>
                    <a:pt x="229616" y="95694"/>
                  </a:lnTo>
                  <a:cubicBezTo>
                    <a:pt x="177356" y="80835"/>
                    <a:pt x="125476" y="82360"/>
                    <a:pt x="125476" y="82360"/>
                  </a:cubicBezTo>
                  <a:cubicBezTo>
                    <a:pt x="125476" y="82360"/>
                    <a:pt x="121603" y="82360"/>
                    <a:pt x="114809" y="82613"/>
                  </a:cubicBezTo>
                  <a:cubicBezTo>
                    <a:pt x="108014" y="82360"/>
                    <a:pt x="104140" y="82360"/>
                    <a:pt x="104140" y="82360"/>
                  </a:cubicBezTo>
                  <a:cubicBezTo>
                    <a:pt x="104140" y="82360"/>
                    <a:pt x="52260" y="80835"/>
                    <a:pt x="0" y="95694"/>
                  </a:cubicBezTo>
                  <a:lnTo>
                    <a:pt x="0" y="14478"/>
                  </a:lnTo>
                  <a:cubicBezTo>
                    <a:pt x="0" y="6477"/>
                    <a:pt x="6477" y="0"/>
                    <a:pt x="14478" y="0"/>
                  </a:cubicBezTo>
                  <a:lnTo>
                    <a:pt x="215202" y="0"/>
                  </a:lnTo>
                  <a:cubicBezTo>
                    <a:pt x="223139" y="63"/>
                    <a:pt x="229616" y="6540"/>
                    <a:pt x="229616" y="14541"/>
                  </a:cubicBezTo>
                  <a:close/>
                </a:path>
              </a:pathLst>
            </a:custGeom>
            <a:solidFill>
              <a:srgbClr val="6068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25" name="Freeform 314"/>
            <p:cNvSpPr/>
            <p:nvPr/>
          </p:nvSpPr>
          <p:spPr>
            <a:xfrm>
              <a:off x="9102240" y="3157920"/>
              <a:ext cx="416880" cy="92520"/>
            </a:xfrm>
            <a:custGeom>
              <a:avLst/>
              <a:gdLst/>
              <a:ahLst/>
              <a:rect l="l" t="t" r="r" b="b"/>
              <a:pathLst>
                <a:path w="416877" h="92582">
                  <a:moveTo>
                    <a:pt x="416878" y="1905"/>
                  </a:moveTo>
                  <a:cubicBezTo>
                    <a:pt x="409575" y="41846"/>
                    <a:pt x="403860" y="68326"/>
                    <a:pt x="403860" y="68326"/>
                  </a:cubicBezTo>
                  <a:lnTo>
                    <a:pt x="252920" y="90361"/>
                  </a:lnTo>
                  <a:cubicBezTo>
                    <a:pt x="242888" y="91821"/>
                    <a:pt x="232728" y="92583"/>
                    <a:pt x="222631" y="92583"/>
                  </a:cubicBezTo>
                  <a:cubicBezTo>
                    <a:pt x="212534" y="92583"/>
                    <a:pt x="202374" y="91821"/>
                    <a:pt x="192342" y="90361"/>
                  </a:cubicBezTo>
                  <a:lnTo>
                    <a:pt x="2984" y="68326"/>
                  </a:lnTo>
                  <a:cubicBezTo>
                    <a:pt x="2984" y="68326"/>
                    <a:pt x="1524" y="41021"/>
                    <a:pt x="0" y="0"/>
                  </a:cubicBezTo>
                  <a:cubicBezTo>
                    <a:pt x="0" y="0"/>
                    <a:pt x="34036" y="70866"/>
                    <a:pt x="221742" y="74358"/>
                  </a:cubicBezTo>
                  <a:cubicBezTo>
                    <a:pt x="391922" y="77533"/>
                    <a:pt x="414210" y="13843"/>
                    <a:pt x="416878" y="1905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26" name="Freeform 315"/>
            <p:cNvSpPr/>
            <p:nvPr/>
          </p:nvSpPr>
          <p:spPr>
            <a:xfrm>
              <a:off x="9745560" y="2747160"/>
              <a:ext cx="60120" cy="160560"/>
            </a:xfrm>
            <a:custGeom>
              <a:avLst/>
              <a:gdLst/>
              <a:ahLst/>
              <a:rect l="l" t="t" r="r" b="b"/>
              <a:pathLst>
                <a:path w="60198" h="160591">
                  <a:moveTo>
                    <a:pt x="0" y="0"/>
                  </a:moveTo>
                  <a:lnTo>
                    <a:pt x="60198" y="0"/>
                  </a:lnTo>
                  <a:lnTo>
                    <a:pt x="60198" y="160592"/>
                  </a:lnTo>
                  <a:lnTo>
                    <a:pt x="0" y="1605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068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27" name="Freeform 316"/>
            <p:cNvSpPr/>
            <p:nvPr/>
          </p:nvSpPr>
          <p:spPr>
            <a:xfrm>
              <a:off x="8573040" y="2612880"/>
              <a:ext cx="1508760" cy="315360"/>
            </a:xfrm>
            <a:custGeom>
              <a:avLst/>
              <a:gdLst/>
              <a:ahLst/>
              <a:rect l="l" t="t" r="r" b="b"/>
              <a:pathLst>
                <a:path w="1508705" h="315659">
                  <a:moveTo>
                    <a:pt x="1508224" y="45594"/>
                  </a:moveTo>
                  <a:lnTo>
                    <a:pt x="1478253" y="238571"/>
                  </a:lnTo>
                  <a:cubicBezTo>
                    <a:pt x="1474823" y="260542"/>
                    <a:pt x="1463711" y="279655"/>
                    <a:pt x="1447899" y="293371"/>
                  </a:cubicBezTo>
                  <a:cubicBezTo>
                    <a:pt x="1440025" y="300229"/>
                    <a:pt x="1427706" y="294387"/>
                    <a:pt x="1427770" y="283910"/>
                  </a:cubicBezTo>
                  <a:cubicBezTo>
                    <a:pt x="1427770" y="283465"/>
                    <a:pt x="1427770" y="283021"/>
                    <a:pt x="1427770" y="282576"/>
                  </a:cubicBezTo>
                  <a:cubicBezTo>
                    <a:pt x="1427770" y="281624"/>
                    <a:pt x="1427770" y="280671"/>
                    <a:pt x="1427770" y="279719"/>
                  </a:cubicBezTo>
                  <a:cubicBezTo>
                    <a:pt x="1427770" y="271019"/>
                    <a:pt x="1427516" y="262637"/>
                    <a:pt x="1427071" y="254700"/>
                  </a:cubicBezTo>
                  <a:cubicBezTo>
                    <a:pt x="1426055" y="236983"/>
                    <a:pt x="1423960" y="221362"/>
                    <a:pt x="1420467" y="208662"/>
                  </a:cubicBezTo>
                  <a:cubicBezTo>
                    <a:pt x="1391828" y="105221"/>
                    <a:pt x="1213584" y="85409"/>
                    <a:pt x="1213584" y="85409"/>
                  </a:cubicBezTo>
                  <a:cubicBezTo>
                    <a:pt x="1213584" y="85409"/>
                    <a:pt x="1209711" y="85409"/>
                    <a:pt x="1202916" y="85663"/>
                  </a:cubicBezTo>
                  <a:cubicBezTo>
                    <a:pt x="1196122" y="85409"/>
                    <a:pt x="1192248" y="85409"/>
                    <a:pt x="1192248" y="85409"/>
                  </a:cubicBezTo>
                  <a:cubicBezTo>
                    <a:pt x="1192248" y="85409"/>
                    <a:pt x="1014003" y="105221"/>
                    <a:pt x="985366" y="208662"/>
                  </a:cubicBezTo>
                  <a:cubicBezTo>
                    <a:pt x="982063" y="220537"/>
                    <a:pt x="980031" y="235015"/>
                    <a:pt x="978952" y="251398"/>
                  </a:cubicBezTo>
                  <a:cubicBezTo>
                    <a:pt x="977681" y="270638"/>
                    <a:pt x="976920" y="292482"/>
                    <a:pt x="976539" y="315660"/>
                  </a:cubicBezTo>
                  <a:lnTo>
                    <a:pt x="975268" y="315660"/>
                  </a:lnTo>
                  <a:cubicBezTo>
                    <a:pt x="975841" y="304293"/>
                    <a:pt x="976158" y="293244"/>
                    <a:pt x="976158" y="282640"/>
                  </a:cubicBezTo>
                  <a:cubicBezTo>
                    <a:pt x="976158" y="281687"/>
                    <a:pt x="976158" y="280735"/>
                    <a:pt x="976158" y="279782"/>
                  </a:cubicBezTo>
                  <a:cubicBezTo>
                    <a:pt x="976158" y="271083"/>
                    <a:pt x="975903" y="262701"/>
                    <a:pt x="975459" y="254763"/>
                  </a:cubicBezTo>
                  <a:cubicBezTo>
                    <a:pt x="974443" y="237047"/>
                    <a:pt x="972348" y="221426"/>
                    <a:pt x="968855" y="208726"/>
                  </a:cubicBezTo>
                  <a:cubicBezTo>
                    <a:pt x="940216" y="105284"/>
                    <a:pt x="761972" y="85472"/>
                    <a:pt x="761972" y="85472"/>
                  </a:cubicBezTo>
                  <a:cubicBezTo>
                    <a:pt x="761972" y="85472"/>
                    <a:pt x="758099" y="85472"/>
                    <a:pt x="751304" y="85726"/>
                  </a:cubicBezTo>
                  <a:cubicBezTo>
                    <a:pt x="744510" y="85472"/>
                    <a:pt x="740636" y="85472"/>
                    <a:pt x="740636" y="85472"/>
                  </a:cubicBezTo>
                  <a:cubicBezTo>
                    <a:pt x="740636" y="85472"/>
                    <a:pt x="562391" y="105284"/>
                    <a:pt x="533754" y="208726"/>
                  </a:cubicBezTo>
                  <a:cubicBezTo>
                    <a:pt x="530451" y="220600"/>
                    <a:pt x="528419" y="235078"/>
                    <a:pt x="527340" y="251461"/>
                  </a:cubicBezTo>
                  <a:cubicBezTo>
                    <a:pt x="526959" y="257303"/>
                    <a:pt x="526641" y="263336"/>
                    <a:pt x="526324" y="269622"/>
                  </a:cubicBezTo>
                  <a:cubicBezTo>
                    <a:pt x="526197" y="264542"/>
                    <a:pt x="526006" y="259589"/>
                    <a:pt x="525752" y="254827"/>
                  </a:cubicBezTo>
                  <a:cubicBezTo>
                    <a:pt x="524736" y="237110"/>
                    <a:pt x="522641" y="221489"/>
                    <a:pt x="519148" y="208789"/>
                  </a:cubicBezTo>
                  <a:cubicBezTo>
                    <a:pt x="490510" y="105348"/>
                    <a:pt x="312265" y="85536"/>
                    <a:pt x="312265" y="85536"/>
                  </a:cubicBezTo>
                  <a:cubicBezTo>
                    <a:pt x="312265" y="85536"/>
                    <a:pt x="308391" y="85536"/>
                    <a:pt x="301597" y="85790"/>
                  </a:cubicBezTo>
                  <a:cubicBezTo>
                    <a:pt x="294803" y="85536"/>
                    <a:pt x="290929" y="85536"/>
                    <a:pt x="290929" y="85536"/>
                  </a:cubicBezTo>
                  <a:cubicBezTo>
                    <a:pt x="290929" y="85536"/>
                    <a:pt x="112685" y="105348"/>
                    <a:pt x="84046" y="208789"/>
                  </a:cubicBezTo>
                  <a:cubicBezTo>
                    <a:pt x="80744" y="220664"/>
                    <a:pt x="78712" y="235142"/>
                    <a:pt x="77633" y="251525"/>
                  </a:cubicBezTo>
                  <a:cubicBezTo>
                    <a:pt x="76998" y="261367"/>
                    <a:pt x="76743" y="271908"/>
                    <a:pt x="76743" y="282957"/>
                  </a:cubicBezTo>
                  <a:cubicBezTo>
                    <a:pt x="76743" y="292609"/>
                    <a:pt x="65250" y="297816"/>
                    <a:pt x="58202" y="291212"/>
                  </a:cubicBezTo>
                  <a:cubicBezTo>
                    <a:pt x="43787" y="277687"/>
                    <a:pt x="33691" y="259526"/>
                    <a:pt x="30452" y="238761"/>
                  </a:cubicBezTo>
                  <a:lnTo>
                    <a:pt x="480" y="45785"/>
                  </a:lnTo>
                  <a:cubicBezTo>
                    <a:pt x="-3266" y="21718"/>
                    <a:pt x="15403" y="1"/>
                    <a:pt x="39723" y="1"/>
                  </a:cubicBezTo>
                  <a:lnTo>
                    <a:pt x="1468791" y="1"/>
                  </a:lnTo>
                  <a:cubicBezTo>
                    <a:pt x="1493366" y="-189"/>
                    <a:pt x="1511971" y="21528"/>
                    <a:pt x="1508224" y="45594"/>
                  </a:cubicBezTo>
                  <a:close/>
                </a:path>
              </a:pathLst>
            </a:custGeom>
            <a:solidFill>
              <a:srgbClr val="f4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28" name="Freeform 317"/>
            <p:cNvSpPr/>
            <p:nvPr/>
          </p:nvSpPr>
          <p:spPr>
            <a:xfrm>
              <a:off x="9745560" y="2712600"/>
              <a:ext cx="60120" cy="34200"/>
            </a:xfrm>
            <a:custGeom>
              <a:avLst/>
              <a:gdLst/>
              <a:ahLst/>
              <a:rect l="l" t="t" r="r" b="b"/>
              <a:pathLst>
                <a:path w="60197" h="34353">
                  <a:moveTo>
                    <a:pt x="-18864" y="0"/>
                  </a:moveTo>
                  <a:lnTo>
                    <a:pt x="14288" y="0"/>
                  </a:lnTo>
                  <a:lnTo>
                    <a:pt x="0" y="-31182"/>
                  </a:lnTo>
                  <a:lnTo>
                    <a:pt x="-5338" y="-31182"/>
                  </a:lnTo>
                  <a:lnTo>
                    <a:pt x="-18864" y="0"/>
                  </a:lnTo>
                  <a:close/>
                </a:path>
              </a:pathLst>
            </a:custGeom>
            <a:solidFill>
              <a:srgbClr val="9395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29" name="Freeform 318"/>
            <p:cNvSpPr/>
            <p:nvPr/>
          </p:nvSpPr>
          <p:spPr>
            <a:xfrm>
              <a:off x="9482760" y="3030480"/>
              <a:ext cx="181440" cy="129600"/>
            </a:xfrm>
            <a:custGeom>
              <a:avLst/>
              <a:gdLst/>
              <a:ahLst/>
              <a:rect l="l" t="t" r="r" b="b"/>
              <a:pathLst>
                <a:path w="181428" h="129794">
                  <a:moveTo>
                    <a:pt x="175096" y="88901"/>
                  </a:moveTo>
                  <a:cubicBezTo>
                    <a:pt x="175096" y="88901"/>
                    <a:pt x="181002" y="108205"/>
                    <a:pt x="168873" y="117984"/>
                  </a:cubicBezTo>
                  <a:cubicBezTo>
                    <a:pt x="161571" y="123889"/>
                    <a:pt x="151220" y="123000"/>
                    <a:pt x="144235" y="121413"/>
                  </a:cubicBezTo>
                  <a:cubicBezTo>
                    <a:pt x="148553" y="109157"/>
                    <a:pt x="149823" y="100140"/>
                    <a:pt x="149823" y="100140"/>
                  </a:cubicBezTo>
                  <a:cubicBezTo>
                    <a:pt x="149823" y="100140"/>
                    <a:pt x="114961" y="105728"/>
                    <a:pt x="84228" y="77090"/>
                  </a:cubicBezTo>
                  <a:cubicBezTo>
                    <a:pt x="84228" y="77090"/>
                    <a:pt x="68543" y="96775"/>
                    <a:pt x="52541" y="90933"/>
                  </a:cubicBezTo>
                  <a:cubicBezTo>
                    <a:pt x="52541" y="90933"/>
                    <a:pt x="56160" y="66739"/>
                    <a:pt x="42063" y="69343"/>
                  </a:cubicBezTo>
                  <a:cubicBezTo>
                    <a:pt x="28030" y="71946"/>
                    <a:pt x="34253" y="109856"/>
                    <a:pt x="34253" y="109856"/>
                  </a:cubicBezTo>
                  <a:lnTo>
                    <a:pt x="16600" y="129795"/>
                  </a:lnTo>
                  <a:cubicBezTo>
                    <a:pt x="16600" y="129795"/>
                    <a:pt x="-16738" y="90552"/>
                    <a:pt x="11075" y="55944"/>
                  </a:cubicBezTo>
                  <a:cubicBezTo>
                    <a:pt x="11075" y="55944"/>
                    <a:pt x="26443" y="40577"/>
                    <a:pt x="34317" y="42863"/>
                  </a:cubicBezTo>
                  <a:cubicBezTo>
                    <a:pt x="34317" y="42863"/>
                    <a:pt x="35015" y="9843"/>
                    <a:pt x="66892" y="1652"/>
                  </a:cubicBezTo>
                  <a:cubicBezTo>
                    <a:pt x="98706" y="-6476"/>
                    <a:pt x="118962" y="18035"/>
                    <a:pt x="118962" y="18035"/>
                  </a:cubicBezTo>
                  <a:cubicBezTo>
                    <a:pt x="118962" y="18035"/>
                    <a:pt x="140235" y="5589"/>
                    <a:pt x="159475" y="22289"/>
                  </a:cubicBezTo>
                  <a:cubicBezTo>
                    <a:pt x="178716" y="38926"/>
                    <a:pt x="188812" y="75185"/>
                    <a:pt x="175096" y="88901"/>
                  </a:cubicBezTo>
                  <a:close/>
                </a:path>
              </a:pathLst>
            </a:custGeom>
            <a:solidFill>
              <a:srgbClr val="803d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30" name="Freeform 319"/>
            <p:cNvSpPr/>
            <p:nvPr/>
          </p:nvSpPr>
          <p:spPr>
            <a:xfrm>
              <a:off x="9499320" y="3099600"/>
              <a:ext cx="133200" cy="105480"/>
            </a:xfrm>
            <a:custGeom>
              <a:avLst/>
              <a:gdLst/>
              <a:ahLst/>
              <a:rect l="l" t="t" r="r" b="b"/>
              <a:pathLst>
                <a:path w="133243" h="105796">
                  <a:moveTo>
                    <a:pt x="67648" y="7943"/>
                  </a:moveTo>
                  <a:cubicBezTo>
                    <a:pt x="67648" y="7943"/>
                    <a:pt x="51964" y="27628"/>
                    <a:pt x="35962" y="21786"/>
                  </a:cubicBezTo>
                  <a:cubicBezTo>
                    <a:pt x="35962" y="21786"/>
                    <a:pt x="39581" y="-2408"/>
                    <a:pt x="25484" y="196"/>
                  </a:cubicBezTo>
                  <a:cubicBezTo>
                    <a:pt x="11451" y="2800"/>
                    <a:pt x="17674" y="40709"/>
                    <a:pt x="17674" y="40709"/>
                  </a:cubicBezTo>
                  <a:lnTo>
                    <a:pt x="21" y="60648"/>
                  </a:lnTo>
                  <a:cubicBezTo>
                    <a:pt x="21" y="60648"/>
                    <a:pt x="-424" y="74110"/>
                    <a:pt x="2815" y="84079"/>
                  </a:cubicBezTo>
                  <a:lnTo>
                    <a:pt x="10562" y="83762"/>
                  </a:lnTo>
                  <a:lnTo>
                    <a:pt x="38311" y="66363"/>
                  </a:lnTo>
                  <a:cubicBezTo>
                    <a:pt x="44788" y="73983"/>
                    <a:pt x="53932" y="81730"/>
                    <a:pt x="62568" y="88397"/>
                  </a:cubicBezTo>
                  <a:cubicBezTo>
                    <a:pt x="65426" y="90620"/>
                    <a:pt x="68283" y="92715"/>
                    <a:pt x="70887" y="94620"/>
                  </a:cubicBezTo>
                  <a:cubicBezTo>
                    <a:pt x="80221" y="101351"/>
                    <a:pt x="87460" y="105797"/>
                    <a:pt x="87460" y="105797"/>
                  </a:cubicBezTo>
                  <a:cubicBezTo>
                    <a:pt x="101049" y="97541"/>
                    <a:pt x="110701" y="85857"/>
                    <a:pt x="117559" y="74237"/>
                  </a:cubicBezTo>
                  <a:cubicBezTo>
                    <a:pt x="122068" y="66617"/>
                    <a:pt x="125306" y="59060"/>
                    <a:pt x="127655" y="52393"/>
                  </a:cubicBezTo>
                  <a:cubicBezTo>
                    <a:pt x="131974" y="40137"/>
                    <a:pt x="133243" y="31120"/>
                    <a:pt x="133243" y="31120"/>
                  </a:cubicBezTo>
                  <a:cubicBezTo>
                    <a:pt x="133243" y="31120"/>
                    <a:pt x="98382" y="36581"/>
                    <a:pt x="67648" y="7943"/>
                  </a:cubicBezTo>
                  <a:close/>
                  <a:moveTo>
                    <a:pt x="65172" y="49789"/>
                  </a:moveTo>
                  <a:lnTo>
                    <a:pt x="71395" y="43503"/>
                  </a:lnTo>
                  <a:cubicBezTo>
                    <a:pt x="72729" y="42106"/>
                    <a:pt x="75014" y="42106"/>
                    <a:pt x="76348" y="43503"/>
                  </a:cubicBezTo>
                  <a:cubicBezTo>
                    <a:pt x="77046" y="44201"/>
                    <a:pt x="77427" y="45090"/>
                    <a:pt x="77427" y="45979"/>
                  </a:cubicBezTo>
                  <a:cubicBezTo>
                    <a:pt x="77427" y="46868"/>
                    <a:pt x="77110" y="47757"/>
                    <a:pt x="76411" y="48456"/>
                  </a:cubicBezTo>
                  <a:lnTo>
                    <a:pt x="70188" y="54742"/>
                  </a:lnTo>
                  <a:cubicBezTo>
                    <a:pt x="68792" y="56139"/>
                    <a:pt x="66568" y="56139"/>
                    <a:pt x="65172" y="54806"/>
                  </a:cubicBezTo>
                  <a:cubicBezTo>
                    <a:pt x="63838" y="53409"/>
                    <a:pt x="63838" y="51187"/>
                    <a:pt x="65172" y="49789"/>
                  </a:cubicBezTo>
                  <a:close/>
                  <a:moveTo>
                    <a:pt x="85301" y="90239"/>
                  </a:moveTo>
                  <a:lnTo>
                    <a:pt x="73554" y="86302"/>
                  </a:lnTo>
                  <a:lnTo>
                    <a:pt x="70760" y="85350"/>
                  </a:lnTo>
                  <a:lnTo>
                    <a:pt x="97556" y="58235"/>
                  </a:lnTo>
                  <a:lnTo>
                    <a:pt x="92730" y="70872"/>
                  </a:lnTo>
                  <a:lnTo>
                    <a:pt x="85301" y="90239"/>
                  </a:lnTo>
                  <a:close/>
                  <a:moveTo>
                    <a:pt x="105430" y="77031"/>
                  </a:moveTo>
                  <a:cubicBezTo>
                    <a:pt x="104161" y="78491"/>
                    <a:pt x="101938" y="78682"/>
                    <a:pt x="100478" y="77348"/>
                  </a:cubicBezTo>
                  <a:cubicBezTo>
                    <a:pt x="99335" y="76396"/>
                    <a:pt x="99018" y="74809"/>
                    <a:pt x="99462" y="73475"/>
                  </a:cubicBezTo>
                  <a:cubicBezTo>
                    <a:pt x="99589" y="73094"/>
                    <a:pt x="99843" y="72713"/>
                    <a:pt x="100097" y="72395"/>
                  </a:cubicBezTo>
                  <a:lnTo>
                    <a:pt x="105939" y="65728"/>
                  </a:lnTo>
                  <a:cubicBezTo>
                    <a:pt x="107209" y="64267"/>
                    <a:pt x="109431" y="64077"/>
                    <a:pt x="110892" y="65410"/>
                  </a:cubicBezTo>
                  <a:cubicBezTo>
                    <a:pt x="111718" y="66109"/>
                    <a:pt x="112098" y="67062"/>
                    <a:pt x="112098" y="68078"/>
                  </a:cubicBezTo>
                  <a:cubicBezTo>
                    <a:pt x="112098" y="68903"/>
                    <a:pt x="111844" y="69728"/>
                    <a:pt x="111209" y="70363"/>
                  </a:cubicBezTo>
                  <a:lnTo>
                    <a:pt x="105430" y="77031"/>
                  </a:lnTo>
                  <a:close/>
                </a:path>
              </a:pathLst>
            </a:custGeom>
            <a:solidFill>
              <a:srgbClr val="f8a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31" name="Freeform 320"/>
            <p:cNvSpPr/>
            <p:nvPr/>
          </p:nvSpPr>
          <p:spPr>
            <a:xfrm>
              <a:off x="9598680" y="3164040"/>
              <a:ext cx="12600" cy="13680"/>
            </a:xfrm>
            <a:custGeom>
              <a:avLst/>
              <a:gdLst/>
              <a:ahLst/>
              <a:rect l="l" t="t" r="r" b="b"/>
              <a:pathLst>
                <a:path w="12892" h="13733">
                  <a:moveTo>
                    <a:pt x="12893" y="3501"/>
                  </a:moveTo>
                  <a:cubicBezTo>
                    <a:pt x="12893" y="4327"/>
                    <a:pt x="12639" y="5152"/>
                    <a:pt x="12004" y="5787"/>
                  </a:cubicBezTo>
                  <a:lnTo>
                    <a:pt x="6162" y="12518"/>
                  </a:lnTo>
                  <a:cubicBezTo>
                    <a:pt x="4892" y="13979"/>
                    <a:pt x="2669" y="14169"/>
                    <a:pt x="1209" y="12836"/>
                  </a:cubicBezTo>
                  <a:cubicBezTo>
                    <a:pt x="66" y="11883"/>
                    <a:pt x="-251" y="10296"/>
                    <a:pt x="193" y="8962"/>
                  </a:cubicBezTo>
                  <a:cubicBezTo>
                    <a:pt x="320" y="8581"/>
                    <a:pt x="574" y="8200"/>
                    <a:pt x="828" y="7883"/>
                  </a:cubicBezTo>
                  <a:lnTo>
                    <a:pt x="6670" y="1215"/>
                  </a:lnTo>
                  <a:cubicBezTo>
                    <a:pt x="7940" y="-245"/>
                    <a:pt x="10163" y="-436"/>
                    <a:pt x="11623" y="898"/>
                  </a:cubicBezTo>
                  <a:cubicBezTo>
                    <a:pt x="12512" y="1533"/>
                    <a:pt x="12893" y="2549"/>
                    <a:pt x="12893" y="3501"/>
                  </a:cubicBezTo>
                  <a:close/>
                </a:path>
              </a:pathLst>
            </a:custGeom>
            <a:solidFill>
              <a:srgbClr val="2527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32" name="Freeform 321"/>
            <p:cNvSpPr/>
            <p:nvPr/>
          </p:nvSpPr>
          <p:spPr>
            <a:xfrm>
              <a:off x="9563760" y="3142080"/>
              <a:ext cx="12960" cy="13320"/>
            </a:xfrm>
            <a:custGeom>
              <a:avLst/>
              <a:gdLst/>
              <a:ahLst/>
              <a:rect l="l" t="t" r="r" b="b"/>
              <a:pathLst>
                <a:path w="13303" h="13343">
                  <a:moveTo>
                    <a:pt x="13303" y="3524"/>
                  </a:moveTo>
                  <a:cubicBezTo>
                    <a:pt x="13303" y="4413"/>
                    <a:pt x="12986" y="5302"/>
                    <a:pt x="12287" y="6001"/>
                  </a:cubicBezTo>
                  <a:lnTo>
                    <a:pt x="6064" y="12287"/>
                  </a:lnTo>
                  <a:cubicBezTo>
                    <a:pt x="4668" y="13684"/>
                    <a:pt x="2444" y="13684"/>
                    <a:pt x="1048" y="12351"/>
                  </a:cubicBezTo>
                  <a:cubicBezTo>
                    <a:pt x="-349" y="10954"/>
                    <a:pt x="-349" y="8731"/>
                    <a:pt x="1048" y="7334"/>
                  </a:cubicBezTo>
                  <a:lnTo>
                    <a:pt x="7270" y="1048"/>
                  </a:lnTo>
                  <a:cubicBezTo>
                    <a:pt x="8605" y="-349"/>
                    <a:pt x="10890" y="-349"/>
                    <a:pt x="12224" y="1048"/>
                  </a:cubicBezTo>
                  <a:cubicBezTo>
                    <a:pt x="12922" y="1683"/>
                    <a:pt x="13303" y="2635"/>
                    <a:pt x="13303" y="3524"/>
                  </a:cubicBezTo>
                  <a:close/>
                </a:path>
              </a:pathLst>
            </a:custGeom>
            <a:solidFill>
              <a:srgbClr val="2527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33" name="Freeform 322"/>
            <p:cNvSpPr/>
            <p:nvPr/>
          </p:nvSpPr>
          <p:spPr>
            <a:xfrm>
              <a:off x="9489240" y="3183480"/>
              <a:ext cx="51120" cy="51840"/>
            </a:xfrm>
            <a:custGeom>
              <a:avLst/>
              <a:gdLst/>
              <a:ahLst/>
              <a:rect l="l" t="t" r="r" b="b"/>
              <a:pathLst>
                <a:path w="51244" h="52133">
                  <a:moveTo>
                    <a:pt x="-14292" y="-32135"/>
                  </a:moveTo>
                  <a:lnTo>
                    <a:pt x="-28389" y="-13403"/>
                  </a:lnTo>
                  <a:cubicBezTo>
                    <a:pt x="9461" y="-31691"/>
                    <a:pt x="0" y="16764"/>
                    <a:pt x="0" y="16764"/>
                  </a:cubicBezTo>
                  <a:lnTo>
                    <a:pt x="12891" y="317"/>
                  </a:lnTo>
                  <a:lnTo>
                    <a:pt x="20638" y="0"/>
                  </a:lnTo>
                  <a:cubicBezTo>
                    <a:pt x="20638" y="0"/>
                    <a:pt x="25718" y="18415"/>
                    <a:pt x="-25404" y="30353"/>
                  </a:cubicBezTo>
                  <a:cubicBezTo>
                    <a:pt x="-20388" y="32512"/>
                    <a:pt x="-16387" y="-32326"/>
                    <a:pt x="-14292" y="-32135"/>
                  </a:cubicBezTo>
                  <a:close/>
                </a:path>
              </a:pathLst>
            </a:custGeom>
            <a:solidFill>
              <a:srgbClr val="f8a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34" name="Freeform 323"/>
            <p:cNvSpPr/>
            <p:nvPr/>
          </p:nvSpPr>
          <p:spPr>
            <a:xfrm>
              <a:off x="9510120" y="3121200"/>
              <a:ext cx="76680" cy="95400"/>
            </a:xfrm>
            <a:custGeom>
              <a:avLst/>
              <a:gdLst/>
              <a:ahLst/>
              <a:rect l="l" t="t" r="r" b="b"/>
              <a:pathLst>
                <a:path w="76961" h="95636">
                  <a:moveTo>
                    <a:pt x="60261" y="72835"/>
                  </a:moveTo>
                  <a:cubicBezTo>
                    <a:pt x="57594" y="70930"/>
                    <a:pt x="54801" y="68834"/>
                    <a:pt x="51943" y="66612"/>
                  </a:cubicBezTo>
                  <a:cubicBezTo>
                    <a:pt x="43307" y="60008"/>
                    <a:pt x="34163" y="52197"/>
                    <a:pt x="27686" y="44577"/>
                  </a:cubicBezTo>
                  <a:lnTo>
                    <a:pt x="27686" y="44577"/>
                  </a:lnTo>
                  <a:lnTo>
                    <a:pt x="26988" y="445"/>
                  </a:lnTo>
                  <a:lnTo>
                    <a:pt x="25464" y="0"/>
                  </a:lnTo>
                  <a:lnTo>
                    <a:pt x="26098" y="45593"/>
                  </a:lnTo>
                  <a:lnTo>
                    <a:pt x="1778" y="60833"/>
                  </a:lnTo>
                  <a:lnTo>
                    <a:pt x="7112" y="18923"/>
                  </a:lnTo>
                  <a:lnTo>
                    <a:pt x="5207" y="20955"/>
                  </a:lnTo>
                  <a:lnTo>
                    <a:pt x="0" y="61976"/>
                  </a:lnTo>
                  <a:lnTo>
                    <a:pt x="0" y="61976"/>
                  </a:lnTo>
                  <a:cubicBezTo>
                    <a:pt x="0" y="61976"/>
                    <a:pt x="0" y="61976"/>
                    <a:pt x="0" y="62040"/>
                  </a:cubicBezTo>
                  <a:lnTo>
                    <a:pt x="0" y="62167"/>
                  </a:lnTo>
                  <a:lnTo>
                    <a:pt x="64" y="62167"/>
                  </a:lnTo>
                  <a:cubicBezTo>
                    <a:pt x="508" y="63818"/>
                    <a:pt x="5779" y="81026"/>
                    <a:pt x="19494" y="92393"/>
                  </a:cubicBezTo>
                  <a:cubicBezTo>
                    <a:pt x="24574" y="94552"/>
                    <a:pt x="28575" y="95250"/>
                    <a:pt x="30670" y="95504"/>
                  </a:cubicBezTo>
                  <a:cubicBezTo>
                    <a:pt x="31623" y="95631"/>
                    <a:pt x="32131" y="95631"/>
                    <a:pt x="32131" y="95631"/>
                  </a:cubicBezTo>
                  <a:cubicBezTo>
                    <a:pt x="50419" y="95821"/>
                    <a:pt x="65151" y="91249"/>
                    <a:pt x="76962" y="84074"/>
                  </a:cubicBezTo>
                  <a:cubicBezTo>
                    <a:pt x="76835" y="84011"/>
                    <a:pt x="69659" y="79565"/>
                    <a:pt x="60261" y="7283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35" name="Freeform 324"/>
            <p:cNvSpPr/>
            <p:nvPr/>
          </p:nvSpPr>
          <p:spPr>
            <a:xfrm>
              <a:off x="9570240" y="3157920"/>
              <a:ext cx="26640" cy="31680"/>
            </a:xfrm>
            <a:custGeom>
              <a:avLst/>
              <a:gdLst/>
              <a:ahLst/>
              <a:rect l="l" t="t" r="r" b="b"/>
              <a:pathLst>
                <a:path w="26733" h="31940">
                  <a:moveTo>
                    <a:pt x="26733" y="0"/>
                  </a:moveTo>
                  <a:lnTo>
                    <a:pt x="21907" y="12636"/>
                  </a:lnTo>
                  <a:lnTo>
                    <a:pt x="14478" y="31940"/>
                  </a:lnTo>
                  <a:lnTo>
                    <a:pt x="2794" y="28004"/>
                  </a:lnTo>
                  <a:lnTo>
                    <a:pt x="0" y="27051"/>
                  </a:lnTo>
                  <a:lnTo>
                    <a:pt x="26733" y="0"/>
                  </a:lnTo>
                  <a:close/>
                </a:path>
              </a:pathLst>
            </a:custGeom>
            <a:solidFill>
              <a:srgbClr val="d16b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36" name="Freeform 325"/>
            <p:cNvSpPr/>
            <p:nvPr/>
          </p:nvSpPr>
          <p:spPr>
            <a:xfrm>
              <a:off x="9461880" y="3193560"/>
              <a:ext cx="64440" cy="59760"/>
            </a:xfrm>
            <a:custGeom>
              <a:avLst/>
              <a:gdLst/>
              <a:ahLst/>
              <a:rect l="l" t="t" r="r" b="b"/>
              <a:pathLst>
                <a:path w="64515" h="60007">
                  <a:moveTo>
                    <a:pt x="-1021" y="-23562"/>
                  </a:moveTo>
                  <a:lnTo>
                    <a:pt x="-5783" y="-5528"/>
                  </a:lnTo>
                  <a:cubicBezTo>
                    <a:pt x="17970" y="-26420"/>
                    <a:pt x="0" y="5525"/>
                    <a:pt x="0" y="5525"/>
                  </a:cubicBezTo>
                  <a:lnTo>
                    <a:pt x="20891" y="0"/>
                  </a:lnTo>
                  <a:lnTo>
                    <a:pt x="27368" y="6604"/>
                  </a:lnTo>
                  <a:cubicBezTo>
                    <a:pt x="27368" y="6604"/>
                    <a:pt x="-28706" y="23686"/>
                    <a:pt x="-1021" y="-23562"/>
                  </a:cubicBezTo>
                  <a:close/>
                </a:path>
              </a:pathLst>
            </a:custGeom>
            <a:solidFill>
              <a:srgbClr val="8fd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37" name="Freeform 326"/>
            <p:cNvSpPr/>
            <p:nvPr/>
          </p:nvSpPr>
          <p:spPr>
            <a:xfrm>
              <a:off x="9184320" y="3198960"/>
              <a:ext cx="337320" cy="381240"/>
            </a:xfrm>
            <a:custGeom>
              <a:avLst/>
              <a:gdLst/>
              <a:ahLst/>
              <a:rect l="l" t="t" r="r" b="b"/>
              <a:pathLst>
                <a:path w="337274" h="381380">
                  <a:moveTo>
                    <a:pt x="277648" y="0"/>
                  </a:moveTo>
                  <a:cubicBezTo>
                    <a:pt x="277648" y="0"/>
                    <a:pt x="159030" y="30035"/>
                    <a:pt x="74511" y="177355"/>
                  </a:cubicBezTo>
                  <a:cubicBezTo>
                    <a:pt x="-10007" y="324675"/>
                    <a:pt x="407" y="372618"/>
                    <a:pt x="407" y="372618"/>
                  </a:cubicBezTo>
                  <a:cubicBezTo>
                    <a:pt x="407" y="372618"/>
                    <a:pt x="23140" y="369252"/>
                    <a:pt x="56033" y="365760"/>
                  </a:cubicBezTo>
                  <a:cubicBezTo>
                    <a:pt x="132424" y="357632"/>
                    <a:pt x="263487" y="349059"/>
                    <a:pt x="291491" y="381381"/>
                  </a:cubicBezTo>
                  <a:cubicBezTo>
                    <a:pt x="291491" y="381381"/>
                    <a:pt x="292634" y="288734"/>
                    <a:pt x="311557" y="174561"/>
                  </a:cubicBezTo>
                  <a:cubicBezTo>
                    <a:pt x="245961" y="134429"/>
                    <a:pt x="235230" y="60896"/>
                    <a:pt x="259233" y="51498"/>
                  </a:cubicBezTo>
                  <a:cubicBezTo>
                    <a:pt x="259233" y="51498"/>
                    <a:pt x="292571" y="34163"/>
                    <a:pt x="317716" y="65849"/>
                  </a:cubicBezTo>
                  <a:cubicBezTo>
                    <a:pt x="321653" y="70802"/>
                    <a:pt x="325845" y="76136"/>
                    <a:pt x="330353" y="81597"/>
                  </a:cubicBezTo>
                  <a:cubicBezTo>
                    <a:pt x="332067" y="74613"/>
                    <a:pt x="333846" y="67564"/>
                    <a:pt x="335687" y="60579"/>
                  </a:cubicBezTo>
                  <a:cubicBezTo>
                    <a:pt x="336195" y="58610"/>
                    <a:pt x="336766" y="56578"/>
                    <a:pt x="337274" y="54610"/>
                  </a:cubicBezTo>
                  <a:cubicBezTo>
                    <a:pt x="295619" y="33655"/>
                    <a:pt x="277648" y="0"/>
                    <a:pt x="277648" y="0"/>
                  </a:cubicBezTo>
                  <a:close/>
                  <a:moveTo>
                    <a:pt x="277711" y="243332"/>
                  </a:moveTo>
                  <a:lnTo>
                    <a:pt x="273266" y="260985"/>
                  </a:lnTo>
                  <a:lnTo>
                    <a:pt x="262599" y="308673"/>
                  </a:lnTo>
                  <a:cubicBezTo>
                    <a:pt x="261456" y="313119"/>
                    <a:pt x="258344" y="316801"/>
                    <a:pt x="254153" y="318643"/>
                  </a:cubicBezTo>
                  <a:cubicBezTo>
                    <a:pt x="248946" y="320866"/>
                    <a:pt x="243422" y="321945"/>
                    <a:pt x="237961" y="321945"/>
                  </a:cubicBezTo>
                  <a:cubicBezTo>
                    <a:pt x="228309" y="321945"/>
                    <a:pt x="218720" y="318516"/>
                    <a:pt x="211100" y="311975"/>
                  </a:cubicBezTo>
                  <a:lnTo>
                    <a:pt x="208370" y="309626"/>
                  </a:lnTo>
                  <a:cubicBezTo>
                    <a:pt x="204623" y="306388"/>
                    <a:pt x="202782" y="301498"/>
                    <a:pt x="203416" y="296608"/>
                  </a:cubicBezTo>
                  <a:lnTo>
                    <a:pt x="209004" y="248221"/>
                  </a:lnTo>
                  <a:lnTo>
                    <a:pt x="211481" y="228981"/>
                  </a:lnTo>
                  <a:cubicBezTo>
                    <a:pt x="259106" y="221678"/>
                    <a:pt x="277711" y="243332"/>
                    <a:pt x="277711" y="2433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38" name="Freeform 327"/>
            <p:cNvSpPr/>
            <p:nvPr/>
          </p:nvSpPr>
          <p:spPr>
            <a:xfrm>
              <a:off x="9571680" y="3268800"/>
              <a:ext cx="166680" cy="141120"/>
            </a:xfrm>
            <a:custGeom>
              <a:avLst/>
              <a:gdLst/>
              <a:ahLst/>
              <a:rect l="l" t="t" r="r" b="b"/>
              <a:pathLst>
                <a:path w="166878" h="141270">
                  <a:moveTo>
                    <a:pt x="166878" y="0"/>
                  </a:moveTo>
                  <a:cubicBezTo>
                    <a:pt x="101791" y="161163"/>
                    <a:pt x="6414" y="140398"/>
                    <a:pt x="6414" y="140398"/>
                  </a:cubicBezTo>
                  <a:cubicBezTo>
                    <a:pt x="5652" y="136017"/>
                    <a:pt x="4826" y="131508"/>
                    <a:pt x="4064" y="126873"/>
                  </a:cubicBezTo>
                  <a:cubicBezTo>
                    <a:pt x="2731" y="119063"/>
                    <a:pt x="1397" y="110998"/>
                    <a:pt x="0" y="102616"/>
                  </a:cubicBezTo>
                  <a:lnTo>
                    <a:pt x="144717" y="0"/>
                  </a:lnTo>
                  <a:lnTo>
                    <a:pt x="166878" y="0"/>
                  </a:ln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39" name="Freeform 328"/>
            <p:cNvSpPr/>
            <p:nvPr/>
          </p:nvSpPr>
          <p:spPr>
            <a:xfrm>
              <a:off x="9431640" y="3245760"/>
              <a:ext cx="284400" cy="150120"/>
            </a:xfrm>
            <a:custGeom>
              <a:avLst/>
              <a:gdLst/>
              <a:ahLst/>
              <a:rect l="l" t="t" r="r" b="b"/>
              <a:pathLst>
                <a:path w="284637" h="150331">
                  <a:moveTo>
                    <a:pt x="284637" y="48928"/>
                  </a:moveTo>
                  <a:cubicBezTo>
                    <a:pt x="284637" y="48928"/>
                    <a:pt x="226598" y="144687"/>
                    <a:pt x="143985" y="150084"/>
                  </a:cubicBezTo>
                  <a:cubicBezTo>
                    <a:pt x="131793" y="150909"/>
                    <a:pt x="119030" y="149703"/>
                    <a:pt x="105885" y="145956"/>
                  </a:cubicBezTo>
                  <a:cubicBezTo>
                    <a:pt x="90010" y="141448"/>
                    <a:pt x="76104" y="135162"/>
                    <a:pt x="64038" y="127796"/>
                  </a:cubicBezTo>
                  <a:cubicBezTo>
                    <a:pt x="-1558" y="87663"/>
                    <a:pt x="-12289" y="14131"/>
                    <a:pt x="11715" y="4733"/>
                  </a:cubicBezTo>
                  <a:cubicBezTo>
                    <a:pt x="11715" y="4733"/>
                    <a:pt x="45052" y="-12603"/>
                    <a:pt x="70198" y="19084"/>
                  </a:cubicBezTo>
                  <a:cubicBezTo>
                    <a:pt x="74135" y="24037"/>
                    <a:pt x="78326" y="29371"/>
                    <a:pt x="82834" y="34831"/>
                  </a:cubicBezTo>
                  <a:cubicBezTo>
                    <a:pt x="96678" y="51596"/>
                    <a:pt x="113315" y="69312"/>
                    <a:pt x="132745" y="78900"/>
                  </a:cubicBezTo>
                  <a:cubicBezTo>
                    <a:pt x="147541" y="86203"/>
                    <a:pt x="163924" y="88743"/>
                    <a:pt x="181958" y="82520"/>
                  </a:cubicBezTo>
                  <a:cubicBezTo>
                    <a:pt x="231297" y="65502"/>
                    <a:pt x="254538" y="26958"/>
                    <a:pt x="254538" y="26958"/>
                  </a:cubicBezTo>
                  <a:lnTo>
                    <a:pt x="258539" y="29878"/>
                  </a:lnTo>
                  <a:lnTo>
                    <a:pt x="258539" y="29878"/>
                  </a:lnTo>
                  <a:lnTo>
                    <a:pt x="284637" y="489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40" name="Freeform 329"/>
            <p:cNvSpPr/>
            <p:nvPr/>
          </p:nvSpPr>
          <p:spPr>
            <a:xfrm>
              <a:off x="9514800" y="3259440"/>
              <a:ext cx="49680" cy="64800"/>
            </a:xfrm>
            <a:custGeom>
              <a:avLst/>
              <a:gdLst/>
              <a:ahLst/>
              <a:rect l="l" t="t" r="r" b="b"/>
              <a:pathLst>
                <a:path w="49910" h="65087">
                  <a:moveTo>
                    <a:pt x="-15625" y="-448"/>
                  </a:moveTo>
                  <a:cubicBezTo>
                    <a:pt x="30480" y="-9973"/>
                    <a:pt x="13843" y="-27690"/>
                    <a:pt x="0" y="21018"/>
                  </a:cubicBezTo>
                  <a:cubicBezTo>
                    <a:pt x="1715" y="14033"/>
                    <a:pt x="3493" y="6985"/>
                    <a:pt x="5334" y="0"/>
                  </a:cubicBezTo>
                  <a:lnTo>
                    <a:pt x="5334" y="0"/>
                  </a:lnTo>
                  <a:cubicBezTo>
                    <a:pt x="5334" y="0"/>
                    <a:pt x="-31182" y="22670"/>
                    <a:pt x="-21340" y="21145"/>
                  </a:cubicBezTo>
                  <a:cubicBezTo>
                    <a:pt x="-19562" y="-29595"/>
                    <a:pt x="-17657" y="-14863"/>
                    <a:pt x="-15625" y="-448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41" name="Freeform 330"/>
            <p:cNvSpPr/>
            <p:nvPr/>
          </p:nvSpPr>
          <p:spPr>
            <a:xfrm>
              <a:off x="9690480" y="3264840"/>
              <a:ext cx="33840" cy="29520"/>
            </a:xfrm>
            <a:custGeom>
              <a:avLst/>
              <a:gdLst/>
              <a:ahLst/>
              <a:rect l="l" t="t" r="r" b="b"/>
              <a:pathLst>
                <a:path w="33972" h="29781">
                  <a:moveTo>
                    <a:pt x="-31564" y="18352"/>
                  </a:moveTo>
                  <a:lnTo>
                    <a:pt x="26035" y="29782"/>
                  </a:lnTo>
                  <a:lnTo>
                    <a:pt x="0" y="10795"/>
                  </a:lnTo>
                  <a:lnTo>
                    <a:pt x="0" y="10795"/>
                  </a:lnTo>
                  <a:lnTo>
                    <a:pt x="6286" y="0"/>
                  </a:lnTo>
                  <a:cubicBezTo>
                    <a:pt x="6350" y="190"/>
                    <a:pt x="20701" y="16510"/>
                    <a:pt x="-31564" y="18352"/>
                  </a:cubicBezTo>
                  <a:lnTo>
                    <a:pt x="-31564" y="18352"/>
                  </a:lnTo>
                  <a:close/>
                </a:path>
              </a:pathLst>
            </a:custGeom>
            <a:solidFill>
              <a:srgbClr val="f8a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42" name="Freeform 331"/>
            <p:cNvSpPr/>
            <p:nvPr/>
          </p:nvSpPr>
          <p:spPr>
            <a:xfrm>
              <a:off x="9692280" y="3171240"/>
              <a:ext cx="83520" cy="111600"/>
            </a:xfrm>
            <a:custGeom>
              <a:avLst/>
              <a:gdLst/>
              <a:ahLst/>
              <a:rect l="l" t="t" r="r" b="b"/>
              <a:pathLst>
                <a:path w="83830" h="111665">
                  <a:moveTo>
                    <a:pt x="83015" y="61056"/>
                  </a:moveTo>
                  <a:cubicBezTo>
                    <a:pt x="76982" y="79662"/>
                    <a:pt x="51582" y="98140"/>
                    <a:pt x="40914" y="98712"/>
                  </a:cubicBezTo>
                  <a:lnTo>
                    <a:pt x="31960" y="111666"/>
                  </a:lnTo>
                  <a:lnTo>
                    <a:pt x="31960" y="111666"/>
                  </a:lnTo>
                  <a:cubicBezTo>
                    <a:pt x="18689" y="109824"/>
                    <a:pt x="4338" y="93505"/>
                    <a:pt x="4338" y="93378"/>
                  </a:cubicBezTo>
                  <a:lnTo>
                    <a:pt x="8338" y="86520"/>
                  </a:lnTo>
                  <a:cubicBezTo>
                    <a:pt x="8338" y="86520"/>
                    <a:pt x="-2901" y="57945"/>
                    <a:pt x="718" y="35402"/>
                  </a:cubicBezTo>
                  <a:cubicBezTo>
                    <a:pt x="1290" y="31973"/>
                    <a:pt x="5798" y="31148"/>
                    <a:pt x="7513" y="34196"/>
                  </a:cubicBezTo>
                  <a:lnTo>
                    <a:pt x="17482" y="61565"/>
                  </a:lnTo>
                  <a:lnTo>
                    <a:pt x="59583" y="859"/>
                  </a:lnTo>
                  <a:cubicBezTo>
                    <a:pt x="60853" y="-919"/>
                    <a:pt x="63647" y="287"/>
                    <a:pt x="63329" y="2446"/>
                  </a:cubicBezTo>
                  <a:lnTo>
                    <a:pt x="59646" y="25433"/>
                  </a:lnTo>
                  <a:cubicBezTo>
                    <a:pt x="59646" y="25433"/>
                    <a:pt x="89047" y="42451"/>
                    <a:pt x="83015" y="61056"/>
                  </a:cubicBezTo>
                  <a:close/>
                </a:path>
              </a:pathLst>
            </a:custGeom>
            <a:solidFill>
              <a:srgbClr val="8fd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43" name="Freeform 332"/>
            <p:cNvSpPr/>
            <p:nvPr/>
          </p:nvSpPr>
          <p:spPr>
            <a:xfrm>
              <a:off x="9240120" y="3557160"/>
              <a:ext cx="367560" cy="462240"/>
            </a:xfrm>
            <a:custGeom>
              <a:avLst/>
              <a:gdLst/>
              <a:ahLst/>
              <a:rect l="l" t="t" r="r" b="b"/>
              <a:pathLst>
                <a:path w="367557" h="462281">
                  <a:moveTo>
                    <a:pt x="347345" y="460994"/>
                  </a:moveTo>
                  <a:cubicBezTo>
                    <a:pt x="337756" y="463471"/>
                    <a:pt x="327469" y="462264"/>
                    <a:pt x="318326" y="458327"/>
                  </a:cubicBezTo>
                  <a:cubicBezTo>
                    <a:pt x="313182" y="456168"/>
                    <a:pt x="308356" y="453056"/>
                    <a:pt x="304292" y="449310"/>
                  </a:cubicBezTo>
                  <a:cubicBezTo>
                    <a:pt x="330708" y="386826"/>
                    <a:pt x="315023" y="312150"/>
                    <a:pt x="276923" y="256016"/>
                  </a:cubicBezTo>
                  <a:cubicBezTo>
                    <a:pt x="242951" y="205978"/>
                    <a:pt x="193484" y="168767"/>
                    <a:pt x="140526" y="139049"/>
                  </a:cubicBezTo>
                  <a:lnTo>
                    <a:pt x="140526" y="139049"/>
                  </a:lnTo>
                  <a:cubicBezTo>
                    <a:pt x="134048" y="135429"/>
                    <a:pt x="127571" y="131873"/>
                    <a:pt x="120967" y="128444"/>
                  </a:cubicBezTo>
                  <a:cubicBezTo>
                    <a:pt x="94361" y="114538"/>
                    <a:pt x="66739" y="101965"/>
                    <a:pt x="43180" y="83359"/>
                  </a:cubicBezTo>
                  <a:cubicBezTo>
                    <a:pt x="34671" y="76628"/>
                    <a:pt x="27178" y="68754"/>
                    <a:pt x="20955" y="60055"/>
                  </a:cubicBezTo>
                  <a:cubicBezTo>
                    <a:pt x="9906" y="44624"/>
                    <a:pt x="2667" y="26463"/>
                    <a:pt x="0" y="7477"/>
                  </a:cubicBezTo>
                  <a:cubicBezTo>
                    <a:pt x="76391" y="-651"/>
                    <a:pt x="207454" y="-9224"/>
                    <a:pt x="235458" y="23098"/>
                  </a:cubicBezTo>
                  <a:cubicBezTo>
                    <a:pt x="235521" y="23098"/>
                    <a:pt x="280226" y="73898"/>
                    <a:pt x="298831" y="106727"/>
                  </a:cubicBezTo>
                  <a:cubicBezTo>
                    <a:pt x="314325" y="134032"/>
                    <a:pt x="326771" y="162988"/>
                    <a:pt x="337376" y="192579"/>
                  </a:cubicBezTo>
                  <a:cubicBezTo>
                    <a:pt x="352678" y="235188"/>
                    <a:pt x="364109" y="279574"/>
                    <a:pt x="366713" y="324786"/>
                  </a:cubicBezTo>
                  <a:cubicBezTo>
                    <a:pt x="369379" y="369998"/>
                    <a:pt x="366458" y="419909"/>
                    <a:pt x="347345" y="460994"/>
                  </a:cubicBezTo>
                  <a:close/>
                </a:path>
              </a:pathLst>
            </a:custGeom>
            <a:solidFill>
              <a:srgbClr val="8fd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44" name="Freeform 333"/>
            <p:cNvSpPr/>
            <p:nvPr/>
          </p:nvSpPr>
          <p:spPr>
            <a:xfrm>
              <a:off x="9107640" y="3617280"/>
              <a:ext cx="272880" cy="365760"/>
            </a:xfrm>
            <a:custGeom>
              <a:avLst/>
              <a:gdLst/>
              <a:ahLst/>
              <a:rect l="l" t="t" r="r" b="b"/>
              <a:pathLst>
                <a:path w="272986" h="365823">
                  <a:moveTo>
                    <a:pt x="272986" y="78994"/>
                  </a:moveTo>
                  <a:lnTo>
                    <a:pt x="272986" y="78994"/>
                  </a:lnTo>
                  <a:cubicBezTo>
                    <a:pt x="239204" y="224218"/>
                    <a:pt x="26479" y="365823"/>
                    <a:pt x="26479" y="365823"/>
                  </a:cubicBezTo>
                  <a:cubicBezTo>
                    <a:pt x="23813" y="364808"/>
                    <a:pt x="21145" y="363157"/>
                    <a:pt x="18542" y="361124"/>
                  </a:cubicBezTo>
                  <a:cubicBezTo>
                    <a:pt x="8636" y="353441"/>
                    <a:pt x="0" y="340741"/>
                    <a:pt x="0" y="340741"/>
                  </a:cubicBezTo>
                  <a:cubicBezTo>
                    <a:pt x="151702" y="161671"/>
                    <a:pt x="153352" y="0"/>
                    <a:pt x="153352" y="0"/>
                  </a:cubicBezTo>
                  <a:cubicBezTo>
                    <a:pt x="159576" y="8763"/>
                    <a:pt x="167068" y="16637"/>
                    <a:pt x="175577" y="23305"/>
                  </a:cubicBezTo>
                  <a:cubicBezTo>
                    <a:pt x="199199" y="41846"/>
                    <a:pt x="226758" y="54483"/>
                    <a:pt x="253364" y="68389"/>
                  </a:cubicBezTo>
                  <a:cubicBezTo>
                    <a:pt x="259969" y="71882"/>
                    <a:pt x="266509" y="75374"/>
                    <a:pt x="272986" y="78994"/>
                  </a:cubicBezTo>
                  <a:close/>
                </a:path>
              </a:pathLst>
            </a:custGeom>
            <a:solidFill>
              <a:srgbClr val="50b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45" name="Freeform 334"/>
            <p:cNvSpPr/>
            <p:nvPr/>
          </p:nvSpPr>
          <p:spPr>
            <a:xfrm>
              <a:off x="9556920" y="4015440"/>
              <a:ext cx="30600" cy="24480"/>
            </a:xfrm>
            <a:custGeom>
              <a:avLst/>
              <a:gdLst/>
              <a:ahLst/>
              <a:rect l="l" t="t" r="r" b="b"/>
              <a:pathLst>
                <a:path w="30670" h="24797">
                  <a:moveTo>
                    <a:pt x="30670" y="2730"/>
                  </a:moveTo>
                  <a:lnTo>
                    <a:pt x="22860" y="24257"/>
                  </a:lnTo>
                  <a:cubicBezTo>
                    <a:pt x="22860" y="24257"/>
                    <a:pt x="5207" y="26860"/>
                    <a:pt x="0" y="20638"/>
                  </a:cubicBezTo>
                  <a:lnTo>
                    <a:pt x="1715" y="0"/>
                  </a:lnTo>
                  <a:cubicBezTo>
                    <a:pt x="10795" y="4001"/>
                    <a:pt x="21145" y="5207"/>
                    <a:pt x="30670" y="27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46" name="Freeform 335"/>
            <p:cNvSpPr/>
            <p:nvPr/>
          </p:nvSpPr>
          <p:spPr>
            <a:xfrm>
              <a:off x="9533520" y="4036320"/>
              <a:ext cx="119520" cy="44280"/>
            </a:xfrm>
            <a:custGeom>
              <a:avLst/>
              <a:gdLst/>
              <a:ahLst/>
              <a:rect l="l" t="t" r="r" b="b"/>
              <a:pathLst>
                <a:path w="119646" h="44468">
                  <a:moveTo>
                    <a:pt x="119647" y="28766"/>
                  </a:moveTo>
                  <a:lnTo>
                    <a:pt x="119647" y="39878"/>
                  </a:lnTo>
                  <a:cubicBezTo>
                    <a:pt x="96787" y="48070"/>
                    <a:pt x="33350" y="42799"/>
                    <a:pt x="33350" y="42799"/>
                  </a:cubicBezTo>
                  <a:lnTo>
                    <a:pt x="28461" y="32322"/>
                  </a:lnTo>
                  <a:lnTo>
                    <a:pt x="20968" y="42799"/>
                  </a:lnTo>
                  <a:lnTo>
                    <a:pt x="12" y="42799"/>
                  </a:lnTo>
                  <a:cubicBezTo>
                    <a:pt x="-623" y="7811"/>
                    <a:pt x="23571" y="0"/>
                    <a:pt x="23571" y="0"/>
                  </a:cubicBezTo>
                  <a:cubicBezTo>
                    <a:pt x="28778" y="6223"/>
                    <a:pt x="46431" y="3620"/>
                    <a:pt x="46431" y="3620"/>
                  </a:cubicBezTo>
                  <a:cubicBezTo>
                    <a:pt x="57544" y="14034"/>
                    <a:pt x="119647" y="28766"/>
                    <a:pt x="119647" y="28766"/>
                  </a:cubicBez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47" name="Freeform 336"/>
            <p:cNvSpPr/>
            <p:nvPr/>
          </p:nvSpPr>
          <p:spPr>
            <a:xfrm>
              <a:off x="9088920" y="3957840"/>
              <a:ext cx="37440" cy="36000"/>
            </a:xfrm>
            <a:custGeom>
              <a:avLst/>
              <a:gdLst/>
              <a:ahLst/>
              <a:rect l="l" t="t" r="r" b="b"/>
              <a:pathLst>
                <a:path w="37465" h="36068">
                  <a:moveTo>
                    <a:pt x="-28071" y="20447"/>
                  </a:moveTo>
                  <a:lnTo>
                    <a:pt x="19241" y="-29468"/>
                  </a:lnTo>
                  <a:cubicBezTo>
                    <a:pt x="636" y="31813"/>
                    <a:pt x="0" y="16129"/>
                    <a:pt x="0" y="16129"/>
                  </a:cubicBezTo>
                  <a:lnTo>
                    <a:pt x="18987" y="0"/>
                  </a:lnTo>
                  <a:cubicBezTo>
                    <a:pt x="18987" y="64"/>
                    <a:pt x="27560" y="12764"/>
                    <a:pt x="-28071" y="2044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48" name="Freeform 337"/>
            <p:cNvSpPr/>
            <p:nvPr/>
          </p:nvSpPr>
          <p:spPr>
            <a:xfrm>
              <a:off x="9048600" y="3971160"/>
              <a:ext cx="117360" cy="83520"/>
            </a:xfrm>
            <a:custGeom>
              <a:avLst/>
              <a:gdLst/>
              <a:ahLst/>
              <a:rect l="l" t="t" r="r" b="b"/>
              <a:pathLst>
                <a:path w="117347" h="83878">
                  <a:moveTo>
                    <a:pt x="117348" y="83879"/>
                  </a:moveTo>
                  <a:lnTo>
                    <a:pt x="63119" y="83879"/>
                  </a:lnTo>
                  <a:lnTo>
                    <a:pt x="29146" y="51875"/>
                  </a:lnTo>
                  <a:lnTo>
                    <a:pt x="36005" y="35873"/>
                  </a:lnTo>
                  <a:lnTo>
                    <a:pt x="14415" y="33269"/>
                  </a:lnTo>
                  <a:lnTo>
                    <a:pt x="0" y="14283"/>
                  </a:lnTo>
                  <a:cubicBezTo>
                    <a:pt x="0" y="14283"/>
                    <a:pt x="29401" y="-7752"/>
                    <a:pt x="40195" y="2916"/>
                  </a:cubicBezTo>
                  <a:cubicBezTo>
                    <a:pt x="40195" y="2916"/>
                    <a:pt x="40831" y="18601"/>
                    <a:pt x="59436" y="22855"/>
                  </a:cubicBezTo>
                  <a:lnTo>
                    <a:pt x="82042" y="67559"/>
                  </a:lnTo>
                  <a:lnTo>
                    <a:pt x="111443" y="67559"/>
                  </a:lnTo>
                  <a:lnTo>
                    <a:pt x="117348" y="83879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49" name="Freeform 338"/>
            <p:cNvSpPr/>
            <p:nvPr/>
          </p:nvSpPr>
          <p:spPr>
            <a:xfrm>
              <a:off x="9393120" y="3426480"/>
              <a:ext cx="68400" cy="33120"/>
            </a:xfrm>
            <a:custGeom>
              <a:avLst/>
              <a:gdLst/>
              <a:ahLst/>
              <a:rect l="l" t="t" r="r" b="b"/>
              <a:pathLst>
                <a:path w="68706" h="33468">
                  <a:moveTo>
                    <a:pt x="68707" y="15816"/>
                  </a:moveTo>
                  <a:lnTo>
                    <a:pt x="64262" y="33469"/>
                  </a:lnTo>
                  <a:cubicBezTo>
                    <a:pt x="35878" y="15752"/>
                    <a:pt x="11303" y="18165"/>
                    <a:pt x="0" y="20769"/>
                  </a:cubicBezTo>
                  <a:lnTo>
                    <a:pt x="2477" y="1528"/>
                  </a:lnTo>
                  <a:cubicBezTo>
                    <a:pt x="50102" y="-5838"/>
                    <a:pt x="68707" y="15816"/>
                    <a:pt x="68707" y="15816"/>
                  </a:cubicBezTo>
                  <a:close/>
                </a:path>
              </a:pathLst>
            </a:custGeom>
            <a:solidFill>
              <a:srgbClr val="e2e3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50" name="Freeform 339"/>
            <p:cNvSpPr/>
            <p:nvPr/>
          </p:nvSpPr>
          <p:spPr>
            <a:xfrm>
              <a:off x="9387720" y="3445560"/>
              <a:ext cx="69840" cy="75240"/>
            </a:xfrm>
            <a:custGeom>
              <a:avLst/>
              <a:gdLst/>
              <a:ahLst/>
              <a:rect l="l" t="t" r="r" b="b"/>
              <a:pathLst>
                <a:path w="69973" h="75514">
                  <a:moveTo>
                    <a:pt x="69973" y="14554"/>
                  </a:moveTo>
                  <a:lnTo>
                    <a:pt x="59306" y="62243"/>
                  </a:lnTo>
                  <a:cubicBezTo>
                    <a:pt x="58162" y="66688"/>
                    <a:pt x="55051" y="70371"/>
                    <a:pt x="50860" y="72212"/>
                  </a:cubicBezTo>
                  <a:cubicBezTo>
                    <a:pt x="45653" y="74435"/>
                    <a:pt x="40129" y="75514"/>
                    <a:pt x="34668" y="75514"/>
                  </a:cubicBezTo>
                  <a:cubicBezTo>
                    <a:pt x="25016" y="75514"/>
                    <a:pt x="15427" y="72085"/>
                    <a:pt x="7807" y="65545"/>
                  </a:cubicBezTo>
                  <a:lnTo>
                    <a:pt x="5076" y="63195"/>
                  </a:lnTo>
                  <a:cubicBezTo>
                    <a:pt x="1330" y="59957"/>
                    <a:pt x="-512" y="55067"/>
                    <a:pt x="123" y="50178"/>
                  </a:cubicBezTo>
                  <a:lnTo>
                    <a:pt x="5711" y="1791"/>
                  </a:lnTo>
                  <a:cubicBezTo>
                    <a:pt x="17015" y="-813"/>
                    <a:pt x="41589" y="-3162"/>
                    <a:pt x="69973" y="14554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51" name="Freeform 340"/>
            <p:cNvSpPr/>
            <p:nvPr/>
          </p:nvSpPr>
          <p:spPr>
            <a:xfrm>
              <a:off x="9745560" y="2866320"/>
              <a:ext cx="60120" cy="38520"/>
            </a:xfrm>
            <a:custGeom>
              <a:avLst/>
              <a:gdLst/>
              <a:ahLst/>
              <a:rect l="l" t="t" r="r" b="b"/>
              <a:pathLst>
                <a:path w="60197" h="38798">
                  <a:moveTo>
                    <a:pt x="-5338" y="21908"/>
                  </a:moveTo>
                  <a:lnTo>
                    <a:pt x="-5338" y="-26737"/>
                  </a:lnTo>
                  <a:lnTo>
                    <a:pt x="0" y="16891"/>
                  </a:lnTo>
                  <a:lnTo>
                    <a:pt x="0" y="0"/>
                  </a:lnTo>
                  <a:lnTo>
                    <a:pt x="-5338" y="21908"/>
                  </a:lnTo>
                  <a:close/>
                </a:path>
              </a:pathLst>
            </a:custGeom>
            <a:solidFill>
              <a:srgbClr val="9395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52" name="Freeform 341"/>
            <p:cNvSpPr/>
            <p:nvPr/>
          </p:nvSpPr>
          <p:spPr>
            <a:xfrm>
              <a:off x="9745560" y="2831040"/>
              <a:ext cx="60120" cy="38520"/>
            </a:xfrm>
            <a:custGeom>
              <a:avLst/>
              <a:gdLst/>
              <a:ahLst/>
              <a:rect l="l" t="t" r="r" b="b"/>
              <a:pathLst>
                <a:path w="60197" h="38798">
                  <a:moveTo>
                    <a:pt x="-5338" y="21907"/>
                  </a:moveTo>
                  <a:lnTo>
                    <a:pt x="-5338" y="-26738"/>
                  </a:lnTo>
                  <a:lnTo>
                    <a:pt x="0" y="16891"/>
                  </a:lnTo>
                  <a:lnTo>
                    <a:pt x="0" y="0"/>
                  </a:lnTo>
                  <a:lnTo>
                    <a:pt x="-5338" y="21907"/>
                  </a:lnTo>
                  <a:close/>
                </a:path>
              </a:pathLst>
            </a:custGeom>
            <a:solidFill>
              <a:srgbClr val="9395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53" name="Freeform 342"/>
            <p:cNvSpPr/>
            <p:nvPr/>
          </p:nvSpPr>
          <p:spPr>
            <a:xfrm>
              <a:off x="9745560" y="2796120"/>
              <a:ext cx="60120" cy="38520"/>
            </a:xfrm>
            <a:custGeom>
              <a:avLst/>
              <a:gdLst/>
              <a:ahLst/>
              <a:rect l="l" t="t" r="r" b="b"/>
              <a:pathLst>
                <a:path w="60197" h="38798">
                  <a:moveTo>
                    <a:pt x="-5338" y="21907"/>
                  </a:moveTo>
                  <a:lnTo>
                    <a:pt x="-5338" y="-26738"/>
                  </a:lnTo>
                  <a:lnTo>
                    <a:pt x="0" y="16891"/>
                  </a:lnTo>
                  <a:lnTo>
                    <a:pt x="0" y="0"/>
                  </a:lnTo>
                  <a:lnTo>
                    <a:pt x="-5338" y="21907"/>
                  </a:lnTo>
                  <a:close/>
                </a:path>
              </a:pathLst>
            </a:custGeom>
            <a:solidFill>
              <a:srgbClr val="9395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54" name="Freeform 343"/>
            <p:cNvSpPr/>
            <p:nvPr/>
          </p:nvSpPr>
          <p:spPr>
            <a:xfrm>
              <a:off x="9745560" y="2760840"/>
              <a:ext cx="60120" cy="38520"/>
            </a:xfrm>
            <a:custGeom>
              <a:avLst/>
              <a:gdLst/>
              <a:ahLst/>
              <a:rect l="l" t="t" r="r" b="b"/>
              <a:pathLst>
                <a:path w="60197" h="38798">
                  <a:moveTo>
                    <a:pt x="-5338" y="21908"/>
                  </a:moveTo>
                  <a:lnTo>
                    <a:pt x="-5338" y="-26737"/>
                  </a:lnTo>
                  <a:lnTo>
                    <a:pt x="0" y="16891"/>
                  </a:lnTo>
                  <a:lnTo>
                    <a:pt x="0" y="0"/>
                  </a:lnTo>
                  <a:lnTo>
                    <a:pt x="-5338" y="21908"/>
                  </a:lnTo>
                  <a:close/>
                </a:path>
              </a:pathLst>
            </a:custGeom>
            <a:solidFill>
              <a:srgbClr val="9395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55" name="Freeform 344"/>
            <p:cNvSpPr/>
            <p:nvPr/>
          </p:nvSpPr>
          <p:spPr>
            <a:xfrm>
              <a:off x="9757800" y="2747160"/>
              <a:ext cx="47520" cy="17280"/>
            </a:xfrm>
            <a:custGeom>
              <a:avLst/>
              <a:gdLst/>
              <a:ahLst/>
              <a:rect l="l" t="t" r="r" b="b"/>
              <a:pathLst>
                <a:path w="47752" h="17335">
                  <a:moveTo>
                    <a:pt x="-17784" y="508"/>
                  </a:moveTo>
                  <a:lnTo>
                    <a:pt x="-17784" y="17335"/>
                  </a:lnTo>
                  <a:lnTo>
                    <a:pt x="0" y="0"/>
                  </a:lnTo>
                  <a:lnTo>
                    <a:pt x="-19181" y="0"/>
                  </a:lnTo>
                  <a:lnTo>
                    <a:pt x="-17784" y="508"/>
                  </a:lnTo>
                  <a:close/>
                </a:path>
              </a:pathLst>
            </a:custGeom>
            <a:solidFill>
              <a:srgbClr val="9395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56" name="Freeform 345"/>
            <p:cNvSpPr/>
            <p:nvPr/>
          </p:nvSpPr>
          <p:spPr>
            <a:xfrm>
              <a:off x="9885960" y="3259440"/>
              <a:ext cx="108360" cy="34200"/>
            </a:xfrm>
            <a:custGeom>
              <a:avLst/>
              <a:gdLst/>
              <a:ahLst/>
              <a:rect l="l" t="t" r="r" b="b"/>
              <a:pathLst>
                <a:path w="108584" h="34353">
                  <a:moveTo>
                    <a:pt x="108585" y="7048"/>
                  </a:moveTo>
                  <a:cubicBezTo>
                    <a:pt x="107823" y="13779"/>
                    <a:pt x="107061" y="20447"/>
                    <a:pt x="106299" y="27114"/>
                  </a:cubicBezTo>
                  <a:cubicBezTo>
                    <a:pt x="105981" y="29527"/>
                    <a:pt x="105727" y="31940"/>
                    <a:pt x="105410" y="34354"/>
                  </a:cubicBezTo>
                  <a:cubicBezTo>
                    <a:pt x="105410" y="34354"/>
                    <a:pt x="76453" y="25781"/>
                    <a:pt x="43307" y="28829"/>
                  </a:cubicBezTo>
                  <a:cubicBezTo>
                    <a:pt x="10223" y="31877"/>
                    <a:pt x="0" y="10223"/>
                    <a:pt x="0" y="10223"/>
                  </a:cubicBezTo>
                  <a:cubicBezTo>
                    <a:pt x="0" y="10223"/>
                    <a:pt x="49466" y="0"/>
                    <a:pt x="50673" y="0"/>
                  </a:cubicBezTo>
                  <a:cubicBezTo>
                    <a:pt x="51688" y="0"/>
                    <a:pt x="92075" y="5207"/>
                    <a:pt x="108585" y="7048"/>
                  </a:cubicBezTo>
                  <a:close/>
                </a:path>
              </a:pathLst>
            </a:custGeom>
            <a:solidFill>
              <a:srgbClr val="e2e3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57" name="Freeform 346"/>
            <p:cNvSpPr/>
            <p:nvPr/>
          </p:nvSpPr>
          <p:spPr>
            <a:xfrm>
              <a:off x="9853200" y="3213000"/>
              <a:ext cx="99720" cy="69120"/>
            </a:xfrm>
            <a:custGeom>
              <a:avLst/>
              <a:gdLst/>
              <a:ahLst/>
              <a:rect l="l" t="t" r="r" b="b"/>
              <a:pathLst>
                <a:path w="99946" h="69421">
                  <a:moveTo>
                    <a:pt x="94258" y="67657"/>
                  </a:moveTo>
                  <a:lnTo>
                    <a:pt x="72224" y="68165"/>
                  </a:lnTo>
                  <a:cubicBezTo>
                    <a:pt x="49173" y="74198"/>
                    <a:pt x="31838" y="56545"/>
                    <a:pt x="31838" y="56545"/>
                  </a:cubicBezTo>
                  <a:cubicBezTo>
                    <a:pt x="20535" y="49370"/>
                    <a:pt x="21995" y="29430"/>
                    <a:pt x="21995" y="29430"/>
                  </a:cubicBezTo>
                  <a:cubicBezTo>
                    <a:pt x="9359" y="23779"/>
                    <a:pt x="3072" y="11587"/>
                    <a:pt x="151" y="3268"/>
                  </a:cubicBezTo>
                  <a:cubicBezTo>
                    <a:pt x="-674" y="982"/>
                    <a:pt x="2056" y="-986"/>
                    <a:pt x="3961" y="538"/>
                  </a:cubicBezTo>
                  <a:cubicBezTo>
                    <a:pt x="23201" y="15270"/>
                    <a:pt x="60921" y="19651"/>
                    <a:pt x="60921" y="19651"/>
                  </a:cubicBezTo>
                  <a:cubicBezTo>
                    <a:pt x="59841" y="13174"/>
                    <a:pt x="62000" y="6507"/>
                    <a:pt x="64032" y="2062"/>
                  </a:cubicBezTo>
                  <a:cubicBezTo>
                    <a:pt x="64985" y="-34"/>
                    <a:pt x="68096" y="-34"/>
                    <a:pt x="68922" y="2125"/>
                  </a:cubicBezTo>
                  <a:cubicBezTo>
                    <a:pt x="76923" y="22128"/>
                    <a:pt x="99592" y="37304"/>
                    <a:pt x="99592" y="37304"/>
                  </a:cubicBezTo>
                  <a:cubicBezTo>
                    <a:pt x="101624" y="52163"/>
                    <a:pt x="94258" y="67657"/>
                    <a:pt x="94258" y="67657"/>
                  </a:cubicBezTo>
                  <a:close/>
                </a:path>
              </a:pathLst>
            </a:custGeom>
            <a:solidFill>
              <a:srgbClr val="fe6b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58" name="Freeform 347"/>
            <p:cNvSpPr/>
            <p:nvPr/>
          </p:nvSpPr>
          <p:spPr>
            <a:xfrm>
              <a:off x="9947520" y="3204000"/>
              <a:ext cx="219240" cy="84240"/>
            </a:xfrm>
            <a:custGeom>
              <a:avLst/>
              <a:gdLst/>
              <a:ahLst/>
              <a:rect l="l" t="t" r="r" b="b"/>
              <a:pathLst>
                <a:path w="219455" h="84462">
                  <a:moveTo>
                    <a:pt x="219456" y="64389"/>
                  </a:moveTo>
                  <a:cubicBezTo>
                    <a:pt x="200660" y="70930"/>
                    <a:pt x="181546" y="75502"/>
                    <a:pt x="162751" y="78613"/>
                  </a:cubicBezTo>
                  <a:cubicBezTo>
                    <a:pt x="77597" y="92774"/>
                    <a:pt x="0" y="76771"/>
                    <a:pt x="0" y="76771"/>
                  </a:cubicBezTo>
                  <a:cubicBezTo>
                    <a:pt x="0" y="76771"/>
                    <a:pt x="7366" y="61277"/>
                    <a:pt x="5397" y="46418"/>
                  </a:cubicBezTo>
                  <a:cubicBezTo>
                    <a:pt x="120459" y="46418"/>
                    <a:pt x="183261" y="0"/>
                    <a:pt x="183261" y="0"/>
                  </a:cubicBezTo>
                  <a:cubicBezTo>
                    <a:pt x="202565" y="7811"/>
                    <a:pt x="219456" y="64389"/>
                    <a:pt x="219456" y="64389"/>
                  </a:cubicBezTo>
                  <a:close/>
                </a:path>
              </a:pathLst>
            </a:custGeom>
            <a:solidFill>
              <a:srgbClr val="f8a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59" name="Freeform 348"/>
            <p:cNvSpPr/>
            <p:nvPr/>
          </p:nvSpPr>
          <p:spPr>
            <a:xfrm>
              <a:off x="10110240" y="3219480"/>
              <a:ext cx="148320" cy="74160"/>
            </a:xfrm>
            <a:custGeom>
              <a:avLst/>
              <a:gdLst/>
              <a:ahLst/>
              <a:rect l="l" t="t" r="r" b="b"/>
              <a:pathLst>
                <a:path w="148399" h="74485">
                  <a:moveTo>
                    <a:pt x="148399" y="0"/>
                  </a:moveTo>
                  <a:cubicBezTo>
                    <a:pt x="129794" y="46799"/>
                    <a:pt x="4191" y="74486"/>
                    <a:pt x="4191" y="74486"/>
                  </a:cubicBezTo>
                  <a:cubicBezTo>
                    <a:pt x="3810" y="73660"/>
                    <a:pt x="3429" y="72835"/>
                    <a:pt x="3048" y="72009"/>
                  </a:cubicBezTo>
                  <a:cubicBezTo>
                    <a:pt x="1715" y="69024"/>
                    <a:pt x="635" y="66104"/>
                    <a:pt x="0" y="63310"/>
                  </a:cubicBezTo>
                  <a:cubicBezTo>
                    <a:pt x="18796" y="60198"/>
                    <a:pt x="37973" y="55626"/>
                    <a:pt x="56705" y="49086"/>
                  </a:cubicBezTo>
                  <a:cubicBezTo>
                    <a:pt x="56705" y="49086"/>
                    <a:pt x="107379" y="26861"/>
                    <a:pt x="137096" y="9208"/>
                  </a:cubicBezTo>
                  <a:cubicBezTo>
                    <a:pt x="141668" y="6477"/>
                    <a:pt x="145415" y="3365"/>
                    <a:pt x="148399" y="0"/>
                  </a:cubicBezTo>
                  <a:close/>
                </a:path>
              </a:pathLst>
            </a:custGeom>
            <a:solidFill>
              <a:srgbClr val="d14b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60" name="Freeform 349"/>
            <p:cNvSpPr/>
            <p:nvPr/>
          </p:nvSpPr>
          <p:spPr>
            <a:xfrm>
              <a:off x="10144440" y="3047040"/>
              <a:ext cx="81720" cy="75600"/>
            </a:xfrm>
            <a:custGeom>
              <a:avLst/>
              <a:gdLst/>
              <a:ahLst/>
              <a:rect l="l" t="t" r="r" b="b"/>
              <a:pathLst>
                <a:path w="82041" h="75858">
                  <a:moveTo>
                    <a:pt x="82042" y="38671"/>
                  </a:moveTo>
                  <a:lnTo>
                    <a:pt x="81026" y="37401"/>
                  </a:lnTo>
                  <a:lnTo>
                    <a:pt x="58991" y="54610"/>
                  </a:lnTo>
                  <a:lnTo>
                    <a:pt x="31750" y="32957"/>
                  </a:lnTo>
                  <a:lnTo>
                    <a:pt x="69786" y="1270"/>
                  </a:lnTo>
                  <a:lnTo>
                    <a:pt x="68707" y="0"/>
                  </a:lnTo>
                  <a:lnTo>
                    <a:pt x="30416" y="31877"/>
                  </a:lnTo>
                  <a:lnTo>
                    <a:pt x="29972" y="31496"/>
                  </a:lnTo>
                  <a:lnTo>
                    <a:pt x="0" y="59055"/>
                  </a:lnTo>
                  <a:cubicBezTo>
                    <a:pt x="2984" y="64643"/>
                    <a:pt x="6603" y="68834"/>
                    <a:pt x="10795" y="70929"/>
                  </a:cubicBezTo>
                  <a:cubicBezTo>
                    <a:pt x="22987" y="76898"/>
                    <a:pt x="35751" y="76581"/>
                    <a:pt x="45974" y="74485"/>
                  </a:cubicBezTo>
                  <a:lnTo>
                    <a:pt x="60389" y="55689"/>
                  </a:lnTo>
                  <a:lnTo>
                    <a:pt x="60325" y="55626"/>
                  </a:lnTo>
                  <a:lnTo>
                    <a:pt x="82042" y="3867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61" name="Freeform 350"/>
            <p:cNvSpPr/>
            <p:nvPr/>
          </p:nvSpPr>
          <p:spPr>
            <a:xfrm>
              <a:off x="8676360" y="3134160"/>
              <a:ext cx="420120" cy="115920"/>
            </a:xfrm>
            <a:custGeom>
              <a:avLst/>
              <a:gdLst/>
              <a:ahLst/>
              <a:rect l="l" t="t" r="r" b="b"/>
              <a:pathLst>
                <a:path w="420116" h="116268">
                  <a:moveTo>
                    <a:pt x="420116" y="12383"/>
                  </a:moveTo>
                  <a:cubicBezTo>
                    <a:pt x="419164" y="59627"/>
                    <a:pt x="418402" y="92012"/>
                    <a:pt x="418402" y="92012"/>
                  </a:cubicBezTo>
                  <a:lnTo>
                    <a:pt x="229045" y="114046"/>
                  </a:lnTo>
                  <a:cubicBezTo>
                    <a:pt x="219011" y="115507"/>
                    <a:pt x="208852" y="116268"/>
                    <a:pt x="198755" y="116268"/>
                  </a:cubicBezTo>
                  <a:cubicBezTo>
                    <a:pt x="188658" y="116268"/>
                    <a:pt x="178498" y="115507"/>
                    <a:pt x="168466" y="114046"/>
                  </a:cubicBezTo>
                  <a:lnTo>
                    <a:pt x="17526" y="92012"/>
                  </a:lnTo>
                  <a:cubicBezTo>
                    <a:pt x="17526" y="92012"/>
                    <a:pt x="9334" y="53848"/>
                    <a:pt x="0" y="0"/>
                  </a:cubicBezTo>
                  <a:cubicBezTo>
                    <a:pt x="826" y="3112"/>
                    <a:pt x="29401" y="104965"/>
                    <a:pt x="198755" y="101283"/>
                  </a:cubicBezTo>
                  <a:cubicBezTo>
                    <a:pt x="370649" y="97599"/>
                    <a:pt x="420116" y="12383"/>
                    <a:pt x="420116" y="12383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62" name="Freeform 351"/>
            <p:cNvSpPr/>
            <p:nvPr/>
          </p:nvSpPr>
          <p:spPr>
            <a:xfrm>
              <a:off x="9519480" y="3157920"/>
              <a:ext cx="360" cy="360"/>
            </a:xfrm>
            <a:custGeom>
              <a:avLst/>
              <a:gdLst/>
              <a:ahLst/>
              <a:rect l="l" t="t" r="r" b="b"/>
              <a:pathLst>
                <a:path w="63" h="190">
                  <a:moveTo>
                    <a:pt x="64" y="0"/>
                  </a:moveTo>
                  <a:cubicBezTo>
                    <a:pt x="64" y="0"/>
                    <a:pt x="64" y="64"/>
                    <a:pt x="0" y="190"/>
                  </a:cubicBezTo>
                  <a:cubicBezTo>
                    <a:pt x="0" y="127"/>
                    <a:pt x="0" y="64"/>
                    <a:pt x="64" y="0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63" name="Freeform 352"/>
            <p:cNvSpPr/>
            <p:nvPr/>
          </p:nvSpPr>
          <p:spPr>
            <a:xfrm>
              <a:off x="9583560" y="3435480"/>
              <a:ext cx="384840" cy="81720"/>
            </a:xfrm>
            <a:custGeom>
              <a:avLst/>
              <a:gdLst/>
              <a:ahLst/>
              <a:rect l="l" t="t" r="r" b="b"/>
              <a:pathLst>
                <a:path w="384873" h="81978">
                  <a:moveTo>
                    <a:pt x="384873" y="1968"/>
                  </a:moveTo>
                  <a:cubicBezTo>
                    <a:pt x="378523" y="35941"/>
                    <a:pt x="373824" y="57785"/>
                    <a:pt x="373824" y="57785"/>
                  </a:cubicBezTo>
                  <a:lnTo>
                    <a:pt x="222885" y="79756"/>
                  </a:lnTo>
                  <a:cubicBezTo>
                    <a:pt x="212852" y="81217"/>
                    <a:pt x="202692" y="81979"/>
                    <a:pt x="192596" y="81979"/>
                  </a:cubicBezTo>
                  <a:cubicBezTo>
                    <a:pt x="182499" y="81979"/>
                    <a:pt x="172339" y="81217"/>
                    <a:pt x="162243" y="79756"/>
                  </a:cubicBezTo>
                  <a:lnTo>
                    <a:pt x="11367" y="57785"/>
                  </a:lnTo>
                  <a:cubicBezTo>
                    <a:pt x="11367" y="57785"/>
                    <a:pt x="6477" y="35052"/>
                    <a:pt x="0" y="0"/>
                  </a:cubicBezTo>
                  <a:cubicBezTo>
                    <a:pt x="1397" y="1397"/>
                    <a:pt x="68009" y="68389"/>
                    <a:pt x="192596" y="68389"/>
                  </a:cubicBezTo>
                  <a:cubicBezTo>
                    <a:pt x="305498" y="68326"/>
                    <a:pt x="372237" y="13335"/>
                    <a:pt x="384873" y="1968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64" name="Freeform 353"/>
            <p:cNvSpPr/>
            <p:nvPr/>
          </p:nvSpPr>
          <p:spPr>
            <a:xfrm>
              <a:off x="9560160" y="3508200"/>
              <a:ext cx="109440" cy="61560"/>
            </a:xfrm>
            <a:custGeom>
              <a:avLst/>
              <a:gdLst/>
              <a:ahLst/>
              <a:rect l="l" t="t" r="r" b="b"/>
              <a:pathLst>
                <a:path w="109659" h="61589">
                  <a:moveTo>
                    <a:pt x="1185" y="6971"/>
                  </a:moveTo>
                  <a:cubicBezTo>
                    <a:pt x="20617" y="31863"/>
                    <a:pt x="48684" y="49770"/>
                    <a:pt x="79227" y="57517"/>
                  </a:cubicBezTo>
                  <a:cubicBezTo>
                    <a:pt x="87863" y="59676"/>
                    <a:pt x="96753" y="61073"/>
                    <a:pt x="105707" y="61581"/>
                  </a:cubicBezTo>
                  <a:cubicBezTo>
                    <a:pt x="110977" y="61899"/>
                    <a:pt x="110977" y="53707"/>
                    <a:pt x="105707" y="53390"/>
                  </a:cubicBezTo>
                  <a:cubicBezTo>
                    <a:pt x="75988" y="51612"/>
                    <a:pt x="46969" y="39483"/>
                    <a:pt x="24617" y="19862"/>
                  </a:cubicBezTo>
                  <a:cubicBezTo>
                    <a:pt x="18204" y="14210"/>
                    <a:pt x="12298" y="7924"/>
                    <a:pt x="7028" y="1193"/>
                  </a:cubicBezTo>
                  <a:cubicBezTo>
                    <a:pt x="5694" y="-522"/>
                    <a:pt x="2646" y="-268"/>
                    <a:pt x="1249" y="1193"/>
                  </a:cubicBezTo>
                  <a:cubicBezTo>
                    <a:pt x="-592" y="2907"/>
                    <a:pt x="-212" y="5256"/>
                    <a:pt x="1185" y="6971"/>
                  </a:cubicBezTo>
                  <a:lnTo>
                    <a:pt x="1185" y="697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65" name="Freeform 354"/>
            <p:cNvSpPr/>
            <p:nvPr/>
          </p:nvSpPr>
          <p:spPr>
            <a:xfrm>
              <a:off x="9624600" y="3576960"/>
              <a:ext cx="60120" cy="16920"/>
            </a:xfrm>
            <a:custGeom>
              <a:avLst/>
              <a:gdLst/>
              <a:ahLst/>
              <a:rect l="l" t="t" r="r" b="b"/>
              <a:pathLst>
                <a:path w="60141" h="17123">
                  <a:moveTo>
                    <a:pt x="2976" y="8150"/>
                  </a:moveTo>
                  <a:cubicBezTo>
                    <a:pt x="19867" y="14690"/>
                    <a:pt x="38091" y="17675"/>
                    <a:pt x="56189" y="17040"/>
                  </a:cubicBezTo>
                  <a:cubicBezTo>
                    <a:pt x="61459" y="16849"/>
                    <a:pt x="61459" y="8658"/>
                    <a:pt x="56189" y="8848"/>
                  </a:cubicBezTo>
                  <a:cubicBezTo>
                    <a:pt x="38726" y="9483"/>
                    <a:pt x="21454" y="6499"/>
                    <a:pt x="5198" y="212"/>
                  </a:cubicBezTo>
                  <a:cubicBezTo>
                    <a:pt x="3103" y="-613"/>
                    <a:pt x="690" y="1101"/>
                    <a:pt x="182" y="3070"/>
                  </a:cubicBezTo>
                  <a:cubicBezTo>
                    <a:pt x="-517" y="5419"/>
                    <a:pt x="880" y="7324"/>
                    <a:pt x="2976" y="8150"/>
                  </a:cubicBezTo>
                  <a:lnTo>
                    <a:pt x="2976" y="81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66" name="Freeform 355"/>
            <p:cNvSpPr/>
            <p:nvPr/>
          </p:nvSpPr>
          <p:spPr>
            <a:xfrm>
              <a:off x="9963000" y="2989800"/>
              <a:ext cx="59400" cy="51840"/>
            </a:xfrm>
            <a:custGeom>
              <a:avLst/>
              <a:gdLst/>
              <a:ahLst/>
              <a:rect l="l" t="t" r="r" b="b"/>
              <a:pathLst>
                <a:path w="59596" h="52199">
                  <a:moveTo>
                    <a:pt x="3050" y="8069"/>
                  </a:moveTo>
                  <a:cubicBezTo>
                    <a:pt x="23941" y="15371"/>
                    <a:pt x="41531" y="30675"/>
                    <a:pt x="52008" y="50169"/>
                  </a:cubicBezTo>
                  <a:cubicBezTo>
                    <a:pt x="54485" y="54804"/>
                    <a:pt x="61597" y="50677"/>
                    <a:pt x="59057" y="46041"/>
                  </a:cubicBezTo>
                  <a:cubicBezTo>
                    <a:pt x="47564" y="24642"/>
                    <a:pt x="28069" y="8195"/>
                    <a:pt x="5145" y="194"/>
                  </a:cubicBezTo>
                  <a:cubicBezTo>
                    <a:pt x="3050" y="-568"/>
                    <a:pt x="637" y="1020"/>
                    <a:pt x="129" y="3052"/>
                  </a:cubicBezTo>
                  <a:cubicBezTo>
                    <a:pt x="-443" y="5275"/>
                    <a:pt x="954" y="7306"/>
                    <a:pt x="3050" y="8069"/>
                  </a:cubicBezTo>
                  <a:lnTo>
                    <a:pt x="3050" y="80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67" name="Freeform 356"/>
            <p:cNvSpPr/>
            <p:nvPr/>
          </p:nvSpPr>
          <p:spPr>
            <a:xfrm>
              <a:off x="9973080" y="2967840"/>
              <a:ext cx="35280" cy="25560"/>
            </a:xfrm>
            <a:custGeom>
              <a:avLst/>
              <a:gdLst/>
              <a:ahLst/>
              <a:rect l="l" t="t" r="r" b="b"/>
              <a:pathLst>
                <a:path w="35508" h="25849">
                  <a:moveTo>
                    <a:pt x="2973" y="8046"/>
                  </a:moveTo>
                  <a:cubicBezTo>
                    <a:pt x="12498" y="11475"/>
                    <a:pt x="21388" y="17253"/>
                    <a:pt x="28564" y="24683"/>
                  </a:cubicBezTo>
                  <a:cubicBezTo>
                    <a:pt x="30088" y="26270"/>
                    <a:pt x="32818" y="26207"/>
                    <a:pt x="34342" y="24683"/>
                  </a:cubicBezTo>
                  <a:cubicBezTo>
                    <a:pt x="35929" y="23095"/>
                    <a:pt x="35866" y="20492"/>
                    <a:pt x="34342" y="18905"/>
                  </a:cubicBezTo>
                  <a:cubicBezTo>
                    <a:pt x="26215" y="10459"/>
                    <a:pt x="16181" y="4109"/>
                    <a:pt x="5132" y="172"/>
                  </a:cubicBezTo>
                  <a:cubicBezTo>
                    <a:pt x="3100" y="-526"/>
                    <a:pt x="560" y="997"/>
                    <a:pt x="115" y="3030"/>
                  </a:cubicBezTo>
                  <a:cubicBezTo>
                    <a:pt x="-392" y="5315"/>
                    <a:pt x="815" y="7284"/>
                    <a:pt x="2973" y="8046"/>
                  </a:cubicBezTo>
                  <a:lnTo>
                    <a:pt x="2973" y="80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68" name="Freeform 357"/>
            <p:cNvSpPr/>
            <p:nvPr/>
          </p:nvSpPr>
          <p:spPr>
            <a:xfrm>
              <a:off x="8477280" y="3071880"/>
              <a:ext cx="76680" cy="76680"/>
            </a:xfrm>
            <a:custGeom>
              <a:avLst/>
              <a:gdLst/>
              <a:ahLst/>
              <a:rect l="l" t="t" r="r" b="b"/>
              <a:pathLst>
                <a:path w="76707" h="76708">
                  <a:moveTo>
                    <a:pt x="76708" y="38354"/>
                  </a:moveTo>
                  <a:cubicBezTo>
                    <a:pt x="76708" y="59536"/>
                    <a:pt x="59536" y="76708"/>
                    <a:pt x="38354" y="76708"/>
                  </a:cubicBezTo>
                  <a:cubicBezTo>
                    <a:pt x="17171" y="76708"/>
                    <a:pt x="-1" y="59537"/>
                    <a:pt x="-1" y="38354"/>
                  </a:cubicBezTo>
                  <a:cubicBezTo>
                    <a:pt x="-1" y="17172"/>
                    <a:pt x="17171" y="0"/>
                    <a:pt x="38354" y="0"/>
                  </a:cubicBezTo>
                  <a:cubicBezTo>
                    <a:pt x="59536" y="0"/>
                    <a:pt x="76708" y="17172"/>
                    <a:pt x="76708" y="38354"/>
                  </a:cubicBezTo>
                  <a:close/>
                </a:path>
              </a:pathLst>
            </a:custGeom>
            <a:solidFill>
              <a:srgbClr val="dce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69" name="Freeform 358"/>
            <p:cNvSpPr/>
            <p:nvPr/>
          </p:nvSpPr>
          <p:spPr>
            <a:xfrm>
              <a:off x="8552880" y="3495600"/>
              <a:ext cx="177840" cy="245160"/>
            </a:xfrm>
            <a:custGeom>
              <a:avLst/>
              <a:gdLst/>
              <a:ahLst/>
              <a:rect l="l" t="t" r="r" b="b"/>
              <a:pathLst>
                <a:path w="178113" h="245420">
                  <a:moveTo>
                    <a:pt x="164979" y="126185"/>
                  </a:moveTo>
                  <a:cubicBezTo>
                    <a:pt x="155581" y="105357"/>
                    <a:pt x="139896" y="88149"/>
                    <a:pt x="124466" y="71321"/>
                  </a:cubicBezTo>
                  <a:cubicBezTo>
                    <a:pt x="107766" y="53033"/>
                    <a:pt x="91002" y="34809"/>
                    <a:pt x="74301" y="16521"/>
                  </a:cubicBezTo>
                  <a:cubicBezTo>
                    <a:pt x="69284" y="11060"/>
                    <a:pt x="64141" y="5472"/>
                    <a:pt x="57346" y="2424"/>
                  </a:cubicBezTo>
                  <a:cubicBezTo>
                    <a:pt x="45853" y="-2720"/>
                    <a:pt x="32010" y="836"/>
                    <a:pt x="21850" y="8266"/>
                  </a:cubicBezTo>
                  <a:cubicBezTo>
                    <a:pt x="8134" y="18235"/>
                    <a:pt x="-248" y="35126"/>
                    <a:pt x="6" y="52081"/>
                  </a:cubicBezTo>
                  <a:cubicBezTo>
                    <a:pt x="260" y="69035"/>
                    <a:pt x="9214" y="85609"/>
                    <a:pt x="23247" y="95197"/>
                  </a:cubicBezTo>
                  <a:cubicBezTo>
                    <a:pt x="34169" y="102627"/>
                    <a:pt x="47314" y="105675"/>
                    <a:pt x="59505" y="110691"/>
                  </a:cubicBezTo>
                  <a:cubicBezTo>
                    <a:pt x="97161" y="126058"/>
                    <a:pt x="125927" y="161364"/>
                    <a:pt x="133419" y="201242"/>
                  </a:cubicBezTo>
                  <a:cubicBezTo>
                    <a:pt x="135070" y="210005"/>
                    <a:pt x="135769" y="219022"/>
                    <a:pt x="139007" y="227277"/>
                  </a:cubicBezTo>
                  <a:cubicBezTo>
                    <a:pt x="142246" y="235532"/>
                    <a:pt x="148659" y="243279"/>
                    <a:pt x="157422" y="245057"/>
                  </a:cubicBezTo>
                  <a:cubicBezTo>
                    <a:pt x="193618" y="252487"/>
                    <a:pt x="172980" y="143775"/>
                    <a:pt x="164979" y="126185"/>
                  </a:cubicBezTo>
                  <a:close/>
                </a:path>
              </a:pathLst>
            </a:custGeom>
            <a:solidFill>
              <a:srgbClr val="dce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grpSp>
        <p:nvGrpSpPr>
          <p:cNvPr id="1570" name="Group 359"/>
          <p:cNvGrpSpPr/>
          <p:nvPr/>
        </p:nvGrpSpPr>
        <p:grpSpPr>
          <a:xfrm>
            <a:off x="1527120" y="2637000"/>
            <a:ext cx="2249640" cy="1360440"/>
            <a:chOff x="1527120" y="2637000"/>
            <a:chExt cx="2249640" cy="1360440"/>
          </a:xfrm>
        </p:grpSpPr>
        <p:sp>
          <p:nvSpPr>
            <p:cNvPr id="1571" name="Freeform 360"/>
            <p:cNvSpPr/>
            <p:nvPr/>
          </p:nvSpPr>
          <p:spPr>
            <a:xfrm>
              <a:off x="2240280" y="2734200"/>
              <a:ext cx="531360" cy="267480"/>
            </a:xfrm>
            <a:custGeom>
              <a:avLst/>
              <a:gdLst/>
              <a:ahLst/>
              <a:rect l="l" t="t" r="r" b="b"/>
              <a:pathLst>
                <a:path w="531416" h="267753">
                  <a:moveTo>
                    <a:pt x="320648" y="262594"/>
                  </a:moveTo>
                  <a:cubicBezTo>
                    <a:pt x="239749" y="277072"/>
                    <a:pt x="153770" y="260753"/>
                    <a:pt x="83793" y="217700"/>
                  </a:cubicBezTo>
                  <a:cubicBezTo>
                    <a:pt x="48678" y="196046"/>
                    <a:pt x="16229" y="165947"/>
                    <a:pt x="4164" y="126514"/>
                  </a:cubicBezTo>
                  <a:cubicBezTo>
                    <a:pt x="-7901" y="87080"/>
                    <a:pt x="6514" y="37677"/>
                    <a:pt x="43979" y="20342"/>
                  </a:cubicBezTo>
                  <a:cubicBezTo>
                    <a:pt x="75157" y="5927"/>
                    <a:pt x="111924" y="16405"/>
                    <a:pt x="143293" y="30438"/>
                  </a:cubicBezTo>
                  <a:cubicBezTo>
                    <a:pt x="174598" y="44472"/>
                    <a:pt x="205967" y="62379"/>
                    <a:pt x="240321" y="62506"/>
                  </a:cubicBezTo>
                  <a:cubicBezTo>
                    <a:pt x="303757" y="62760"/>
                    <a:pt x="354748" y="3006"/>
                    <a:pt x="418184" y="85"/>
                  </a:cubicBezTo>
                  <a:cubicBezTo>
                    <a:pt x="484478" y="-2963"/>
                    <a:pt x="557249" y="76222"/>
                    <a:pt x="522388" y="141373"/>
                  </a:cubicBezTo>
                  <a:cubicBezTo>
                    <a:pt x="486828" y="207794"/>
                    <a:pt x="390625" y="250085"/>
                    <a:pt x="320648" y="262594"/>
                  </a:cubicBezTo>
                  <a:close/>
                </a:path>
              </a:pathLst>
            </a:custGeom>
            <a:solidFill>
              <a:srgbClr val="dce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72" name="Freeform 361"/>
            <p:cNvSpPr/>
            <p:nvPr/>
          </p:nvSpPr>
          <p:spPr>
            <a:xfrm>
              <a:off x="1644120" y="2801160"/>
              <a:ext cx="2126160" cy="1159920"/>
            </a:xfrm>
            <a:custGeom>
              <a:avLst/>
              <a:gdLst/>
              <a:ahLst/>
              <a:rect l="l" t="t" r="r" b="b"/>
              <a:pathLst>
                <a:path w="2125738" h="1160068">
                  <a:moveTo>
                    <a:pt x="2051252" y="1147305"/>
                  </a:moveTo>
                  <a:cubicBezTo>
                    <a:pt x="2094749" y="1013828"/>
                    <a:pt x="2138819" y="875144"/>
                    <a:pt x="2122118" y="735761"/>
                  </a:cubicBezTo>
                  <a:cubicBezTo>
                    <a:pt x="2105417" y="596379"/>
                    <a:pt x="2009596" y="455980"/>
                    <a:pt x="1870785" y="435279"/>
                  </a:cubicBezTo>
                  <a:cubicBezTo>
                    <a:pt x="1820239" y="427723"/>
                    <a:pt x="1760231" y="432930"/>
                    <a:pt x="1727402" y="393750"/>
                  </a:cubicBezTo>
                  <a:cubicBezTo>
                    <a:pt x="1694065" y="353999"/>
                    <a:pt x="1710574" y="294881"/>
                    <a:pt x="1710448" y="243001"/>
                  </a:cubicBezTo>
                  <a:cubicBezTo>
                    <a:pt x="1710130" y="147053"/>
                    <a:pt x="1641550" y="58470"/>
                    <a:pt x="1552841" y="21894"/>
                  </a:cubicBezTo>
                  <a:cubicBezTo>
                    <a:pt x="1464131" y="-14618"/>
                    <a:pt x="1360054" y="-3252"/>
                    <a:pt x="1274203" y="39611"/>
                  </a:cubicBezTo>
                  <a:cubicBezTo>
                    <a:pt x="1188350" y="82473"/>
                    <a:pt x="1119453" y="154228"/>
                    <a:pt x="1067129" y="234683"/>
                  </a:cubicBezTo>
                  <a:cubicBezTo>
                    <a:pt x="1043253" y="271386"/>
                    <a:pt x="1022298" y="310311"/>
                    <a:pt x="992897" y="342760"/>
                  </a:cubicBezTo>
                  <a:cubicBezTo>
                    <a:pt x="963497" y="375208"/>
                    <a:pt x="923683" y="401180"/>
                    <a:pt x="879931" y="402196"/>
                  </a:cubicBezTo>
                  <a:cubicBezTo>
                    <a:pt x="807224" y="403910"/>
                    <a:pt x="751978" y="340029"/>
                    <a:pt x="708608" y="281609"/>
                  </a:cubicBezTo>
                  <a:cubicBezTo>
                    <a:pt x="665237" y="223189"/>
                    <a:pt x="611834" y="158483"/>
                    <a:pt x="539127" y="157403"/>
                  </a:cubicBezTo>
                  <a:cubicBezTo>
                    <a:pt x="475246" y="156451"/>
                    <a:pt x="423049" y="205663"/>
                    <a:pt x="378535" y="251447"/>
                  </a:cubicBezTo>
                  <a:cubicBezTo>
                    <a:pt x="302589" y="329615"/>
                    <a:pt x="226643" y="407784"/>
                    <a:pt x="150760" y="486016"/>
                  </a:cubicBezTo>
                  <a:cubicBezTo>
                    <a:pt x="102183" y="536054"/>
                    <a:pt x="52526" y="587616"/>
                    <a:pt x="24840" y="651624"/>
                  </a:cubicBezTo>
                  <a:cubicBezTo>
                    <a:pt x="-12498" y="737857"/>
                    <a:pt x="-5322" y="839012"/>
                    <a:pt x="30237" y="926007"/>
                  </a:cubicBezTo>
                  <a:cubicBezTo>
                    <a:pt x="61606" y="1002779"/>
                    <a:pt x="114375" y="1070660"/>
                    <a:pt x="181050" y="1120000"/>
                  </a:cubicBezTo>
                  <a:lnTo>
                    <a:pt x="335863" y="1160068"/>
                  </a:lnTo>
                  <a:lnTo>
                    <a:pt x="2051252" y="1147305"/>
                  </a:lnTo>
                  <a:close/>
                </a:path>
              </a:pathLst>
            </a:custGeom>
            <a:solidFill>
              <a:srgbClr val="dce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73" name="Freeform 362"/>
            <p:cNvSpPr/>
            <p:nvPr/>
          </p:nvSpPr>
          <p:spPr>
            <a:xfrm>
              <a:off x="1527120" y="3905640"/>
              <a:ext cx="2249640" cy="91800"/>
            </a:xfrm>
            <a:custGeom>
              <a:avLst/>
              <a:gdLst/>
              <a:ahLst/>
              <a:rect l="l" t="t" r="r" b="b"/>
              <a:pathLst>
                <a:path w="2249551" h="92075">
                  <a:moveTo>
                    <a:pt x="2249551" y="46037"/>
                  </a:moveTo>
                  <a:cubicBezTo>
                    <a:pt x="2249551" y="71463"/>
                    <a:pt x="1745972" y="92075"/>
                    <a:pt x="1124776" y="92075"/>
                  </a:cubicBezTo>
                  <a:cubicBezTo>
                    <a:pt x="503579" y="92075"/>
                    <a:pt x="0" y="71463"/>
                    <a:pt x="0" y="46037"/>
                  </a:cubicBezTo>
                  <a:cubicBezTo>
                    <a:pt x="0" y="20611"/>
                    <a:pt x="503579" y="0"/>
                    <a:pt x="1124776" y="0"/>
                  </a:cubicBezTo>
                  <a:cubicBezTo>
                    <a:pt x="1745972" y="0"/>
                    <a:pt x="2249551" y="20611"/>
                    <a:pt x="2249551" y="46037"/>
                  </a:cubicBezTo>
                  <a:close/>
                </a:path>
              </a:pathLst>
            </a:custGeom>
            <a:solidFill>
              <a:srgbClr val="bfd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grpSp>
          <p:nvGrpSpPr>
            <p:cNvPr id="1574" name="Graphic 2"/>
            <p:cNvGrpSpPr/>
            <p:nvPr/>
          </p:nvGrpSpPr>
          <p:grpSpPr>
            <a:xfrm>
              <a:off x="2094120" y="3023280"/>
              <a:ext cx="1306440" cy="931680"/>
              <a:chOff x="2094120" y="3023280"/>
              <a:chExt cx="1306440" cy="931680"/>
            </a:xfrm>
          </p:grpSpPr>
          <p:sp>
            <p:nvSpPr>
              <p:cNvPr id="1575" name="Freeform 451"/>
              <p:cNvSpPr/>
              <p:nvPr/>
            </p:nvSpPr>
            <p:spPr>
              <a:xfrm>
                <a:off x="2152080" y="3023280"/>
                <a:ext cx="597600" cy="734040"/>
              </a:xfrm>
              <a:custGeom>
                <a:avLst/>
                <a:gdLst/>
                <a:ahLst/>
                <a:rect l="l" t="t" r="r" b="b"/>
                <a:pathLst>
                  <a:path w="597725" h="734186">
                    <a:moveTo>
                      <a:pt x="597726" y="471995"/>
                    </a:moveTo>
                    <a:cubicBezTo>
                      <a:pt x="597726" y="473266"/>
                      <a:pt x="597726" y="474536"/>
                      <a:pt x="597726" y="475805"/>
                    </a:cubicBezTo>
                    <a:cubicBezTo>
                      <a:pt x="597726" y="479679"/>
                      <a:pt x="597662" y="483426"/>
                      <a:pt x="597598" y="487236"/>
                    </a:cubicBezTo>
                    <a:cubicBezTo>
                      <a:pt x="597472" y="494792"/>
                      <a:pt x="597217" y="502095"/>
                      <a:pt x="596836" y="509143"/>
                    </a:cubicBezTo>
                    <a:cubicBezTo>
                      <a:pt x="595503" y="532701"/>
                      <a:pt x="592709" y="553466"/>
                      <a:pt x="588073" y="570357"/>
                    </a:cubicBezTo>
                    <a:cubicBezTo>
                      <a:pt x="550037" y="707835"/>
                      <a:pt x="313055" y="734187"/>
                      <a:pt x="313055" y="734187"/>
                    </a:cubicBezTo>
                    <a:cubicBezTo>
                      <a:pt x="313055" y="734187"/>
                      <a:pt x="307848" y="734187"/>
                      <a:pt x="298831" y="733806"/>
                    </a:cubicBezTo>
                    <a:cubicBezTo>
                      <a:pt x="289814" y="734187"/>
                      <a:pt x="284670" y="734187"/>
                      <a:pt x="284670" y="734187"/>
                    </a:cubicBezTo>
                    <a:cubicBezTo>
                      <a:pt x="284670" y="734187"/>
                      <a:pt x="47689" y="707835"/>
                      <a:pt x="9652" y="570357"/>
                    </a:cubicBezTo>
                    <a:cubicBezTo>
                      <a:pt x="5270" y="554545"/>
                      <a:pt x="2540" y="535305"/>
                      <a:pt x="1143" y="513588"/>
                    </a:cubicBezTo>
                    <a:cubicBezTo>
                      <a:pt x="635" y="505270"/>
                      <a:pt x="254" y="496570"/>
                      <a:pt x="127" y="487553"/>
                    </a:cubicBezTo>
                    <a:cubicBezTo>
                      <a:pt x="-127" y="474345"/>
                      <a:pt x="0" y="460439"/>
                      <a:pt x="508" y="446088"/>
                    </a:cubicBezTo>
                    <a:cubicBezTo>
                      <a:pt x="508" y="446088"/>
                      <a:pt x="508" y="446088"/>
                      <a:pt x="508" y="446088"/>
                    </a:cubicBezTo>
                    <a:cubicBezTo>
                      <a:pt x="5969" y="273685"/>
                      <a:pt x="57976" y="32131"/>
                      <a:pt x="57976" y="32131"/>
                    </a:cubicBezTo>
                    <a:lnTo>
                      <a:pt x="258572" y="2921"/>
                    </a:lnTo>
                    <a:cubicBezTo>
                      <a:pt x="271907" y="952"/>
                      <a:pt x="285433" y="0"/>
                      <a:pt x="298831" y="0"/>
                    </a:cubicBezTo>
                    <a:cubicBezTo>
                      <a:pt x="312293" y="0"/>
                      <a:pt x="325755" y="1016"/>
                      <a:pt x="339154" y="2921"/>
                    </a:cubicBezTo>
                    <a:lnTo>
                      <a:pt x="588772" y="32131"/>
                    </a:lnTo>
                    <a:cubicBezTo>
                      <a:pt x="588772" y="32131"/>
                      <a:pt x="596646" y="279146"/>
                      <a:pt x="597662" y="451866"/>
                    </a:cubicBezTo>
                    <a:cubicBezTo>
                      <a:pt x="597662" y="458661"/>
                      <a:pt x="597726" y="465392"/>
                      <a:pt x="597726" y="47199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576" name="Freeform 452"/>
              <p:cNvSpPr/>
              <p:nvPr/>
            </p:nvSpPr>
            <p:spPr>
              <a:xfrm>
                <a:off x="2750400" y="3023280"/>
                <a:ext cx="597960" cy="734400"/>
              </a:xfrm>
              <a:custGeom>
                <a:avLst/>
                <a:gdLst/>
                <a:ahLst/>
                <a:rect l="l" t="t" r="r" b="b"/>
                <a:pathLst>
                  <a:path w="598169" h="734250">
                    <a:moveTo>
                      <a:pt x="598170" y="472059"/>
                    </a:moveTo>
                    <a:cubicBezTo>
                      <a:pt x="598170" y="473329"/>
                      <a:pt x="598170" y="474599"/>
                      <a:pt x="598170" y="475869"/>
                    </a:cubicBezTo>
                    <a:cubicBezTo>
                      <a:pt x="598170" y="480251"/>
                      <a:pt x="598106" y="484505"/>
                      <a:pt x="598043" y="488760"/>
                    </a:cubicBezTo>
                    <a:cubicBezTo>
                      <a:pt x="597916" y="495745"/>
                      <a:pt x="597662" y="502602"/>
                      <a:pt x="597281" y="509207"/>
                    </a:cubicBezTo>
                    <a:cubicBezTo>
                      <a:pt x="595947" y="532765"/>
                      <a:pt x="593153" y="553530"/>
                      <a:pt x="588518" y="570421"/>
                    </a:cubicBezTo>
                    <a:cubicBezTo>
                      <a:pt x="550481" y="707898"/>
                      <a:pt x="313499" y="734251"/>
                      <a:pt x="313499" y="734251"/>
                    </a:cubicBezTo>
                    <a:cubicBezTo>
                      <a:pt x="313499" y="734251"/>
                      <a:pt x="308356" y="734251"/>
                      <a:pt x="299275" y="733870"/>
                    </a:cubicBezTo>
                    <a:cubicBezTo>
                      <a:pt x="290258" y="734251"/>
                      <a:pt x="285115" y="734251"/>
                      <a:pt x="285115" y="734251"/>
                    </a:cubicBezTo>
                    <a:cubicBezTo>
                      <a:pt x="285115" y="734251"/>
                      <a:pt x="48133" y="707898"/>
                      <a:pt x="10096" y="570421"/>
                    </a:cubicBezTo>
                    <a:cubicBezTo>
                      <a:pt x="5715" y="554609"/>
                      <a:pt x="2984" y="535369"/>
                      <a:pt x="1587" y="513652"/>
                    </a:cubicBezTo>
                    <a:cubicBezTo>
                      <a:pt x="1016" y="505206"/>
                      <a:pt x="698" y="496443"/>
                      <a:pt x="508" y="487299"/>
                    </a:cubicBezTo>
                    <a:cubicBezTo>
                      <a:pt x="317" y="477393"/>
                      <a:pt x="190" y="467170"/>
                      <a:pt x="127" y="456629"/>
                    </a:cubicBezTo>
                    <a:cubicBezTo>
                      <a:pt x="-1270" y="283718"/>
                      <a:pt x="9334" y="32131"/>
                      <a:pt x="9334" y="32131"/>
                    </a:cubicBezTo>
                    <a:lnTo>
                      <a:pt x="258953" y="2921"/>
                    </a:lnTo>
                    <a:cubicBezTo>
                      <a:pt x="272288" y="952"/>
                      <a:pt x="285813" y="0"/>
                      <a:pt x="299212" y="0"/>
                    </a:cubicBezTo>
                    <a:cubicBezTo>
                      <a:pt x="312674" y="0"/>
                      <a:pt x="326136" y="1016"/>
                      <a:pt x="339534" y="2921"/>
                    </a:cubicBezTo>
                    <a:lnTo>
                      <a:pt x="540131" y="32131"/>
                    </a:lnTo>
                    <a:cubicBezTo>
                      <a:pt x="540131" y="32131"/>
                      <a:pt x="592455" y="275082"/>
                      <a:pt x="597662" y="447548"/>
                    </a:cubicBezTo>
                    <a:cubicBezTo>
                      <a:pt x="597980" y="455930"/>
                      <a:pt x="598170" y="464121"/>
                      <a:pt x="598170" y="47205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577" name="Freeform 453"/>
              <p:cNvSpPr/>
              <p:nvPr/>
            </p:nvSpPr>
            <p:spPr>
              <a:xfrm>
                <a:off x="2094120" y="3510360"/>
                <a:ext cx="1306440" cy="444600"/>
              </a:xfrm>
              <a:custGeom>
                <a:avLst/>
                <a:gdLst/>
                <a:ahLst/>
                <a:rect l="l" t="t" r="r" b="b"/>
                <a:pathLst>
                  <a:path w="1306512" h="444499">
                    <a:moveTo>
                      <a:pt x="1306512" y="404749"/>
                    </a:moveTo>
                    <a:cubicBezTo>
                      <a:pt x="1306512" y="426720"/>
                      <a:pt x="1288034" y="444500"/>
                      <a:pt x="1265301" y="444500"/>
                    </a:cubicBezTo>
                    <a:lnTo>
                      <a:pt x="41211" y="444500"/>
                    </a:lnTo>
                    <a:cubicBezTo>
                      <a:pt x="18415" y="444500"/>
                      <a:pt x="0" y="426720"/>
                      <a:pt x="0" y="404749"/>
                    </a:cubicBezTo>
                    <a:lnTo>
                      <a:pt x="23051" y="39814"/>
                    </a:lnTo>
                    <a:cubicBezTo>
                      <a:pt x="23051" y="19431"/>
                      <a:pt x="38417" y="2603"/>
                      <a:pt x="58229" y="317"/>
                    </a:cubicBezTo>
                    <a:cubicBezTo>
                      <a:pt x="58420" y="9335"/>
                      <a:pt x="58738" y="18034"/>
                      <a:pt x="59309" y="26352"/>
                    </a:cubicBezTo>
                    <a:cubicBezTo>
                      <a:pt x="60706" y="48069"/>
                      <a:pt x="63436" y="67310"/>
                      <a:pt x="67818" y="83121"/>
                    </a:cubicBezTo>
                    <a:cubicBezTo>
                      <a:pt x="105854" y="220599"/>
                      <a:pt x="342836" y="246951"/>
                      <a:pt x="342836" y="246951"/>
                    </a:cubicBezTo>
                    <a:cubicBezTo>
                      <a:pt x="342836" y="246951"/>
                      <a:pt x="347980" y="246951"/>
                      <a:pt x="357060" y="246570"/>
                    </a:cubicBezTo>
                    <a:cubicBezTo>
                      <a:pt x="366077" y="246951"/>
                      <a:pt x="371285" y="246951"/>
                      <a:pt x="371285" y="246951"/>
                    </a:cubicBezTo>
                    <a:cubicBezTo>
                      <a:pt x="371285" y="246951"/>
                      <a:pt x="608267" y="220599"/>
                      <a:pt x="646303" y="83121"/>
                    </a:cubicBezTo>
                    <a:cubicBezTo>
                      <a:pt x="650938" y="66230"/>
                      <a:pt x="653732" y="45466"/>
                      <a:pt x="655066" y="21907"/>
                    </a:cubicBezTo>
                    <a:cubicBezTo>
                      <a:pt x="655447" y="14859"/>
                      <a:pt x="655701" y="7556"/>
                      <a:pt x="655828" y="0"/>
                    </a:cubicBezTo>
                    <a:lnTo>
                      <a:pt x="657098" y="0"/>
                    </a:lnTo>
                    <a:cubicBezTo>
                      <a:pt x="657225" y="9080"/>
                      <a:pt x="657606" y="17907"/>
                      <a:pt x="658177" y="26352"/>
                    </a:cubicBezTo>
                    <a:cubicBezTo>
                      <a:pt x="659575" y="48069"/>
                      <a:pt x="662305" y="67310"/>
                      <a:pt x="666686" y="83121"/>
                    </a:cubicBezTo>
                    <a:cubicBezTo>
                      <a:pt x="704723" y="220599"/>
                      <a:pt x="941705" y="246951"/>
                      <a:pt x="941705" y="246951"/>
                    </a:cubicBezTo>
                    <a:cubicBezTo>
                      <a:pt x="941705" y="246951"/>
                      <a:pt x="946849" y="246951"/>
                      <a:pt x="955929" y="246570"/>
                    </a:cubicBezTo>
                    <a:cubicBezTo>
                      <a:pt x="964946" y="246951"/>
                      <a:pt x="970153" y="246951"/>
                      <a:pt x="970153" y="246951"/>
                    </a:cubicBezTo>
                    <a:cubicBezTo>
                      <a:pt x="970153" y="246951"/>
                      <a:pt x="1207135" y="220599"/>
                      <a:pt x="1245172" y="83121"/>
                    </a:cubicBezTo>
                    <a:cubicBezTo>
                      <a:pt x="1249807" y="66230"/>
                      <a:pt x="1252601" y="45466"/>
                      <a:pt x="1253935" y="21907"/>
                    </a:cubicBezTo>
                    <a:cubicBezTo>
                      <a:pt x="1254316" y="15303"/>
                      <a:pt x="1254569" y="8509"/>
                      <a:pt x="1254697" y="1460"/>
                    </a:cubicBezTo>
                    <a:cubicBezTo>
                      <a:pt x="1271397" y="6160"/>
                      <a:pt x="1283716" y="21526"/>
                      <a:pt x="1283716" y="39751"/>
                    </a:cubicBezTo>
                    <a:lnTo>
                      <a:pt x="1306512" y="404749"/>
                    </a:lnTo>
                    <a:close/>
                  </a:path>
                </a:pathLst>
              </a:custGeom>
              <a:solidFill>
                <a:srgbClr val="f4cc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578" name="Freeform 454"/>
              <p:cNvSpPr/>
              <p:nvPr/>
            </p:nvSpPr>
            <p:spPr>
              <a:xfrm>
                <a:off x="2152080" y="3469320"/>
                <a:ext cx="597600" cy="288000"/>
              </a:xfrm>
              <a:custGeom>
                <a:avLst/>
                <a:gdLst/>
                <a:ahLst/>
                <a:rect l="l" t="t" r="r" b="b"/>
                <a:pathLst>
                  <a:path w="597725" h="288163">
                    <a:moveTo>
                      <a:pt x="597726" y="25971"/>
                    </a:moveTo>
                    <a:cubicBezTo>
                      <a:pt x="597726" y="27242"/>
                      <a:pt x="597726" y="28512"/>
                      <a:pt x="597726" y="29782"/>
                    </a:cubicBezTo>
                    <a:cubicBezTo>
                      <a:pt x="597726" y="33655"/>
                      <a:pt x="597662" y="37402"/>
                      <a:pt x="597598" y="41212"/>
                    </a:cubicBezTo>
                    <a:cubicBezTo>
                      <a:pt x="597472" y="48768"/>
                      <a:pt x="597217" y="56071"/>
                      <a:pt x="596836" y="63119"/>
                    </a:cubicBezTo>
                    <a:cubicBezTo>
                      <a:pt x="595503" y="86677"/>
                      <a:pt x="592709" y="107442"/>
                      <a:pt x="588073" y="124333"/>
                    </a:cubicBezTo>
                    <a:cubicBezTo>
                      <a:pt x="550037" y="261811"/>
                      <a:pt x="313055" y="288163"/>
                      <a:pt x="313055" y="288163"/>
                    </a:cubicBezTo>
                    <a:cubicBezTo>
                      <a:pt x="313055" y="288163"/>
                      <a:pt x="307848" y="288163"/>
                      <a:pt x="298831" y="287782"/>
                    </a:cubicBezTo>
                    <a:cubicBezTo>
                      <a:pt x="289814" y="288163"/>
                      <a:pt x="284670" y="288163"/>
                      <a:pt x="284670" y="288163"/>
                    </a:cubicBezTo>
                    <a:cubicBezTo>
                      <a:pt x="284670" y="288163"/>
                      <a:pt x="47689" y="261811"/>
                      <a:pt x="9652" y="124333"/>
                    </a:cubicBezTo>
                    <a:cubicBezTo>
                      <a:pt x="5270" y="108521"/>
                      <a:pt x="2540" y="89281"/>
                      <a:pt x="1143" y="67564"/>
                    </a:cubicBezTo>
                    <a:cubicBezTo>
                      <a:pt x="635" y="59246"/>
                      <a:pt x="254" y="50546"/>
                      <a:pt x="127" y="41529"/>
                    </a:cubicBezTo>
                    <a:cubicBezTo>
                      <a:pt x="-127" y="28321"/>
                      <a:pt x="0" y="14415"/>
                      <a:pt x="508" y="64"/>
                    </a:cubicBezTo>
                    <a:cubicBezTo>
                      <a:pt x="1524" y="5143"/>
                      <a:pt x="52578" y="252667"/>
                      <a:pt x="294323" y="252667"/>
                    </a:cubicBezTo>
                    <a:cubicBezTo>
                      <a:pt x="538544" y="252667"/>
                      <a:pt x="595249" y="0"/>
                      <a:pt x="595249" y="0"/>
                    </a:cubicBezTo>
                    <a:lnTo>
                      <a:pt x="597726" y="5842"/>
                    </a:lnTo>
                    <a:cubicBezTo>
                      <a:pt x="597662" y="12637"/>
                      <a:pt x="597726" y="19368"/>
                      <a:pt x="597726" y="25971"/>
                    </a:cubicBezTo>
                    <a:close/>
                  </a:path>
                </a:pathLst>
              </a:custGeom>
              <a:solidFill>
                <a:srgbClr val="f1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579" name="Freeform 455"/>
              <p:cNvSpPr/>
              <p:nvPr/>
            </p:nvSpPr>
            <p:spPr>
              <a:xfrm>
                <a:off x="2750760" y="3470760"/>
                <a:ext cx="597960" cy="286560"/>
              </a:xfrm>
              <a:custGeom>
                <a:avLst/>
                <a:gdLst/>
                <a:ahLst/>
                <a:rect l="l" t="t" r="r" b="b"/>
                <a:pathLst>
                  <a:path w="598042" h="286702">
                    <a:moveTo>
                      <a:pt x="598043" y="24511"/>
                    </a:moveTo>
                    <a:cubicBezTo>
                      <a:pt x="598043" y="25781"/>
                      <a:pt x="598043" y="27051"/>
                      <a:pt x="598043" y="28321"/>
                    </a:cubicBezTo>
                    <a:cubicBezTo>
                      <a:pt x="598043" y="32702"/>
                      <a:pt x="597979" y="36957"/>
                      <a:pt x="597916" y="41211"/>
                    </a:cubicBezTo>
                    <a:cubicBezTo>
                      <a:pt x="597789" y="48196"/>
                      <a:pt x="597535" y="55054"/>
                      <a:pt x="597154" y="61658"/>
                    </a:cubicBezTo>
                    <a:cubicBezTo>
                      <a:pt x="595821" y="85217"/>
                      <a:pt x="593027" y="105982"/>
                      <a:pt x="588391" y="122873"/>
                    </a:cubicBezTo>
                    <a:cubicBezTo>
                      <a:pt x="550354" y="260350"/>
                      <a:pt x="313372" y="286702"/>
                      <a:pt x="313372" y="286702"/>
                    </a:cubicBezTo>
                    <a:cubicBezTo>
                      <a:pt x="313372" y="286702"/>
                      <a:pt x="308229" y="286702"/>
                      <a:pt x="299148" y="286321"/>
                    </a:cubicBezTo>
                    <a:cubicBezTo>
                      <a:pt x="290132" y="286702"/>
                      <a:pt x="284988" y="286702"/>
                      <a:pt x="284988" y="286702"/>
                    </a:cubicBezTo>
                    <a:cubicBezTo>
                      <a:pt x="284988" y="286702"/>
                      <a:pt x="48006" y="260350"/>
                      <a:pt x="9970" y="122873"/>
                    </a:cubicBezTo>
                    <a:cubicBezTo>
                      <a:pt x="5588" y="107061"/>
                      <a:pt x="2858" y="87820"/>
                      <a:pt x="1461" y="66104"/>
                    </a:cubicBezTo>
                    <a:cubicBezTo>
                      <a:pt x="889" y="57658"/>
                      <a:pt x="571" y="48895"/>
                      <a:pt x="381" y="39751"/>
                    </a:cubicBezTo>
                    <a:cubicBezTo>
                      <a:pt x="190" y="29845"/>
                      <a:pt x="64" y="19621"/>
                      <a:pt x="0" y="9080"/>
                    </a:cubicBezTo>
                    <a:cubicBezTo>
                      <a:pt x="16002" y="56451"/>
                      <a:pt x="93091" y="246443"/>
                      <a:pt x="298958" y="246443"/>
                    </a:cubicBezTo>
                    <a:cubicBezTo>
                      <a:pt x="523240" y="246443"/>
                      <a:pt x="591757" y="20892"/>
                      <a:pt x="597598" y="0"/>
                    </a:cubicBezTo>
                    <a:cubicBezTo>
                      <a:pt x="597853" y="8382"/>
                      <a:pt x="598043" y="16573"/>
                      <a:pt x="598043" y="24511"/>
                    </a:cubicBezTo>
                    <a:close/>
                  </a:path>
                </a:pathLst>
              </a:custGeom>
              <a:solidFill>
                <a:srgbClr val="f1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</p:grpSp>
        <p:sp>
          <p:nvSpPr>
            <p:cNvPr id="1580" name="Freeform 364"/>
            <p:cNvSpPr/>
            <p:nvPr/>
          </p:nvSpPr>
          <p:spPr>
            <a:xfrm>
              <a:off x="2529360" y="2985480"/>
              <a:ext cx="73080" cy="90720"/>
            </a:xfrm>
            <a:custGeom>
              <a:avLst/>
              <a:gdLst/>
              <a:ahLst/>
              <a:rect l="l" t="t" r="r" b="b"/>
              <a:pathLst>
                <a:path w="73088" h="90868">
                  <a:moveTo>
                    <a:pt x="55245" y="0"/>
                  </a:moveTo>
                  <a:cubicBezTo>
                    <a:pt x="47498" y="6858"/>
                    <a:pt x="39561" y="11049"/>
                    <a:pt x="32195" y="13652"/>
                  </a:cubicBezTo>
                  <a:cubicBezTo>
                    <a:pt x="20320" y="17843"/>
                    <a:pt x="9906" y="17653"/>
                    <a:pt x="4382" y="17082"/>
                  </a:cubicBezTo>
                  <a:lnTo>
                    <a:pt x="4382" y="17082"/>
                  </a:lnTo>
                  <a:cubicBezTo>
                    <a:pt x="1588" y="16827"/>
                    <a:pt x="0" y="16446"/>
                    <a:pt x="0" y="16446"/>
                  </a:cubicBezTo>
                  <a:cubicBezTo>
                    <a:pt x="0" y="16446"/>
                    <a:pt x="889" y="25336"/>
                    <a:pt x="3493" y="37719"/>
                  </a:cubicBezTo>
                  <a:lnTo>
                    <a:pt x="3493" y="37782"/>
                  </a:lnTo>
                  <a:cubicBezTo>
                    <a:pt x="4127" y="40704"/>
                    <a:pt x="4763" y="43751"/>
                    <a:pt x="5588" y="46990"/>
                  </a:cubicBezTo>
                  <a:lnTo>
                    <a:pt x="5588" y="46990"/>
                  </a:lnTo>
                  <a:cubicBezTo>
                    <a:pt x="8192" y="57721"/>
                    <a:pt x="11938" y="69723"/>
                    <a:pt x="17145" y="80518"/>
                  </a:cubicBezTo>
                  <a:cubicBezTo>
                    <a:pt x="18860" y="84138"/>
                    <a:pt x="20764" y="87630"/>
                    <a:pt x="22860" y="90868"/>
                  </a:cubicBezTo>
                  <a:lnTo>
                    <a:pt x="22860" y="90868"/>
                  </a:lnTo>
                  <a:lnTo>
                    <a:pt x="31179" y="81026"/>
                  </a:lnTo>
                  <a:lnTo>
                    <a:pt x="45466" y="64071"/>
                  </a:lnTo>
                  <a:lnTo>
                    <a:pt x="73089" y="40640"/>
                  </a:lnTo>
                  <a:cubicBezTo>
                    <a:pt x="57912" y="35306"/>
                    <a:pt x="55245" y="0"/>
                    <a:pt x="55245" y="0"/>
                  </a:cubicBezTo>
                  <a:close/>
                  <a:moveTo>
                    <a:pt x="26988" y="48514"/>
                  </a:moveTo>
                  <a:cubicBezTo>
                    <a:pt x="25464" y="49149"/>
                    <a:pt x="23686" y="48450"/>
                    <a:pt x="23051" y="46926"/>
                  </a:cubicBezTo>
                  <a:lnTo>
                    <a:pt x="18415" y="35877"/>
                  </a:lnTo>
                  <a:cubicBezTo>
                    <a:pt x="17780" y="34354"/>
                    <a:pt x="18479" y="32575"/>
                    <a:pt x="20002" y="31940"/>
                  </a:cubicBezTo>
                  <a:cubicBezTo>
                    <a:pt x="20383" y="31750"/>
                    <a:pt x="20764" y="31686"/>
                    <a:pt x="21209" y="31686"/>
                  </a:cubicBezTo>
                  <a:cubicBezTo>
                    <a:pt x="22352" y="31686"/>
                    <a:pt x="23495" y="32385"/>
                    <a:pt x="23939" y="33528"/>
                  </a:cubicBezTo>
                  <a:lnTo>
                    <a:pt x="28575" y="44577"/>
                  </a:lnTo>
                  <a:cubicBezTo>
                    <a:pt x="29210" y="46164"/>
                    <a:pt x="28511" y="47879"/>
                    <a:pt x="26988" y="48514"/>
                  </a:cubicBezTo>
                  <a:close/>
                </a:path>
              </a:pathLst>
            </a:custGeom>
            <a:solidFill>
              <a:srgbClr val="f4ccc1"/>
            </a:solidFill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81" name="Freeform 365"/>
            <p:cNvSpPr/>
            <p:nvPr/>
          </p:nvSpPr>
          <p:spPr>
            <a:xfrm>
              <a:off x="2538720" y="3920400"/>
              <a:ext cx="25200" cy="27720"/>
            </a:xfrm>
            <a:custGeom>
              <a:avLst/>
              <a:gdLst/>
              <a:ahLst/>
              <a:rect l="l" t="t" r="r" b="b"/>
              <a:pathLst>
                <a:path w="25336" h="27933">
                  <a:moveTo>
                    <a:pt x="25336" y="0"/>
                  </a:moveTo>
                  <a:lnTo>
                    <a:pt x="23939" y="24574"/>
                  </a:lnTo>
                  <a:lnTo>
                    <a:pt x="23876" y="25591"/>
                  </a:lnTo>
                  <a:cubicBezTo>
                    <a:pt x="23876" y="25591"/>
                    <a:pt x="13399" y="30861"/>
                    <a:pt x="1968" y="25591"/>
                  </a:cubicBezTo>
                  <a:lnTo>
                    <a:pt x="1905" y="24638"/>
                  </a:lnTo>
                  <a:lnTo>
                    <a:pt x="1905" y="24638"/>
                  </a:lnTo>
                  <a:lnTo>
                    <a:pt x="0" y="0"/>
                  </a:lnTo>
                  <a:lnTo>
                    <a:pt x="2533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82" name="Freeform 366"/>
            <p:cNvSpPr/>
            <p:nvPr/>
          </p:nvSpPr>
          <p:spPr>
            <a:xfrm>
              <a:off x="2473200" y="3944880"/>
              <a:ext cx="100080" cy="32760"/>
            </a:xfrm>
            <a:custGeom>
              <a:avLst/>
              <a:gdLst/>
              <a:ahLst/>
              <a:rect l="l" t="t" r="r" b="b"/>
              <a:pathLst>
                <a:path w="100266" h="32956">
                  <a:moveTo>
                    <a:pt x="98996" y="32957"/>
                  </a:moveTo>
                  <a:lnTo>
                    <a:pt x="75629" y="32957"/>
                  </a:lnTo>
                  <a:lnTo>
                    <a:pt x="75629" y="21844"/>
                  </a:lnTo>
                  <a:lnTo>
                    <a:pt x="66294" y="32957"/>
                  </a:lnTo>
                  <a:lnTo>
                    <a:pt x="0" y="32957"/>
                  </a:lnTo>
                  <a:lnTo>
                    <a:pt x="0" y="21272"/>
                  </a:lnTo>
                  <a:cubicBezTo>
                    <a:pt x="35560" y="22098"/>
                    <a:pt x="65468" y="1397"/>
                    <a:pt x="67374" y="64"/>
                  </a:cubicBezTo>
                  <a:lnTo>
                    <a:pt x="67437" y="1016"/>
                  </a:lnTo>
                  <a:cubicBezTo>
                    <a:pt x="78867" y="6286"/>
                    <a:pt x="89345" y="1016"/>
                    <a:pt x="89345" y="1016"/>
                  </a:cubicBezTo>
                  <a:lnTo>
                    <a:pt x="89408" y="0"/>
                  </a:lnTo>
                  <a:cubicBezTo>
                    <a:pt x="105410" y="2921"/>
                    <a:pt x="98996" y="32957"/>
                    <a:pt x="98996" y="32957"/>
                  </a:cubicBez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83" name="Freeform 367"/>
            <p:cNvSpPr/>
            <p:nvPr/>
          </p:nvSpPr>
          <p:spPr>
            <a:xfrm>
              <a:off x="2562480" y="3944880"/>
              <a:ext cx="360" cy="6120"/>
            </a:xfrm>
            <a:custGeom>
              <a:avLst/>
              <a:gdLst/>
              <a:ahLst/>
              <a:rect l="l" t="t" r="r" b="b"/>
              <a:pathLst>
                <a:path w="63" h="6350">
                  <a:moveTo>
                    <a:pt x="64" y="0"/>
                  </a:move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84" name="Freeform 368"/>
            <p:cNvSpPr/>
            <p:nvPr/>
          </p:nvSpPr>
          <p:spPr>
            <a:xfrm>
              <a:off x="2540520" y="3944880"/>
              <a:ext cx="360" cy="360"/>
            </a:xfrm>
            <a:custGeom>
              <a:avLst/>
              <a:gdLst/>
              <a:ahLst/>
              <a:rect l="l" t="t" r="r" b="b"/>
              <a:pathLst>
                <a:path w="126" h="63">
                  <a:moveTo>
                    <a:pt x="0" y="64"/>
                  </a:moveTo>
                  <a:lnTo>
                    <a:pt x="0" y="64"/>
                  </a:lnTo>
                  <a:cubicBezTo>
                    <a:pt x="63" y="0"/>
                    <a:pt x="127" y="0"/>
                    <a:pt x="127" y="0"/>
                  </a:cubicBezTo>
                </a:path>
              </a:pathLst>
            </a:custGeom>
            <a:solidFill>
              <a:srgbClr val="f4ccc1"/>
            </a:solidFill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85" name="Freeform 369"/>
            <p:cNvSpPr/>
            <p:nvPr/>
          </p:nvSpPr>
          <p:spPr>
            <a:xfrm>
              <a:off x="2673360" y="3920400"/>
              <a:ext cx="25200" cy="27720"/>
            </a:xfrm>
            <a:custGeom>
              <a:avLst/>
              <a:gdLst/>
              <a:ahLst/>
              <a:rect l="l" t="t" r="r" b="b"/>
              <a:pathLst>
                <a:path w="25336" h="27933">
                  <a:moveTo>
                    <a:pt x="25336" y="0"/>
                  </a:moveTo>
                  <a:lnTo>
                    <a:pt x="23939" y="24574"/>
                  </a:lnTo>
                  <a:lnTo>
                    <a:pt x="23876" y="25591"/>
                  </a:lnTo>
                  <a:cubicBezTo>
                    <a:pt x="23876" y="25591"/>
                    <a:pt x="13335" y="30861"/>
                    <a:pt x="1968" y="25591"/>
                  </a:cubicBezTo>
                  <a:lnTo>
                    <a:pt x="1905" y="24638"/>
                  </a:lnTo>
                  <a:lnTo>
                    <a:pt x="0" y="0"/>
                  </a:lnTo>
                  <a:lnTo>
                    <a:pt x="2533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86" name="Freeform 370"/>
            <p:cNvSpPr/>
            <p:nvPr/>
          </p:nvSpPr>
          <p:spPr>
            <a:xfrm>
              <a:off x="2607840" y="3944880"/>
              <a:ext cx="100080" cy="32760"/>
            </a:xfrm>
            <a:custGeom>
              <a:avLst/>
              <a:gdLst/>
              <a:ahLst/>
              <a:rect l="l" t="t" r="r" b="b"/>
              <a:pathLst>
                <a:path w="100266" h="33020">
                  <a:moveTo>
                    <a:pt x="98996" y="33020"/>
                  </a:moveTo>
                  <a:lnTo>
                    <a:pt x="75629" y="33020"/>
                  </a:lnTo>
                  <a:lnTo>
                    <a:pt x="75629" y="21908"/>
                  </a:lnTo>
                  <a:lnTo>
                    <a:pt x="66294" y="33020"/>
                  </a:lnTo>
                  <a:lnTo>
                    <a:pt x="0" y="33020"/>
                  </a:lnTo>
                  <a:lnTo>
                    <a:pt x="0" y="21336"/>
                  </a:lnTo>
                  <a:cubicBezTo>
                    <a:pt x="35687" y="22161"/>
                    <a:pt x="65595" y="1334"/>
                    <a:pt x="67373" y="64"/>
                  </a:cubicBezTo>
                  <a:lnTo>
                    <a:pt x="67437" y="1016"/>
                  </a:lnTo>
                  <a:cubicBezTo>
                    <a:pt x="78804" y="6286"/>
                    <a:pt x="89344" y="1016"/>
                    <a:pt x="89344" y="1016"/>
                  </a:cubicBezTo>
                  <a:lnTo>
                    <a:pt x="89408" y="0"/>
                  </a:lnTo>
                  <a:cubicBezTo>
                    <a:pt x="105410" y="2985"/>
                    <a:pt x="98996" y="33020"/>
                    <a:pt x="98996" y="33020"/>
                  </a:cubicBez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87" name="Freeform 371"/>
            <p:cNvSpPr/>
            <p:nvPr/>
          </p:nvSpPr>
          <p:spPr>
            <a:xfrm>
              <a:off x="2697480" y="3944880"/>
              <a:ext cx="360" cy="6120"/>
            </a:xfrm>
            <a:custGeom>
              <a:avLst/>
              <a:gdLst/>
              <a:ahLst/>
              <a:rect l="l" t="t" r="r" b="b"/>
              <a:pathLst>
                <a:path w="63" h="6350">
                  <a:moveTo>
                    <a:pt x="63" y="0"/>
                  </a:move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88" name="Freeform 372"/>
            <p:cNvSpPr/>
            <p:nvPr/>
          </p:nvSpPr>
          <p:spPr>
            <a:xfrm>
              <a:off x="2675520" y="3944880"/>
              <a:ext cx="360" cy="36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64" y="0"/>
                  </a:moveTo>
                  <a:cubicBezTo>
                    <a:pt x="64" y="0"/>
                    <a:pt x="0" y="0"/>
                    <a:pt x="0" y="64"/>
                  </a:cubicBezTo>
                </a:path>
              </a:pathLst>
            </a:custGeom>
            <a:solidFill>
              <a:srgbClr val="f4ccc1"/>
            </a:solidFill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89" name="Freeform 373"/>
            <p:cNvSpPr/>
            <p:nvPr/>
          </p:nvSpPr>
          <p:spPr>
            <a:xfrm>
              <a:off x="1991880" y="2758320"/>
              <a:ext cx="544320" cy="544320"/>
            </a:xfrm>
            <a:custGeom>
              <a:avLst/>
              <a:gdLst/>
              <a:ahLst/>
              <a:rect l="l" t="t" r="r" b="b"/>
              <a:pathLst>
                <a:path w="544322" h="544258">
                  <a:moveTo>
                    <a:pt x="407035" y="35687"/>
                  </a:moveTo>
                  <a:cubicBezTo>
                    <a:pt x="367284" y="12954"/>
                    <a:pt x="321246" y="0"/>
                    <a:pt x="272161" y="0"/>
                  </a:cubicBezTo>
                  <a:cubicBezTo>
                    <a:pt x="121857" y="0"/>
                    <a:pt x="0" y="121857"/>
                    <a:pt x="0" y="272161"/>
                  </a:cubicBezTo>
                  <a:cubicBezTo>
                    <a:pt x="0" y="350965"/>
                    <a:pt x="33528" y="421958"/>
                    <a:pt x="87058" y="471615"/>
                  </a:cubicBezTo>
                  <a:cubicBezTo>
                    <a:pt x="135636" y="516699"/>
                    <a:pt x="200660" y="544259"/>
                    <a:pt x="272161" y="544259"/>
                  </a:cubicBezTo>
                  <a:cubicBezTo>
                    <a:pt x="422466" y="544259"/>
                    <a:pt x="544322" y="422402"/>
                    <a:pt x="544322" y="272098"/>
                  </a:cubicBezTo>
                  <a:cubicBezTo>
                    <a:pt x="544322" y="170879"/>
                    <a:pt x="489014" y="82550"/>
                    <a:pt x="407035" y="35687"/>
                  </a:cubicBezTo>
                  <a:close/>
                </a:path>
              </a:pathLst>
            </a:custGeom>
            <a:solidFill>
              <a:srgbClr val="dce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90" name="Freeform 374"/>
            <p:cNvSpPr/>
            <p:nvPr/>
          </p:nvSpPr>
          <p:spPr>
            <a:xfrm>
              <a:off x="2407320" y="3247920"/>
              <a:ext cx="101880" cy="102240"/>
            </a:xfrm>
            <a:custGeom>
              <a:avLst/>
              <a:gdLst/>
              <a:ahLst/>
              <a:rect l="l" t="t" r="r" b="b"/>
              <a:pathLst>
                <a:path w="101980" h="102235">
                  <a:moveTo>
                    <a:pt x="101981" y="60135"/>
                  </a:moveTo>
                  <a:lnTo>
                    <a:pt x="71501" y="81915"/>
                  </a:lnTo>
                  <a:lnTo>
                    <a:pt x="68517" y="84074"/>
                  </a:lnTo>
                  <a:lnTo>
                    <a:pt x="66167" y="85725"/>
                  </a:lnTo>
                  <a:lnTo>
                    <a:pt x="58039" y="91504"/>
                  </a:lnTo>
                  <a:cubicBezTo>
                    <a:pt x="52388" y="87693"/>
                    <a:pt x="46673" y="82360"/>
                    <a:pt x="41529" y="75057"/>
                  </a:cubicBezTo>
                  <a:cubicBezTo>
                    <a:pt x="41529" y="75057"/>
                    <a:pt x="38798" y="90424"/>
                    <a:pt x="45212" y="100648"/>
                  </a:cubicBezTo>
                  <a:lnTo>
                    <a:pt x="42989" y="102235"/>
                  </a:lnTo>
                  <a:lnTo>
                    <a:pt x="33083" y="88392"/>
                  </a:lnTo>
                  <a:cubicBezTo>
                    <a:pt x="33083" y="88392"/>
                    <a:pt x="37274" y="61532"/>
                    <a:pt x="25971" y="53467"/>
                  </a:cubicBezTo>
                  <a:cubicBezTo>
                    <a:pt x="14668" y="45403"/>
                    <a:pt x="1397" y="44133"/>
                    <a:pt x="1397" y="44133"/>
                  </a:cubicBezTo>
                  <a:lnTo>
                    <a:pt x="0" y="42164"/>
                  </a:lnTo>
                  <a:cubicBezTo>
                    <a:pt x="10477" y="36449"/>
                    <a:pt x="20764" y="30036"/>
                    <a:pt x="30734" y="22860"/>
                  </a:cubicBezTo>
                  <a:cubicBezTo>
                    <a:pt x="40704" y="15748"/>
                    <a:pt x="50101" y="8128"/>
                    <a:pt x="58928" y="0"/>
                  </a:cubicBezTo>
                  <a:lnTo>
                    <a:pt x="70421" y="16065"/>
                  </a:lnTo>
                  <a:lnTo>
                    <a:pt x="92964" y="47625"/>
                  </a:lnTo>
                  <a:lnTo>
                    <a:pt x="101981" y="60135"/>
                  </a:lnTo>
                  <a:close/>
                </a:path>
              </a:pathLst>
            </a:custGeom>
            <a:solidFill>
              <a:srgbClr val="9395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91" name="Freeform 375"/>
            <p:cNvSpPr/>
            <p:nvPr/>
          </p:nvSpPr>
          <p:spPr>
            <a:xfrm>
              <a:off x="2478960" y="3308040"/>
              <a:ext cx="30240" cy="21600"/>
            </a:xfrm>
            <a:custGeom>
              <a:avLst/>
              <a:gdLst/>
              <a:ahLst/>
              <a:rect l="l" t="t" r="r" b="b"/>
              <a:pathLst>
                <a:path w="30543" h="21780">
                  <a:moveTo>
                    <a:pt x="30543" y="0"/>
                  </a:moveTo>
                  <a:lnTo>
                    <a:pt x="10541" y="14288"/>
                  </a:lnTo>
                  <a:lnTo>
                    <a:pt x="0" y="21781"/>
                  </a:lnTo>
                  <a:lnTo>
                    <a:pt x="30543" y="0"/>
                  </a:lnTo>
                  <a:close/>
                </a:path>
              </a:pathLst>
            </a:custGeom>
            <a:solidFill>
              <a:srgbClr val="f4ccc1"/>
            </a:solidFill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92" name="Freeform 376"/>
            <p:cNvSpPr/>
            <p:nvPr/>
          </p:nvSpPr>
          <p:spPr>
            <a:xfrm>
              <a:off x="2442600" y="3348360"/>
              <a:ext cx="15840" cy="7200"/>
            </a:xfrm>
            <a:custGeom>
              <a:avLst/>
              <a:gdLst/>
              <a:ahLst/>
              <a:rect l="l" t="t" r="r" b="b"/>
              <a:pathLst>
                <a:path w="15875" h="7239">
                  <a:moveTo>
                    <a:pt x="15875" y="5842"/>
                  </a:moveTo>
                  <a:cubicBezTo>
                    <a:pt x="15875" y="5842"/>
                    <a:pt x="6795" y="5715"/>
                    <a:pt x="0" y="7239"/>
                  </a:cubicBezTo>
                  <a:lnTo>
                    <a:pt x="7874" y="1588"/>
                  </a:lnTo>
                  <a:lnTo>
                    <a:pt x="10096" y="0"/>
                  </a:lnTo>
                  <a:cubicBezTo>
                    <a:pt x="11557" y="2286"/>
                    <a:pt x="13462" y="4318"/>
                    <a:pt x="15875" y="5842"/>
                  </a:cubicBezTo>
                  <a:close/>
                </a:path>
              </a:pathLst>
            </a:custGeom>
            <a:solidFill>
              <a:srgbClr val="6068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93" name="Freeform 377"/>
            <p:cNvSpPr/>
            <p:nvPr/>
          </p:nvSpPr>
          <p:spPr>
            <a:xfrm>
              <a:off x="2465640" y="3299760"/>
              <a:ext cx="70560" cy="49320"/>
            </a:xfrm>
            <a:custGeom>
              <a:avLst/>
              <a:gdLst/>
              <a:ahLst/>
              <a:rect l="l" t="t" r="r" b="b"/>
              <a:pathLst>
                <a:path w="70739" h="49622">
                  <a:moveTo>
                    <a:pt x="70739" y="21526"/>
                  </a:moveTo>
                  <a:cubicBezTo>
                    <a:pt x="48578" y="40386"/>
                    <a:pt x="32004" y="49593"/>
                    <a:pt x="32004" y="49593"/>
                  </a:cubicBezTo>
                  <a:cubicBezTo>
                    <a:pt x="32004" y="49593"/>
                    <a:pt x="16320" y="50673"/>
                    <a:pt x="0" y="39560"/>
                  </a:cubicBezTo>
                  <a:lnTo>
                    <a:pt x="8128" y="33718"/>
                  </a:lnTo>
                  <a:lnTo>
                    <a:pt x="10478" y="32067"/>
                  </a:lnTo>
                  <a:lnTo>
                    <a:pt x="13462" y="29908"/>
                  </a:lnTo>
                  <a:lnTo>
                    <a:pt x="43942" y="8128"/>
                  </a:lnTo>
                  <a:lnTo>
                    <a:pt x="55372" y="0"/>
                  </a:lnTo>
                  <a:lnTo>
                    <a:pt x="70739" y="21526"/>
                  </a:lnTo>
                  <a:close/>
                </a:path>
              </a:pathLst>
            </a:custGeom>
            <a:solidFill>
              <a:srgbClr val="6068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94" name="Freeform 378"/>
            <p:cNvSpPr/>
            <p:nvPr/>
          </p:nvSpPr>
          <p:spPr>
            <a:xfrm>
              <a:off x="2466720" y="3359880"/>
              <a:ext cx="414720" cy="502920"/>
            </a:xfrm>
            <a:custGeom>
              <a:avLst/>
              <a:gdLst/>
              <a:ahLst/>
              <a:rect l="l" t="t" r="r" b="b"/>
              <a:pathLst>
                <a:path w="414908" h="502919">
                  <a:moveTo>
                    <a:pt x="414909" y="444500"/>
                  </a:moveTo>
                  <a:lnTo>
                    <a:pt x="333185" y="502920"/>
                  </a:lnTo>
                  <a:lnTo>
                    <a:pt x="239903" y="372554"/>
                  </a:lnTo>
                  <a:lnTo>
                    <a:pt x="154305" y="252857"/>
                  </a:lnTo>
                  <a:lnTo>
                    <a:pt x="151829" y="249428"/>
                  </a:lnTo>
                  <a:lnTo>
                    <a:pt x="83502" y="153924"/>
                  </a:lnTo>
                  <a:lnTo>
                    <a:pt x="0" y="37211"/>
                  </a:lnTo>
                  <a:cubicBezTo>
                    <a:pt x="12002" y="37592"/>
                    <a:pt x="28448" y="34036"/>
                    <a:pt x="50990" y="23939"/>
                  </a:cubicBezTo>
                  <a:cubicBezTo>
                    <a:pt x="67627" y="17081"/>
                    <a:pt x="82867" y="9017"/>
                    <a:pt x="96838" y="0"/>
                  </a:cubicBezTo>
                  <a:lnTo>
                    <a:pt x="123508" y="37274"/>
                  </a:lnTo>
                  <a:lnTo>
                    <a:pt x="123508" y="37274"/>
                  </a:lnTo>
                  <a:lnTo>
                    <a:pt x="144653" y="66802"/>
                  </a:lnTo>
                  <a:lnTo>
                    <a:pt x="174689" y="108775"/>
                  </a:lnTo>
                  <a:lnTo>
                    <a:pt x="272034" y="244856"/>
                  </a:lnTo>
                  <a:lnTo>
                    <a:pt x="414909" y="444500"/>
                  </a:lnTo>
                  <a:close/>
                </a:path>
              </a:pathLst>
            </a:custGeom>
            <a:solidFill>
              <a:srgbClr val="6068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95" name="Freeform 379"/>
            <p:cNvSpPr/>
            <p:nvPr/>
          </p:nvSpPr>
          <p:spPr>
            <a:xfrm>
              <a:off x="2396880" y="3291840"/>
              <a:ext cx="44280" cy="47880"/>
            </a:xfrm>
            <a:custGeom>
              <a:avLst/>
              <a:gdLst/>
              <a:ahLst/>
              <a:rect l="l" t="t" r="r" b="b"/>
              <a:pathLst>
                <a:path w="44490" h="47894">
                  <a:moveTo>
                    <a:pt x="43731" y="44260"/>
                  </a:moveTo>
                  <a:cubicBezTo>
                    <a:pt x="43731" y="44260"/>
                    <a:pt x="34015" y="55817"/>
                    <a:pt x="10139" y="37719"/>
                  </a:cubicBezTo>
                  <a:cubicBezTo>
                    <a:pt x="-13737" y="19621"/>
                    <a:pt x="12044" y="0"/>
                    <a:pt x="12044" y="0"/>
                  </a:cubicBezTo>
                  <a:cubicBezTo>
                    <a:pt x="12044" y="0"/>
                    <a:pt x="25316" y="1270"/>
                    <a:pt x="36619" y="9335"/>
                  </a:cubicBezTo>
                  <a:cubicBezTo>
                    <a:pt x="47922" y="17399"/>
                    <a:pt x="43731" y="44260"/>
                    <a:pt x="43731" y="44260"/>
                  </a:cubicBezTo>
                  <a:close/>
                </a:path>
              </a:pathLst>
            </a:custGeom>
            <a:solidFill>
              <a:srgbClr val="fe6b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96" name="Freeform 380"/>
            <p:cNvSpPr/>
            <p:nvPr/>
          </p:nvSpPr>
          <p:spPr>
            <a:xfrm>
              <a:off x="2435040" y="3322800"/>
              <a:ext cx="82440" cy="73800"/>
            </a:xfrm>
            <a:custGeom>
              <a:avLst/>
              <a:gdLst/>
              <a:ahLst/>
              <a:rect l="l" t="t" r="r" b="b"/>
              <a:pathLst>
                <a:path w="82641" h="74068">
                  <a:moveTo>
                    <a:pt x="82642" y="60770"/>
                  </a:moveTo>
                  <a:cubicBezTo>
                    <a:pt x="60099" y="70866"/>
                    <a:pt x="43653" y="74422"/>
                    <a:pt x="31651" y="74041"/>
                  </a:cubicBezTo>
                  <a:cubicBezTo>
                    <a:pt x="-1940" y="72961"/>
                    <a:pt x="-607" y="41275"/>
                    <a:pt x="346" y="36957"/>
                  </a:cubicBezTo>
                  <a:cubicBezTo>
                    <a:pt x="790" y="34925"/>
                    <a:pt x="3775" y="33592"/>
                    <a:pt x="7458" y="32830"/>
                  </a:cubicBezTo>
                  <a:cubicBezTo>
                    <a:pt x="14189" y="31305"/>
                    <a:pt x="23333" y="31433"/>
                    <a:pt x="23333" y="31433"/>
                  </a:cubicBezTo>
                  <a:cubicBezTo>
                    <a:pt x="20856" y="29908"/>
                    <a:pt x="19015" y="27877"/>
                    <a:pt x="17554" y="25590"/>
                  </a:cubicBezTo>
                  <a:cubicBezTo>
                    <a:pt x="17554" y="25590"/>
                    <a:pt x="17554" y="25590"/>
                    <a:pt x="17554" y="25590"/>
                  </a:cubicBezTo>
                  <a:cubicBezTo>
                    <a:pt x="11141" y="15367"/>
                    <a:pt x="13871" y="0"/>
                    <a:pt x="13871" y="0"/>
                  </a:cubicBezTo>
                  <a:cubicBezTo>
                    <a:pt x="19015" y="7302"/>
                    <a:pt x="24730" y="12573"/>
                    <a:pt x="30381" y="16446"/>
                  </a:cubicBezTo>
                  <a:lnTo>
                    <a:pt x="30381" y="16446"/>
                  </a:lnTo>
                  <a:cubicBezTo>
                    <a:pt x="46637" y="27559"/>
                    <a:pt x="62385" y="26480"/>
                    <a:pt x="62385" y="26480"/>
                  </a:cubicBezTo>
                  <a:lnTo>
                    <a:pt x="82642" y="60770"/>
                  </a:lnTo>
                  <a:close/>
                </a:path>
              </a:pathLst>
            </a:custGeom>
            <a:solidFill>
              <a:srgbClr val="fe6b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97" name="Freeform 381"/>
            <p:cNvSpPr/>
            <p:nvPr/>
          </p:nvSpPr>
          <p:spPr>
            <a:xfrm>
              <a:off x="2497680" y="3211920"/>
              <a:ext cx="173160" cy="171720"/>
            </a:xfrm>
            <a:custGeom>
              <a:avLst/>
              <a:gdLst/>
              <a:ahLst/>
              <a:rect l="l" t="t" r="r" b="b"/>
              <a:pathLst>
                <a:path w="173354" h="171830">
                  <a:moveTo>
                    <a:pt x="173355" y="30099"/>
                  </a:moveTo>
                  <a:cubicBezTo>
                    <a:pt x="156591" y="60960"/>
                    <a:pt x="130683" y="97345"/>
                    <a:pt x="93345" y="128079"/>
                  </a:cubicBezTo>
                  <a:cubicBezTo>
                    <a:pt x="84899" y="135001"/>
                    <a:pt x="75819" y="141668"/>
                    <a:pt x="66167" y="147892"/>
                  </a:cubicBezTo>
                  <a:cubicBezTo>
                    <a:pt x="52197" y="156908"/>
                    <a:pt x="36957" y="165036"/>
                    <a:pt x="20320" y="171831"/>
                  </a:cubicBezTo>
                  <a:lnTo>
                    <a:pt x="0" y="137604"/>
                  </a:lnTo>
                  <a:cubicBezTo>
                    <a:pt x="0" y="137604"/>
                    <a:pt x="16573" y="128333"/>
                    <a:pt x="38735" y="109538"/>
                  </a:cubicBezTo>
                  <a:cubicBezTo>
                    <a:pt x="52768" y="97599"/>
                    <a:pt x="68961" y="81851"/>
                    <a:pt x="84645" y="62103"/>
                  </a:cubicBezTo>
                  <a:cubicBezTo>
                    <a:pt x="84645" y="62103"/>
                    <a:pt x="84645" y="62103"/>
                    <a:pt x="84645" y="62103"/>
                  </a:cubicBezTo>
                  <a:cubicBezTo>
                    <a:pt x="98615" y="44577"/>
                    <a:pt x="112077" y="23876"/>
                    <a:pt x="123190" y="0"/>
                  </a:cubicBezTo>
                  <a:lnTo>
                    <a:pt x="123190" y="0"/>
                  </a:lnTo>
                  <a:cubicBezTo>
                    <a:pt x="123126" y="0"/>
                    <a:pt x="164529" y="4953"/>
                    <a:pt x="173355" y="30099"/>
                  </a:cubicBezTo>
                  <a:close/>
                </a:path>
              </a:pathLst>
            </a:custGeom>
            <a:solidFill>
              <a:srgbClr val="f8a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98" name="Freeform 382"/>
            <p:cNvSpPr/>
            <p:nvPr/>
          </p:nvSpPr>
          <p:spPr>
            <a:xfrm>
              <a:off x="2594880" y="3083760"/>
              <a:ext cx="73440" cy="40320"/>
            </a:xfrm>
            <a:custGeom>
              <a:avLst/>
              <a:gdLst/>
              <a:ahLst/>
              <a:rect l="l" t="t" r="r" b="b"/>
              <a:pathLst>
                <a:path w="73596" h="40322">
                  <a:moveTo>
                    <a:pt x="73596" y="13716"/>
                  </a:moveTo>
                  <a:lnTo>
                    <a:pt x="0" y="40322"/>
                  </a:lnTo>
                  <a:lnTo>
                    <a:pt x="2032" y="27432"/>
                  </a:lnTo>
                  <a:cubicBezTo>
                    <a:pt x="2032" y="27432"/>
                    <a:pt x="3556" y="26479"/>
                    <a:pt x="6223" y="24955"/>
                  </a:cubicBezTo>
                  <a:cubicBezTo>
                    <a:pt x="16256" y="19050"/>
                    <a:pt x="42418" y="4635"/>
                    <a:pt x="63055" y="825"/>
                  </a:cubicBezTo>
                  <a:cubicBezTo>
                    <a:pt x="65278" y="444"/>
                    <a:pt x="67437" y="127"/>
                    <a:pt x="69533" y="0"/>
                  </a:cubicBezTo>
                  <a:lnTo>
                    <a:pt x="73596" y="13716"/>
                  </a:lnTo>
                  <a:close/>
                </a:path>
              </a:pathLst>
            </a:custGeom>
            <a:solidFill>
              <a:srgbClr val="d14b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599" name="Freeform 383"/>
            <p:cNvSpPr/>
            <p:nvPr/>
          </p:nvSpPr>
          <p:spPr>
            <a:xfrm>
              <a:off x="1967040" y="2730600"/>
              <a:ext cx="590400" cy="595800"/>
            </a:xfrm>
            <a:custGeom>
              <a:avLst/>
              <a:gdLst/>
              <a:ahLst/>
              <a:rect l="l" t="t" r="r" b="b"/>
              <a:pathLst>
                <a:path w="590542" h="595696">
                  <a:moveTo>
                    <a:pt x="590543" y="353180"/>
                  </a:moveTo>
                  <a:cubicBezTo>
                    <a:pt x="578922" y="414711"/>
                    <a:pt x="547934" y="472687"/>
                    <a:pt x="499357" y="517200"/>
                  </a:cubicBezTo>
                  <a:cubicBezTo>
                    <a:pt x="490530" y="525265"/>
                    <a:pt x="481132" y="532885"/>
                    <a:pt x="471163" y="540060"/>
                  </a:cubicBezTo>
                  <a:cubicBezTo>
                    <a:pt x="461193" y="547172"/>
                    <a:pt x="450906" y="553649"/>
                    <a:pt x="440429" y="559364"/>
                  </a:cubicBezTo>
                  <a:cubicBezTo>
                    <a:pt x="310127" y="630611"/>
                    <a:pt x="144201" y="594924"/>
                    <a:pt x="55619" y="471163"/>
                  </a:cubicBezTo>
                  <a:cubicBezTo>
                    <a:pt x="-40076" y="337368"/>
                    <a:pt x="-9215" y="151313"/>
                    <a:pt x="124580" y="55619"/>
                  </a:cubicBezTo>
                  <a:cubicBezTo>
                    <a:pt x="258374" y="-40076"/>
                    <a:pt x="444429" y="-9215"/>
                    <a:pt x="540124" y="124580"/>
                  </a:cubicBezTo>
                  <a:cubicBezTo>
                    <a:pt x="560888" y="153663"/>
                    <a:pt x="575747" y="185159"/>
                    <a:pt x="584764" y="217671"/>
                  </a:cubicBezTo>
                  <a:cubicBezTo>
                    <a:pt x="574668" y="221354"/>
                    <a:pt x="565968" y="226180"/>
                    <a:pt x="560507" y="231768"/>
                  </a:cubicBezTo>
                  <a:cubicBezTo>
                    <a:pt x="560380" y="231895"/>
                    <a:pt x="560317" y="231958"/>
                    <a:pt x="560190" y="232085"/>
                  </a:cubicBezTo>
                  <a:cubicBezTo>
                    <a:pt x="559999" y="232276"/>
                    <a:pt x="559872" y="232403"/>
                    <a:pt x="559745" y="232593"/>
                  </a:cubicBezTo>
                  <a:cubicBezTo>
                    <a:pt x="554221" y="210432"/>
                    <a:pt x="545839" y="188778"/>
                    <a:pt x="534472" y="168077"/>
                  </a:cubicBezTo>
                  <a:cubicBezTo>
                    <a:pt x="529329" y="158806"/>
                    <a:pt x="523677" y="149726"/>
                    <a:pt x="517327" y="140836"/>
                  </a:cubicBezTo>
                  <a:cubicBezTo>
                    <a:pt x="515041" y="137661"/>
                    <a:pt x="512755" y="134549"/>
                    <a:pt x="510406" y="131565"/>
                  </a:cubicBezTo>
                  <a:cubicBezTo>
                    <a:pt x="499865" y="118039"/>
                    <a:pt x="488181" y="105784"/>
                    <a:pt x="475735" y="94862"/>
                  </a:cubicBezTo>
                  <a:cubicBezTo>
                    <a:pt x="469067" y="89020"/>
                    <a:pt x="462209" y="83559"/>
                    <a:pt x="455097" y="78479"/>
                  </a:cubicBezTo>
                  <a:cubicBezTo>
                    <a:pt x="447477" y="73018"/>
                    <a:pt x="439667" y="68001"/>
                    <a:pt x="431602" y="63429"/>
                  </a:cubicBezTo>
                  <a:cubicBezTo>
                    <a:pt x="342956" y="12947"/>
                    <a:pt x="229355" y="15169"/>
                    <a:pt x="140963" y="78415"/>
                  </a:cubicBezTo>
                  <a:cubicBezTo>
                    <a:pt x="19741" y="165093"/>
                    <a:pt x="-8199" y="333622"/>
                    <a:pt x="78479" y="454843"/>
                  </a:cubicBezTo>
                  <a:cubicBezTo>
                    <a:pt x="89020" y="469639"/>
                    <a:pt x="100831" y="483037"/>
                    <a:pt x="113594" y="494975"/>
                  </a:cubicBezTo>
                  <a:cubicBezTo>
                    <a:pt x="205542" y="581145"/>
                    <a:pt x="348481" y="593464"/>
                    <a:pt x="454907" y="517327"/>
                  </a:cubicBezTo>
                  <a:cubicBezTo>
                    <a:pt x="517454" y="472560"/>
                    <a:pt x="555173" y="406012"/>
                    <a:pt x="565143" y="335400"/>
                  </a:cubicBezTo>
                  <a:lnTo>
                    <a:pt x="579303" y="335400"/>
                  </a:lnTo>
                  <a:cubicBezTo>
                    <a:pt x="581018" y="339019"/>
                    <a:pt x="582923" y="342512"/>
                    <a:pt x="585018" y="345750"/>
                  </a:cubicBezTo>
                  <a:cubicBezTo>
                    <a:pt x="586669" y="348354"/>
                    <a:pt x="588574" y="350894"/>
                    <a:pt x="590543" y="353180"/>
                  </a:cubicBezTo>
                  <a:close/>
                </a:path>
              </a:pathLst>
            </a:custGeom>
            <a:solidFill>
              <a:srgbClr val="6068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00" name="Freeform 384"/>
            <p:cNvSpPr/>
            <p:nvPr/>
          </p:nvSpPr>
          <p:spPr>
            <a:xfrm>
              <a:off x="2552400" y="3174120"/>
              <a:ext cx="27360" cy="65520"/>
            </a:xfrm>
            <a:custGeom>
              <a:avLst/>
              <a:gdLst/>
              <a:ahLst/>
              <a:rect l="l" t="t" r="r" b="b"/>
              <a:pathLst>
                <a:path w="27431" h="65849">
                  <a:moveTo>
                    <a:pt x="27432" y="59055"/>
                  </a:moveTo>
                  <a:cubicBezTo>
                    <a:pt x="25844" y="61277"/>
                    <a:pt x="24003" y="63564"/>
                    <a:pt x="22035" y="65849"/>
                  </a:cubicBezTo>
                  <a:lnTo>
                    <a:pt x="0" y="35751"/>
                  </a:lnTo>
                  <a:cubicBezTo>
                    <a:pt x="12382" y="23876"/>
                    <a:pt x="22225" y="11430"/>
                    <a:pt x="25336" y="0"/>
                  </a:cubicBezTo>
                  <a:cubicBezTo>
                    <a:pt x="24892" y="5461"/>
                    <a:pt x="24701" y="11367"/>
                    <a:pt x="25082" y="17653"/>
                  </a:cubicBezTo>
                  <a:cubicBezTo>
                    <a:pt x="25908" y="32385"/>
                    <a:pt x="26733" y="46673"/>
                    <a:pt x="27432" y="59055"/>
                  </a:cubicBezTo>
                  <a:close/>
                </a:path>
              </a:pathLst>
            </a:custGeom>
            <a:solidFill>
              <a:srgbClr val="d14b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01" name="Freeform 385"/>
            <p:cNvSpPr/>
            <p:nvPr/>
          </p:nvSpPr>
          <p:spPr>
            <a:xfrm>
              <a:off x="2620800" y="3124080"/>
              <a:ext cx="75960" cy="117720"/>
            </a:xfrm>
            <a:custGeom>
              <a:avLst/>
              <a:gdLst/>
              <a:ahLst/>
              <a:rect l="l" t="t" r="r" b="b"/>
              <a:pathLst>
                <a:path w="75946" h="117904">
                  <a:moveTo>
                    <a:pt x="75946" y="51929"/>
                  </a:moveTo>
                  <a:cubicBezTo>
                    <a:pt x="75946" y="57707"/>
                    <a:pt x="68390" y="84504"/>
                    <a:pt x="50229" y="117905"/>
                  </a:cubicBezTo>
                  <a:cubicBezTo>
                    <a:pt x="41402" y="92759"/>
                    <a:pt x="0" y="87806"/>
                    <a:pt x="0" y="87806"/>
                  </a:cubicBezTo>
                  <a:lnTo>
                    <a:pt x="0" y="87806"/>
                  </a:lnTo>
                  <a:cubicBezTo>
                    <a:pt x="7303" y="72185"/>
                    <a:pt x="13526" y="55167"/>
                    <a:pt x="18098" y="36752"/>
                  </a:cubicBezTo>
                  <a:cubicBezTo>
                    <a:pt x="18098" y="36752"/>
                    <a:pt x="21590" y="-5285"/>
                    <a:pt x="47308" y="557"/>
                  </a:cubicBezTo>
                  <a:cubicBezTo>
                    <a:pt x="73025" y="6335"/>
                    <a:pt x="75946" y="37895"/>
                    <a:pt x="75946" y="51929"/>
                  </a:cubicBezTo>
                  <a:close/>
                </a:path>
              </a:pathLst>
            </a:custGeom>
            <a:solidFill>
              <a:srgbClr val="fe6b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02" name="Freeform 386"/>
            <p:cNvSpPr/>
            <p:nvPr/>
          </p:nvSpPr>
          <p:spPr>
            <a:xfrm>
              <a:off x="2577240" y="3097440"/>
              <a:ext cx="192600" cy="333000"/>
            </a:xfrm>
            <a:custGeom>
              <a:avLst/>
              <a:gdLst/>
              <a:ahLst/>
              <a:rect l="l" t="t" r="r" b="b"/>
              <a:pathLst>
                <a:path w="192708" h="332994">
                  <a:moveTo>
                    <a:pt x="192708" y="317310"/>
                  </a:moveTo>
                  <a:cubicBezTo>
                    <a:pt x="192708" y="317310"/>
                    <a:pt x="188327" y="318580"/>
                    <a:pt x="180643" y="320485"/>
                  </a:cubicBezTo>
                  <a:cubicBezTo>
                    <a:pt x="161530" y="325057"/>
                    <a:pt x="122223" y="333058"/>
                    <a:pt x="80377" y="332994"/>
                  </a:cubicBezTo>
                  <a:cubicBezTo>
                    <a:pt x="65010" y="332994"/>
                    <a:pt x="49325" y="331851"/>
                    <a:pt x="34149" y="329121"/>
                  </a:cubicBezTo>
                  <a:lnTo>
                    <a:pt x="13003" y="299593"/>
                  </a:lnTo>
                  <a:lnTo>
                    <a:pt x="13003" y="299593"/>
                  </a:lnTo>
                  <a:lnTo>
                    <a:pt x="13575" y="242507"/>
                  </a:lnTo>
                  <a:cubicBezTo>
                    <a:pt x="50976" y="211773"/>
                    <a:pt x="76821" y="175387"/>
                    <a:pt x="93585" y="144526"/>
                  </a:cubicBezTo>
                  <a:cubicBezTo>
                    <a:pt x="111746" y="111125"/>
                    <a:pt x="119302" y="84328"/>
                    <a:pt x="119302" y="78550"/>
                  </a:cubicBezTo>
                  <a:cubicBezTo>
                    <a:pt x="119302" y="64516"/>
                    <a:pt x="116381" y="33020"/>
                    <a:pt x="90664" y="27178"/>
                  </a:cubicBezTo>
                  <a:cubicBezTo>
                    <a:pt x="64946" y="21336"/>
                    <a:pt x="61454" y="63373"/>
                    <a:pt x="61454" y="63373"/>
                  </a:cubicBezTo>
                  <a:cubicBezTo>
                    <a:pt x="56818" y="81788"/>
                    <a:pt x="50595" y="98806"/>
                    <a:pt x="43356" y="114427"/>
                  </a:cubicBezTo>
                  <a:cubicBezTo>
                    <a:pt x="32307" y="138303"/>
                    <a:pt x="18782" y="159004"/>
                    <a:pt x="4812" y="176530"/>
                  </a:cubicBezTo>
                  <a:cubicBezTo>
                    <a:pt x="4748" y="175895"/>
                    <a:pt x="3796" y="159258"/>
                    <a:pt x="2462" y="135827"/>
                  </a:cubicBezTo>
                  <a:cubicBezTo>
                    <a:pt x="1764" y="123444"/>
                    <a:pt x="1002" y="109157"/>
                    <a:pt x="176" y="94361"/>
                  </a:cubicBezTo>
                  <a:cubicBezTo>
                    <a:pt x="-141" y="88075"/>
                    <a:pt x="-14" y="82233"/>
                    <a:pt x="430" y="76708"/>
                  </a:cubicBezTo>
                  <a:lnTo>
                    <a:pt x="430" y="76708"/>
                  </a:lnTo>
                  <a:cubicBezTo>
                    <a:pt x="3161" y="44514"/>
                    <a:pt x="17702" y="26607"/>
                    <a:pt x="17702" y="26607"/>
                  </a:cubicBezTo>
                  <a:lnTo>
                    <a:pt x="91299" y="0"/>
                  </a:lnTo>
                  <a:cubicBezTo>
                    <a:pt x="91235" y="-64"/>
                    <a:pt x="183120" y="70485"/>
                    <a:pt x="192708" y="317310"/>
                  </a:cubicBezTo>
                  <a:close/>
                </a:path>
              </a:pathLst>
            </a:custGeom>
            <a:solidFill>
              <a:srgbClr val="fe6b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03" name="Freeform 387"/>
            <p:cNvSpPr/>
            <p:nvPr/>
          </p:nvSpPr>
          <p:spPr>
            <a:xfrm>
              <a:off x="2477880" y="3209760"/>
              <a:ext cx="96480" cy="85320"/>
            </a:xfrm>
            <a:custGeom>
              <a:avLst/>
              <a:gdLst/>
              <a:ahLst/>
              <a:rect l="l" t="t" r="r" b="b"/>
              <a:pathLst>
                <a:path w="96520" h="85597">
                  <a:moveTo>
                    <a:pt x="96520" y="30099"/>
                  </a:moveTo>
                  <a:cubicBezTo>
                    <a:pt x="72009" y="58293"/>
                    <a:pt x="22542" y="85598"/>
                    <a:pt x="22542" y="85598"/>
                  </a:cubicBezTo>
                  <a:lnTo>
                    <a:pt x="0" y="54038"/>
                  </a:lnTo>
                  <a:cubicBezTo>
                    <a:pt x="0" y="54038"/>
                    <a:pt x="44640" y="28638"/>
                    <a:pt x="74486" y="0"/>
                  </a:cubicBezTo>
                  <a:lnTo>
                    <a:pt x="96520" y="30099"/>
                  </a:lnTo>
                  <a:close/>
                </a:path>
              </a:pathLst>
            </a:custGeom>
            <a:solidFill>
              <a:srgbClr val="f8a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04" name="Freeform 388"/>
            <p:cNvSpPr/>
            <p:nvPr/>
          </p:nvSpPr>
          <p:spPr>
            <a:xfrm>
              <a:off x="2502000" y="3513600"/>
              <a:ext cx="116640" cy="406440"/>
            </a:xfrm>
            <a:custGeom>
              <a:avLst/>
              <a:gdLst/>
              <a:ahLst/>
              <a:rect l="l" t="t" r="r" b="b"/>
              <a:pathLst>
                <a:path w="116746" h="406590">
                  <a:moveTo>
                    <a:pt x="71852" y="406591"/>
                  </a:moveTo>
                  <a:lnTo>
                    <a:pt x="35276" y="406591"/>
                  </a:lnTo>
                  <a:cubicBezTo>
                    <a:pt x="-51148" y="225933"/>
                    <a:pt x="48420" y="0"/>
                    <a:pt x="48420" y="0"/>
                  </a:cubicBezTo>
                  <a:lnTo>
                    <a:pt x="116746" y="95504"/>
                  </a:lnTo>
                  <a:cubicBezTo>
                    <a:pt x="47214" y="199580"/>
                    <a:pt x="71852" y="406591"/>
                    <a:pt x="71852" y="406591"/>
                  </a:cubicBezTo>
                  <a:close/>
                </a:path>
              </a:pathLst>
            </a:custGeom>
            <a:solidFill>
              <a:srgbClr val="d14b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05" name="Freeform 389"/>
            <p:cNvSpPr/>
            <p:nvPr/>
          </p:nvSpPr>
          <p:spPr>
            <a:xfrm>
              <a:off x="2611440" y="3426480"/>
              <a:ext cx="46080" cy="41760"/>
            </a:xfrm>
            <a:custGeom>
              <a:avLst/>
              <a:gdLst/>
              <a:ahLst/>
              <a:rect l="l" t="t" r="r" b="b"/>
              <a:pathLst>
                <a:path w="46227" h="41973">
                  <a:moveTo>
                    <a:pt x="-19308" y="3873"/>
                  </a:moveTo>
                  <a:cubicBezTo>
                    <a:pt x="-25785" y="15367"/>
                    <a:pt x="-31119" y="28321"/>
                    <a:pt x="30035" y="-23563"/>
                  </a:cubicBezTo>
                  <a:lnTo>
                    <a:pt x="0" y="0"/>
                  </a:lnTo>
                  <a:cubicBezTo>
                    <a:pt x="15176" y="2730"/>
                    <a:pt x="30861" y="3810"/>
                    <a:pt x="-19308" y="3873"/>
                  </a:cubicBezTo>
                  <a:close/>
                </a:path>
              </a:pathLst>
            </a:custGeom>
            <a:solidFill>
              <a:srgbClr val="d14b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06" name="Freeform 390"/>
            <p:cNvSpPr/>
            <p:nvPr/>
          </p:nvSpPr>
          <p:spPr>
            <a:xfrm>
              <a:off x="2641680" y="3417840"/>
              <a:ext cx="118440" cy="186480"/>
            </a:xfrm>
            <a:custGeom>
              <a:avLst/>
              <a:gdLst/>
              <a:ahLst/>
              <a:rect l="l" t="t" r="r" b="b"/>
              <a:pathLst>
                <a:path w="118717" h="186690">
                  <a:moveTo>
                    <a:pt x="97346" y="186690"/>
                  </a:moveTo>
                  <a:lnTo>
                    <a:pt x="0" y="50610"/>
                  </a:lnTo>
                  <a:cubicBezTo>
                    <a:pt x="4382" y="37021"/>
                    <a:pt x="9715" y="24003"/>
                    <a:pt x="16193" y="12510"/>
                  </a:cubicBezTo>
                  <a:cubicBezTo>
                    <a:pt x="57976" y="12573"/>
                    <a:pt x="97346" y="4572"/>
                    <a:pt x="116459" y="0"/>
                  </a:cubicBezTo>
                  <a:cubicBezTo>
                    <a:pt x="123698" y="36576"/>
                    <a:pt x="112522" y="114046"/>
                    <a:pt x="97346" y="186690"/>
                  </a:cubicBezTo>
                  <a:close/>
                </a:path>
              </a:pathLst>
            </a:custGeom>
            <a:solidFill>
              <a:srgbClr val="fe6b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07" name="Freeform 391"/>
            <p:cNvSpPr/>
            <p:nvPr/>
          </p:nvSpPr>
          <p:spPr>
            <a:xfrm>
              <a:off x="2621160" y="3612600"/>
              <a:ext cx="85320" cy="307440"/>
            </a:xfrm>
            <a:custGeom>
              <a:avLst/>
              <a:gdLst/>
              <a:ahLst/>
              <a:rect l="l" t="t" r="r" b="b"/>
              <a:pathLst>
                <a:path w="85598" h="307594">
                  <a:moveTo>
                    <a:pt x="85281" y="307594"/>
                  </a:moveTo>
                  <a:lnTo>
                    <a:pt x="50800" y="307594"/>
                  </a:lnTo>
                  <a:cubicBezTo>
                    <a:pt x="4064" y="228918"/>
                    <a:pt x="0" y="0"/>
                    <a:pt x="0" y="0"/>
                  </a:cubicBezTo>
                  <a:lnTo>
                    <a:pt x="85598" y="119698"/>
                  </a:lnTo>
                  <a:cubicBezTo>
                    <a:pt x="62230" y="195072"/>
                    <a:pt x="85281" y="307594"/>
                    <a:pt x="85281" y="307594"/>
                  </a:cubicBezTo>
                  <a:close/>
                </a:path>
              </a:pathLst>
            </a:custGeom>
            <a:solidFill>
              <a:srgbClr val="fe6b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08" name="Freeform 392"/>
            <p:cNvSpPr/>
            <p:nvPr/>
          </p:nvSpPr>
          <p:spPr>
            <a:xfrm>
              <a:off x="2400480" y="2917080"/>
              <a:ext cx="12960" cy="12960"/>
            </a:xfrm>
            <a:custGeom>
              <a:avLst/>
              <a:gdLst/>
              <a:ahLst/>
              <a:rect l="l" t="t" r="r" b="b"/>
              <a:pathLst>
                <a:path w="13017" h="13017">
                  <a:moveTo>
                    <a:pt x="13017" y="6540"/>
                  </a:moveTo>
                  <a:cubicBezTo>
                    <a:pt x="13017" y="10160"/>
                    <a:pt x="10096" y="13017"/>
                    <a:pt x="6477" y="13017"/>
                  </a:cubicBezTo>
                  <a:cubicBezTo>
                    <a:pt x="2858" y="13017"/>
                    <a:pt x="0" y="10096"/>
                    <a:pt x="0" y="6540"/>
                  </a:cubicBezTo>
                  <a:cubicBezTo>
                    <a:pt x="0" y="2921"/>
                    <a:pt x="2921" y="0"/>
                    <a:pt x="6477" y="0"/>
                  </a:cubicBezTo>
                  <a:cubicBezTo>
                    <a:pt x="10096" y="64"/>
                    <a:pt x="13017" y="2985"/>
                    <a:pt x="13017" y="6540"/>
                  </a:cubicBezTo>
                  <a:close/>
                </a:path>
              </a:pathLst>
            </a:custGeom>
            <a:solidFill>
              <a:srgbClr val="b7ce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09" name="Freeform 393"/>
            <p:cNvSpPr/>
            <p:nvPr/>
          </p:nvSpPr>
          <p:spPr>
            <a:xfrm>
              <a:off x="1825560" y="2971440"/>
              <a:ext cx="96840" cy="45000"/>
            </a:xfrm>
            <a:custGeom>
              <a:avLst/>
              <a:gdLst/>
              <a:ahLst/>
              <a:rect l="l" t="t" r="r" b="b"/>
              <a:pathLst>
                <a:path w="97155" h="45095">
                  <a:moveTo>
                    <a:pt x="93091" y="39688"/>
                  </a:moveTo>
                  <a:cubicBezTo>
                    <a:pt x="91885" y="41211"/>
                    <a:pt x="90551" y="42037"/>
                    <a:pt x="89154" y="41783"/>
                  </a:cubicBezTo>
                  <a:cubicBezTo>
                    <a:pt x="33718" y="54673"/>
                    <a:pt x="0" y="25781"/>
                    <a:pt x="0" y="25781"/>
                  </a:cubicBezTo>
                  <a:cubicBezTo>
                    <a:pt x="2095" y="3365"/>
                    <a:pt x="10858" y="0"/>
                    <a:pt x="10858" y="0"/>
                  </a:cubicBezTo>
                  <a:cubicBezTo>
                    <a:pt x="11239" y="508"/>
                    <a:pt x="11684" y="952"/>
                    <a:pt x="12129" y="1460"/>
                  </a:cubicBezTo>
                  <a:cubicBezTo>
                    <a:pt x="28511" y="19558"/>
                    <a:pt x="54292" y="22923"/>
                    <a:pt x="73025" y="22606"/>
                  </a:cubicBezTo>
                  <a:cubicBezTo>
                    <a:pt x="86614" y="22352"/>
                    <a:pt x="96457" y="20193"/>
                    <a:pt x="96457" y="20193"/>
                  </a:cubicBezTo>
                  <a:cubicBezTo>
                    <a:pt x="98298" y="26416"/>
                    <a:pt x="96266" y="35560"/>
                    <a:pt x="93091" y="39688"/>
                  </a:cubicBezTo>
                  <a:close/>
                </a:path>
              </a:pathLst>
            </a:custGeom>
            <a:solidFill>
              <a:srgbClr val="8fd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10" name="Freeform 394"/>
            <p:cNvSpPr/>
            <p:nvPr/>
          </p:nvSpPr>
          <p:spPr>
            <a:xfrm>
              <a:off x="1954080" y="2899440"/>
              <a:ext cx="6120" cy="360"/>
            </a:xfrm>
            <a:custGeom>
              <a:avLst/>
              <a:gdLst/>
              <a:ahLst/>
              <a:rect l="l" t="t" r="r" b="b"/>
              <a:pathLst>
                <a:path w="6350" h="635">
                  <a:moveTo>
                    <a:pt x="0" y="0"/>
                  </a:moveTo>
                  <a:cubicBezTo>
                    <a:pt x="0" y="0"/>
                    <a:pt x="0" y="190"/>
                    <a:pt x="0" y="635"/>
                  </a:cubicBezTo>
                </a:path>
              </a:pathLst>
            </a:custGeom>
            <a:solidFill>
              <a:srgbClr val="f4ccc1"/>
            </a:solidFill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11" name="Freeform 395"/>
            <p:cNvSpPr/>
            <p:nvPr/>
          </p:nvSpPr>
          <p:spPr>
            <a:xfrm>
              <a:off x="1941480" y="2913480"/>
              <a:ext cx="14040" cy="33120"/>
            </a:xfrm>
            <a:custGeom>
              <a:avLst/>
              <a:gdLst/>
              <a:ahLst/>
              <a:rect l="l" t="t" r="r" b="b"/>
              <a:pathLst>
                <a:path w="14097" h="33210">
                  <a:moveTo>
                    <a:pt x="14097" y="-32326"/>
                  </a:moveTo>
                  <a:lnTo>
                    <a:pt x="0" y="31305"/>
                  </a:lnTo>
                  <a:cubicBezTo>
                    <a:pt x="6160" y="20701"/>
                    <a:pt x="9335" y="8953"/>
                    <a:pt x="10922" y="0"/>
                  </a:cubicBezTo>
                  <a:lnTo>
                    <a:pt x="14097" y="-32326"/>
                  </a:lnTo>
                  <a:close/>
                </a:path>
              </a:pathLst>
            </a:custGeom>
            <a:solidFill>
              <a:srgbClr val="d16b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12" name="Freeform 396"/>
            <p:cNvSpPr/>
            <p:nvPr/>
          </p:nvSpPr>
          <p:spPr>
            <a:xfrm>
              <a:off x="1817280" y="2794320"/>
              <a:ext cx="171720" cy="147600"/>
            </a:xfrm>
            <a:custGeom>
              <a:avLst/>
              <a:gdLst/>
              <a:ahLst/>
              <a:rect l="l" t="t" r="r" b="b"/>
              <a:pathLst>
                <a:path w="171899" h="147823">
                  <a:moveTo>
                    <a:pt x="169144" y="89594"/>
                  </a:moveTo>
                  <a:cubicBezTo>
                    <a:pt x="156699" y="106041"/>
                    <a:pt x="145459" y="108327"/>
                    <a:pt x="136887" y="105977"/>
                  </a:cubicBezTo>
                  <a:cubicBezTo>
                    <a:pt x="126536" y="103120"/>
                    <a:pt x="120123" y="93404"/>
                    <a:pt x="120123" y="93404"/>
                  </a:cubicBezTo>
                  <a:cubicBezTo>
                    <a:pt x="105899" y="98548"/>
                    <a:pt x="99612" y="91436"/>
                    <a:pt x="99612" y="91436"/>
                  </a:cubicBezTo>
                  <a:cubicBezTo>
                    <a:pt x="83547" y="118550"/>
                    <a:pt x="45954" y="113470"/>
                    <a:pt x="45954" y="113470"/>
                  </a:cubicBezTo>
                  <a:cubicBezTo>
                    <a:pt x="45954" y="113470"/>
                    <a:pt x="42970" y="91944"/>
                    <a:pt x="27032" y="104136"/>
                  </a:cubicBezTo>
                  <a:cubicBezTo>
                    <a:pt x="11093" y="116264"/>
                    <a:pt x="34144" y="140204"/>
                    <a:pt x="34144" y="140204"/>
                  </a:cubicBezTo>
                  <a:lnTo>
                    <a:pt x="29508" y="147824"/>
                  </a:lnTo>
                  <a:cubicBezTo>
                    <a:pt x="27222" y="143760"/>
                    <a:pt x="-1988" y="91372"/>
                    <a:pt x="107" y="56511"/>
                  </a:cubicBezTo>
                  <a:cubicBezTo>
                    <a:pt x="2266" y="20189"/>
                    <a:pt x="37636" y="30095"/>
                    <a:pt x="37636" y="30095"/>
                  </a:cubicBezTo>
                  <a:cubicBezTo>
                    <a:pt x="37636" y="30095"/>
                    <a:pt x="54527" y="-12196"/>
                    <a:pt x="102660" y="3488"/>
                  </a:cubicBezTo>
                  <a:cubicBezTo>
                    <a:pt x="150793" y="19173"/>
                    <a:pt x="143173" y="56638"/>
                    <a:pt x="143173" y="56638"/>
                  </a:cubicBezTo>
                  <a:cubicBezTo>
                    <a:pt x="184385" y="61083"/>
                    <a:pt x="169144" y="89594"/>
                    <a:pt x="169144" y="89594"/>
                  </a:cubicBezTo>
                  <a:close/>
                </a:path>
              </a:pathLst>
            </a:custGeom>
            <a:solidFill>
              <a:srgbClr val="803d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13" name="Freeform 397"/>
            <p:cNvSpPr/>
            <p:nvPr/>
          </p:nvSpPr>
          <p:spPr>
            <a:xfrm>
              <a:off x="1747800" y="2997360"/>
              <a:ext cx="202320" cy="415080"/>
            </a:xfrm>
            <a:custGeom>
              <a:avLst/>
              <a:gdLst/>
              <a:ahLst/>
              <a:rect l="l" t="t" r="r" b="b"/>
              <a:pathLst>
                <a:path w="202438" h="415163">
                  <a:moveTo>
                    <a:pt x="194120" y="415163"/>
                  </a:moveTo>
                  <a:cubicBezTo>
                    <a:pt x="189167" y="415099"/>
                    <a:pt x="184150" y="415099"/>
                    <a:pt x="179197" y="415036"/>
                  </a:cubicBezTo>
                  <a:cubicBezTo>
                    <a:pt x="133604" y="414655"/>
                    <a:pt x="88075" y="414274"/>
                    <a:pt x="42545" y="413893"/>
                  </a:cubicBezTo>
                  <a:cubicBezTo>
                    <a:pt x="34735" y="413829"/>
                    <a:pt x="28512" y="413512"/>
                    <a:pt x="23559" y="413067"/>
                  </a:cubicBezTo>
                  <a:cubicBezTo>
                    <a:pt x="6668" y="411480"/>
                    <a:pt x="4064" y="407988"/>
                    <a:pt x="0" y="405701"/>
                  </a:cubicBezTo>
                  <a:cubicBezTo>
                    <a:pt x="17018" y="363855"/>
                    <a:pt x="23368" y="242633"/>
                    <a:pt x="30607" y="156527"/>
                  </a:cubicBezTo>
                  <a:cubicBezTo>
                    <a:pt x="32957" y="128460"/>
                    <a:pt x="32830" y="100076"/>
                    <a:pt x="37910" y="72326"/>
                  </a:cubicBezTo>
                  <a:cubicBezTo>
                    <a:pt x="42990" y="44577"/>
                    <a:pt x="56769" y="18986"/>
                    <a:pt x="77534" y="0"/>
                  </a:cubicBezTo>
                  <a:cubicBezTo>
                    <a:pt x="77534" y="0"/>
                    <a:pt x="111252" y="28892"/>
                    <a:pt x="166688" y="16002"/>
                  </a:cubicBezTo>
                  <a:cubicBezTo>
                    <a:pt x="168021" y="16320"/>
                    <a:pt x="169418" y="15494"/>
                    <a:pt x="170625" y="13907"/>
                  </a:cubicBezTo>
                  <a:cubicBezTo>
                    <a:pt x="189992" y="57467"/>
                    <a:pt x="199073" y="105029"/>
                    <a:pt x="201930" y="152781"/>
                  </a:cubicBezTo>
                  <a:cubicBezTo>
                    <a:pt x="171069" y="128270"/>
                    <a:pt x="165481" y="66929"/>
                    <a:pt x="165481" y="66929"/>
                  </a:cubicBezTo>
                  <a:cubicBezTo>
                    <a:pt x="165481" y="66929"/>
                    <a:pt x="160020" y="28067"/>
                    <a:pt x="128842" y="41338"/>
                  </a:cubicBezTo>
                  <a:cubicBezTo>
                    <a:pt x="97663" y="54610"/>
                    <a:pt x="107506" y="90551"/>
                    <a:pt x="107506" y="90551"/>
                  </a:cubicBezTo>
                  <a:cubicBezTo>
                    <a:pt x="107506" y="90551"/>
                    <a:pt x="126429" y="209232"/>
                    <a:pt x="202438" y="217995"/>
                  </a:cubicBezTo>
                  <a:cubicBezTo>
                    <a:pt x="201041" y="256476"/>
                    <a:pt x="197041" y="294830"/>
                    <a:pt x="193104" y="333121"/>
                  </a:cubicBezTo>
                  <a:cubicBezTo>
                    <a:pt x="190373" y="359601"/>
                    <a:pt x="196850" y="388747"/>
                    <a:pt x="194120" y="41516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14" name="Freeform 398"/>
            <p:cNvSpPr/>
            <p:nvPr/>
          </p:nvSpPr>
          <p:spPr>
            <a:xfrm>
              <a:off x="1854000" y="3035880"/>
              <a:ext cx="211320" cy="179640"/>
            </a:xfrm>
            <a:custGeom>
              <a:avLst/>
              <a:gdLst/>
              <a:ahLst/>
              <a:rect l="l" t="t" r="r" b="b"/>
              <a:pathLst>
                <a:path w="211405" h="179927">
                  <a:moveTo>
                    <a:pt x="211405" y="119793"/>
                  </a:moveTo>
                  <a:cubicBezTo>
                    <a:pt x="211405" y="119793"/>
                    <a:pt x="197626" y="174847"/>
                    <a:pt x="110123" y="179800"/>
                  </a:cubicBezTo>
                  <a:cubicBezTo>
                    <a:pt x="105360" y="180054"/>
                    <a:pt x="100788" y="179927"/>
                    <a:pt x="96407" y="179419"/>
                  </a:cubicBezTo>
                  <a:cubicBezTo>
                    <a:pt x="20334" y="170656"/>
                    <a:pt x="1474" y="51975"/>
                    <a:pt x="1474" y="51975"/>
                  </a:cubicBezTo>
                  <a:cubicBezTo>
                    <a:pt x="1474" y="51975"/>
                    <a:pt x="-8368" y="16034"/>
                    <a:pt x="22810" y="2762"/>
                  </a:cubicBezTo>
                  <a:cubicBezTo>
                    <a:pt x="54052" y="-10509"/>
                    <a:pt x="59450" y="28353"/>
                    <a:pt x="59450" y="28353"/>
                  </a:cubicBezTo>
                  <a:cubicBezTo>
                    <a:pt x="59450" y="28353"/>
                    <a:pt x="65038" y="89694"/>
                    <a:pt x="95899" y="114205"/>
                  </a:cubicBezTo>
                  <a:cubicBezTo>
                    <a:pt x="99328" y="116935"/>
                    <a:pt x="103074" y="119221"/>
                    <a:pt x="107202" y="120872"/>
                  </a:cubicBezTo>
                  <a:cubicBezTo>
                    <a:pt x="148032" y="137636"/>
                    <a:pt x="180481" y="103600"/>
                    <a:pt x="180481" y="103600"/>
                  </a:cubicBezTo>
                  <a:lnTo>
                    <a:pt x="205500" y="116681"/>
                  </a:lnTo>
                  <a:lnTo>
                    <a:pt x="211405" y="1197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15" name="Freeform 399"/>
            <p:cNvSpPr/>
            <p:nvPr/>
          </p:nvSpPr>
          <p:spPr>
            <a:xfrm>
              <a:off x="2034360" y="3127680"/>
              <a:ext cx="29520" cy="24480"/>
            </a:xfrm>
            <a:custGeom>
              <a:avLst/>
              <a:gdLst/>
              <a:ahLst/>
              <a:rect l="l" t="t" r="r" b="b"/>
              <a:pathLst>
                <a:path w="29717" h="24828">
                  <a:moveTo>
                    <a:pt x="29718" y="5842"/>
                  </a:moveTo>
                  <a:lnTo>
                    <a:pt x="25019" y="24828"/>
                  </a:lnTo>
                  <a:lnTo>
                    <a:pt x="0" y="11747"/>
                  </a:lnTo>
                  <a:lnTo>
                    <a:pt x="3746" y="0"/>
                  </a:lnTo>
                  <a:lnTo>
                    <a:pt x="29718" y="5842"/>
                  </a:lnTo>
                  <a:close/>
                </a:path>
              </a:pathLst>
            </a:custGeom>
            <a:solidFill>
              <a:srgbClr val="f8a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16" name="Freeform 400"/>
            <p:cNvSpPr/>
            <p:nvPr/>
          </p:nvSpPr>
          <p:spPr>
            <a:xfrm>
              <a:off x="2032200" y="3022920"/>
              <a:ext cx="52560" cy="110520"/>
            </a:xfrm>
            <a:custGeom>
              <a:avLst/>
              <a:gdLst/>
              <a:ahLst/>
              <a:rect l="l" t="t" r="r" b="b"/>
              <a:pathLst>
                <a:path w="52642" h="110680">
                  <a:moveTo>
                    <a:pt x="31993" y="110680"/>
                  </a:moveTo>
                  <a:lnTo>
                    <a:pt x="6022" y="104839"/>
                  </a:lnTo>
                  <a:cubicBezTo>
                    <a:pt x="2275" y="101155"/>
                    <a:pt x="561" y="96393"/>
                    <a:pt x="116" y="91186"/>
                  </a:cubicBezTo>
                  <a:cubicBezTo>
                    <a:pt x="-582" y="83121"/>
                    <a:pt x="1958" y="73977"/>
                    <a:pt x="5323" y="66611"/>
                  </a:cubicBezTo>
                  <a:cubicBezTo>
                    <a:pt x="7927" y="60960"/>
                    <a:pt x="11673" y="55943"/>
                    <a:pt x="14023" y="50229"/>
                  </a:cubicBezTo>
                  <a:cubicBezTo>
                    <a:pt x="18023" y="40704"/>
                    <a:pt x="17833" y="29464"/>
                    <a:pt x="13642" y="20002"/>
                  </a:cubicBezTo>
                  <a:cubicBezTo>
                    <a:pt x="23611" y="20892"/>
                    <a:pt x="33390" y="40449"/>
                    <a:pt x="33390" y="40894"/>
                  </a:cubicBezTo>
                  <a:lnTo>
                    <a:pt x="43995" y="0"/>
                  </a:lnTo>
                  <a:cubicBezTo>
                    <a:pt x="43931" y="0"/>
                    <a:pt x="69966" y="65214"/>
                    <a:pt x="31993" y="110680"/>
                  </a:cubicBezTo>
                  <a:close/>
                </a:path>
              </a:pathLst>
            </a:custGeom>
            <a:solidFill>
              <a:srgbClr val="81c4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17" name="Freeform 401"/>
            <p:cNvSpPr/>
            <p:nvPr/>
          </p:nvSpPr>
          <p:spPr>
            <a:xfrm>
              <a:off x="1980000" y="2924640"/>
              <a:ext cx="106920" cy="189360"/>
            </a:xfrm>
            <a:custGeom>
              <a:avLst/>
              <a:gdLst/>
              <a:ahLst/>
              <a:rect l="l" t="t" r="r" b="b"/>
              <a:pathLst>
                <a:path w="107188" h="189547">
                  <a:moveTo>
                    <a:pt x="107188" y="38481"/>
                  </a:moveTo>
                  <a:lnTo>
                    <a:pt x="96076" y="98361"/>
                  </a:lnTo>
                  <a:lnTo>
                    <a:pt x="85471" y="139255"/>
                  </a:lnTo>
                  <a:cubicBezTo>
                    <a:pt x="85471" y="138811"/>
                    <a:pt x="75692" y="119253"/>
                    <a:pt x="65723" y="118364"/>
                  </a:cubicBezTo>
                  <a:cubicBezTo>
                    <a:pt x="69977" y="127825"/>
                    <a:pt x="70104" y="139001"/>
                    <a:pt x="66104" y="148590"/>
                  </a:cubicBezTo>
                  <a:cubicBezTo>
                    <a:pt x="63690" y="154305"/>
                    <a:pt x="59944" y="159385"/>
                    <a:pt x="57404" y="164973"/>
                  </a:cubicBezTo>
                  <a:cubicBezTo>
                    <a:pt x="54038" y="172339"/>
                    <a:pt x="51498" y="181483"/>
                    <a:pt x="52197" y="189547"/>
                  </a:cubicBezTo>
                  <a:lnTo>
                    <a:pt x="52197" y="189547"/>
                  </a:lnTo>
                  <a:lnTo>
                    <a:pt x="0" y="153733"/>
                  </a:lnTo>
                  <a:lnTo>
                    <a:pt x="35623" y="0"/>
                  </a:lnTo>
                  <a:lnTo>
                    <a:pt x="107188" y="384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18" name="Freeform 402"/>
            <p:cNvSpPr/>
            <p:nvPr/>
          </p:nvSpPr>
          <p:spPr>
            <a:xfrm>
              <a:off x="1837440" y="2885760"/>
              <a:ext cx="116280" cy="108360"/>
            </a:xfrm>
            <a:custGeom>
              <a:avLst/>
              <a:gdLst/>
              <a:ahLst/>
              <a:rect l="l" t="t" r="r" b="b"/>
              <a:pathLst>
                <a:path w="116522" h="108477">
                  <a:moveTo>
                    <a:pt x="99886" y="1968"/>
                  </a:moveTo>
                  <a:cubicBezTo>
                    <a:pt x="85661" y="7112"/>
                    <a:pt x="79375" y="0"/>
                    <a:pt x="79375" y="0"/>
                  </a:cubicBezTo>
                  <a:cubicBezTo>
                    <a:pt x="63310" y="27115"/>
                    <a:pt x="25717" y="22035"/>
                    <a:pt x="25717" y="22035"/>
                  </a:cubicBezTo>
                  <a:cubicBezTo>
                    <a:pt x="25717" y="22035"/>
                    <a:pt x="22733" y="508"/>
                    <a:pt x="6795" y="12700"/>
                  </a:cubicBezTo>
                  <a:cubicBezTo>
                    <a:pt x="-9144" y="24829"/>
                    <a:pt x="13907" y="48768"/>
                    <a:pt x="13907" y="48768"/>
                  </a:cubicBezTo>
                  <a:lnTo>
                    <a:pt x="9271" y="56388"/>
                  </a:lnTo>
                  <a:cubicBezTo>
                    <a:pt x="9398" y="56579"/>
                    <a:pt x="9398" y="56642"/>
                    <a:pt x="9398" y="56642"/>
                  </a:cubicBezTo>
                  <a:lnTo>
                    <a:pt x="0" y="87313"/>
                  </a:lnTo>
                  <a:cubicBezTo>
                    <a:pt x="16383" y="105410"/>
                    <a:pt x="42164" y="108776"/>
                    <a:pt x="60896" y="108458"/>
                  </a:cubicBezTo>
                  <a:lnTo>
                    <a:pt x="60896" y="85408"/>
                  </a:lnTo>
                  <a:lnTo>
                    <a:pt x="59563" y="85408"/>
                  </a:lnTo>
                  <a:cubicBezTo>
                    <a:pt x="58166" y="85408"/>
                    <a:pt x="56705" y="85344"/>
                    <a:pt x="55245" y="85217"/>
                  </a:cubicBezTo>
                  <a:lnTo>
                    <a:pt x="55245" y="85090"/>
                  </a:lnTo>
                  <a:cubicBezTo>
                    <a:pt x="46799" y="83630"/>
                    <a:pt x="39179" y="74867"/>
                    <a:pt x="39179" y="74867"/>
                  </a:cubicBezTo>
                  <a:lnTo>
                    <a:pt x="60135" y="40513"/>
                  </a:lnTo>
                  <a:cubicBezTo>
                    <a:pt x="70295" y="55372"/>
                    <a:pt x="100457" y="64707"/>
                    <a:pt x="100457" y="64707"/>
                  </a:cubicBezTo>
                  <a:cubicBezTo>
                    <a:pt x="101727" y="62929"/>
                    <a:pt x="102933" y="61087"/>
                    <a:pt x="103949" y="59246"/>
                  </a:cubicBezTo>
                  <a:cubicBezTo>
                    <a:pt x="110109" y="48641"/>
                    <a:pt x="113284" y="36893"/>
                    <a:pt x="114871" y="27940"/>
                  </a:cubicBezTo>
                  <a:lnTo>
                    <a:pt x="114871" y="27877"/>
                  </a:lnTo>
                  <a:cubicBezTo>
                    <a:pt x="116078" y="21209"/>
                    <a:pt x="116459" y="16256"/>
                    <a:pt x="116523" y="14542"/>
                  </a:cubicBezTo>
                  <a:cubicBezTo>
                    <a:pt x="106299" y="11621"/>
                    <a:pt x="99886" y="1968"/>
                    <a:pt x="99886" y="1968"/>
                  </a:cubicBezTo>
                  <a:close/>
                  <a:moveTo>
                    <a:pt x="94996" y="28829"/>
                  </a:moveTo>
                  <a:lnTo>
                    <a:pt x="92583" y="36005"/>
                  </a:lnTo>
                  <a:cubicBezTo>
                    <a:pt x="92075" y="37465"/>
                    <a:pt x="90488" y="38227"/>
                    <a:pt x="89090" y="37783"/>
                  </a:cubicBezTo>
                  <a:cubicBezTo>
                    <a:pt x="87630" y="37275"/>
                    <a:pt x="86868" y="35687"/>
                    <a:pt x="87313" y="34290"/>
                  </a:cubicBezTo>
                  <a:lnTo>
                    <a:pt x="89726" y="27115"/>
                  </a:lnTo>
                  <a:cubicBezTo>
                    <a:pt x="90107" y="25971"/>
                    <a:pt x="91186" y="25210"/>
                    <a:pt x="92392" y="25210"/>
                  </a:cubicBezTo>
                  <a:cubicBezTo>
                    <a:pt x="92710" y="25210"/>
                    <a:pt x="92964" y="25273"/>
                    <a:pt x="93282" y="25337"/>
                  </a:cubicBezTo>
                  <a:cubicBezTo>
                    <a:pt x="94742" y="25845"/>
                    <a:pt x="95504" y="27368"/>
                    <a:pt x="94996" y="28829"/>
                  </a:cubicBezTo>
                  <a:close/>
                </a:path>
              </a:pathLst>
            </a:custGeom>
            <a:solidFill>
              <a:srgbClr val="f8a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19" name="Freeform 403"/>
            <p:cNvSpPr/>
            <p:nvPr/>
          </p:nvSpPr>
          <p:spPr>
            <a:xfrm>
              <a:off x="1924560" y="2910960"/>
              <a:ext cx="7920" cy="12600"/>
            </a:xfrm>
            <a:custGeom>
              <a:avLst/>
              <a:gdLst/>
              <a:ahLst/>
              <a:rect l="l" t="t" r="r" b="b"/>
              <a:pathLst>
                <a:path w="7967" h="12699">
                  <a:moveTo>
                    <a:pt x="7810" y="3620"/>
                  </a:moveTo>
                  <a:lnTo>
                    <a:pt x="5397" y="10795"/>
                  </a:lnTo>
                  <a:cubicBezTo>
                    <a:pt x="4889" y="12256"/>
                    <a:pt x="3301" y="13018"/>
                    <a:pt x="1904" y="12573"/>
                  </a:cubicBezTo>
                  <a:cubicBezTo>
                    <a:pt x="444" y="12065"/>
                    <a:pt x="-318" y="10478"/>
                    <a:pt x="126" y="9081"/>
                  </a:cubicBezTo>
                  <a:lnTo>
                    <a:pt x="2539" y="1905"/>
                  </a:lnTo>
                  <a:cubicBezTo>
                    <a:pt x="2920" y="762"/>
                    <a:pt x="4000" y="0"/>
                    <a:pt x="5206" y="0"/>
                  </a:cubicBezTo>
                  <a:cubicBezTo>
                    <a:pt x="5524" y="0"/>
                    <a:pt x="5778" y="64"/>
                    <a:pt x="6095" y="127"/>
                  </a:cubicBezTo>
                  <a:cubicBezTo>
                    <a:pt x="7556" y="635"/>
                    <a:pt x="8318" y="2159"/>
                    <a:pt x="7810" y="3620"/>
                  </a:cubicBez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20" name="Freeform 404"/>
            <p:cNvSpPr/>
            <p:nvPr/>
          </p:nvSpPr>
          <p:spPr>
            <a:xfrm>
              <a:off x="1771200" y="3410640"/>
              <a:ext cx="155880" cy="506160"/>
            </a:xfrm>
            <a:custGeom>
              <a:avLst/>
              <a:gdLst/>
              <a:ahLst/>
              <a:rect l="l" t="t" r="r" b="b"/>
              <a:pathLst>
                <a:path w="155899" h="506222">
                  <a:moveTo>
                    <a:pt x="155900" y="1905"/>
                  </a:moveTo>
                  <a:lnTo>
                    <a:pt x="155900" y="1905"/>
                  </a:lnTo>
                  <a:cubicBezTo>
                    <a:pt x="155900" y="1905"/>
                    <a:pt x="140596" y="408495"/>
                    <a:pt x="123324" y="506222"/>
                  </a:cubicBezTo>
                  <a:lnTo>
                    <a:pt x="82684" y="506222"/>
                  </a:lnTo>
                  <a:cubicBezTo>
                    <a:pt x="82684" y="506222"/>
                    <a:pt x="69349" y="354330"/>
                    <a:pt x="55697" y="225489"/>
                  </a:cubicBezTo>
                  <a:lnTo>
                    <a:pt x="55697" y="225425"/>
                  </a:lnTo>
                  <a:cubicBezTo>
                    <a:pt x="46299" y="136906"/>
                    <a:pt x="36774" y="59309"/>
                    <a:pt x="31313" y="49149"/>
                  </a:cubicBezTo>
                  <a:cubicBezTo>
                    <a:pt x="24645" y="36767"/>
                    <a:pt x="16327" y="26988"/>
                    <a:pt x="9913" y="19114"/>
                  </a:cubicBezTo>
                  <a:cubicBezTo>
                    <a:pt x="3436" y="11176"/>
                    <a:pt x="-1009" y="5143"/>
                    <a:pt x="198" y="317"/>
                  </a:cubicBezTo>
                  <a:lnTo>
                    <a:pt x="261" y="0"/>
                  </a:lnTo>
                  <a:cubicBezTo>
                    <a:pt x="5214" y="445"/>
                    <a:pt x="11437" y="762"/>
                    <a:pt x="19248" y="826"/>
                  </a:cubicBezTo>
                  <a:cubicBezTo>
                    <a:pt x="64841" y="1143"/>
                    <a:pt x="110370" y="1524"/>
                    <a:pt x="155900" y="1905"/>
                  </a:cubicBezTo>
                  <a:close/>
                </a:path>
              </a:pathLst>
            </a:custGeom>
            <a:solidFill>
              <a:srgbClr val="8fd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21" name="Freeform 405"/>
            <p:cNvSpPr/>
            <p:nvPr/>
          </p:nvSpPr>
          <p:spPr>
            <a:xfrm>
              <a:off x="1706760" y="3429720"/>
              <a:ext cx="119880" cy="468000"/>
            </a:xfrm>
            <a:custGeom>
              <a:avLst/>
              <a:gdLst/>
              <a:ahLst/>
              <a:rect l="l" t="t" r="r" b="b"/>
              <a:pathLst>
                <a:path w="119888" h="467994">
                  <a:moveTo>
                    <a:pt x="119888" y="206375"/>
                  </a:moveTo>
                  <a:lnTo>
                    <a:pt x="119888" y="206439"/>
                  </a:lnTo>
                  <a:cubicBezTo>
                    <a:pt x="120206" y="262064"/>
                    <a:pt x="41212" y="467995"/>
                    <a:pt x="41212" y="467995"/>
                  </a:cubicBezTo>
                  <a:lnTo>
                    <a:pt x="23622" y="462089"/>
                  </a:lnTo>
                  <a:lnTo>
                    <a:pt x="0" y="454216"/>
                  </a:lnTo>
                  <a:cubicBezTo>
                    <a:pt x="34481" y="332486"/>
                    <a:pt x="74168" y="0"/>
                    <a:pt x="74168" y="0"/>
                  </a:cubicBezTo>
                  <a:cubicBezTo>
                    <a:pt x="80582" y="7874"/>
                    <a:pt x="88900" y="17653"/>
                    <a:pt x="95568" y="30036"/>
                  </a:cubicBezTo>
                  <a:cubicBezTo>
                    <a:pt x="100965" y="40195"/>
                    <a:pt x="110554" y="117856"/>
                    <a:pt x="119888" y="206375"/>
                  </a:cubicBezTo>
                  <a:close/>
                </a:path>
              </a:pathLst>
            </a:custGeom>
            <a:solidFill>
              <a:srgbClr val="50b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22" name="Freeform 406"/>
            <p:cNvSpPr/>
            <p:nvPr/>
          </p:nvSpPr>
          <p:spPr>
            <a:xfrm>
              <a:off x="1854000" y="3916800"/>
              <a:ext cx="24120" cy="31320"/>
            </a:xfrm>
            <a:custGeom>
              <a:avLst/>
              <a:gdLst/>
              <a:ahLst/>
              <a:rect l="l" t="t" r="r" b="b"/>
              <a:pathLst>
                <a:path w="24193" h="31425">
                  <a:moveTo>
                    <a:pt x="24193" y="0"/>
                  </a:moveTo>
                  <a:lnTo>
                    <a:pt x="23051" y="28067"/>
                  </a:lnTo>
                  <a:cubicBezTo>
                    <a:pt x="11684" y="-29913"/>
                    <a:pt x="1143" y="28067"/>
                    <a:pt x="1143" y="28067"/>
                  </a:cubicBezTo>
                  <a:lnTo>
                    <a:pt x="0" y="0"/>
                  </a:lnTo>
                  <a:lnTo>
                    <a:pt x="2419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23" name="Freeform 407"/>
            <p:cNvSpPr/>
            <p:nvPr/>
          </p:nvSpPr>
          <p:spPr>
            <a:xfrm>
              <a:off x="1843920" y="3944880"/>
              <a:ext cx="100080" cy="32760"/>
            </a:xfrm>
            <a:custGeom>
              <a:avLst/>
              <a:gdLst/>
              <a:ahLst/>
              <a:rect l="l" t="t" r="r" b="b"/>
              <a:pathLst>
                <a:path w="100260" h="33020">
                  <a:moveTo>
                    <a:pt x="100261" y="21336"/>
                  </a:moveTo>
                  <a:lnTo>
                    <a:pt x="100261" y="33020"/>
                  </a:lnTo>
                  <a:lnTo>
                    <a:pt x="33966" y="33020"/>
                  </a:lnTo>
                  <a:lnTo>
                    <a:pt x="24632" y="21908"/>
                  </a:lnTo>
                  <a:lnTo>
                    <a:pt x="24632" y="33020"/>
                  </a:lnTo>
                  <a:lnTo>
                    <a:pt x="1264" y="33020"/>
                  </a:lnTo>
                  <a:cubicBezTo>
                    <a:pt x="1264" y="33020"/>
                    <a:pt x="-5149" y="2921"/>
                    <a:pt x="10916" y="0"/>
                  </a:cubicBezTo>
                  <a:cubicBezTo>
                    <a:pt x="10916" y="0"/>
                    <a:pt x="21394" y="7557"/>
                    <a:pt x="32824" y="0"/>
                  </a:cubicBezTo>
                  <a:cubicBezTo>
                    <a:pt x="32824" y="0"/>
                    <a:pt x="63494" y="22225"/>
                    <a:pt x="100261" y="21336"/>
                  </a:cubicBez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24" name="Freeform 408"/>
            <p:cNvSpPr/>
            <p:nvPr/>
          </p:nvSpPr>
          <p:spPr>
            <a:xfrm>
              <a:off x="1694160" y="3884040"/>
              <a:ext cx="36360" cy="32400"/>
            </a:xfrm>
            <a:custGeom>
              <a:avLst/>
              <a:gdLst/>
              <a:ahLst/>
              <a:rect l="l" t="t" r="r" b="b"/>
              <a:pathLst>
                <a:path w="36512" h="32723">
                  <a:moveTo>
                    <a:pt x="-29023" y="7874"/>
                  </a:moveTo>
                  <a:lnTo>
                    <a:pt x="19876" y="32703"/>
                  </a:lnTo>
                  <a:cubicBezTo>
                    <a:pt x="6985" y="-32262"/>
                    <a:pt x="0" y="21908"/>
                    <a:pt x="0" y="21908"/>
                  </a:cubicBezTo>
                  <a:lnTo>
                    <a:pt x="12827" y="0"/>
                  </a:lnTo>
                  <a:lnTo>
                    <a:pt x="-29023" y="78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25" name="Freeform 409"/>
            <p:cNvSpPr/>
            <p:nvPr/>
          </p:nvSpPr>
          <p:spPr>
            <a:xfrm>
              <a:off x="1670400" y="3903840"/>
              <a:ext cx="82440" cy="52200"/>
            </a:xfrm>
            <a:custGeom>
              <a:avLst/>
              <a:gdLst/>
              <a:ahLst/>
              <a:rect l="l" t="t" r="r" b="b"/>
              <a:pathLst>
                <a:path w="82677" h="52546">
                  <a:moveTo>
                    <a:pt x="82677" y="41179"/>
                  </a:moveTo>
                  <a:lnTo>
                    <a:pt x="82677" y="52546"/>
                  </a:lnTo>
                  <a:lnTo>
                    <a:pt x="40577" y="52546"/>
                  </a:lnTo>
                  <a:lnTo>
                    <a:pt x="22479" y="35591"/>
                  </a:lnTo>
                  <a:lnTo>
                    <a:pt x="23686" y="23336"/>
                  </a:lnTo>
                  <a:lnTo>
                    <a:pt x="14923" y="28797"/>
                  </a:lnTo>
                  <a:lnTo>
                    <a:pt x="0" y="14002"/>
                  </a:lnTo>
                  <a:cubicBezTo>
                    <a:pt x="0" y="14002"/>
                    <a:pt x="14542" y="-6318"/>
                    <a:pt x="23686" y="2000"/>
                  </a:cubicBezTo>
                  <a:cubicBezTo>
                    <a:pt x="23686" y="2000"/>
                    <a:pt x="30671" y="13366"/>
                    <a:pt x="43561" y="12795"/>
                  </a:cubicBezTo>
                  <a:lnTo>
                    <a:pt x="57595" y="41116"/>
                  </a:lnTo>
                  <a:lnTo>
                    <a:pt x="82677" y="41116"/>
                  </a:lnTo>
                  <a:lnTo>
                    <a:pt x="82677" y="41179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26" name="Freeform 410"/>
            <p:cNvSpPr/>
            <p:nvPr/>
          </p:nvSpPr>
          <p:spPr>
            <a:xfrm>
              <a:off x="1863360" y="3274560"/>
              <a:ext cx="59400" cy="24840"/>
            </a:xfrm>
            <a:custGeom>
              <a:avLst/>
              <a:gdLst/>
              <a:ahLst/>
              <a:rect l="l" t="t" r="r" b="b"/>
              <a:pathLst>
                <a:path w="59499" h="25002">
                  <a:moveTo>
                    <a:pt x="59499" y="9064"/>
                  </a:moveTo>
                  <a:lnTo>
                    <a:pt x="57658" y="25002"/>
                  </a:lnTo>
                  <a:cubicBezTo>
                    <a:pt x="30798" y="12874"/>
                    <a:pt x="9589" y="17763"/>
                    <a:pt x="64" y="21383"/>
                  </a:cubicBezTo>
                  <a:lnTo>
                    <a:pt x="0" y="4301"/>
                  </a:lnTo>
                  <a:cubicBezTo>
                    <a:pt x="40704" y="-7637"/>
                    <a:pt x="59499" y="9064"/>
                    <a:pt x="59499" y="9064"/>
                  </a:cubicBezTo>
                  <a:close/>
                </a:path>
              </a:pathLst>
            </a:custGeom>
            <a:solidFill>
              <a:srgbClr val="e2e3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27" name="Freeform 411"/>
            <p:cNvSpPr/>
            <p:nvPr/>
          </p:nvSpPr>
          <p:spPr>
            <a:xfrm>
              <a:off x="1863360" y="3291840"/>
              <a:ext cx="57240" cy="65160"/>
            </a:xfrm>
            <a:custGeom>
              <a:avLst/>
              <a:gdLst/>
              <a:ahLst/>
              <a:rect l="l" t="t" r="r" b="b"/>
              <a:pathLst>
                <a:path w="57530" h="65338">
                  <a:moveTo>
                    <a:pt x="57531" y="7739"/>
                  </a:moveTo>
                  <a:lnTo>
                    <a:pt x="53721" y="50601"/>
                  </a:lnTo>
                  <a:cubicBezTo>
                    <a:pt x="53277" y="54602"/>
                    <a:pt x="50927" y="58221"/>
                    <a:pt x="47498" y="60253"/>
                  </a:cubicBezTo>
                  <a:cubicBezTo>
                    <a:pt x="43180" y="62793"/>
                    <a:pt x="38481" y="64381"/>
                    <a:pt x="33718" y="65016"/>
                  </a:cubicBezTo>
                  <a:cubicBezTo>
                    <a:pt x="25273" y="66159"/>
                    <a:pt x="16510" y="64254"/>
                    <a:pt x="9144" y="59428"/>
                  </a:cubicBezTo>
                  <a:lnTo>
                    <a:pt x="6540" y="57713"/>
                  </a:lnTo>
                  <a:cubicBezTo>
                    <a:pt x="2921" y="55300"/>
                    <a:pt x="699" y="51300"/>
                    <a:pt x="699" y="46918"/>
                  </a:cubicBezTo>
                  <a:lnTo>
                    <a:pt x="0" y="3992"/>
                  </a:lnTo>
                  <a:cubicBezTo>
                    <a:pt x="9462" y="500"/>
                    <a:pt x="30671" y="-4390"/>
                    <a:pt x="57531" y="7739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28" name="Freeform 412"/>
            <p:cNvSpPr/>
            <p:nvPr/>
          </p:nvSpPr>
          <p:spPr>
            <a:xfrm>
              <a:off x="1850760" y="2907000"/>
              <a:ext cx="86760" cy="63720"/>
            </a:xfrm>
            <a:custGeom>
              <a:avLst/>
              <a:gdLst/>
              <a:ahLst/>
              <a:rect l="l" t="t" r="r" b="b"/>
              <a:pathLst>
                <a:path w="87058" h="64008">
                  <a:moveTo>
                    <a:pt x="46800" y="19177"/>
                  </a:moveTo>
                  <a:lnTo>
                    <a:pt x="46355" y="19876"/>
                  </a:lnTo>
                  <a:lnTo>
                    <a:pt x="12764" y="0"/>
                  </a:lnTo>
                  <a:lnTo>
                    <a:pt x="11938" y="1397"/>
                  </a:lnTo>
                  <a:lnTo>
                    <a:pt x="45466" y="21273"/>
                  </a:lnTo>
                  <a:lnTo>
                    <a:pt x="26861" y="51816"/>
                  </a:lnTo>
                  <a:lnTo>
                    <a:pt x="1143" y="26733"/>
                  </a:lnTo>
                  <a:lnTo>
                    <a:pt x="0" y="27877"/>
                  </a:lnTo>
                  <a:lnTo>
                    <a:pt x="25971" y="53213"/>
                  </a:lnTo>
                  <a:lnTo>
                    <a:pt x="25845" y="53467"/>
                  </a:lnTo>
                  <a:cubicBezTo>
                    <a:pt x="25845" y="53467"/>
                    <a:pt x="33465" y="62230"/>
                    <a:pt x="41910" y="63690"/>
                  </a:cubicBezTo>
                  <a:lnTo>
                    <a:pt x="41910" y="63818"/>
                  </a:lnTo>
                  <a:cubicBezTo>
                    <a:pt x="43371" y="63945"/>
                    <a:pt x="44831" y="64008"/>
                    <a:pt x="46228" y="64008"/>
                  </a:cubicBezTo>
                  <a:cubicBezTo>
                    <a:pt x="46673" y="64008"/>
                    <a:pt x="47117" y="64008"/>
                    <a:pt x="47562" y="64008"/>
                  </a:cubicBezTo>
                  <a:cubicBezTo>
                    <a:pt x="66358" y="63690"/>
                    <a:pt x="78804" y="54737"/>
                    <a:pt x="87059" y="43307"/>
                  </a:cubicBezTo>
                  <a:cubicBezTo>
                    <a:pt x="87122" y="43371"/>
                    <a:pt x="56960" y="34036"/>
                    <a:pt x="46800" y="1917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29" name="Freeform 413"/>
            <p:cNvSpPr/>
            <p:nvPr/>
          </p:nvSpPr>
          <p:spPr>
            <a:xfrm>
              <a:off x="2819520" y="2637000"/>
              <a:ext cx="70200" cy="70200"/>
            </a:xfrm>
            <a:custGeom>
              <a:avLst/>
              <a:gdLst/>
              <a:ahLst/>
              <a:rect l="l" t="t" r="r" b="b"/>
              <a:pathLst>
                <a:path w="70485" h="70485">
                  <a:moveTo>
                    <a:pt x="70485" y="35243"/>
                  </a:moveTo>
                  <a:cubicBezTo>
                    <a:pt x="70485" y="54707"/>
                    <a:pt x="54706" y="70485"/>
                    <a:pt x="35243" y="70485"/>
                  </a:cubicBezTo>
                  <a:cubicBezTo>
                    <a:pt x="15779" y="70485"/>
                    <a:pt x="0" y="54706"/>
                    <a:pt x="0" y="35243"/>
                  </a:cubicBezTo>
                  <a:cubicBezTo>
                    <a:pt x="0" y="15779"/>
                    <a:pt x="15779" y="0"/>
                    <a:pt x="35243" y="0"/>
                  </a:cubicBezTo>
                  <a:cubicBezTo>
                    <a:pt x="54707" y="0"/>
                    <a:pt x="70485" y="15779"/>
                    <a:pt x="70485" y="35243"/>
                  </a:cubicBezTo>
                  <a:close/>
                </a:path>
              </a:pathLst>
            </a:custGeom>
            <a:solidFill>
              <a:srgbClr val="dce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30" name="Freeform 414"/>
            <p:cNvSpPr/>
            <p:nvPr/>
          </p:nvSpPr>
          <p:spPr>
            <a:xfrm>
              <a:off x="2080440" y="2793960"/>
              <a:ext cx="455400" cy="504360"/>
            </a:xfrm>
            <a:custGeom>
              <a:avLst/>
              <a:gdLst/>
              <a:ahLst/>
              <a:rect l="l" t="t" r="r" b="b"/>
              <a:pathLst>
                <a:path w="455612" h="504278">
                  <a:moveTo>
                    <a:pt x="455613" y="236474"/>
                  </a:moveTo>
                  <a:cubicBezTo>
                    <a:pt x="455613" y="248539"/>
                    <a:pt x="454851" y="260350"/>
                    <a:pt x="453326" y="271971"/>
                  </a:cubicBezTo>
                  <a:lnTo>
                    <a:pt x="451548" y="271971"/>
                  </a:lnTo>
                  <a:cubicBezTo>
                    <a:pt x="441642" y="342583"/>
                    <a:pt x="403923" y="409131"/>
                    <a:pt x="341313" y="453898"/>
                  </a:cubicBezTo>
                  <a:cubicBezTo>
                    <a:pt x="234886" y="530035"/>
                    <a:pt x="92011" y="517716"/>
                    <a:pt x="0" y="431546"/>
                  </a:cubicBezTo>
                  <a:lnTo>
                    <a:pt x="0" y="431546"/>
                  </a:lnTo>
                  <a:cubicBezTo>
                    <a:pt x="0" y="431546"/>
                    <a:pt x="33401" y="98679"/>
                    <a:pt x="43815" y="68326"/>
                  </a:cubicBezTo>
                  <a:lnTo>
                    <a:pt x="316230" y="190"/>
                  </a:lnTo>
                  <a:lnTo>
                    <a:pt x="318008" y="0"/>
                  </a:lnTo>
                  <a:cubicBezTo>
                    <a:pt x="326073" y="4572"/>
                    <a:pt x="333883" y="9589"/>
                    <a:pt x="341503" y="15050"/>
                  </a:cubicBezTo>
                  <a:cubicBezTo>
                    <a:pt x="348615" y="20130"/>
                    <a:pt x="355536" y="25590"/>
                    <a:pt x="362141" y="31433"/>
                  </a:cubicBezTo>
                  <a:cubicBezTo>
                    <a:pt x="374650" y="42355"/>
                    <a:pt x="386270" y="54610"/>
                    <a:pt x="396811" y="68136"/>
                  </a:cubicBezTo>
                  <a:cubicBezTo>
                    <a:pt x="399161" y="71184"/>
                    <a:pt x="401511" y="74232"/>
                    <a:pt x="403733" y="77407"/>
                  </a:cubicBezTo>
                  <a:cubicBezTo>
                    <a:pt x="410083" y="86233"/>
                    <a:pt x="415735" y="95314"/>
                    <a:pt x="420878" y="104648"/>
                  </a:cubicBezTo>
                  <a:cubicBezTo>
                    <a:pt x="432245" y="125349"/>
                    <a:pt x="440690" y="147003"/>
                    <a:pt x="446151" y="169164"/>
                  </a:cubicBezTo>
                  <a:cubicBezTo>
                    <a:pt x="446278" y="168974"/>
                    <a:pt x="446469" y="168847"/>
                    <a:pt x="446595" y="168656"/>
                  </a:cubicBezTo>
                  <a:cubicBezTo>
                    <a:pt x="446723" y="168529"/>
                    <a:pt x="446786" y="168402"/>
                    <a:pt x="446913" y="168339"/>
                  </a:cubicBezTo>
                  <a:cubicBezTo>
                    <a:pt x="452628" y="190119"/>
                    <a:pt x="455613" y="212916"/>
                    <a:pt x="455613" y="23647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31" name="Freeform 415"/>
            <p:cNvSpPr/>
            <p:nvPr/>
          </p:nvSpPr>
          <p:spPr>
            <a:xfrm>
              <a:off x="2398680" y="2793960"/>
              <a:ext cx="128880" cy="168840"/>
            </a:xfrm>
            <a:custGeom>
              <a:avLst/>
              <a:gdLst/>
              <a:ahLst/>
              <a:rect l="l" t="t" r="r" b="b"/>
              <a:pathLst>
                <a:path w="129032" h="169163">
                  <a:moveTo>
                    <a:pt x="23495" y="15113"/>
                  </a:moveTo>
                  <a:cubicBezTo>
                    <a:pt x="15875" y="9652"/>
                    <a:pt x="8065" y="4635"/>
                    <a:pt x="0" y="63"/>
                  </a:cubicBezTo>
                  <a:lnTo>
                    <a:pt x="318" y="0"/>
                  </a:lnTo>
                  <a:cubicBezTo>
                    <a:pt x="63310" y="36004"/>
                    <a:pt x="110490" y="96393"/>
                    <a:pt x="129032" y="168338"/>
                  </a:cubicBezTo>
                  <a:cubicBezTo>
                    <a:pt x="128905" y="168466"/>
                    <a:pt x="128842" y="168529"/>
                    <a:pt x="128715" y="168656"/>
                  </a:cubicBezTo>
                  <a:cubicBezTo>
                    <a:pt x="128524" y="168846"/>
                    <a:pt x="128397" y="168973"/>
                    <a:pt x="128270" y="169164"/>
                  </a:cubicBezTo>
                  <a:cubicBezTo>
                    <a:pt x="122746" y="147002"/>
                    <a:pt x="114364" y="125349"/>
                    <a:pt x="102997" y="104648"/>
                  </a:cubicBezTo>
                  <a:cubicBezTo>
                    <a:pt x="97854" y="95377"/>
                    <a:pt x="92202" y="86296"/>
                    <a:pt x="85852" y="77407"/>
                  </a:cubicBezTo>
                  <a:cubicBezTo>
                    <a:pt x="83566" y="74232"/>
                    <a:pt x="81280" y="71120"/>
                    <a:pt x="78931" y="68135"/>
                  </a:cubicBezTo>
                  <a:cubicBezTo>
                    <a:pt x="68390" y="54610"/>
                    <a:pt x="56706" y="42354"/>
                    <a:pt x="44260" y="31432"/>
                  </a:cubicBezTo>
                  <a:cubicBezTo>
                    <a:pt x="37465" y="25717"/>
                    <a:pt x="30607" y="20257"/>
                    <a:pt x="23495" y="151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32" name="Freeform 416"/>
            <p:cNvSpPr/>
            <p:nvPr/>
          </p:nvSpPr>
          <p:spPr>
            <a:xfrm>
              <a:off x="2376720" y="3034440"/>
              <a:ext cx="107280" cy="142560"/>
            </a:xfrm>
            <a:custGeom>
              <a:avLst/>
              <a:gdLst/>
              <a:ahLst/>
              <a:rect l="l" t="t" r="r" b="b"/>
              <a:pathLst>
                <a:path w="107442" h="142635">
                  <a:moveTo>
                    <a:pt x="9743" y="87348"/>
                  </a:moveTo>
                  <a:cubicBezTo>
                    <a:pt x="1679" y="95158"/>
                    <a:pt x="-1814" y="107287"/>
                    <a:pt x="917" y="118145"/>
                  </a:cubicBezTo>
                  <a:cubicBezTo>
                    <a:pt x="3647" y="129004"/>
                    <a:pt x="12347" y="138148"/>
                    <a:pt x="23078" y="141259"/>
                  </a:cubicBezTo>
                  <a:cubicBezTo>
                    <a:pt x="32413" y="143990"/>
                    <a:pt x="42509" y="142339"/>
                    <a:pt x="51653" y="139100"/>
                  </a:cubicBezTo>
                  <a:cubicBezTo>
                    <a:pt x="68671" y="133068"/>
                    <a:pt x="83594" y="121320"/>
                    <a:pt x="93563" y="106271"/>
                  </a:cubicBezTo>
                  <a:cubicBezTo>
                    <a:pt x="103533" y="91221"/>
                    <a:pt x="108422" y="72870"/>
                    <a:pt x="107279" y="54836"/>
                  </a:cubicBezTo>
                  <a:cubicBezTo>
                    <a:pt x="106454" y="40993"/>
                    <a:pt x="101945" y="27150"/>
                    <a:pt x="92928" y="16545"/>
                  </a:cubicBezTo>
                  <a:cubicBezTo>
                    <a:pt x="83975" y="6004"/>
                    <a:pt x="70195" y="-917"/>
                    <a:pt x="56416" y="99"/>
                  </a:cubicBezTo>
                  <a:cubicBezTo>
                    <a:pt x="42573" y="1051"/>
                    <a:pt x="29301" y="10640"/>
                    <a:pt x="25618" y="24038"/>
                  </a:cubicBezTo>
                  <a:cubicBezTo>
                    <a:pt x="23650" y="31150"/>
                    <a:pt x="24412" y="38516"/>
                    <a:pt x="26507" y="45501"/>
                  </a:cubicBezTo>
                  <a:cubicBezTo>
                    <a:pt x="28476" y="52105"/>
                    <a:pt x="33429" y="58455"/>
                    <a:pt x="34064" y="65313"/>
                  </a:cubicBezTo>
                  <a:cubicBezTo>
                    <a:pt x="35334" y="78521"/>
                    <a:pt x="17427" y="79918"/>
                    <a:pt x="9743" y="87348"/>
                  </a:cubicBezTo>
                  <a:close/>
                </a:path>
              </a:pathLst>
            </a:custGeom>
            <a:solidFill>
              <a:srgbClr val="dce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33" name="Freeform 417"/>
            <p:cNvSpPr/>
            <p:nvPr/>
          </p:nvSpPr>
          <p:spPr>
            <a:xfrm>
              <a:off x="2421720" y="3059640"/>
              <a:ext cx="36360" cy="36360"/>
            </a:xfrm>
            <a:custGeom>
              <a:avLst/>
              <a:gdLst/>
              <a:ahLst/>
              <a:rect l="l" t="t" r="r" b="b"/>
              <a:pathLst>
                <a:path w="36449" h="36449">
                  <a:moveTo>
                    <a:pt x="-29087" y="18224"/>
                  </a:moveTo>
                  <a:cubicBezTo>
                    <a:pt x="-29087" y="28290"/>
                    <a:pt x="28290" y="-29087"/>
                    <a:pt x="18225" y="-29087"/>
                  </a:cubicBezTo>
                  <a:cubicBezTo>
                    <a:pt x="8159" y="-29087"/>
                    <a:pt x="0" y="28290"/>
                    <a:pt x="0" y="18224"/>
                  </a:cubicBezTo>
                  <a:cubicBezTo>
                    <a:pt x="0" y="8159"/>
                    <a:pt x="8159" y="0"/>
                    <a:pt x="18225" y="0"/>
                  </a:cubicBezTo>
                  <a:cubicBezTo>
                    <a:pt x="28290" y="0"/>
                    <a:pt x="-29087" y="8159"/>
                    <a:pt x="-29087" y="18224"/>
                  </a:cubicBezTo>
                  <a:close/>
                </a:path>
              </a:pathLst>
            </a:custGeom>
            <a:solidFill>
              <a:srgbClr val="8fd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34" name="Freeform 418"/>
            <p:cNvSpPr/>
            <p:nvPr/>
          </p:nvSpPr>
          <p:spPr>
            <a:xfrm>
              <a:off x="2386800" y="3130200"/>
              <a:ext cx="20160" cy="20160"/>
            </a:xfrm>
            <a:custGeom>
              <a:avLst/>
              <a:gdLst/>
              <a:ahLst/>
              <a:rect l="l" t="t" r="r" b="b"/>
              <a:pathLst>
                <a:path w="20320" h="20320">
                  <a:moveTo>
                    <a:pt x="20320" y="10160"/>
                  </a:moveTo>
                  <a:cubicBezTo>
                    <a:pt x="20320" y="15771"/>
                    <a:pt x="15771" y="20320"/>
                    <a:pt x="10160" y="20320"/>
                  </a:cubicBezTo>
                  <a:cubicBezTo>
                    <a:pt x="4549" y="20320"/>
                    <a:pt x="0" y="15771"/>
                    <a:pt x="0" y="10160"/>
                  </a:cubicBezTo>
                  <a:cubicBezTo>
                    <a:pt x="0" y="4549"/>
                    <a:pt x="4549" y="0"/>
                    <a:pt x="10160" y="0"/>
                  </a:cubicBezTo>
                  <a:cubicBezTo>
                    <a:pt x="15771" y="0"/>
                    <a:pt x="20320" y="4549"/>
                    <a:pt x="20320" y="10160"/>
                  </a:cubicBezTo>
                  <a:close/>
                </a:path>
              </a:pathLst>
            </a:custGeom>
            <a:solidFill>
              <a:srgbClr val="dbe5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35" name="Freeform 419"/>
            <p:cNvSpPr/>
            <p:nvPr/>
          </p:nvSpPr>
          <p:spPr>
            <a:xfrm>
              <a:off x="2255760" y="2842920"/>
              <a:ext cx="12960" cy="12960"/>
            </a:xfrm>
            <a:custGeom>
              <a:avLst/>
              <a:gdLst/>
              <a:ahLst/>
              <a:rect l="l" t="t" r="r" b="b"/>
              <a:pathLst>
                <a:path w="13208" h="13208">
                  <a:moveTo>
                    <a:pt x="13208" y="6604"/>
                  </a:moveTo>
                  <a:cubicBezTo>
                    <a:pt x="13208" y="10251"/>
                    <a:pt x="10251" y="13208"/>
                    <a:pt x="6604" y="13208"/>
                  </a:cubicBezTo>
                  <a:cubicBezTo>
                    <a:pt x="2957" y="13208"/>
                    <a:pt x="0" y="10251"/>
                    <a:pt x="0" y="6604"/>
                  </a:cubicBezTo>
                  <a:cubicBezTo>
                    <a:pt x="0" y="2957"/>
                    <a:pt x="2957" y="0"/>
                    <a:pt x="6604" y="0"/>
                  </a:cubicBezTo>
                  <a:cubicBezTo>
                    <a:pt x="10251" y="0"/>
                    <a:pt x="13208" y="2957"/>
                    <a:pt x="13208" y="6604"/>
                  </a:cubicBezTo>
                  <a:close/>
                </a:path>
              </a:pathLst>
            </a:custGeom>
            <a:solidFill>
              <a:srgbClr val="dce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36" name="Freeform 420"/>
            <p:cNvSpPr/>
            <p:nvPr/>
          </p:nvSpPr>
          <p:spPr>
            <a:xfrm>
              <a:off x="2182680" y="2866680"/>
              <a:ext cx="12960" cy="12960"/>
            </a:xfrm>
            <a:custGeom>
              <a:avLst/>
              <a:gdLst/>
              <a:ahLst/>
              <a:rect l="l" t="t" r="r" b="b"/>
              <a:pathLst>
                <a:path w="13208" h="13208">
                  <a:moveTo>
                    <a:pt x="13208" y="6604"/>
                  </a:moveTo>
                  <a:cubicBezTo>
                    <a:pt x="13208" y="10251"/>
                    <a:pt x="10251" y="13208"/>
                    <a:pt x="6604" y="13208"/>
                  </a:cubicBezTo>
                  <a:cubicBezTo>
                    <a:pt x="2957" y="13208"/>
                    <a:pt x="0" y="10251"/>
                    <a:pt x="0" y="6604"/>
                  </a:cubicBezTo>
                  <a:cubicBezTo>
                    <a:pt x="0" y="2957"/>
                    <a:pt x="2957" y="0"/>
                    <a:pt x="6604" y="0"/>
                  </a:cubicBezTo>
                  <a:cubicBezTo>
                    <a:pt x="10251" y="0"/>
                    <a:pt x="13208" y="2957"/>
                    <a:pt x="13208" y="6604"/>
                  </a:cubicBezTo>
                  <a:close/>
                </a:path>
              </a:pathLst>
            </a:custGeom>
            <a:solidFill>
              <a:srgbClr val="dce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37" name="Freeform 421"/>
            <p:cNvSpPr/>
            <p:nvPr/>
          </p:nvSpPr>
          <p:spPr>
            <a:xfrm>
              <a:off x="2292120" y="3139560"/>
              <a:ext cx="12960" cy="12960"/>
            </a:xfrm>
            <a:custGeom>
              <a:avLst/>
              <a:gdLst/>
              <a:ahLst/>
              <a:rect l="l" t="t" r="r" b="b"/>
              <a:pathLst>
                <a:path w="13208" h="13208">
                  <a:moveTo>
                    <a:pt x="13208" y="6604"/>
                  </a:moveTo>
                  <a:cubicBezTo>
                    <a:pt x="13208" y="10251"/>
                    <a:pt x="10251" y="13208"/>
                    <a:pt x="6604" y="13208"/>
                  </a:cubicBezTo>
                  <a:cubicBezTo>
                    <a:pt x="2957" y="13208"/>
                    <a:pt x="0" y="10251"/>
                    <a:pt x="0" y="6604"/>
                  </a:cubicBezTo>
                  <a:cubicBezTo>
                    <a:pt x="0" y="2957"/>
                    <a:pt x="2957" y="0"/>
                    <a:pt x="6604" y="0"/>
                  </a:cubicBezTo>
                  <a:cubicBezTo>
                    <a:pt x="10251" y="0"/>
                    <a:pt x="13208" y="2957"/>
                    <a:pt x="13208" y="6604"/>
                  </a:cubicBezTo>
                  <a:close/>
                </a:path>
              </a:pathLst>
            </a:custGeom>
            <a:solidFill>
              <a:srgbClr val="dce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38" name="Freeform 422"/>
            <p:cNvSpPr/>
            <p:nvPr/>
          </p:nvSpPr>
          <p:spPr>
            <a:xfrm>
              <a:off x="2156400" y="3212280"/>
              <a:ext cx="12960" cy="12960"/>
            </a:xfrm>
            <a:custGeom>
              <a:avLst/>
              <a:gdLst/>
              <a:ahLst/>
              <a:rect l="l" t="t" r="r" b="b"/>
              <a:pathLst>
                <a:path w="13208" h="13208">
                  <a:moveTo>
                    <a:pt x="13208" y="6604"/>
                  </a:moveTo>
                  <a:cubicBezTo>
                    <a:pt x="13208" y="10251"/>
                    <a:pt x="10251" y="13208"/>
                    <a:pt x="6604" y="13208"/>
                  </a:cubicBezTo>
                  <a:cubicBezTo>
                    <a:pt x="2957" y="13208"/>
                    <a:pt x="0" y="10251"/>
                    <a:pt x="0" y="6604"/>
                  </a:cubicBezTo>
                  <a:cubicBezTo>
                    <a:pt x="0" y="2957"/>
                    <a:pt x="2957" y="0"/>
                    <a:pt x="6604" y="0"/>
                  </a:cubicBezTo>
                  <a:cubicBezTo>
                    <a:pt x="10251" y="0"/>
                    <a:pt x="13208" y="2957"/>
                    <a:pt x="13208" y="6604"/>
                  </a:cubicBezTo>
                  <a:close/>
                </a:path>
              </a:pathLst>
            </a:custGeom>
            <a:solidFill>
              <a:srgbClr val="dce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39" name="Freeform 423"/>
            <p:cNvSpPr/>
            <p:nvPr/>
          </p:nvSpPr>
          <p:spPr>
            <a:xfrm>
              <a:off x="2343600" y="3167280"/>
              <a:ext cx="12960" cy="12960"/>
            </a:xfrm>
            <a:custGeom>
              <a:avLst/>
              <a:gdLst/>
              <a:ahLst/>
              <a:rect l="l" t="t" r="r" b="b"/>
              <a:pathLst>
                <a:path w="13208" h="13208">
                  <a:moveTo>
                    <a:pt x="13208" y="6604"/>
                  </a:moveTo>
                  <a:cubicBezTo>
                    <a:pt x="13208" y="10251"/>
                    <a:pt x="10251" y="13208"/>
                    <a:pt x="6604" y="13208"/>
                  </a:cubicBezTo>
                  <a:cubicBezTo>
                    <a:pt x="2957" y="13208"/>
                    <a:pt x="0" y="10251"/>
                    <a:pt x="0" y="6604"/>
                  </a:cubicBezTo>
                  <a:cubicBezTo>
                    <a:pt x="0" y="2957"/>
                    <a:pt x="2957" y="0"/>
                    <a:pt x="6604" y="0"/>
                  </a:cubicBezTo>
                  <a:cubicBezTo>
                    <a:pt x="10251" y="0"/>
                    <a:pt x="13208" y="2957"/>
                    <a:pt x="13208" y="6604"/>
                  </a:cubicBezTo>
                  <a:close/>
                </a:path>
              </a:pathLst>
            </a:custGeom>
            <a:solidFill>
              <a:srgbClr val="dce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40" name="Freeform 424"/>
            <p:cNvSpPr/>
            <p:nvPr/>
          </p:nvSpPr>
          <p:spPr>
            <a:xfrm>
              <a:off x="2140560" y="3070080"/>
              <a:ext cx="168480" cy="196560"/>
            </a:xfrm>
            <a:custGeom>
              <a:avLst/>
              <a:gdLst/>
              <a:ahLst/>
              <a:rect l="l" t="t" r="r" b="b"/>
              <a:pathLst>
                <a:path w="168785" h="196753">
                  <a:moveTo>
                    <a:pt x="109858" y="82136"/>
                  </a:moveTo>
                  <a:cubicBezTo>
                    <a:pt x="90744" y="61181"/>
                    <a:pt x="71567" y="40163"/>
                    <a:pt x="52453" y="19208"/>
                  </a:cubicBezTo>
                  <a:cubicBezTo>
                    <a:pt x="47374" y="13620"/>
                    <a:pt x="42166" y="7968"/>
                    <a:pt x="35626" y="4158"/>
                  </a:cubicBezTo>
                  <a:cubicBezTo>
                    <a:pt x="29085" y="348"/>
                    <a:pt x="20957" y="-1430"/>
                    <a:pt x="13909" y="1364"/>
                  </a:cubicBezTo>
                  <a:cubicBezTo>
                    <a:pt x="4828" y="4984"/>
                    <a:pt x="-125" y="15334"/>
                    <a:pt x="2" y="25113"/>
                  </a:cubicBezTo>
                  <a:cubicBezTo>
                    <a:pt x="130" y="34892"/>
                    <a:pt x="4384" y="44100"/>
                    <a:pt x="9146" y="52609"/>
                  </a:cubicBezTo>
                  <a:cubicBezTo>
                    <a:pt x="22481" y="76358"/>
                    <a:pt x="40769" y="97313"/>
                    <a:pt x="62487" y="113823"/>
                  </a:cubicBezTo>
                  <a:cubicBezTo>
                    <a:pt x="59375" y="118331"/>
                    <a:pt x="62740" y="126205"/>
                    <a:pt x="66233" y="130396"/>
                  </a:cubicBezTo>
                  <a:cubicBezTo>
                    <a:pt x="69789" y="134587"/>
                    <a:pt x="74488" y="137826"/>
                    <a:pt x="77282" y="142525"/>
                  </a:cubicBezTo>
                  <a:cubicBezTo>
                    <a:pt x="83505" y="153129"/>
                    <a:pt x="78044" y="167353"/>
                    <a:pt x="83124" y="178593"/>
                  </a:cubicBezTo>
                  <a:cubicBezTo>
                    <a:pt x="87442" y="188181"/>
                    <a:pt x="98110" y="192880"/>
                    <a:pt x="107889" y="196754"/>
                  </a:cubicBezTo>
                  <a:cubicBezTo>
                    <a:pt x="98300" y="191610"/>
                    <a:pt x="92141" y="180307"/>
                    <a:pt x="92141" y="169385"/>
                  </a:cubicBezTo>
                  <a:cubicBezTo>
                    <a:pt x="92141" y="164178"/>
                    <a:pt x="93411" y="158971"/>
                    <a:pt x="92776" y="153764"/>
                  </a:cubicBezTo>
                  <a:cubicBezTo>
                    <a:pt x="92014" y="148049"/>
                    <a:pt x="88966" y="142969"/>
                    <a:pt x="85664" y="138270"/>
                  </a:cubicBezTo>
                  <a:cubicBezTo>
                    <a:pt x="82362" y="133571"/>
                    <a:pt x="78743" y="128999"/>
                    <a:pt x="76647" y="123665"/>
                  </a:cubicBezTo>
                  <a:cubicBezTo>
                    <a:pt x="74552" y="118331"/>
                    <a:pt x="74171" y="111918"/>
                    <a:pt x="77218" y="107092"/>
                  </a:cubicBezTo>
                  <a:cubicBezTo>
                    <a:pt x="83441" y="107219"/>
                    <a:pt x="89284" y="112299"/>
                    <a:pt x="92395" y="117633"/>
                  </a:cubicBezTo>
                  <a:cubicBezTo>
                    <a:pt x="95506" y="123030"/>
                    <a:pt x="97348" y="129063"/>
                    <a:pt x="101031" y="134079"/>
                  </a:cubicBezTo>
                  <a:cubicBezTo>
                    <a:pt x="106809" y="141826"/>
                    <a:pt x="116334" y="146017"/>
                    <a:pt x="122431" y="153574"/>
                  </a:cubicBezTo>
                  <a:cubicBezTo>
                    <a:pt x="129733" y="162527"/>
                    <a:pt x="131003" y="174846"/>
                    <a:pt x="132019" y="186340"/>
                  </a:cubicBezTo>
                  <a:cubicBezTo>
                    <a:pt x="139766" y="170401"/>
                    <a:pt x="134559" y="149891"/>
                    <a:pt x="121478" y="137889"/>
                  </a:cubicBezTo>
                  <a:cubicBezTo>
                    <a:pt x="115699" y="132619"/>
                    <a:pt x="108270" y="128682"/>
                    <a:pt x="104777" y="121697"/>
                  </a:cubicBezTo>
                  <a:cubicBezTo>
                    <a:pt x="102365" y="116871"/>
                    <a:pt x="102237" y="111219"/>
                    <a:pt x="101285" y="105885"/>
                  </a:cubicBezTo>
                  <a:cubicBezTo>
                    <a:pt x="100396" y="100551"/>
                    <a:pt x="98300" y="94836"/>
                    <a:pt x="93538" y="92296"/>
                  </a:cubicBezTo>
                  <a:cubicBezTo>
                    <a:pt x="99888" y="91534"/>
                    <a:pt x="106111" y="96551"/>
                    <a:pt x="109603" y="101948"/>
                  </a:cubicBezTo>
                  <a:cubicBezTo>
                    <a:pt x="113033" y="107346"/>
                    <a:pt x="115763" y="113569"/>
                    <a:pt x="120970" y="117188"/>
                  </a:cubicBezTo>
                  <a:cubicBezTo>
                    <a:pt x="125415" y="120236"/>
                    <a:pt x="131003" y="120998"/>
                    <a:pt x="136146" y="122649"/>
                  </a:cubicBezTo>
                  <a:cubicBezTo>
                    <a:pt x="145354" y="125570"/>
                    <a:pt x="153546" y="131793"/>
                    <a:pt x="158816" y="139921"/>
                  </a:cubicBezTo>
                  <a:cubicBezTo>
                    <a:pt x="164087" y="148049"/>
                    <a:pt x="166499" y="158019"/>
                    <a:pt x="165484" y="167607"/>
                  </a:cubicBezTo>
                  <a:cubicBezTo>
                    <a:pt x="167071" y="160749"/>
                    <a:pt x="168785" y="154399"/>
                    <a:pt x="168785" y="147351"/>
                  </a:cubicBezTo>
                  <a:cubicBezTo>
                    <a:pt x="168785" y="140302"/>
                    <a:pt x="167071" y="133000"/>
                    <a:pt x="162626" y="127539"/>
                  </a:cubicBezTo>
                  <a:cubicBezTo>
                    <a:pt x="157673" y="121379"/>
                    <a:pt x="149990" y="118141"/>
                    <a:pt x="142750" y="114839"/>
                  </a:cubicBezTo>
                  <a:cubicBezTo>
                    <a:pt x="135512" y="111537"/>
                    <a:pt x="128018" y="107536"/>
                    <a:pt x="124209" y="100615"/>
                  </a:cubicBezTo>
                  <a:cubicBezTo>
                    <a:pt x="122303" y="97122"/>
                    <a:pt x="121478" y="93185"/>
                    <a:pt x="119700" y="89629"/>
                  </a:cubicBezTo>
                  <a:cubicBezTo>
                    <a:pt x="117985" y="86073"/>
                    <a:pt x="113794" y="82327"/>
                    <a:pt x="109858" y="82136"/>
                  </a:cubicBezTo>
                  <a:close/>
                </a:path>
              </a:pathLst>
            </a:custGeom>
            <a:solidFill>
              <a:srgbClr val="dce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41" name="Freeform 425"/>
            <p:cNvSpPr/>
            <p:nvPr/>
          </p:nvSpPr>
          <p:spPr>
            <a:xfrm>
              <a:off x="2158920" y="3096000"/>
              <a:ext cx="25560" cy="25560"/>
            </a:xfrm>
            <a:custGeom>
              <a:avLst/>
              <a:gdLst/>
              <a:ahLst/>
              <a:rect l="l" t="t" r="r" b="b"/>
              <a:pathLst>
                <a:path w="25653" h="25653">
                  <a:moveTo>
                    <a:pt x="25654" y="12827"/>
                  </a:moveTo>
                  <a:cubicBezTo>
                    <a:pt x="25654" y="19911"/>
                    <a:pt x="19911" y="25654"/>
                    <a:pt x="12827" y="25654"/>
                  </a:cubicBezTo>
                  <a:cubicBezTo>
                    <a:pt x="5743" y="25654"/>
                    <a:pt x="0" y="19911"/>
                    <a:pt x="0" y="12827"/>
                  </a:cubicBezTo>
                  <a:cubicBezTo>
                    <a:pt x="0" y="5743"/>
                    <a:pt x="5743" y="0"/>
                    <a:pt x="12827" y="0"/>
                  </a:cubicBezTo>
                  <a:cubicBezTo>
                    <a:pt x="19911" y="0"/>
                    <a:pt x="25654" y="5743"/>
                    <a:pt x="25654" y="12827"/>
                  </a:cubicBezTo>
                  <a:close/>
                </a:path>
              </a:pathLst>
            </a:custGeom>
            <a:solidFill>
              <a:srgbClr val="8fd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42" name="Freeform 426"/>
            <p:cNvSpPr/>
            <p:nvPr/>
          </p:nvSpPr>
          <p:spPr>
            <a:xfrm>
              <a:off x="2389320" y="2809080"/>
              <a:ext cx="112320" cy="131400"/>
            </a:xfrm>
            <a:custGeom>
              <a:avLst/>
              <a:gdLst/>
              <a:ahLst/>
              <a:rect l="l" t="t" r="r" b="b"/>
              <a:pathLst>
                <a:path w="112431" h="131387">
                  <a:moveTo>
                    <a:pt x="95160" y="62421"/>
                  </a:moveTo>
                  <a:cubicBezTo>
                    <a:pt x="92874" y="59246"/>
                    <a:pt x="90588" y="56134"/>
                    <a:pt x="88239" y="53149"/>
                  </a:cubicBezTo>
                  <a:cubicBezTo>
                    <a:pt x="83540" y="59881"/>
                    <a:pt x="75793" y="64326"/>
                    <a:pt x="66966" y="64326"/>
                  </a:cubicBezTo>
                  <a:cubicBezTo>
                    <a:pt x="52678" y="64326"/>
                    <a:pt x="41121" y="52768"/>
                    <a:pt x="41121" y="38481"/>
                  </a:cubicBezTo>
                  <a:cubicBezTo>
                    <a:pt x="41121" y="29146"/>
                    <a:pt x="46074" y="20955"/>
                    <a:pt x="53568" y="16383"/>
                  </a:cubicBezTo>
                  <a:cubicBezTo>
                    <a:pt x="46900" y="10541"/>
                    <a:pt x="40042" y="5080"/>
                    <a:pt x="32930" y="0"/>
                  </a:cubicBezTo>
                  <a:cubicBezTo>
                    <a:pt x="32612" y="5461"/>
                    <a:pt x="30580" y="10795"/>
                    <a:pt x="26897" y="14796"/>
                  </a:cubicBezTo>
                  <a:cubicBezTo>
                    <a:pt x="21818" y="20320"/>
                    <a:pt x="14452" y="23114"/>
                    <a:pt x="8483" y="27623"/>
                  </a:cubicBezTo>
                  <a:cubicBezTo>
                    <a:pt x="2514" y="32131"/>
                    <a:pt x="-2249" y="40259"/>
                    <a:pt x="1116" y="46990"/>
                  </a:cubicBezTo>
                  <a:cubicBezTo>
                    <a:pt x="5879" y="56579"/>
                    <a:pt x="21754" y="54420"/>
                    <a:pt x="28040" y="63119"/>
                  </a:cubicBezTo>
                  <a:cubicBezTo>
                    <a:pt x="31787" y="68326"/>
                    <a:pt x="30580" y="75819"/>
                    <a:pt x="27088" y="81217"/>
                  </a:cubicBezTo>
                  <a:cubicBezTo>
                    <a:pt x="23596" y="86614"/>
                    <a:pt x="18325" y="90488"/>
                    <a:pt x="13499" y="94679"/>
                  </a:cubicBezTo>
                  <a:cubicBezTo>
                    <a:pt x="8673" y="98933"/>
                    <a:pt x="4037" y="103886"/>
                    <a:pt x="2640" y="110173"/>
                  </a:cubicBezTo>
                  <a:cubicBezTo>
                    <a:pt x="1116" y="117158"/>
                    <a:pt x="4355" y="124968"/>
                    <a:pt x="10451" y="128778"/>
                  </a:cubicBezTo>
                  <a:cubicBezTo>
                    <a:pt x="16484" y="132588"/>
                    <a:pt x="24929" y="132207"/>
                    <a:pt x="30580" y="127762"/>
                  </a:cubicBezTo>
                  <a:cubicBezTo>
                    <a:pt x="35534" y="123952"/>
                    <a:pt x="38010" y="117793"/>
                    <a:pt x="40359" y="112014"/>
                  </a:cubicBezTo>
                  <a:cubicBezTo>
                    <a:pt x="42646" y="106172"/>
                    <a:pt x="45249" y="100076"/>
                    <a:pt x="50202" y="96330"/>
                  </a:cubicBezTo>
                  <a:cubicBezTo>
                    <a:pt x="55218" y="92583"/>
                    <a:pt x="63410" y="92329"/>
                    <a:pt x="66966" y="97536"/>
                  </a:cubicBezTo>
                  <a:cubicBezTo>
                    <a:pt x="72109" y="105093"/>
                    <a:pt x="63600" y="116396"/>
                    <a:pt x="68427" y="124206"/>
                  </a:cubicBezTo>
                  <a:cubicBezTo>
                    <a:pt x="71728" y="129540"/>
                    <a:pt x="79920" y="129794"/>
                    <a:pt x="85064" y="126365"/>
                  </a:cubicBezTo>
                  <a:cubicBezTo>
                    <a:pt x="90271" y="122873"/>
                    <a:pt x="93128" y="116904"/>
                    <a:pt x="95414" y="111062"/>
                  </a:cubicBezTo>
                  <a:cubicBezTo>
                    <a:pt x="97700" y="105220"/>
                    <a:pt x="99732" y="99060"/>
                    <a:pt x="104050" y="94552"/>
                  </a:cubicBezTo>
                  <a:cubicBezTo>
                    <a:pt x="106272" y="92202"/>
                    <a:pt x="109321" y="90424"/>
                    <a:pt x="112432" y="89789"/>
                  </a:cubicBezTo>
                  <a:cubicBezTo>
                    <a:pt x="107162" y="80327"/>
                    <a:pt x="101446" y="71247"/>
                    <a:pt x="95160" y="62421"/>
                  </a:cubicBezTo>
                  <a:close/>
                  <a:moveTo>
                    <a:pt x="17753" y="121095"/>
                  </a:moveTo>
                  <a:cubicBezTo>
                    <a:pt x="14134" y="121095"/>
                    <a:pt x="11277" y="118174"/>
                    <a:pt x="11277" y="114618"/>
                  </a:cubicBezTo>
                  <a:cubicBezTo>
                    <a:pt x="11277" y="110998"/>
                    <a:pt x="14197" y="108077"/>
                    <a:pt x="17753" y="108077"/>
                  </a:cubicBezTo>
                  <a:cubicBezTo>
                    <a:pt x="21373" y="108077"/>
                    <a:pt x="24294" y="110998"/>
                    <a:pt x="24294" y="114618"/>
                  </a:cubicBezTo>
                  <a:cubicBezTo>
                    <a:pt x="24230" y="118174"/>
                    <a:pt x="21309" y="121095"/>
                    <a:pt x="17753" y="121095"/>
                  </a:cubicBezTo>
                  <a:close/>
                </a:path>
              </a:pathLst>
            </a:custGeom>
            <a:solidFill>
              <a:srgbClr val="8fd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43" name="Freeform 427"/>
            <p:cNvSpPr/>
            <p:nvPr/>
          </p:nvSpPr>
          <p:spPr>
            <a:xfrm>
              <a:off x="2430360" y="2825280"/>
              <a:ext cx="46800" cy="47880"/>
            </a:xfrm>
            <a:custGeom>
              <a:avLst/>
              <a:gdLst/>
              <a:ahLst/>
              <a:rect l="l" t="t" r="r" b="b"/>
              <a:pathLst>
                <a:path w="47116" h="47942">
                  <a:moveTo>
                    <a:pt x="-18419" y="-28769"/>
                  </a:moveTo>
                  <a:cubicBezTo>
                    <a:pt x="-23118" y="-22038"/>
                    <a:pt x="-30865" y="-17594"/>
                    <a:pt x="25844" y="-17594"/>
                  </a:cubicBezTo>
                  <a:cubicBezTo>
                    <a:pt x="11557" y="-17594"/>
                    <a:pt x="0" y="-29150"/>
                    <a:pt x="0" y="22098"/>
                  </a:cubicBezTo>
                  <a:cubicBezTo>
                    <a:pt x="0" y="12764"/>
                    <a:pt x="4953" y="4572"/>
                    <a:pt x="12446" y="0"/>
                  </a:cubicBezTo>
                  <a:cubicBezTo>
                    <a:pt x="24955" y="10986"/>
                    <a:pt x="-28960" y="23241"/>
                    <a:pt x="-18419" y="-28769"/>
                  </a:cubicBezTo>
                  <a:close/>
                </a:path>
              </a:pathLst>
            </a:custGeom>
            <a:solidFill>
              <a:srgbClr val="dce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44" name="Freeform 428"/>
            <p:cNvSpPr/>
            <p:nvPr/>
          </p:nvSpPr>
          <p:spPr>
            <a:xfrm>
              <a:off x="2119320" y="2887200"/>
              <a:ext cx="55440" cy="105840"/>
            </a:xfrm>
            <a:custGeom>
              <a:avLst/>
              <a:gdLst/>
              <a:ahLst/>
              <a:rect l="l" t="t" r="r" b="b"/>
              <a:pathLst>
                <a:path w="55627" h="106138">
                  <a:moveTo>
                    <a:pt x="6573" y="105379"/>
                  </a:moveTo>
                  <a:lnTo>
                    <a:pt x="6573" y="105379"/>
                  </a:lnTo>
                  <a:cubicBezTo>
                    <a:pt x="1175" y="103220"/>
                    <a:pt x="-1428" y="97060"/>
                    <a:pt x="794" y="91663"/>
                  </a:cubicBezTo>
                  <a:lnTo>
                    <a:pt x="35338" y="6573"/>
                  </a:lnTo>
                  <a:cubicBezTo>
                    <a:pt x="37497" y="1175"/>
                    <a:pt x="43657" y="-1428"/>
                    <a:pt x="49055" y="794"/>
                  </a:cubicBezTo>
                  <a:lnTo>
                    <a:pt x="49055" y="794"/>
                  </a:lnTo>
                  <a:cubicBezTo>
                    <a:pt x="54452" y="2953"/>
                    <a:pt x="57055" y="9113"/>
                    <a:pt x="54833" y="14510"/>
                  </a:cubicBezTo>
                  <a:lnTo>
                    <a:pt x="20289" y="99600"/>
                  </a:lnTo>
                  <a:cubicBezTo>
                    <a:pt x="18066" y="104934"/>
                    <a:pt x="11907" y="107538"/>
                    <a:pt x="6573" y="105379"/>
                  </a:cubicBezTo>
                  <a:close/>
                </a:path>
              </a:pathLst>
            </a:custGeom>
            <a:solidFill>
              <a:srgbClr val="8fd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45" name="Freeform 429"/>
            <p:cNvSpPr/>
            <p:nvPr/>
          </p:nvSpPr>
          <p:spPr>
            <a:xfrm>
              <a:off x="2264400" y="2884320"/>
              <a:ext cx="100080" cy="100080"/>
            </a:xfrm>
            <a:custGeom>
              <a:avLst/>
              <a:gdLst/>
              <a:ahLst/>
              <a:rect l="l" t="t" r="r" b="b"/>
              <a:pathLst>
                <a:path w="100383" h="100383">
                  <a:moveTo>
                    <a:pt x="98007" y="50192"/>
                  </a:moveTo>
                  <a:cubicBezTo>
                    <a:pt x="98007" y="46890"/>
                    <a:pt x="100928" y="43334"/>
                    <a:pt x="100293" y="40222"/>
                  </a:cubicBezTo>
                  <a:cubicBezTo>
                    <a:pt x="99658" y="36984"/>
                    <a:pt x="95594" y="34825"/>
                    <a:pt x="94388" y="31904"/>
                  </a:cubicBezTo>
                  <a:cubicBezTo>
                    <a:pt x="93118" y="28919"/>
                    <a:pt x="94451" y="24474"/>
                    <a:pt x="92673" y="21807"/>
                  </a:cubicBezTo>
                  <a:cubicBezTo>
                    <a:pt x="90895" y="19140"/>
                    <a:pt x="86260" y="18696"/>
                    <a:pt x="83974" y="16410"/>
                  </a:cubicBezTo>
                  <a:cubicBezTo>
                    <a:pt x="81688" y="14124"/>
                    <a:pt x="81243" y="9552"/>
                    <a:pt x="78576" y="7710"/>
                  </a:cubicBezTo>
                  <a:cubicBezTo>
                    <a:pt x="75909" y="5932"/>
                    <a:pt x="71528" y="7266"/>
                    <a:pt x="68480" y="5996"/>
                  </a:cubicBezTo>
                  <a:cubicBezTo>
                    <a:pt x="65495" y="4789"/>
                    <a:pt x="63336" y="725"/>
                    <a:pt x="60161" y="90"/>
                  </a:cubicBezTo>
                  <a:cubicBezTo>
                    <a:pt x="57050" y="-545"/>
                    <a:pt x="53494" y="2376"/>
                    <a:pt x="50192" y="2376"/>
                  </a:cubicBezTo>
                  <a:cubicBezTo>
                    <a:pt x="46890" y="2376"/>
                    <a:pt x="43334" y="-545"/>
                    <a:pt x="40222" y="90"/>
                  </a:cubicBezTo>
                  <a:cubicBezTo>
                    <a:pt x="36984" y="725"/>
                    <a:pt x="34825" y="4789"/>
                    <a:pt x="31904" y="5996"/>
                  </a:cubicBezTo>
                  <a:cubicBezTo>
                    <a:pt x="28919" y="7266"/>
                    <a:pt x="24474" y="5932"/>
                    <a:pt x="21807" y="7710"/>
                  </a:cubicBezTo>
                  <a:cubicBezTo>
                    <a:pt x="19140" y="9488"/>
                    <a:pt x="18696" y="14124"/>
                    <a:pt x="16410" y="16410"/>
                  </a:cubicBezTo>
                  <a:cubicBezTo>
                    <a:pt x="14124" y="18696"/>
                    <a:pt x="9552" y="19140"/>
                    <a:pt x="7710" y="21807"/>
                  </a:cubicBezTo>
                  <a:cubicBezTo>
                    <a:pt x="5932" y="24474"/>
                    <a:pt x="7266" y="28856"/>
                    <a:pt x="5996" y="31904"/>
                  </a:cubicBezTo>
                  <a:cubicBezTo>
                    <a:pt x="4789" y="34888"/>
                    <a:pt x="725" y="37047"/>
                    <a:pt x="90" y="40222"/>
                  </a:cubicBezTo>
                  <a:cubicBezTo>
                    <a:pt x="-545" y="43334"/>
                    <a:pt x="2376" y="46890"/>
                    <a:pt x="2376" y="50192"/>
                  </a:cubicBezTo>
                  <a:cubicBezTo>
                    <a:pt x="2376" y="53494"/>
                    <a:pt x="-545" y="57050"/>
                    <a:pt x="90" y="60161"/>
                  </a:cubicBezTo>
                  <a:cubicBezTo>
                    <a:pt x="725" y="63400"/>
                    <a:pt x="4789" y="65559"/>
                    <a:pt x="5996" y="68480"/>
                  </a:cubicBezTo>
                  <a:cubicBezTo>
                    <a:pt x="7266" y="71464"/>
                    <a:pt x="5932" y="75909"/>
                    <a:pt x="7710" y="78576"/>
                  </a:cubicBezTo>
                  <a:cubicBezTo>
                    <a:pt x="9488" y="81243"/>
                    <a:pt x="14124" y="81688"/>
                    <a:pt x="16410" y="83974"/>
                  </a:cubicBezTo>
                  <a:cubicBezTo>
                    <a:pt x="18696" y="86260"/>
                    <a:pt x="19140" y="90832"/>
                    <a:pt x="21807" y="92673"/>
                  </a:cubicBezTo>
                  <a:cubicBezTo>
                    <a:pt x="24474" y="94451"/>
                    <a:pt x="28856" y="93118"/>
                    <a:pt x="31904" y="94388"/>
                  </a:cubicBezTo>
                  <a:cubicBezTo>
                    <a:pt x="34888" y="95594"/>
                    <a:pt x="37047" y="99658"/>
                    <a:pt x="40222" y="100293"/>
                  </a:cubicBezTo>
                  <a:cubicBezTo>
                    <a:pt x="43334" y="100928"/>
                    <a:pt x="46890" y="98007"/>
                    <a:pt x="50192" y="98007"/>
                  </a:cubicBezTo>
                  <a:cubicBezTo>
                    <a:pt x="53494" y="98007"/>
                    <a:pt x="57050" y="100928"/>
                    <a:pt x="60161" y="100293"/>
                  </a:cubicBezTo>
                  <a:cubicBezTo>
                    <a:pt x="63400" y="99658"/>
                    <a:pt x="65559" y="95594"/>
                    <a:pt x="68480" y="94388"/>
                  </a:cubicBezTo>
                  <a:cubicBezTo>
                    <a:pt x="71464" y="93118"/>
                    <a:pt x="75909" y="94451"/>
                    <a:pt x="78576" y="92673"/>
                  </a:cubicBezTo>
                  <a:cubicBezTo>
                    <a:pt x="81243" y="90895"/>
                    <a:pt x="81688" y="86260"/>
                    <a:pt x="83974" y="83974"/>
                  </a:cubicBezTo>
                  <a:cubicBezTo>
                    <a:pt x="86260" y="81688"/>
                    <a:pt x="90832" y="81243"/>
                    <a:pt x="92673" y="78576"/>
                  </a:cubicBezTo>
                  <a:cubicBezTo>
                    <a:pt x="94451" y="75909"/>
                    <a:pt x="93118" y="71528"/>
                    <a:pt x="94388" y="68480"/>
                  </a:cubicBezTo>
                  <a:cubicBezTo>
                    <a:pt x="95594" y="65495"/>
                    <a:pt x="99658" y="63336"/>
                    <a:pt x="100293" y="60161"/>
                  </a:cubicBezTo>
                  <a:cubicBezTo>
                    <a:pt x="100928" y="57050"/>
                    <a:pt x="98007" y="53494"/>
                    <a:pt x="98007" y="50192"/>
                  </a:cubicBezTo>
                  <a:close/>
                </a:path>
              </a:pathLst>
            </a:custGeom>
            <a:solidFill>
              <a:srgbClr val="dce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46" name="Freeform 430"/>
            <p:cNvSpPr/>
            <p:nvPr/>
          </p:nvSpPr>
          <p:spPr>
            <a:xfrm>
              <a:off x="2270160" y="2890080"/>
              <a:ext cx="83160" cy="83160"/>
            </a:xfrm>
            <a:custGeom>
              <a:avLst/>
              <a:gdLst/>
              <a:ahLst/>
              <a:rect l="l" t="t" r="r" b="b"/>
              <a:pathLst>
                <a:path w="83325" h="83325">
                  <a:moveTo>
                    <a:pt x="81350" y="41663"/>
                  </a:moveTo>
                  <a:cubicBezTo>
                    <a:pt x="81350" y="38932"/>
                    <a:pt x="83763" y="36011"/>
                    <a:pt x="83255" y="33408"/>
                  </a:cubicBezTo>
                  <a:cubicBezTo>
                    <a:pt x="82747" y="30741"/>
                    <a:pt x="79382" y="28963"/>
                    <a:pt x="78302" y="26486"/>
                  </a:cubicBezTo>
                  <a:cubicBezTo>
                    <a:pt x="77286" y="24010"/>
                    <a:pt x="78366" y="20327"/>
                    <a:pt x="76905" y="18104"/>
                  </a:cubicBezTo>
                  <a:cubicBezTo>
                    <a:pt x="75381" y="15882"/>
                    <a:pt x="71635" y="15501"/>
                    <a:pt x="69730" y="13596"/>
                  </a:cubicBezTo>
                  <a:cubicBezTo>
                    <a:pt x="67825" y="11691"/>
                    <a:pt x="67444" y="7881"/>
                    <a:pt x="65221" y="6420"/>
                  </a:cubicBezTo>
                  <a:cubicBezTo>
                    <a:pt x="62999" y="4960"/>
                    <a:pt x="59379" y="6039"/>
                    <a:pt x="56839" y="5023"/>
                  </a:cubicBezTo>
                  <a:cubicBezTo>
                    <a:pt x="54363" y="4007"/>
                    <a:pt x="52585" y="642"/>
                    <a:pt x="49918" y="70"/>
                  </a:cubicBezTo>
                  <a:cubicBezTo>
                    <a:pt x="47314" y="-438"/>
                    <a:pt x="44393" y="1975"/>
                    <a:pt x="41663" y="1975"/>
                  </a:cubicBezTo>
                  <a:cubicBezTo>
                    <a:pt x="38932" y="1975"/>
                    <a:pt x="36011" y="-438"/>
                    <a:pt x="33408" y="70"/>
                  </a:cubicBezTo>
                  <a:cubicBezTo>
                    <a:pt x="30741" y="578"/>
                    <a:pt x="28963" y="3944"/>
                    <a:pt x="26486" y="5023"/>
                  </a:cubicBezTo>
                  <a:cubicBezTo>
                    <a:pt x="24010" y="6039"/>
                    <a:pt x="20327" y="4960"/>
                    <a:pt x="18104" y="6420"/>
                  </a:cubicBezTo>
                  <a:cubicBezTo>
                    <a:pt x="15882" y="7944"/>
                    <a:pt x="15501" y="11691"/>
                    <a:pt x="13596" y="13596"/>
                  </a:cubicBezTo>
                  <a:cubicBezTo>
                    <a:pt x="11691" y="15501"/>
                    <a:pt x="7881" y="15882"/>
                    <a:pt x="6420" y="18104"/>
                  </a:cubicBezTo>
                  <a:cubicBezTo>
                    <a:pt x="4960" y="20327"/>
                    <a:pt x="6039" y="23946"/>
                    <a:pt x="5023" y="26486"/>
                  </a:cubicBezTo>
                  <a:cubicBezTo>
                    <a:pt x="4007" y="28963"/>
                    <a:pt x="642" y="30741"/>
                    <a:pt x="70" y="33408"/>
                  </a:cubicBezTo>
                  <a:cubicBezTo>
                    <a:pt x="-438" y="36011"/>
                    <a:pt x="1975" y="38932"/>
                    <a:pt x="1975" y="41663"/>
                  </a:cubicBezTo>
                  <a:cubicBezTo>
                    <a:pt x="1975" y="44393"/>
                    <a:pt x="-438" y="47314"/>
                    <a:pt x="70" y="49918"/>
                  </a:cubicBezTo>
                  <a:cubicBezTo>
                    <a:pt x="578" y="52585"/>
                    <a:pt x="3944" y="54363"/>
                    <a:pt x="5023" y="56839"/>
                  </a:cubicBezTo>
                  <a:cubicBezTo>
                    <a:pt x="6039" y="59316"/>
                    <a:pt x="4960" y="62999"/>
                    <a:pt x="6420" y="65221"/>
                  </a:cubicBezTo>
                  <a:cubicBezTo>
                    <a:pt x="7944" y="67444"/>
                    <a:pt x="11691" y="67825"/>
                    <a:pt x="13596" y="69730"/>
                  </a:cubicBezTo>
                  <a:cubicBezTo>
                    <a:pt x="15501" y="71635"/>
                    <a:pt x="15882" y="75445"/>
                    <a:pt x="18104" y="76905"/>
                  </a:cubicBezTo>
                  <a:cubicBezTo>
                    <a:pt x="20327" y="78366"/>
                    <a:pt x="23946" y="77286"/>
                    <a:pt x="26486" y="78302"/>
                  </a:cubicBezTo>
                  <a:cubicBezTo>
                    <a:pt x="28963" y="79318"/>
                    <a:pt x="30741" y="82684"/>
                    <a:pt x="33408" y="83255"/>
                  </a:cubicBezTo>
                  <a:cubicBezTo>
                    <a:pt x="36011" y="83763"/>
                    <a:pt x="38932" y="81350"/>
                    <a:pt x="41663" y="81350"/>
                  </a:cubicBezTo>
                  <a:cubicBezTo>
                    <a:pt x="44393" y="81350"/>
                    <a:pt x="47314" y="83763"/>
                    <a:pt x="49918" y="83255"/>
                  </a:cubicBezTo>
                  <a:cubicBezTo>
                    <a:pt x="52585" y="82747"/>
                    <a:pt x="54363" y="79382"/>
                    <a:pt x="56839" y="78302"/>
                  </a:cubicBezTo>
                  <a:cubicBezTo>
                    <a:pt x="59316" y="77286"/>
                    <a:pt x="62999" y="78366"/>
                    <a:pt x="65221" y="76905"/>
                  </a:cubicBezTo>
                  <a:cubicBezTo>
                    <a:pt x="67444" y="75381"/>
                    <a:pt x="67825" y="71635"/>
                    <a:pt x="69730" y="69730"/>
                  </a:cubicBezTo>
                  <a:cubicBezTo>
                    <a:pt x="71635" y="67825"/>
                    <a:pt x="75445" y="67444"/>
                    <a:pt x="76905" y="65221"/>
                  </a:cubicBezTo>
                  <a:cubicBezTo>
                    <a:pt x="78366" y="62999"/>
                    <a:pt x="77286" y="59379"/>
                    <a:pt x="78302" y="56839"/>
                  </a:cubicBezTo>
                  <a:cubicBezTo>
                    <a:pt x="79318" y="54363"/>
                    <a:pt x="82684" y="52585"/>
                    <a:pt x="83255" y="49918"/>
                  </a:cubicBezTo>
                  <a:cubicBezTo>
                    <a:pt x="83763" y="47314"/>
                    <a:pt x="81350" y="44393"/>
                    <a:pt x="81350" y="41663"/>
                  </a:cubicBezTo>
                  <a:close/>
                </a:path>
              </a:pathLst>
            </a:custGeom>
            <a:solidFill>
              <a:srgbClr val="8fd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47" name="Freeform 431"/>
            <p:cNvSpPr/>
            <p:nvPr/>
          </p:nvSpPr>
          <p:spPr>
            <a:xfrm>
              <a:off x="2339280" y="2975760"/>
              <a:ext cx="77040" cy="99360"/>
            </a:xfrm>
            <a:custGeom>
              <a:avLst/>
              <a:gdLst/>
              <a:ahLst/>
              <a:rect l="l" t="t" r="r" b="b"/>
              <a:pathLst>
                <a:path w="77320" h="99676">
                  <a:moveTo>
                    <a:pt x="6960" y="99677"/>
                  </a:moveTo>
                  <a:cubicBezTo>
                    <a:pt x="3849" y="99677"/>
                    <a:pt x="1119" y="97454"/>
                    <a:pt x="547" y="94279"/>
                  </a:cubicBezTo>
                  <a:cubicBezTo>
                    <a:pt x="-2247" y="78722"/>
                    <a:pt x="5881" y="62212"/>
                    <a:pt x="19914" y="54973"/>
                  </a:cubicBezTo>
                  <a:cubicBezTo>
                    <a:pt x="24486" y="52623"/>
                    <a:pt x="29249" y="51353"/>
                    <a:pt x="33821" y="50210"/>
                  </a:cubicBezTo>
                  <a:cubicBezTo>
                    <a:pt x="36932" y="49385"/>
                    <a:pt x="39854" y="48623"/>
                    <a:pt x="42520" y="47607"/>
                  </a:cubicBezTo>
                  <a:cubicBezTo>
                    <a:pt x="50077" y="44622"/>
                    <a:pt x="56554" y="38844"/>
                    <a:pt x="60301" y="31668"/>
                  </a:cubicBezTo>
                  <a:cubicBezTo>
                    <a:pt x="64110" y="24493"/>
                    <a:pt x="65190" y="15857"/>
                    <a:pt x="63412" y="7983"/>
                  </a:cubicBezTo>
                  <a:cubicBezTo>
                    <a:pt x="62586" y="4427"/>
                    <a:pt x="64809" y="934"/>
                    <a:pt x="68365" y="172"/>
                  </a:cubicBezTo>
                  <a:cubicBezTo>
                    <a:pt x="71921" y="-653"/>
                    <a:pt x="75413" y="1569"/>
                    <a:pt x="76176" y="5125"/>
                  </a:cubicBezTo>
                  <a:cubicBezTo>
                    <a:pt x="78652" y="16047"/>
                    <a:pt x="77064" y="27922"/>
                    <a:pt x="71857" y="37828"/>
                  </a:cubicBezTo>
                  <a:cubicBezTo>
                    <a:pt x="66651" y="47734"/>
                    <a:pt x="57697" y="55735"/>
                    <a:pt x="47283" y="59862"/>
                  </a:cubicBezTo>
                  <a:cubicBezTo>
                    <a:pt x="43854" y="61196"/>
                    <a:pt x="40425" y="62085"/>
                    <a:pt x="37123" y="62974"/>
                  </a:cubicBezTo>
                  <a:cubicBezTo>
                    <a:pt x="33059" y="64053"/>
                    <a:pt x="29249" y="65069"/>
                    <a:pt x="25947" y="66720"/>
                  </a:cubicBezTo>
                  <a:cubicBezTo>
                    <a:pt x="17057" y="71292"/>
                    <a:pt x="11660" y="82214"/>
                    <a:pt x="13438" y="92057"/>
                  </a:cubicBezTo>
                  <a:cubicBezTo>
                    <a:pt x="14073" y="95613"/>
                    <a:pt x="11723" y="99042"/>
                    <a:pt x="8167" y="99677"/>
                  </a:cubicBezTo>
                  <a:cubicBezTo>
                    <a:pt x="7723" y="99613"/>
                    <a:pt x="7341" y="99677"/>
                    <a:pt x="6960" y="99677"/>
                  </a:cubicBezTo>
                  <a:close/>
                </a:path>
              </a:pathLst>
            </a:custGeom>
            <a:solidFill>
              <a:srgbClr val="dce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48" name="Freeform 432"/>
            <p:cNvSpPr/>
            <p:nvPr/>
          </p:nvSpPr>
          <p:spPr>
            <a:xfrm>
              <a:off x="2317680" y="2930040"/>
              <a:ext cx="12960" cy="12960"/>
            </a:xfrm>
            <a:custGeom>
              <a:avLst/>
              <a:gdLst/>
              <a:ahLst/>
              <a:rect l="l" t="t" r="r" b="b"/>
              <a:pathLst>
                <a:path w="13208" h="13208">
                  <a:moveTo>
                    <a:pt x="13208" y="6604"/>
                  </a:moveTo>
                  <a:cubicBezTo>
                    <a:pt x="13208" y="10251"/>
                    <a:pt x="10251" y="13208"/>
                    <a:pt x="6604" y="13208"/>
                  </a:cubicBezTo>
                  <a:cubicBezTo>
                    <a:pt x="2957" y="13208"/>
                    <a:pt x="0" y="10251"/>
                    <a:pt x="0" y="6604"/>
                  </a:cubicBezTo>
                  <a:cubicBezTo>
                    <a:pt x="0" y="2957"/>
                    <a:pt x="2957" y="0"/>
                    <a:pt x="6604" y="0"/>
                  </a:cubicBezTo>
                  <a:cubicBezTo>
                    <a:pt x="10251" y="0"/>
                    <a:pt x="13208" y="2957"/>
                    <a:pt x="13208" y="6604"/>
                  </a:cubicBezTo>
                  <a:close/>
                </a:path>
              </a:pathLst>
            </a:custGeom>
            <a:solidFill>
              <a:srgbClr val="f4ccc1"/>
            </a:solidFill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49" name="Freeform 433"/>
            <p:cNvSpPr/>
            <p:nvPr/>
          </p:nvSpPr>
          <p:spPr>
            <a:xfrm>
              <a:off x="2286000" y="2899800"/>
              <a:ext cx="57240" cy="57240"/>
            </a:xfrm>
            <a:custGeom>
              <a:avLst/>
              <a:gdLst/>
              <a:ahLst/>
              <a:rect l="l" t="t" r="r" b="b"/>
              <a:pathLst>
                <a:path w="57530" h="57530">
                  <a:moveTo>
                    <a:pt x="-8005" y="28766"/>
                  </a:moveTo>
                  <a:cubicBezTo>
                    <a:pt x="-8005" y="-20884"/>
                    <a:pt x="-20884" y="-8005"/>
                    <a:pt x="28765" y="-8005"/>
                  </a:cubicBezTo>
                  <a:cubicBezTo>
                    <a:pt x="12879" y="-8005"/>
                    <a:pt x="0" y="-20884"/>
                    <a:pt x="0" y="28766"/>
                  </a:cubicBezTo>
                  <a:cubicBezTo>
                    <a:pt x="0" y="12879"/>
                    <a:pt x="12879" y="0"/>
                    <a:pt x="28765" y="0"/>
                  </a:cubicBezTo>
                  <a:cubicBezTo>
                    <a:pt x="-20884" y="0"/>
                    <a:pt x="-8005" y="12879"/>
                    <a:pt x="-8005" y="28766"/>
                  </a:cubicBezTo>
                  <a:close/>
                </a:path>
              </a:pathLst>
            </a:custGeom>
            <a:solidFill>
              <a:srgbClr val="dce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grpSp>
          <p:nvGrpSpPr>
            <p:cNvPr id="1650" name="Graphic 2"/>
            <p:cNvGrpSpPr/>
            <p:nvPr/>
          </p:nvGrpSpPr>
          <p:grpSpPr>
            <a:xfrm>
              <a:off x="2094840" y="3168720"/>
              <a:ext cx="67320" cy="55440"/>
              <a:chOff x="2094840" y="3168720"/>
              <a:chExt cx="67320" cy="55440"/>
            </a:xfrm>
          </p:grpSpPr>
          <p:sp>
            <p:nvSpPr>
              <p:cNvPr id="1651" name="Freeform 447"/>
              <p:cNvSpPr/>
              <p:nvPr/>
            </p:nvSpPr>
            <p:spPr>
              <a:xfrm rot="19849800">
                <a:off x="2098080" y="3181320"/>
                <a:ext cx="60480" cy="29880"/>
              </a:xfrm>
              <a:custGeom>
                <a:avLst/>
                <a:gdLst/>
                <a:ahLst/>
                <a:rect l="l" t="t" r="r" b="b"/>
                <a:pathLst>
                  <a:path w="59815" h="17271">
                    <a:moveTo>
                      <a:pt x="-5721" y="8636"/>
                    </a:moveTo>
                    <a:cubicBezTo>
                      <a:pt x="-5721" y="13405"/>
                      <a:pt x="-19111" y="17271"/>
                      <a:pt x="29908" y="17271"/>
                    </a:cubicBezTo>
                    <a:cubicBezTo>
                      <a:pt x="13390" y="17271"/>
                      <a:pt x="0" y="13405"/>
                      <a:pt x="0" y="8636"/>
                    </a:cubicBezTo>
                    <a:cubicBezTo>
                      <a:pt x="0" y="3866"/>
                      <a:pt x="13390" y="0"/>
                      <a:pt x="29908" y="0"/>
                    </a:cubicBezTo>
                    <a:cubicBezTo>
                      <a:pt x="-19111" y="0"/>
                      <a:pt x="-5721" y="3866"/>
                      <a:pt x="-5721" y="8636"/>
                    </a:cubicBezTo>
                    <a:close/>
                  </a:path>
                </a:pathLst>
              </a:custGeom>
              <a:solidFill>
                <a:srgbClr val="dceb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652" name="Freeform 448"/>
              <p:cNvSpPr/>
              <p:nvPr/>
            </p:nvSpPr>
            <p:spPr>
              <a:xfrm>
                <a:off x="2108520" y="3205080"/>
                <a:ext cx="7920" cy="13680"/>
              </a:xfrm>
              <a:custGeom>
                <a:avLst/>
                <a:gdLst/>
                <a:ahLst/>
                <a:rect l="l" t="t" r="r" b="b"/>
                <a:pathLst>
                  <a:path w="7874" h="7874">
                    <a:moveTo>
                      <a:pt x="7874" y="3937"/>
                    </a:moveTo>
                    <a:cubicBezTo>
                      <a:pt x="7874" y="6111"/>
                      <a:pt x="6111" y="7874"/>
                      <a:pt x="3937" y="7874"/>
                    </a:cubicBezTo>
                    <a:cubicBezTo>
                      <a:pt x="1763" y="7874"/>
                      <a:pt x="0" y="6111"/>
                      <a:pt x="0" y="3937"/>
                    </a:cubicBezTo>
                    <a:cubicBezTo>
                      <a:pt x="0" y="1763"/>
                      <a:pt x="1763" y="0"/>
                      <a:pt x="3937" y="0"/>
                    </a:cubicBezTo>
                    <a:cubicBezTo>
                      <a:pt x="6111" y="0"/>
                      <a:pt x="7874" y="1763"/>
                      <a:pt x="7874" y="3937"/>
                    </a:cubicBezTo>
                    <a:close/>
                  </a:path>
                </a:pathLst>
              </a:custGeom>
              <a:solidFill>
                <a:srgbClr val="8fd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653" name="Freeform 449"/>
              <p:cNvSpPr/>
              <p:nvPr/>
            </p:nvSpPr>
            <p:spPr>
              <a:xfrm>
                <a:off x="2124360" y="3189960"/>
                <a:ext cx="7920" cy="13680"/>
              </a:xfrm>
              <a:custGeom>
                <a:avLst/>
                <a:gdLst/>
                <a:ahLst/>
                <a:rect l="l" t="t" r="r" b="b"/>
                <a:pathLst>
                  <a:path w="7874" h="7874">
                    <a:moveTo>
                      <a:pt x="7874" y="3937"/>
                    </a:moveTo>
                    <a:cubicBezTo>
                      <a:pt x="7874" y="6111"/>
                      <a:pt x="6111" y="7874"/>
                      <a:pt x="3937" y="7874"/>
                    </a:cubicBezTo>
                    <a:cubicBezTo>
                      <a:pt x="1763" y="7874"/>
                      <a:pt x="0" y="6111"/>
                      <a:pt x="0" y="3937"/>
                    </a:cubicBezTo>
                    <a:cubicBezTo>
                      <a:pt x="0" y="1763"/>
                      <a:pt x="1763" y="0"/>
                      <a:pt x="3937" y="0"/>
                    </a:cubicBezTo>
                    <a:cubicBezTo>
                      <a:pt x="6111" y="0"/>
                      <a:pt x="7874" y="1763"/>
                      <a:pt x="7874" y="3937"/>
                    </a:cubicBezTo>
                    <a:close/>
                  </a:path>
                </a:pathLst>
              </a:custGeom>
              <a:solidFill>
                <a:srgbClr val="8fd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654" name="Freeform 450"/>
              <p:cNvSpPr/>
              <p:nvPr/>
            </p:nvSpPr>
            <p:spPr>
              <a:xfrm>
                <a:off x="2140200" y="3174840"/>
                <a:ext cx="7920" cy="13680"/>
              </a:xfrm>
              <a:custGeom>
                <a:avLst/>
                <a:gdLst/>
                <a:ahLst/>
                <a:rect l="l" t="t" r="r" b="b"/>
                <a:pathLst>
                  <a:path w="7874" h="7874">
                    <a:moveTo>
                      <a:pt x="7874" y="3937"/>
                    </a:moveTo>
                    <a:cubicBezTo>
                      <a:pt x="7874" y="6111"/>
                      <a:pt x="6111" y="7874"/>
                      <a:pt x="3937" y="7874"/>
                    </a:cubicBezTo>
                    <a:cubicBezTo>
                      <a:pt x="1763" y="7874"/>
                      <a:pt x="0" y="6111"/>
                      <a:pt x="0" y="3937"/>
                    </a:cubicBezTo>
                    <a:cubicBezTo>
                      <a:pt x="0" y="1763"/>
                      <a:pt x="1763" y="0"/>
                      <a:pt x="3937" y="0"/>
                    </a:cubicBezTo>
                    <a:cubicBezTo>
                      <a:pt x="6111" y="0"/>
                      <a:pt x="7874" y="1763"/>
                      <a:pt x="7874" y="3937"/>
                    </a:cubicBezTo>
                    <a:close/>
                  </a:path>
                </a:pathLst>
              </a:custGeom>
              <a:solidFill>
                <a:srgbClr val="8fd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</p:grpSp>
        <p:grpSp>
          <p:nvGrpSpPr>
            <p:cNvPr id="1655" name="Graphic 2"/>
            <p:cNvGrpSpPr/>
            <p:nvPr/>
          </p:nvGrpSpPr>
          <p:grpSpPr>
            <a:xfrm>
              <a:off x="2186640" y="2963520"/>
              <a:ext cx="86400" cy="114120"/>
              <a:chOff x="2186640" y="2963520"/>
              <a:chExt cx="86400" cy="114120"/>
            </a:xfrm>
          </p:grpSpPr>
          <p:sp>
            <p:nvSpPr>
              <p:cNvPr id="1656" name="Freeform 443"/>
              <p:cNvSpPr/>
              <p:nvPr/>
            </p:nvSpPr>
            <p:spPr>
              <a:xfrm rot="20256600">
                <a:off x="2203920" y="2969280"/>
                <a:ext cx="51480" cy="102240"/>
              </a:xfrm>
              <a:custGeom>
                <a:avLst/>
                <a:gdLst/>
                <a:ahLst/>
                <a:rect l="l" t="t" r="r" b="b"/>
                <a:pathLst>
                  <a:path w="28573" h="98927">
                    <a:moveTo>
                      <a:pt x="28573" y="49464"/>
                    </a:moveTo>
                    <a:cubicBezTo>
                      <a:pt x="28573" y="76782"/>
                      <a:pt x="22177" y="98928"/>
                      <a:pt x="14287" y="98928"/>
                    </a:cubicBezTo>
                    <a:cubicBezTo>
                      <a:pt x="6396" y="98928"/>
                      <a:pt x="0" y="76782"/>
                      <a:pt x="0" y="49464"/>
                    </a:cubicBezTo>
                    <a:cubicBezTo>
                      <a:pt x="0" y="22146"/>
                      <a:pt x="6396" y="0"/>
                      <a:pt x="14287" y="0"/>
                    </a:cubicBezTo>
                    <a:cubicBezTo>
                      <a:pt x="22177" y="0"/>
                      <a:pt x="28573" y="22146"/>
                      <a:pt x="28573" y="49464"/>
                    </a:cubicBezTo>
                    <a:close/>
                  </a:path>
                </a:pathLst>
              </a:custGeom>
              <a:solidFill>
                <a:srgbClr val="8fd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657" name="Freeform 444"/>
              <p:cNvSpPr/>
              <p:nvPr/>
            </p:nvSpPr>
            <p:spPr>
              <a:xfrm>
                <a:off x="2198520" y="2985120"/>
                <a:ext cx="23400" cy="13320"/>
              </a:xfrm>
              <a:custGeom>
                <a:avLst/>
                <a:gdLst/>
                <a:ahLst/>
                <a:rect l="l" t="t" r="r" b="b"/>
                <a:pathLst>
                  <a:path w="13080" h="13080">
                    <a:moveTo>
                      <a:pt x="13081" y="6540"/>
                    </a:moveTo>
                    <a:cubicBezTo>
                      <a:pt x="13081" y="10153"/>
                      <a:pt x="10153" y="13081"/>
                      <a:pt x="6541" y="13081"/>
                    </a:cubicBezTo>
                    <a:cubicBezTo>
                      <a:pt x="2928" y="13081"/>
                      <a:pt x="0" y="10153"/>
                      <a:pt x="0" y="6540"/>
                    </a:cubicBezTo>
                    <a:cubicBezTo>
                      <a:pt x="0" y="2928"/>
                      <a:pt x="2928" y="0"/>
                      <a:pt x="6541" y="0"/>
                    </a:cubicBezTo>
                    <a:cubicBezTo>
                      <a:pt x="10153" y="0"/>
                      <a:pt x="13081" y="2928"/>
                      <a:pt x="13081" y="6540"/>
                    </a:cubicBezTo>
                    <a:close/>
                  </a:path>
                </a:pathLst>
              </a:custGeom>
              <a:solidFill>
                <a:srgbClr val="dceb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658" name="Freeform 445"/>
              <p:cNvSpPr/>
              <p:nvPr/>
            </p:nvSpPr>
            <p:spPr>
              <a:xfrm>
                <a:off x="2218680" y="3013560"/>
                <a:ext cx="23400" cy="13320"/>
              </a:xfrm>
              <a:custGeom>
                <a:avLst/>
                <a:gdLst/>
                <a:ahLst/>
                <a:rect l="l" t="t" r="r" b="b"/>
                <a:pathLst>
                  <a:path w="13080" h="13080">
                    <a:moveTo>
                      <a:pt x="13081" y="6541"/>
                    </a:moveTo>
                    <a:cubicBezTo>
                      <a:pt x="13081" y="10153"/>
                      <a:pt x="10153" y="13081"/>
                      <a:pt x="6541" y="13081"/>
                    </a:cubicBezTo>
                    <a:cubicBezTo>
                      <a:pt x="2928" y="13081"/>
                      <a:pt x="0" y="10153"/>
                      <a:pt x="0" y="6541"/>
                    </a:cubicBezTo>
                    <a:cubicBezTo>
                      <a:pt x="0" y="2928"/>
                      <a:pt x="2928" y="0"/>
                      <a:pt x="6541" y="0"/>
                    </a:cubicBezTo>
                    <a:cubicBezTo>
                      <a:pt x="10153" y="0"/>
                      <a:pt x="13081" y="2928"/>
                      <a:pt x="13081" y="6541"/>
                    </a:cubicBezTo>
                    <a:close/>
                  </a:path>
                </a:pathLst>
              </a:custGeom>
              <a:solidFill>
                <a:srgbClr val="dceb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659" name="Freeform 446"/>
              <p:cNvSpPr/>
              <p:nvPr/>
            </p:nvSpPr>
            <p:spPr>
              <a:xfrm>
                <a:off x="2239200" y="3042000"/>
                <a:ext cx="23400" cy="13320"/>
              </a:xfrm>
              <a:custGeom>
                <a:avLst/>
                <a:gdLst/>
                <a:ahLst/>
                <a:rect l="l" t="t" r="r" b="b"/>
                <a:pathLst>
                  <a:path w="13080" h="13080">
                    <a:moveTo>
                      <a:pt x="13081" y="6540"/>
                    </a:moveTo>
                    <a:cubicBezTo>
                      <a:pt x="13081" y="10153"/>
                      <a:pt x="10153" y="13081"/>
                      <a:pt x="6541" y="13081"/>
                    </a:cubicBezTo>
                    <a:cubicBezTo>
                      <a:pt x="2928" y="13081"/>
                      <a:pt x="0" y="10153"/>
                      <a:pt x="0" y="6540"/>
                    </a:cubicBezTo>
                    <a:cubicBezTo>
                      <a:pt x="0" y="2928"/>
                      <a:pt x="2928" y="0"/>
                      <a:pt x="6541" y="0"/>
                    </a:cubicBezTo>
                    <a:cubicBezTo>
                      <a:pt x="10153" y="0"/>
                      <a:pt x="13081" y="2928"/>
                      <a:pt x="13081" y="6540"/>
                    </a:cubicBezTo>
                    <a:close/>
                  </a:path>
                </a:pathLst>
              </a:custGeom>
              <a:solidFill>
                <a:srgbClr val="dceb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</p:grpSp>
        <p:sp>
          <p:nvSpPr>
            <p:cNvPr id="1660" name="Freeform 436"/>
            <p:cNvSpPr/>
            <p:nvPr/>
          </p:nvSpPr>
          <p:spPr>
            <a:xfrm>
              <a:off x="2156400" y="2894400"/>
              <a:ext cx="12960" cy="12960"/>
            </a:xfrm>
            <a:custGeom>
              <a:avLst/>
              <a:gdLst/>
              <a:ahLst/>
              <a:rect l="l" t="t" r="r" b="b"/>
              <a:pathLst>
                <a:path w="13080" h="13080">
                  <a:moveTo>
                    <a:pt x="13081" y="6541"/>
                  </a:moveTo>
                  <a:cubicBezTo>
                    <a:pt x="13081" y="10153"/>
                    <a:pt x="10153" y="13081"/>
                    <a:pt x="6541" y="13081"/>
                  </a:cubicBezTo>
                  <a:cubicBezTo>
                    <a:pt x="2928" y="13081"/>
                    <a:pt x="0" y="10153"/>
                    <a:pt x="0" y="6541"/>
                  </a:cubicBezTo>
                  <a:cubicBezTo>
                    <a:pt x="0" y="2928"/>
                    <a:pt x="2928" y="0"/>
                    <a:pt x="6541" y="0"/>
                  </a:cubicBezTo>
                  <a:cubicBezTo>
                    <a:pt x="10153" y="0"/>
                    <a:pt x="13081" y="2928"/>
                    <a:pt x="13081" y="6541"/>
                  </a:cubicBezTo>
                  <a:close/>
                </a:path>
              </a:pathLst>
            </a:custGeom>
            <a:solidFill>
              <a:srgbClr val="dce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grpSp>
          <p:nvGrpSpPr>
            <p:cNvPr id="1661" name="Graphic 2"/>
            <p:cNvGrpSpPr/>
            <p:nvPr/>
          </p:nvGrpSpPr>
          <p:grpSpPr>
            <a:xfrm>
              <a:off x="2518920" y="2940480"/>
              <a:ext cx="138960" cy="167760"/>
              <a:chOff x="2518920" y="2940480"/>
              <a:chExt cx="138960" cy="167760"/>
            </a:xfrm>
          </p:grpSpPr>
          <p:sp>
            <p:nvSpPr>
              <p:cNvPr id="1662" name="Freeform 438"/>
              <p:cNvSpPr/>
              <p:nvPr/>
            </p:nvSpPr>
            <p:spPr>
              <a:xfrm>
                <a:off x="2518920" y="2940480"/>
                <a:ext cx="132840" cy="115200"/>
              </a:xfrm>
              <a:custGeom>
                <a:avLst/>
                <a:gdLst/>
                <a:ahLst/>
                <a:rect l="l" t="t" r="r" b="b"/>
                <a:pathLst>
                  <a:path w="132904" h="115272">
                    <a:moveTo>
                      <a:pt x="126770" y="115272"/>
                    </a:moveTo>
                    <a:lnTo>
                      <a:pt x="106577" y="94127"/>
                    </a:lnTo>
                    <a:cubicBezTo>
                      <a:pt x="106577" y="94127"/>
                      <a:pt x="109752" y="61932"/>
                      <a:pt x="92543" y="61615"/>
                    </a:cubicBezTo>
                    <a:cubicBezTo>
                      <a:pt x="79907" y="61361"/>
                      <a:pt x="84542" y="74632"/>
                      <a:pt x="87908" y="81681"/>
                    </a:cubicBezTo>
                    <a:cubicBezTo>
                      <a:pt x="89114" y="84221"/>
                      <a:pt x="90130" y="85935"/>
                      <a:pt x="90130" y="85935"/>
                    </a:cubicBezTo>
                    <a:cubicBezTo>
                      <a:pt x="87654" y="86443"/>
                      <a:pt x="85368" y="86253"/>
                      <a:pt x="83336" y="85554"/>
                    </a:cubicBezTo>
                    <a:cubicBezTo>
                      <a:pt x="68223" y="80220"/>
                      <a:pt x="65492" y="44914"/>
                      <a:pt x="65492" y="44914"/>
                    </a:cubicBezTo>
                    <a:cubicBezTo>
                      <a:pt x="57745" y="51772"/>
                      <a:pt x="49808" y="55963"/>
                      <a:pt x="42442" y="58567"/>
                    </a:cubicBezTo>
                    <a:cubicBezTo>
                      <a:pt x="30567" y="62758"/>
                      <a:pt x="20153" y="62567"/>
                      <a:pt x="14629" y="61996"/>
                    </a:cubicBezTo>
                    <a:lnTo>
                      <a:pt x="14629" y="61996"/>
                    </a:lnTo>
                    <a:cubicBezTo>
                      <a:pt x="11835" y="61742"/>
                      <a:pt x="10247" y="61361"/>
                      <a:pt x="10247" y="61361"/>
                    </a:cubicBezTo>
                    <a:cubicBezTo>
                      <a:pt x="10247" y="61361"/>
                      <a:pt x="-11152" y="43327"/>
                      <a:pt x="7898" y="22753"/>
                    </a:cubicBezTo>
                    <a:cubicBezTo>
                      <a:pt x="8025" y="22562"/>
                      <a:pt x="8215" y="22435"/>
                      <a:pt x="8342" y="22245"/>
                    </a:cubicBezTo>
                    <a:cubicBezTo>
                      <a:pt x="13803" y="16530"/>
                      <a:pt x="22630" y="11640"/>
                      <a:pt x="32917" y="7830"/>
                    </a:cubicBezTo>
                    <a:cubicBezTo>
                      <a:pt x="60285" y="-2203"/>
                      <a:pt x="97877" y="-3917"/>
                      <a:pt x="109117" y="10561"/>
                    </a:cubicBezTo>
                    <a:cubicBezTo>
                      <a:pt x="124611" y="30309"/>
                      <a:pt x="142581" y="82760"/>
                      <a:pt x="126770" y="115272"/>
                    </a:cubicBezTo>
                    <a:close/>
                  </a:path>
                </a:pathLst>
              </a:custGeom>
              <a:solidFill>
                <a:srgbClr val="6068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663" name="Freeform 439"/>
              <p:cNvSpPr/>
              <p:nvPr/>
            </p:nvSpPr>
            <p:spPr>
              <a:xfrm>
                <a:off x="2527560" y="3022920"/>
                <a:ext cx="18360" cy="42480"/>
              </a:xfrm>
              <a:custGeom>
                <a:avLst/>
                <a:gdLst/>
                <a:ahLst/>
                <a:rect l="l" t="t" r="r" b="b"/>
                <a:pathLst>
                  <a:path w="18478" h="42798">
                    <a:moveTo>
                      <a:pt x="18479" y="-22737"/>
                    </a:moveTo>
                    <a:lnTo>
                      <a:pt x="0" y="-22737"/>
                    </a:lnTo>
                    <a:lnTo>
                      <a:pt x="4826" y="0"/>
                    </a:lnTo>
                    <a:cubicBezTo>
                      <a:pt x="5461" y="2921"/>
                      <a:pt x="6096" y="5969"/>
                      <a:pt x="6921" y="9207"/>
                    </a:cubicBezTo>
                    <a:lnTo>
                      <a:pt x="6921" y="9207"/>
                    </a:lnTo>
                    <a:cubicBezTo>
                      <a:pt x="9525" y="19939"/>
                      <a:pt x="13271" y="32004"/>
                      <a:pt x="18479" y="-22737"/>
                    </a:cubicBezTo>
                    <a:close/>
                  </a:path>
                </a:pathLst>
              </a:custGeom>
              <a:solidFill>
                <a:srgbClr val="d16b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664" name="Freeform 440"/>
              <p:cNvSpPr/>
              <p:nvPr/>
            </p:nvSpPr>
            <p:spPr>
              <a:xfrm>
                <a:off x="2529000" y="2985120"/>
                <a:ext cx="128880" cy="123120"/>
              </a:xfrm>
              <a:custGeom>
                <a:avLst/>
                <a:gdLst/>
                <a:ahLst/>
                <a:rect l="l" t="t" r="r" b="b"/>
                <a:pathLst>
                  <a:path w="128841" h="123126">
                    <a:moveTo>
                      <a:pt x="116523" y="70358"/>
                    </a:moveTo>
                    <a:lnTo>
                      <a:pt x="96330" y="49213"/>
                    </a:lnTo>
                    <a:cubicBezTo>
                      <a:pt x="96330" y="49213"/>
                      <a:pt x="99505" y="17018"/>
                      <a:pt x="82296" y="16701"/>
                    </a:cubicBezTo>
                    <a:cubicBezTo>
                      <a:pt x="69660" y="16446"/>
                      <a:pt x="74295" y="29718"/>
                      <a:pt x="77661" y="36767"/>
                    </a:cubicBezTo>
                    <a:cubicBezTo>
                      <a:pt x="78867" y="39307"/>
                      <a:pt x="79883" y="41021"/>
                      <a:pt x="79883" y="41021"/>
                    </a:cubicBezTo>
                    <a:cubicBezTo>
                      <a:pt x="77407" y="41529"/>
                      <a:pt x="75121" y="41339"/>
                      <a:pt x="73089" y="40640"/>
                    </a:cubicBezTo>
                    <a:cubicBezTo>
                      <a:pt x="57976" y="35306"/>
                      <a:pt x="55245" y="0"/>
                      <a:pt x="55245" y="0"/>
                    </a:cubicBezTo>
                    <a:cubicBezTo>
                      <a:pt x="47498" y="6858"/>
                      <a:pt x="39561" y="11049"/>
                      <a:pt x="32195" y="13653"/>
                    </a:cubicBezTo>
                    <a:cubicBezTo>
                      <a:pt x="20320" y="17843"/>
                      <a:pt x="9906" y="17653"/>
                      <a:pt x="4382" y="17082"/>
                    </a:cubicBezTo>
                    <a:lnTo>
                      <a:pt x="4382" y="17082"/>
                    </a:lnTo>
                    <a:cubicBezTo>
                      <a:pt x="1588" y="16828"/>
                      <a:pt x="0" y="16446"/>
                      <a:pt x="0" y="16446"/>
                    </a:cubicBezTo>
                    <a:cubicBezTo>
                      <a:pt x="0" y="16446"/>
                      <a:pt x="889" y="25337"/>
                      <a:pt x="3493" y="37719"/>
                    </a:cubicBezTo>
                    <a:lnTo>
                      <a:pt x="3493" y="37783"/>
                    </a:lnTo>
                    <a:cubicBezTo>
                      <a:pt x="4128" y="40704"/>
                      <a:pt x="4763" y="43752"/>
                      <a:pt x="5588" y="46990"/>
                    </a:cubicBezTo>
                    <a:lnTo>
                      <a:pt x="5588" y="46990"/>
                    </a:lnTo>
                    <a:cubicBezTo>
                      <a:pt x="8192" y="57721"/>
                      <a:pt x="11938" y="69723"/>
                      <a:pt x="17145" y="80518"/>
                    </a:cubicBezTo>
                    <a:cubicBezTo>
                      <a:pt x="18860" y="84138"/>
                      <a:pt x="20765" y="87630"/>
                      <a:pt x="22860" y="90868"/>
                    </a:cubicBezTo>
                    <a:lnTo>
                      <a:pt x="22860" y="90868"/>
                    </a:lnTo>
                    <a:lnTo>
                      <a:pt x="31179" y="81026"/>
                    </a:lnTo>
                    <a:lnTo>
                      <a:pt x="45466" y="64071"/>
                    </a:lnTo>
                    <a:lnTo>
                      <a:pt x="80201" y="77470"/>
                    </a:lnTo>
                    <a:cubicBezTo>
                      <a:pt x="80201" y="77470"/>
                      <a:pt x="80391" y="94424"/>
                      <a:pt x="67818" y="109855"/>
                    </a:cubicBezTo>
                    <a:lnTo>
                      <a:pt x="72009" y="123127"/>
                    </a:lnTo>
                    <a:lnTo>
                      <a:pt x="72009" y="123127"/>
                    </a:lnTo>
                    <a:cubicBezTo>
                      <a:pt x="82042" y="117221"/>
                      <a:pt x="108204" y="102807"/>
                      <a:pt x="128842" y="98996"/>
                    </a:cubicBezTo>
                    <a:lnTo>
                      <a:pt x="116523" y="70358"/>
                    </a:lnTo>
                    <a:close/>
                    <a:moveTo>
                      <a:pt x="27051" y="48451"/>
                    </a:moveTo>
                    <a:cubicBezTo>
                      <a:pt x="25527" y="49086"/>
                      <a:pt x="23749" y="48387"/>
                      <a:pt x="23114" y="46863"/>
                    </a:cubicBezTo>
                    <a:lnTo>
                      <a:pt x="18479" y="35814"/>
                    </a:lnTo>
                    <a:cubicBezTo>
                      <a:pt x="17844" y="34290"/>
                      <a:pt x="18542" y="32512"/>
                      <a:pt x="20066" y="31877"/>
                    </a:cubicBezTo>
                    <a:cubicBezTo>
                      <a:pt x="20447" y="31687"/>
                      <a:pt x="20828" y="31623"/>
                      <a:pt x="21273" y="31623"/>
                    </a:cubicBezTo>
                    <a:cubicBezTo>
                      <a:pt x="22415" y="31623"/>
                      <a:pt x="23559" y="32321"/>
                      <a:pt x="24003" y="33465"/>
                    </a:cubicBezTo>
                    <a:lnTo>
                      <a:pt x="28639" y="44514"/>
                    </a:lnTo>
                    <a:cubicBezTo>
                      <a:pt x="29274" y="46101"/>
                      <a:pt x="28575" y="47815"/>
                      <a:pt x="27051" y="48451"/>
                    </a:cubicBezTo>
                    <a:close/>
                  </a:path>
                </a:pathLst>
              </a:custGeom>
              <a:solidFill>
                <a:srgbClr val="f8ac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665" name="Freeform 441"/>
              <p:cNvSpPr/>
              <p:nvPr/>
            </p:nvSpPr>
            <p:spPr>
              <a:xfrm>
                <a:off x="2547360" y="3016800"/>
                <a:ext cx="10440" cy="16920"/>
              </a:xfrm>
              <a:custGeom>
                <a:avLst/>
                <a:gdLst/>
                <a:ahLst/>
                <a:rect l="l" t="t" r="r" b="b"/>
                <a:pathLst>
                  <a:path w="10628" h="17061">
                    <a:moveTo>
                      <a:pt x="8807" y="16827"/>
                    </a:moveTo>
                    <a:cubicBezTo>
                      <a:pt x="7283" y="17463"/>
                      <a:pt x="5505" y="16764"/>
                      <a:pt x="4870" y="15240"/>
                    </a:cubicBezTo>
                    <a:lnTo>
                      <a:pt x="234" y="4191"/>
                    </a:lnTo>
                    <a:cubicBezTo>
                      <a:pt x="-401" y="2667"/>
                      <a:pt x="298" y="889"/>
                      <a:pt x="1822" y="254"/>
                    </a:cubicBezTo>
                    <a:cubicBezTo>
                      <a:pt x="2203" y="64"/>
                      <a:pt x="2584" y="0"/>
                      <a:pt x="3028" y="0"/>
                    </a:cubicBezTo>
                    <a:cubicBezTo>
                      <a:pt x="4171" y="0"/>
                      <a:pt x="5314" y="698"/>
                      <a:pt x="5759" y="1842"/>
                    </a:cubicBezTo>
                    <a:lnTo>
                      <a:pt x="10394" y="12890"/>
                    </a:lnTo>
                    <a:cubicBezTo>
                      <a:pt x="11029" y="14478"/>
                      <a:pt x="10331" y="16192"/>
                      <a:pt x="8807" y="16827"/>
                    </a:cubicBezTo>
                    <a:close/>
                  </a:path>
                </a:pathLst>
              </a:custGeom>
              <a:solidFill>
                <a:srgbClr val="231f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666" name="Freeform 442"/>
              <p:cNvSpPr/>
              <p:nvPr/>
            </p:nvSpPr>
            <p:spPr>
              <a:xfrm>
                <a:off x="2552040" y="3022560"/>
                <a:ext cx="74520" cy="74520"/>
              </a:xfrm>
              <a:custGeom>
                <a:avLst/>
                <a:gdLst/>
                <a:ahLst/>
                <a:rect l="l" t="t" r="r" b="b"/>
                <a:pathLst>
                  <a:path w="74676" h="74692">
                    <a:moveTo>
                      <a:pt x="74676" y="12954"/>
                    </a:moveTo>
                    <a:lnTo>
                      <a:pt x="73533" y="11620"/>
                    </a:lnTo>
                    <a:lnTo>
                      <a:pt x="55943" y="39433"/>
                    </a:lnTo>
                    <a:lnTo>
                      <a:pt x="25590" y="27749"/>
                    </a:lnTo>
                    <a:lnTo>
                      <a:pt x="56071" y="1841"/>
                    </a:lnTo>
                    <a:lnTo>
                      <a:pt x="55118" y="0"/>
                    </a:lnTo>
                    <a:lnTo>
                      <a:pt x="23813" y="27051"/>
                    </a:lnTo>
                    <a:lnTo>
                      <a:pt x="22606" y="26606"/>
                    </a:lnTo>
                    <a:lnTo>
                      <a:pt x="8318" y="43561"/>
                    </a:lnTo>
                    <a:lnTo>
                      <a:pt x="0" y="53403"/>
                    </a:lnTo>
                    <a:lnTo>
                      <a:pt x="0" y="53403"/>
                    </a:lnTo>
                    <a:cubicBezTo>
                      <a:pt x="1715" y="56070"/>
                      <a:pt x="3620" y="58610"/>
                      <a:pt x="5588" y="60896"/>
                    </a:cubicBezTo>
                    <a:cubicBezTo>
                      <a:pt x="15304" y="72263"/>
                      <a:pt x="28130" y="78295"/>
                      <a:pt x="45021" y="72390"/>
                    </a:cubicBezTo>
                    <a:cubicBezTo>
                      <a:pt x="56642" y="58102"/>
                      <a:pt x="57340" y="42481"/>
                      <a:pt x="57404" y="40259"/>
                    </a:cubicBezTo>
                    <a:lnTo>
                      <a:pt x="74676" y="129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</p:grpSp>
      </p:grpSp>
      <p:sp>
        <p:nvSpPr>
          <p:cNvPr id="1667" name="TextBox 456"/>
          <p:cNvSpPr/>
          <p:nvPr/>
        </p:nvSpPr>
        <p:spPr>
          <a:xfrm>
            <a:off x="5132520" y="1609200"/>
            <a:ext cx="1927080" cy="337320"/>
          </a:xfrm>
          <a:prstGeom prst="rect">
            <a:avLst/>
          </a:prstGeom>
          <a:solidFill>
            <a:srgbClr val="dceb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Open Sans"/>
              </a:rPr>
              <a:t>Sub-Title Here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68" name="Straight Connector 458"/>
          <p:cNvSpPr/>
          <p:nvPr/>
        </p:nvSpPr>
        <p:spPr>
          <a:xfrm>
            <a:off x="4362480" y="2400480"/>
            <a:ext cx="0" cy="3638520"/>
          </a:xfrm>
          <a:prstGeom prst="line">
            <a:avLst/>
          </a:prstGeom>
          <a:ln w="12600">
            <a:solidFill>
              <a:srgbClr val="dceb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69" name="Straight Connector 459"/>
          <p:cNvSpPr/>
          <p:nvPr/>
        </p:nvSpPr>
        <p:spPr>
          <a:xfrm>
            <a:off x="7862760" y="2400480"/>
            <a:ext cx="0" cy="3638520"/>
          </a:xfrm>
          <a:prstGeom prst="line">
            <a:avLst/>
          </a:prstGeom>
          <a:ln w="12600">
            <a:solidFill>
              <a:srgbClr val="dceb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1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1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1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9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900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900" fill="hold"/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9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900" fill="hold"/>
                                        <p:tgtEl>
                                          <p:spTgt spid="1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900" fill="hold"/>
                                        <p:tgtEl>
                                          <p:spTgt spid="1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9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900" fill="hold"/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9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670" name="Curved Connector 12"/>
          <p:cNvCxnSpPr/>
          <p:nvPr/>
        </p:nvCxnSpPr>
        <p:spPr>
          <a:xfrm rot="5400000">
            <a:off x="7686000" y="1957320"/>
            <a:ext cx="552960" cy="3036240"/>
          </a:xfrm>
          <a:prstGeom prst="curvedConnector2">
            <a:avLst/>
          </a:prstGeom>
          <a:ln w="28440">
            <a:solidFill>
              <a:srgbClr val="202020"/>
            </a:solidFill>
            <a:prstDash val="dash"/>
            <a:miter/>
          </a:ln>
        </p:spPr>
      </p:cxnSp>
      <p:sp>
        <p:nvSpPr>
          <p:cNvPr id="1671" name="Rounded Rectangle 52"/>
          <p:cNvSpPr/>
          <p:nvPr/>
        </p:nvSpPr>
        <p:spPr>
          <a:xfrm>
            <a:off x="8155080" y="3594240"/>
            <a:ext cx="3144600" cy="1574640"/>
          </a:xfrm>
          <a:prstGeom prst="roundRect">
            <a:avLst>
              <a:gd name="adj" fmla="val 11866"/>
            </a:avLst>
          </a:prstGeom>
          <a:solidFill>
            <a:srgbClr val="262626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72" name="Rounded Rectangle 51"/>
          <p:cNvSpPr/>
          <p:nvPr/>
        </p:nvSpPr>
        <p:spPr>
          <a:xfrm>
            <a:off x="4522680" y="4332240"/>
            <a:ext cx="3146400" cy="1576440"/>
          </a:xfrm>
          <a:prstGeom prst="roundRect">
            <a:avLst>
              <a:gd name="adj" fmla="val 11866"/>
            </a:avLst>
          </a:prstGeom>
          <a:solidFill>
            <a:srgbClr val="262626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73" name="Rounded Rectangle 50"/>
          <p:cNvSpPr/>
          <p:nvPr/>
        </p:nvSpPr>
        <p:spPr>
          <a:xfrm>
            <a:off x="892080" y="3298680"/>
            <a:ext cx="3144960" cy="1576440"/>
          </a:xfrm>
          <a:prstGeom prst="roundRect">
            <a:avLst>
              <a:gd name="adj" fmla="val 11866"/>
            </a:avLst>
          </a:prstGeom>
          <a:solidFill>
            <a:srgbClr val="262626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1218960" y="955800"/>
            <a:ext cx="975348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boto Black"/>
              </a:rPr>
              <a:t>Timeline Slides</a:t>
            </a:r>
            <a:endParaRPr b="0" lang="en-US" sz="32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675" name="Oval 2"/>
          <p:cNvSpPr/>
          <p:nvPr/>
        </p:nvSpPr>
        <p:spPr>
          <a:xfrm>
            <a:off x="2116080" y="2387520"/>
            <a:ext cx="698400" cy="698760"/>
          </a:xfrm>
          <a:prstGeom prst="ellipse">
            <a:avLst/>
          </a:prstGeom>
          <a:solidFill>
            <a:srgbClr val="8fd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76" name="Oval 3"/>
          <p:cNvSpPr/>
          <p:nvPr/>
        </p:nvSpPr>
        <p:spPr>
          <a:xfrm>
            <a:off x="5746680" y="3402000"/>
            <a:ext cx="698400" cy="698400"/>
          </a:xfrm>
          <a:prstGeom prst="ellipse">
            <a:avLst/>
          </a:prstGeom>
          <a:solidFill>
            <a:srgbClr val="8fd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77" name="Oval 4"/>
          <p:cNvSpPr/>
          <p:nvPr/>
        </p:nvSpPr>
        <p:spPr>
          <a:xfrm>
            <a:off x="9377280" y="2603520"/>
            <a:ext cx="698760" cy="698400"/>
          </a:xfrm>
          <a:prstGeom prst="ellipse">
            <a:avLst/>
          </a:prstGeom>
          <a:solidFill>
            <a:srgbClr val="8fd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cxnSp>
        <p:nvCxnSpPr>
          <p:cNvPr id="1678" name="Curved Connector 11"/>
          <p:cNvCxnSpPr/>
          <p:nvPr/>
        </p:nvCxnSpPr>
        <p:spPr>
          <a:xfrm>
            <a:off x="2814120" y="2741760"/>
            <a:ext cx="3282120" cy="660600"/>
          </a:xfrm>
          <a:prstGeom prst="curvedConnector2">
            <a:avLst/>
          </a:prstGeom>
          <a:ln w="28440">
            <a:solidFill>
              <a:srgbClr val="202020"/>
            </a:solidFill>
            <a:prstDash val="dash"/>
            <a:miter/>
          </a:ln>
        </p:spPr>
      </p:cxnSp>
      <p:sp>
        <p:nvSpPr>
          <p:cNvPr id="1679" name="TextBox 24"/>
          <p:cNvSpPr/>
          <p:nvPr/>
        </p:nvSpPr>
        <p:spPr>
          <a:xfrm>
            <a:off x="1031760" y="3764520"/>
            <a:ext cx="28656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shuddered all over, and edged away from his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80" name="TextBox 25"/>
          <p:cNvSpPr/>
          <p:nvPr/>
        </p:nvSpPr>
        <p:spPr>
          <a:xfrm>
            <a:off x="1031760" y="3525480"/>
            <a:ext cx="286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81" name="TextBox 28"/>
          <p:cNvSpPr/>
          <p:nvPr/>
        </p:nvSpPr>
        <p:spPr>
          <a:xfrm>
            <a:off x="4662360" y="4783680"/>
            <a:ext cx="2867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shuddered all over, and edged away from his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82" name="TextBox 29"/>
          <p:cNvSpPr/>
          <p:nvPr/>
        </p:nvSpPr>
        <p:spPr>
          <a:xfrm>
            <a:off x="4662360" y="4545360"/>
            <a:ext cx="28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83" name="TextBox 31"/>
          <p:cNvSpPr/>
          <p:nvPr/>
        </p:nvSpPr>
        <p:spPr>
          <a:xfrm>
            <a:off x="8294760" y="3999600"/>
            <a:ext cx="28652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shuddered all over, and edged away from his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84" name="TextBox 32"/>
          <p:cNvSpPr/>
          <p:nvPr/>
        </p:nvSpPr>
        <p:spPr>
          <a:xfrm>
            <a:off x="8294760" y="3761280"/>
            <a:ext cx="286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85" name="Straight Connector 40"/>
          <p:cNvSpPr/>
          <p:nvPr/>
        </p:nvSpPr>
        <p:spPr>
          <a:xfrm>
            <a:off x="10076040" y="2952720"/>
            <a:ext cx="2116080" cy="9720"/>
          </a:xfrm>
          <a:prstGeom prst="line">
            <a:avLst/>
          </a:prstGeom>
          <a:ln w="28440">
            <a:solidFill>
              <a:srgbClr val="20202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86" name="TextBox 41"/>
          <p:cNvSpPr/>
          <p:nvPr/>
        </p:nvSpPr>
        <p:spPr>
          <a:xfrm>
            <a:off x="2116080" y="2572200"/>
            <a:ext cx="69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600" spc="-1" strike="noStrike">
                <a:solidFill>
                  <a:srgbClr val="ffffff"/>
                </a:solidFill>
                <a:latin typeface="Open Sans"/>
              </a:rPr>
              <a:t>01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87" name="TextBox 42"/>
          <p:cNvSpPr/>
          <p:nvPr/>
        </p:nvSpPr>
        <p:spPr>
          <a:xfrm>
            <a:off x="5746680" y="3586680"/>
            <a:ext cx="69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600" spc="-1" strike="noStrike">
                <a:solidFill>
                  <a:srgbClr val="ffffff"/>
                </a:solidFill>
                <a:latin typeface="Open Sans"/>
              </a:rPr>
              <a:t>02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88" name="TextBox 43"/>
          <p:cNvSpPr/>
          <p:nvPr/>
        </p:nvSpPr>
        <p:spPr>
          <a:xfrm>
            <a:off x="9377280" y="278316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600" spc="-1" strike="noStrike">
                <a:solidFill>
                  <a:srgbClr val="ffffff"/>
                </a:solidFill>
                <a:latin typeface="Open Sans"/>
              </a:rPr>
              <a:t>03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89" name="TextBox 44"/>
          <p:cNvSpPr/>
          <p:nvPr/>
        </p:nvSpPr>
        <p:spPr>
          <a:xfrm>
            <a:off x="5132520" y="1609200"/>
            <a:ext cx="1927080" cy="337320"/>
          </a:xfrm>
          <a:prstGeom prst="rect">
            <a:avLst/>
          </a:prstGeom>
          <a:solidFill>
            <a:srgbClr val="dceb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Open Sans"/>
              </a:rPr>
              <a:t>Sub-Title Here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90" name="TextBox 47"/>
          <p:cNvSpPr/>
          <p:nvPr/>
        </p:nvSpPr>
        <p:spPr>
          <a:xfrm>
            <a:off x="1581120" y="1801440"/>
            <a:ext cx="17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ffffff"/>
                </a:solidFill>
                <a:latin typeface="Open Sans"/>
              </a:rPr>
              <a:t>1928</a:t>
            </a:r>
            <a:endParaRPr b="0" lang="en-US" sz="2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91" name="TextBox 48"/>
          <p:cNvSpPr/>
          <p:nvPr/>
        </p:nvSpPr>
        <p:spPr>
          <a:xfrm>
            <a:off x="5211720" y="2639520"/>
            <a:ext cx="17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ffffff"/>
                </a:solidFill>
                <a:latin typeface="Open Sans"/>
              </a:rPr>
              <a:t>1987</a:t>
            </a:r>
            <a:endParaRPr b="0" lang="en-US" sz="2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92" name="TextBox 49"/>
          <p:cNvSpPr/>
          <p:nvPr/>
        </p:nvSpPr>
        <p:spPr>
          <a:xfrm>
            <a:off x="8844120" y="2031480"/>
            <a:ext cx="17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ffffff"/>
                </a:solidFill>
                <a:latin typeface="Open Sans"/>
              </a:rPr>
              <a:t>1998</a:t>
            </a:r>
            <a:endParaRPr b="0" lang="en-US" sz="24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1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1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16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900" fill="hold"/>
                                        <p:tgtEl>
                                          <p:spTgt spid="1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900" fill="hold"/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900" fill="hold"/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900" fill="hold"/>
                                        <p:tgtEl>
                                          <p:spTgt spid="1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16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900" fill="hold"/>
                                        <p:tgtEl>
                                          <p:spTgt spid="1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900" fill="hold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16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900" fill="hold"/>
                                        <p:tgtEl>
                                          <p:spTgt spid="1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16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900" fill="hold"/>
                                        <p:tgtEl>
                                          <p:spTgt spid="1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16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900" fill="hold"/>
                                        <p:tgtEl>
                                          <p:spTgt spid="1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16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900" fill="hold"/>
                                        <p:tgtEl>
                                          <p:spTgt spid="1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16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900" fill="hold"/>
                                        <p:tgtEl>
                                          <p:spTgt spid="1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9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16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900" fill="hold"/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16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900" fill="hold"/>
                                        <p:tgtEl>
                                          <p:spTgt spid="1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16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900" fill="hold"/>
                                        <p:tgtEl>
                                          <p:spTgt spid="1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16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900" fill="hold"/>
                                        <p:tgtEl>
                                          <p:spTgt spid="1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16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900" fill="hold"/>
                                        <p:tgtEl>
                                          <p:spTgt spid="1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16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9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500"/>
                                        <p:tgtEl>
                                          <p:spTgt spid="1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500"/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Rounded Rectangle 45"/>
          <p:cNvSpPr/>
          <p:nvPr/>
        </p:nvSpPr>
        <p:spPr>
          <a:xfrm>
            <a:off x="8155080" y="4241880"/>
            <a:ext cx="3144600" cy="1574640"/>
          </a:xfrm>
          <a:prstGeom prst="roundRect">
            <a:avLst>
              <a:gd name="adj" fmla="val 11866"/>
            </a:avLst>
          </a:prstGeom>
          <a:solidFill>
            <a:srgbClr val="262626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cxnSp>
        <p:nvCxnSpPr>
          <p:cNvPr id="1694" name="Curved Connector 6"/>
          <p:cNvCxnSpPr/>
          <p:nvPr/>
        </p:nvCxnSpPr>
        <p:spPr>
          <a:xfrm flipV="1">
            <a:off x="2814120" y="2517120"/>
            <a:ext cx="3282120" cy="402120"/>
          </a:xfrm>
          <a:prstGeom prst="curvedConnector2">
            <a:avLst/>
          </a:prstGeom>
          <a:ln w="28440">
            <a:solidFill>
              <a:srgbClr val="202020"/>
            </a:solidFill>
            <a:prstDash val="dash"/>
            <a:miter/>
          </a:ln>
        </p:spPr>
      </p:cxnSp>
      <p:sp>
        <p:nvSpPr>
          <p:cNvPr id="1695" name="Rounded Rectangle 44"/>
          <p:cNvSpPr/>
          <p:nvPr/>
        </p:nvSpPr>
        <p:spPr>
          <a:xfrm>
            <a:off x="4522680" y="2763720"/>
            <a:ext cx="3146400" cy="1576440"/>
          </a:xfrm>
          <a:prstGeom prst="roundRect">
            <a:avLst>
              <a:gd name="adj" fmla="val 11866"/>
            </a:avLst>
          </a:prstGeom>
          <a:solidFill>
            <a:srgbClr val="262626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96" name="Rounded Rectangle 30"/>
          <p:cNvSpPr/>
          <p:nvPr/>
        </p:nvSpPr>
        <p:spPr>
          <a:xfrm>
            <a:off x="892080" y="3502080"/>
            <a:ext cx="3144960" cy="1574640"/>
          </a:xfrm>
          <a:prstGeom prst="roundRect">
            <a:avLst>
              <a:gd name="adj" fmla="val 11866"/>
            </a:avLst>
          </a:prstGeom>
          <a:solidFill>
            <a:srgbClr val="262626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97" name="Straight Connector 2"/>
          <p:cNvSpPr/>
          <p:nvPr/>
        </p:nvSpPr>
        <p:spPr>
          <a:xfrm>
            <a:off x="0" y="2952720"/>
            <a:ext cx="2116080" cy="9720"/>
          </a:xfrm>
          <a:prstGeom prst="line">
            <a:avLst/>
          </a:prstGeom>
          <a:ln w="28440">
            <a:solidFill>
              <a:srgbClr val="20202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98" name="Oval 3"/>
          <p:cNvSpPr/>
          <p:nvPr/>
        </p:nvSpPr>
        <p:spPr>
          <a:xfrm>
            <a:off x="2116080" y="2570040"/>
            <a:ext cx="698400" cy="698760"/>
          </a:xfrm>
          <a:prstGeom prst="ellipse">
            <a:avLst/>
          </a:prstGeom>
          <a:solidFill>
            <a:srgbClr val="8fd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99" name="Oval 4"/>
          <p:cNvSpPr/>
          <p:nvPr/>
        </p:nvSpPr>
        <p:spPr>
          <a:xfrm>
            <a:off x="5746680" y="1819440"/>
            <a:ext cx="698400" cy="698400"/>
          </a:xfrm>
          <a:prstGeom prst="ellipse">
            <a:avLst/>
          </a:prstGeom>
          <a:solidFill>
            <a:srgbClr val="8fd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00" name="Oval 5"/>
          <p:cNvSpPr/>
          <p:nvPr/>
        </p:nvSpPr>
        <p:spPr>
          <a:xfrm>
            <a:off x="9377280" y="3284640"/>
            <a:ext cx="698760" cy="699840"/>
          </a:xfrm>
          <a:prstGeom prst="ellipse">
            <a:avLst/>
          </a:prstGeom>
          <a:solidFill>
            <a:srgbClr val="8fd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01" name="TextBox 8"/>
          <p:cNvSpPr/>
          <p:nvPr/>
        </p:nvSpPr>
        <p:spPr>
          <a:xfrm>
            <a:off x="1031760" y="3945600"/>
            <a:ext cx="28656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shuddered all over, and edged away from his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02" name="TextBox 9"/>
          <p:cNvSpPr/>
          <p:nvPr/>
        </p:nvSpPr>
        <p:spPr>
          <a:xfrm>
            <a:off x="1031760" y="3707280"/>
            <a:ext cx="286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03" name="TextBox 11"/>
          <p:cNvSpPr/>
          <p:nvPr/>
        </p:nvSpPr>
        <p:spPr>
          <a:xfrm>
            <a:off x="4662360" y="3199320"/>
            <a:ext cx="2867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shuddered all over, and edged away from his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04" name="TextBox 12"/>
          <p:cNvSpPr/>
          <p:nvPr/>
        </p:nvSpPr>
        <p:spPr>
          <a:xfrm>
            <a:off x="4662360" y="2959560"/>
            <a:ext cx="28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05" name="TextBox 14"/>
          <p:cNvSpPr/>
          <p:nvPr/>
        </p:nvSpPr>
        <p:spPr>
          <a:xfrm>
            <a:off x="8294760" y="4682160"/>
            <a:ext cx="28652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shuddered all over, and edged away from his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06" name="TextBox 15"/>
          <p:cNvSpPr/>
          <p:nvPr/>
        </p:nvSpPr>
        <p:spPr>
          <a:xfrm>
            <a:off x="8294760" y="4442040"/>
            <a:ext cx="286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cxnSp>
        <p:nvCxnSpPr>
          <p:cNvPr id="1707" name="Curved Connector 20"/>
          <p:cNvCxnSpPr/>
          <p:nvPr/>
        </p:nvCxnSpPr>
        <p:spPr>
          <a:xfrm flipV="1" rot="16200000">
            <a:off x="7527240" y="1085400"/>
            <a:ext cx="1116720" cy="3282120"/>
          </a:xfrm>
          <a:prstGeom prst="curvedConnector2">
            <a:avLst/>
          </a:prstGeom>
          <a:ln w="28440">
            <a:solidFill>
              <a:srgbClr val="202020"/>
            </a:solidFill>
            <a:prstDash val="dash"/>
            <a:miter/>
          </a:ln>
        </p:spPr>
      </p:cxnSp>
      <p:sp>
        <p:nvSpPr>
          <p:cNvPr id="1708" name="TextBox 24"/>
          <p:cNvSpPr/>
          <p:nvPr/>
        </p:nvSpPr>
        <p:spPr>
          <a:xfrm>
            <a:off x="2116080" y="2751480"/>
            <a:ext cx="69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600" spc="-1" strike="noStrike">
                <a:solidFill>
                  <a:srgbClr val="ffffff"/>
                </a:solidFill>
                <a:latin typeface="Open Sans"/>
              </a:rPr>
              <a:t>04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09" name="TextBox 25"/>
          <p:cNvSpPr/>
          <p:nvPr/>
        </p:nvSpPr>
        <p:spPr>
          <a:xfrm>
            <a:off x="5746680" y="1999800"/>
            <a:ext cx="69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600" spc="-1" strike="noStrike">
                <a:solidFill>
                  <a:srgbClr val="ffffff"/>
                </a:solidFill>
                <a:latin typeface="Open Sans"/>
              </a:rPr>
              <a:t>05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10" name="TextBox 26"/>
          <p:cNvSpPr/>
          <p:nvPr/>
        </p:nvSpPr>
        <p:spPr>
          <a:xfrm>
            <a:off x="9377280" y="346572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600" spc="-1" strike="noStrike">
                <a:solidFill>
                  <a:srgbClr val="ffffff"/>
                </a:solidFill>
                <a:latin typeface="Open Sans"/>
              </a:rPr>
              <a:t>06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11" name="TextBox 27"/>
          <p:cNvSpPr/>
          <p:nvPr/>
        </p:nvSpPr>
        <p:spPr>
          <a:xfrm>
            <a:off x="8844120" y="2406240"/>
            <a:ext cx="17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ffffff"/>
                </a:solidFill>
                <a:latin typeface="Open Sans"/>
              </a:rPr>
              <a:t>2020</a:t>
            </a:r>
            <a:endParaRPr b="0" lang="en-US" sz="2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12" name="TextBox 28"/>
          <p:cNvSpPr/>
          <p:nvPr/>
        </p:nvSpPr>
        <p:spPr>
          <a:xfrm>
            <a:off x="5211720" y="1256040"/>
            <a:ext cx="17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ffffff"/>
                </a:solidFill>
                <a:latin typeface="Open Sans"/>
              </a:rPr>
              <a:t>2012</a:t>
            </a:r>
            <a:endParaRPr b="0" lang="en-US" sz="2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13" name="TextBox 29"/>
          <p:cNvSpPr/>
          <p:nvPr/>
        </p:nvSpPr>
        <p:spPr>
          <a:xfrm>
            <a:off x="1581120" y="2000520"/>
            <a:ext cx="17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ffffff"/>
                </a:solidFill>
                <a:latin typeface="Open Sans"/>
              </a:rPr>
              <a:t>2006</a:t>
            </a:r>
            <a:endParaRPr b="0" lang="en-US" sz="24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slow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b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Freeform 4"/>
          <p:cNvSpPr/>
          <p:nvPr/>
        </p:nvSpPr>
        <p:spPr>
          <a:xfrm>
            <a:off x="1255680" y="2370240"/>
            <a:ext cx="5568840" cy="4487760"/>
          </a:xfrm>
          <a:custGeom>
            <a:avLst/>
            <a:gdLst/>
            <a:ahLst/>
            <a:rect l="l" t="t" r="r" b="b"/>
            <a:pathLst>
              <a:path w="6180344" h="4981542">
                <a:moveTo>
                  <a:pt x="6032608" y="4981543"/>
                </a:moveTo>
                <a:cubicBezTo>
                  <a:pt x="6306547" y="4528915"/>
                  <a:pt x="6188501" y="3889343"/>
                  <a:pt x="5769781" y="3557555"/>
                </a:cubicBezTo>
                <a:cubicBezTo>
                  <a:pt x="5615286" y="3435127"/>
                  <a:pt x="5424976" y="3349148"/>
                  <a:pt x="5308581" y="3191795"/>
                </a:cubicBezTo>
                <a:cubicBezTo>
                  <a:pt x="5169643" y="3003962"/>
                  <a:pt x="5165198" y="2755550"/>
                  <a:pt x="5162976" y="2524156"/>
                </a:cubicBezTo>
                <a:cubicBezTo>
                  <a:pt x="5156054" y="1813337"/>
                  <a:pt x="5094205" y="1040034"/>
                  <a:pt x="4604302" y="512413"/>
                </a:cubicBezTo>
                <a:cubicBezTo>
                  <a:pt x="4232065" y="111474"/>
                  <a:pt x="3635039" y="-78709"/>
                  <a:pt x="3090970" y="30384"/>
                </a:cubicBezTo>
                <a:cubicBezTo>
                  <a:pt x="2546902" y="139477"/>
                  <a:pt x="2075923" y="543655"/>
                  <a:pt x="1897043" y="1055084"/>
                </a:cubicBezTo>
                <a:cubicBezTo>
                  <a:pt x="1835639" y="1230725"/>
                  <a:pt x="1802936" y="1423638"/>
                  <a:pt x="1680635" y="1566005"/>
                </a:cubicBezTo>
                <a:cubicBezTo>
                  <a:pt x="1476292" y="1803939"/>
                  <a:pt x="1097578" y="1818036"/>
                  <a:pt x="855198" y="2019458"/>
                </a:cubicBezTo>
                <a:cubicBezTo>
                  <a:pt x="559098" y="2265521"/>
                  <a:pt x="553383" y="2702972"/>
                  <a:pt x="593705" y="3079654"/>
                </a:cubicBezTo>
                <a:cubicBezTo>
                  <a:pt x="634028" y="3456336"/>
                  <a:pt x="685654" y="3874992"/>
                  <a:pt x="454005" y="4179538"/>
                </a:cubicBezTo>
                <a:cubicBezTo>
                  <a:pt x="355644" y="4308887"/>
                  <a:pt x="214928" y="4402613"/>
                  <a:pt x="112884" y="4529232"/>
                </a:cubicBezTo>
                <a:cubicBezTo>
                  <a:pt x="10839" y="4655851"/>
                  <a:pt x="-46311" y="4842732"/>
                  <a:pt x="47796" y="4975002"/>
                </a:cubicBezTo>
                <a:lnTo>
                  <a:pt x="6032608" y="4981543"/>
                </a:lnTo>
                <a:close/>
              </a:path>
            </a:pathLst>
          </a:custGeom>
          <a:solidFill>
            <a:srgbClr val="8fd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1752480" y="2370240"/>
            <a:ext cx="5105520" cy="211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Roboto Black"/>
              </a:rPr>
              <a:t>Professional</a:t>
            </a:r>
            <a:br>
              <a:rPr sz="6600"/>
            </a:br>
            <a:r>
              <a:rPr b="0" lang="en-US" sz="6600" spc="-1" strike="noStrike">
                <a:solidFill>
                  <a:srgbClr val="ffffff"/>
                </a:solidFill>
                <a:latin typeface="Roboto Black"/>
              </a:rPr>
              <a:t>Dentist</a:t>
            </a:r>
            <a:r>
              <a:rPr b="0" lang="en-US" sz="6600" spc="-1" strike="noStrike">
                <a:solidFill>
                  <a:srgbClr val="fe6b1a"/>
                </a:solidFill>
                <a:latin typeface="Roboto Black"/>
              </a:rPr>
              <a:t>.</a:t>
            </a:r>
            <a:endParaRPr b="0" lang="en-US" sz="6600" spc="-1" strike="noStrike">
              <a:solidFill>
                <a:srgbClr val="ffffff"/>
              </a:solidFill>
              <a:latin typeface="Roboto Black"/>
            </a:endParaRPr>
          </a:p>
        </p:txBody>
      </p:sp>
    </p:spTree>
  </p:cSld>
  <p:transition spd="med">
    <p:fade/>
  </p:transition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0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1000" fill="hold"/>
                                        <p:tgtEl>
                                          <p:spTgt spid="1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1000" fill="hold"/>
                                        <p:tgtEl>
                                          <p:spTgt spid="1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10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10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Rounded Rectangle 7"/>
          <p:cNvSpPr/>
          <p:nvPr/>
        </p:nvSpPr>
        <p:spPr>
          <a:xfrm>
            <a:off x="1219320" y="2349360"/>
            <a:ext cx="3009960" cy="3552840"/>
          </a:xfrm>
          <a:custGeom>
            <a:avLst/>
            <a:gdLst>
              <a:gd name="textAreaLeft" fmla="*/ 36000 w 3009960"/>
              <a:gd name="textAreaRight" fmla="*/ 2973960 w 3009960"/>
              <a:gd name="textAreaTop" fmla="*/ 36000 h 3552840"/>
              <a:gd name="textAreaBottom" fmla="*/ 3516840 h 3552840"/>
            </a:gdLst>
            <a:ahLst/>
            <a:rect l="textAreaLeft" t="textAreaTop" r="textAreaRight" b="textAreaBottom"/>
            <a:pathLst>
              <a:path w="21600" h="25495">
                <a:moveTo>
                  <a:pt x="888" y="0"/>
                </a:moveTo>
                <a:arcTo wR="888" hR="888" stAng="16200000" swAng="-5400000"/>
                <a:lnTo>
                  <a:pt x="0" y="24607"/>
                </a:lnTo>
                <a:arcTo wR="888" hR="888" stAng="10800000" swAng="-5400000"/>
                <a:lnTo>
                  <a:pt x="20712" y="25495"/>
                </a:lnTo>
                <a:arcTo wR="888" hR="888" stAng="5400000" swAng="-5400000"/>
                <a:lnTo>
                  <a:pt x="21600" y="888"/>
                </a:lnTo>
                <a:arcTo wR="888" hR="888" stAng="0" swAng="-5400000"/>
                <a:close/>
              </a:path>
            </a:pathLst>
          </a:custGeom>
          <a:solidFill>
            <a:srgbClr val="262626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17" name="Rounded Rectangle 8"/>
          <p:cNvSpPr/>
          <p:nvPr/>
        </p:nvSpPr>
        <p:spPr>
          <a:xfrm>
            <a:off x="4591080" y="2349360"/>
            <a:ext cx="3009960" cy="3552840"/>
          </a:xfrm>
          <a:custGeom>
            <a:avLst/>
            <a:gdLst>
              <a:gd name="textAreaLeft" fmla="*/ 36000 w 3009960"/>
              <a:gd name="textAreaRight" fmla="*/ 2973960 w 3009960"/>
              <a:gd name="textAreaTop" fmla="*/ 36000 h 3552840"/>
              <a:gd name="textAreaBottom" fmla="*/ 3516840 h 3552840"/>
            </a:gdLst>
            <a:ahLst/>
            <a:rect l="textAreaLeft" t="textAreaTop" r="textAreaRight" b="textAreaBottom"/>
            <a:pathLst>
              <a:path w="21600" h="25495">
                <a:moveTo>
                  <a:pt x="888" y="0"/>
                </a:moveTo>
                <a:arcTo wR="888" hR="888" stAng="16200000" swAng="-5400000"/>
                <a:lnTo>
                  <a:pt x="0" y="24607"/>
                </a:lnTo>
                <a:arcTo wR="888" hR="888" stAng="10800000" swAng="-5400000"/>
                <a:lnTo>
                  <a:pt x="20712" y="25495"/>
                </a:lnTo>
                <a:arcTo wR="888" hR="888" stAng="5400000" swAng="-5400000"/>
                <a:lnTo>
                  <a:pt x="21600" y="888"/>
                </a:lnTo>
                <a:arcTo wR="888" hR="888" stAng="0" swAng="-5400000"/>
                <a:close/>
              </a:path>
            </a:pathLst>
          </a:custGeom>
          <a:solidFill>
            <a:srgbClr val="262626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18" name="Rounded Rectangle 9"/>
          <p:cNvSpPr/>
          <p:nvPr/>
        </p:nvSpPr>
        <p:spPr>
          <a:xfrm>
            <a:off x="7962840" y="2349360"/>
            <a:ext cx="3009960" cy="3552840"/>
          </a:xfrm>
          <a:custGeom>
            <a:avLst/>
            <a:gdLst>
              <a:gd name="textAreaLeft" fmla="*/ 36000 w 3009960"/>
              <a:gd name="textAreaRight" fmla="*/ 2973960 w 3009960"/>
              <a:gd name="textAreaTop" fmla="*/ 36000 h 3552840"/>
              <a:gd name="textAreaBottom" fmla="*/ 3516840 h 3552840"/>
            </a:gdLst>
            <a:ahLst/>
            <a:rect l="textAreaLeft" t="textAreaTop" r="textAreaRight" b="textAreaBottom"/>
            <a:pathLst>
              <a:path w="21600" h="25495">
                <a:moveTo>
                  <a:pt x="888" y="0"/>
                </a:moveTo>
                <a:arcTo wR="888" hR="888" stAng="16200000" swAng="-5400000"/>
                <a:lnTo>
                  <a:pt x="0" y="24607"/>
                </a:lnTo>
                <a:arcTo wR="888" hR="888" stAng="10800000" swAng="-5400000"/>
                <a:lnTo>
                  <a:pt x="20712" y="25495"/>
                </a:lnTo>
                <a:arcTo wR="888" hR="888" stAng="5400000" swAng="-5400000"/>
                <a:lnTo>
                  <a:pt x="21600" y="888"/>
                </a:lnTo>
                <a:arcTo wR="888" hR="888" stAng="0" swAng="-5400000"/>
                <a:close/>
              </a:path>
            </a:pathLst>
          </a:custGeom>
          <a:solidFill>
            <a:srgbClr val="262626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1218960" y="955800"/>
            <a:ext cx="975348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boto Black"/>
              </a:rPr>
              <a:t>Our Professional Dentist</a:t>
            </a:r>
            <a:endParaRPr b="0" lang="en-US" sz="32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720" name="TextBox 10"/>
          <p:cNvSpPr/>
          <p:nvPr/>
        </p:nvSpPr>
        <p:spPr>
          <a:xfrm>
            <a:off x="5132520" y="1609200"/>
            <a:ext cx="1927080" cy="337320"/>
          </a:xfrm>
          <a:prstGeom prst="rect">
            <a:avLst/>
          </a:prstGeom>
          <a:solidFill>
            <a:srgbClr val="dceb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Open Sans"/>
              </a:rPr>
              <a:t>Sub-Title Here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21" name="TextBox 11"/>
          <p:cNvSpPr/>
          <p:nvPr/>
        </p:nvSpPr>
        <p:spPr>
          <a:xfrm>
            <a:off x="2752560" y="2777400"/>
            <a:ext cx="1214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Joshua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Mardika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22" name="Freeform 16"/>
          <p:cNvSpPr/>
          <p:nvPr/>
        </p:nvSpPr>
        <p:spPr>
          <a:xfrm>
            <a:off x="2827440" y="3313080"/>
            <a:ext cx="263520" cy="263520"/>
          </a:xfrm>
          <a:custGeom>
            <a:avLst/>
            <a:gdLst/>
            <a:ahLst/>
            <a:rect l="l" t="t" r="r" b="b"/>
            <a:pathLst>
              <a:path w="1551636" h="1551636">
                <a:moveTo>
                  <a:pt x="1138720" y="466730"/>
                </a:moveTo>
                <a:lnTo>
                  <a:pt x="651040" y="927740"/>
                </a:lnTo>
                <a:lnTo>
                  <a:pt x="416725" y="687710"/>
                </a:lnTo>
                <a:lnTo>
                  <a:pt x="335762" y="764862"/>
                </a:lnTo>
                <a:lnTo>
                  <a:pt x="647230" y="1084903"/>
                </a:lnTo>
                <a:lnTo>
                  <a:pt x="729145" y="1008703"/>
                </a:lnTo>
                <a:lnTo>
                  <a:pt x="1215872" y="546740"/>
                </a:lnTo>
                <a:lnTo>
                  <a:pt x="1138720" y="466730"/>
                </a:lnTo>
                <a:close/>
                <a:moveTo>
                  <a:pt x="775818" y="0"/>
                </a:moveTo>
                <a:cubicBezTo>
                  <a:pt x="1204290" y="0"/>
                  <a:pt x="1551636" y="347346"/>
                  <a:pt x="1551636" y="775818"/>
                </a:cubicBezTo>
                <a:cubicBezTo>
                  <a:pt x="1551636" y="1204290"/>
                  <a:pt x="1204290" y="1551636"/>
                  <a:pt x="775818" y="1551636"/>
                </a:cubicBezTo>
                <a:cubicBezTo>
                  <a:pt x="347346" y="1551636"/>
                  <a:pt x="0" y="1204290"/>
                  <a:pt x="0" y="775818"/>
                </a:cubicBezTo>
                <a:cubicBezTo>
                  <a:pt x="0" y="347346"/>
                  <a:pt x="347346" y="0"/>
                  <a:pt x="775818" y="0"/>
                </a:cubicBezTo>
                <a:close/>
              </a:path>
            </a:pathLst>
          </a:custGeom>
          <a:solidFill>
            <a:srgbClr val="fe6b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23" name="TextBox 21"/>
          <p:cNvSpPr/>
          <p:nvPr/>
        </p:nvSpPr>
        <p:spPr>
          <a:xfrm>
            <a:off x="6124680" y="2777400"/>
            <a:ext cx="121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Angela Manibielo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24" name="Freeform 22"/>
          <p:cNvSpPr/>
          <p:nvPr/>
        </p:nvSpPr>
        <p:spPr>
          <a:xfrm>
            <a:off x="6199200" y="3313080"/>
            <a:ext cx="263520" cy="263520"/>
          </a:xfrm>
          <a:custGeom>
            <a:avLst/>
            <a:gdLst/>
            <a:ahLst/>
            <a:rect l="l" t="t" r="r" b="b"/>
            <a:pathLst>
              <a:path w="1551636" h="1551636">
                <a:moveTo>
                  <a:pt x="1138720" y="466730"/>
                </a:moveTo>
                <a:lnTo>
                  <a:pt x="651040" y="927740"/>
                </a:lnTo>
                <a:lnTo>
                  <a:pt x="416725" y="687710"/>
                </a:lnTo>
                <a:lnTo>
                  <a:pt x="335762" y="764862"/>
                </a:lnTo>
                <a:lnTo>
                  <a:pt x="647230" y="1084903"/>
                </a:lnTo>
                <a:lnTo>
                  <a:pt x="729145" y="1008703"/>
                </a:lnTo>
                <a:lnTo>
                  <a:pt x="1215872" y="546740"/>
                </a:lnTo>
                <a:lnTo>
                  <a:pt x="1138720" y="466730"/>
                </a:lnTo>
                <a:close/>
                <a:moveTo>
                  <a:pt x="775818" y="0"/>
                </a:moveTo>
                <a:cubicBezTo>
                  <a:pt x="1204290" y="0"/>
                  <a:pt x="1551636" y="347346"/>
                  <a:pt x="1551636" y="775818"/>
                </a:cubicBezTo>
                <a:cubicBezTo>
                  <a:pt x="1551636" y="1204290"/>
                  <a:pt x="1204290" y="1551636"/>
                  <a:pt x="775818" y="1551636"/>
                </a:cubicBezTo>
                <a:cubicBezTo>
                  <a:pt x="347346" y="1551636"/>
                  <a:pt x="0" y="1204290"/>
                  <a:pt x="0" y="775818"/>
                </a:cubicBezTo>
                <a:cubicBezTo>
                  <a:pt x="0" y="347346"/>
                  <a:pt x="347346" y="0"/>
                  <a:pt x="775818" y="0"/>
                </a:cubicBezTo>
                <a:close/>
              </a:path>
            </a:pathLst>
          </a:custGeom>
          <a:solidFill>
            <a:srgbClr val="fe6b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25" name="TextBox 23"/>
          <p:cNvSpPr/>
          <p:nvPr/>
        </p:nvSpPr>
        <p:spPr>
          <a:xfrm>
            <a:off x="9496440" y="2777400"/>
            <a:ext cx="121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Bob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Fredicson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26" name="Freeform 24"/>
          <p:cNvSpPr/>
          <p:nvPr/>
        </p:nvSpPr>
        <p:spPr>
          <a:xfrm>
            <a:off x="9570960" y="3313080"/>
            <a:ext cx="263520" cy="263520"/>
          </a:xfrm>
          <a:custGeom>
            <a:avLst/>
            <a:gdLst/>
            <a:ahLst/>
            <a:rect l="l" t="t" r="r" b="b"/>
            <a:pathLst>
              <a:path w="1551636" h="1551636">
                <a:moveTo>
                  <a:pt x="1138720" y="466730"/>
                </a:moveTo>
                <a:lnTo>
                  <a:pt x="651040" y="927740"/>
                </a:lnTo>
                <a:lnTo>
                  <a:pt x="416725" y="687710"/>
                </a:lnTo>
                <a:lnTo>
                  <a:pt x="335762" y="764862"/>
                </a:lnTo>
                <a:lnTo>
                  <a:pt x="647230" y="1084903"/>
                </a:lnTo>
                <a:lnTo>
                  <a:pt x="729145" y="1008703"/>
                </a:lnTo>
                <a:lnTo>
                  <a:pt x="1215872" y="546740"/>
                </a:lnTo>
                <a:lnTo>
                  <a:pt x="1138720" y="466730"/>
                </a:lnTo>
                <a:close/>
                <a:moveTo>
                  <a:pt x="775818" y="0"/>
                </a:moveTo>
                <a:cubicBezTo>
                  <a:pt x="1204290" y="0"/>
                  <a:pt x="1551636" y="347346"/>
                  <a:pt x="1551636" y="775818"/>
                </a:cubicBezTo>
                <a:cubicBezTo>
                  <a:pt x="1551636" y="1204290"/>
                  <a:pt x="1204290" y="1551636"/>
                  <a:pt x="775818" y="1551636"/>
                </a:cubicBezTo>
                <a:cubicBezTo>
                  <a:pt x="347346" y="1551636"/>
                  <a:pt x="0" y="1204290"/>
                  <a:pt x="0" y="775818"/>
                </a:cubicBezTo>
                <a:cubicBezTo>
                  <a:pt x="0" y="347346"/>
                  <a:pt x="347346" y="0"/>
                  <a:pt x="775818" y="0"/>
                </a:cubicBezTo>
                <a:close/>
              </a:path>
            </a:pathLst>
          </a:custGeom>
          <a:solidFill>
            <a:srgbClr val="fe6b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27" name="TextBox 25"/>
          <p:cNvSpPr/>
          <p:nvPr/>
        </p:nvSpPr>
        <p:spPr>
          <a:xfrm>
            <a:off x="1482840" y="3991320"/>
            <a:ext cx="121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D" sz="1400" spc="-1" strike="noStrike">
                <a:solidFill>
                  <a:srgbClr val="ffffff"/>
                </a:solidFill>
                <a:latin typeface="Open Sans"/>
              </a:rPr>
              <a:t>Practic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28" name="TextBox 26"/>
          <p:cNvSpPr/>
          <p:nvPr/>
        </p:nvSpPr>
        <p:spPr>
          <a:xfrm>
            <a:off x="1482840" y="4222800"/>
            <a:ext cx="24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800" spc="-1" strike="noStrike">
                <a:solidFill>
                  <a:srgbClr val="ffffff"/>
                </a:solidFill>
                <a:latin typeface="Open Sans"/>
              </a:rPr>
              <a:t>8.00 AM – 01.00 PM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29" name="TextBox 27"/>
          <p:cNvSpPr/>
          <p:nvPr/>
        </p:nvSpPr>
        <p:spPr>
          <a:xfrm>
            <a:off x="1482840" y="4582080"/>
            <a:ext cx="24843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shuddered all over, and edged away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30" name="TextBox 28"/>
          <p:cNvSpPr/>
          <p:nvPr/>
        </p:nvSpPr>
        <p:spPr>
          <a:xfrm>
            <a:off x="4854600" y="3991320"/>
            <a:ext cx="121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D" sz="1400" spc="-1" strike="noStrike">
                <a:solidFill>
                  <a:srgbClr val="ffffff"/>
                </a:solidFill>
                <a:latin typeface="Open Sans"/>
              </a:rPr>
              <a:t>Practic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31" name="TextBox 29"/>
          <p:cNvSpPr/>
          <p:nvPr/>
        </p:nvSpPr>
        <p:spPr>
          <a:xfrm>
            <a:off x="4854600" y="4222800"/>
            <a:ext cx="24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800" spc="-1" strike="noStrike">
                <a:solidFill>
                  <a:srgbClr val="ffffff"/>
                </a:solidFill>
                <a:latin typeface="Open Sans"/>
              </a:rPr>
              <a:t>8.00 AM – 01.00 PM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32" name="TextBox 30"/>
          <p:cNvSpPr/>
          <p:nvPr/>
        </p:nvSpPr>
        <p:spPr>
          <a:xfrm>
            <a:off x="4854600" y="4582080"/>
            <a:ext cx="24829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shuddered all over, and edged away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33" name="TextBox 31"/>
          <p:cNvSpPr/>
          <p:nvPr/>
        </p:nvSpPr>
        <p:spPr>
          <a:xfrm>
            <a:off x="8224920" y="3991320"/>
            <a:ext cx="121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D" sz="1400" spc="-1" strike="noStrike">
                <a:solidFill>
                  <a:srgbClr val="ffffff"/>
                </a:solidFill>
                <a:latin typeface="Open Sans"/>
              </a:rPr>
              <a:t>Practic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34" name="TextBox 32"/>
          <p:cNvSpPr/>
          <p:nvPr/>
        </p:nvSpPr>
        <p:spPr>
          <a:xfrm>
            <a:off x="8224920" y="4222800"/>
            <a:ext cx="24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800" spc="-1" strike="noStrike">
                <a:solidFill>
                  <a:srgbClr val="ffffff"/>
                </a:solidFill>
                <a:latin typeface="Open Sans"/>
              </a:rPr>
              <a:t>8.00 AM – 01.00 PM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35" name="TextBox 33"/>
          <p:cNvSpPr/>
          <p:nvPr/>
        </p:nvSpPr>
        <p:spPr>
          <a:xfrm>
            <a:off x="8224920" y="4582080"/>
            <a:ext cx="24843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shuddered all over, and edged away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36" name="Rounded Rectangle 46"/>
          <p:cNvSpPr/>
          <p:nvPr/>
        </p:nvSpPr>
        <p:spPr>
          <a:xfrm>
            <a:off x="2066760" y="5851440"/>
            <a:ext cx="1371600" cy="46080"/>
          </a:xfrm>
          <a:prstGeom prst="roundRect">
            <a:avLst>
              <a:gd name="adj" fmla="val 50000"/>
            </a:avLst>
          </a:prstGeom>
          <a:solidFill>
            <a:srgbClr val="8fd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37" name="Rounded Rectangle 47"/>
          <p:cNvSpPr/>
          <p:nvPr/>
        </p:nvSpPr>
        <p:spPr>
          <a:xfrm>
            <a:off x="5410080" y="5848200"/>
            <a:ext cx="1371600" cy="46080"/>
          </a:xfrm>
          <a:prstGeom prst="roundRect">
            <a:avLst>
              <a:gd name="adj" fmla="val 50000"/>
            </a:avLst>
          </a:prstGeom>
          <a:solidFill>
            <a:srgbClr val="8fd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38" name="Rounded Rectangle 48"/>
          <p:cNvSpPr/>
          <p:nvPr/>
        </p:nvSpPr>
        <p:spPr>
          <a:xfrm>
            <a:off x="8753400" y="5845320"/>
            <a:ext cx="1371600" cy="45720"/>
          </a:xfrm>
          <a:prstGeom prst="roundRect">
            <a:avLst>
              <a:gd name="adj" fmla="val 50000"/>
            </a:avLst>
          </a:prstGeom>
          <a:solidFill>
            <a:srgbClr val="8fd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0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500"/>
                                        <p:tgtEl>
                                          <p:spTgt spid="1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500"/>
                                        <p:tgtEl>
                                          <p:spTgt spid="1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1000"/>
                                        <p:tgtEl>
                                          <p:spTgt spid="17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900" fill="hold"/>
                                        <p:tgtEl>
                                          <p:spTgt spid="1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10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900" fill="hold"/>
                                        <p:tgtEl>
                                          <p:spTgt spid="1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17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900" fill="hold"/>
                                        <p:tgtEl>
                                          <p:spTgt spid="1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17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900" fill="hold"/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17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1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900" fill="hold"/>
                                        <p:tgtEl>
                                          <p:spTgt spid="1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1000"/>
                                        <p:tgtEl>
                                          <p:spTgt spid="17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900" fill="hold"/>
                                        <p:tgtEl>
                                          <p:spTgt spid="1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1000"/>
                                        <p:tgtEl>
                                          <p:spTgt spid="17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1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900" fill="hold"/>
                                        <p:tgtEl>
                                          <p:spTgt spid="1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17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900" fill="hold"/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17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1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900" fill="hold"/>
                                        <p:tgtEl>
                                          <p:spTgt spid="1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17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900" fill="hold"/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1000"/>
                                        <p:tgtEl>
                                          <p:spTgt spid="17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900" fill="hold"/>
                                        <p:tgtEl>
                                          <p:spTgt spid="1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10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1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900" fill="hold"/>
                                        <p:tgtEl>
                                          <p:spTgt spid="1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17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1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900" fill="hold"/>
                                        <p:tgtEl>
                                          <p:spTgt spid="1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1000"/>
                                        <p:tgtEl>
                                          <p:spTgt spid="17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1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900" fill="hold"/>
                                        <p:tgtEl>
                                          <p:spTgt spid="1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1000"/>
                                        <p:tgtEl>
                                          <p:spTgt spid="17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900" fill="hold"/>
                                        <p:tgtEl>
                                          <p:spTgt spid="1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1000"/>
                                        <p:tgtEl>
                                          <p:spTgt spid="17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900" fill="hold"/>
                                        <p:tgtEl>
                                          <p:spTgt spid="1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1000"/>
                                        <p:tgtEl>
                                          <p:spTgt spid="17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900" fill="hold"/>
                                        <p:tgtEl>
                                          <p:spTgt spid="1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1000"/>
                                        <p:tgtEl>
                                          <p:spTgt spid="17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1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900" fill="hold"/>
                                        <p:tgtEl>
                                          <p:spTgt spid="1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1000"/>
                                        <p:tgtEl>
                                          <p:spTgt spid="17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1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900" fill="hold"/>
                                        <p:tgtEl>
                                          <p:spTgt spid="1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1000"/>
                                        <p:tgtEl>
                                          <p:spTgt spid="17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900" fill="hold"/>
                                        <p:tgtEl>
                                          <p:spTgt spid="1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1000"/>
                                        <p:tgtEl>
                                          <p:spTgt spid="17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900" fill="hold"/>
                                        <p:tgtEl>
                                          <p:spTgt spid="1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Rounded Rectangle 18"/>
          <p:cNvSpPr/>
          <p:nvPr/>
        </p:nvSpPr>
        <p:spPr>
          <a:xfrm>
            <a:off x="1130400" y="909720"/>
            <a:ext cx="2316240" cy="2519280"/>
          </a:xfrm>
          <a:custGeom>
            <a:avLst/>
            <a:gdLst>
              <a:gd name="textAreaLeft" fmla="*/ 27720 w 2316240"/>
              <a:gd name="textAreaRight" fmla="*/ 2288520 w 2316240"/>
              <a:gd name="textAreaTop" fmla="*/ 27720 h 2519280"/>
              <a:gd name="textAreaBottom" fmla="*/ 2491560 h 2519280"/>
            </a:gdLst>
            <a:ahLst/>
            <a:rect l="textAreaLeft" t="textAreaTop" r="textAreaRight" b="textAreaBottom"/>
            <a:pathLst>
              <a:path w="21600" h="23493">
                <a:moveTo>
                  <a:pt x="888" y="0"/>
                </a:moveTo>
                <a:arcTo wR="888" hR="888" stAng="16200000" swAng="-5400000"/>
                <a:lnTo>
                  <a:pt x="0" y="22605"/>
                </a:lnTo>
                <a:arcTo wR="888" hR="888" stAng="10800000" swAng="-5400000"/>
                <a:lnTo>
                  <a:pt x="20712" y="23493"/>
                </a:lnTo>
                <a:arcTo wR="888" hR="888" stAng="5400000" swAng="-5400000"/>
                <a:lnTo>
                  <a:pt x="21600" y="888"/>
                </a:lnTo>
                <a:arcTo wR="888" hR="888" stAng="0" swAng="-5400000"/>
                <a:close/>
              </a:path>
            </a:pathLst>
          </a:custGeom>
          <a:solidFill>
            <a:srgbClr val="262626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40" name="Rounded Rectangle 19"/>
          <p:cNvSpPr/>
          <p:nvPr/>
        </p:nvSpPr>
        <p:spPr>
          <a:xfrm>
            <a:off x="3611520" y="909720"/>
            <a:ext cx="2314440" cy="2519280"/>
          </a:xfrm>
          <a:custGeom>
            <a:avLst/>
            <a:gdLst>
              <a:gd name="textAreaLeft" fmla="*/ 27720 w 2314440"/>
              <a:gd name="textAreaRight" fmla="*/ 2286720 w 2314440"/>
              <a:gd name="textAreaTop" fmla="*/ 27720 h 2519280"/>
              <a:gd name="textAreaBottom" fmla="*/ 2491560 h 2519280"/>
            </a:gdLst>
            <a:ahLst/>
            <a:rect l="textAreaLeft" t="textAreaTop" r="textAreaRight" b="textAreaBottom"/>
            <a:pathLst>
              <a:path w="21600" h="23511">
                <a:moveTo>
                  <a:pt x="888" y="0"/>
                </a:moveTo>
                <a:arcTo wR="888" hR="888" stAng="16200000" swAng="-5400000"/>
                <a:lnTo>
                  <a:pt x="0" y="22623"/>
                </a:lnTo>
                <a:arcTo wR="888" hR="888" stAng="10800000" swAng="-5400000"/>
                <a:lnTo>
                  <a:pt x="20712" y="23511"/>
                </a:lnTo>
                <a:arcTo wR="888" hR="888" stAng="5400000" swAng="-5400000"/>
                <a:lnTo>
                  <a:pt x="21600" y="888"/>
                </a:lnTo>
                <a:arcTo wR="888" hR="888" stAng="0" swAng="-5400000"/>
                <a:close/>
              </a:path>
            </a:pathLst>
          </a:custGeom>
          <a:solidFill>
            <a:srgbClr val="262626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41" name="Rounded Rectangle 20"/>
          <p:cNvSpPr/>
          <p:nvPr/>
        </p:nvSpPr>
        <p:spPr>
          <a:xfrm>
            <a:off x="6093000" y="909720"/>
            <a:ext cx="2314440" cy="2519280"/>
          </a:xfrm>
          <a:custGeom>
            <a:avLst/>
            <a:gdLst>
              <a:gd name="textAreaLeft" fmla="*/ 27720 w 2314440"/>
              <a:gd name="textAreaRight" fmla="*/ 2286720 w 2314440"/>
              <a:gd name="textAreaTop" fmla="*/ 27720 h 2519280"/>
              <a:gd name="textAreaBottom" fmla="*/ 2491560 h 2519280"/>
            </a:gdLst>
            <a:ahLst/>
            <a:rect l="textAreaLeft" t="textAreaTop" r="textAreaRight" b="textAreaBottom"/>
            <a:pathLst>
              <a:path w="21600" h="23511">
                <a:moveTo>
                  <a:pt x="888" y="0"/>
                </a:moveTo>
                <a:arcTo wR="888" hR="888" stAng="16200000" swAng="-5400000"/>
                <a:lnTo>
                  <a:pt x="0" y="22623"/>
                </a:lnTo>
                <a:arcTo wR="888" hR="888" stAng="10800000" swAng="-5400000"/>
                <a:lnTo>
                  <a:pt x="20712" y="23511"/>
                </a:lnTo>
                <a:arcTo wR="888" hR="888" stAng="5400000" swAng="-5400000"/>
                <a:lnTo>
                  <a:pt x="21600" y="888"/>
                </a:lnTo>
                <a:arcTo wR="888" hR="888" stAng="0" swAng="-5400000"/>
                <a:close/>
              </a:path>
            </a:pathLst>
          </a:custGeom>
          <a:solidFill>
            <a:srgbClr val="262626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42" name="Rounded Rectangle 21"/>
          <p:cNvSpPr/>
          <p:nvPr/>
        </p:nvSpPr>
        <p:spPr>
          <a:xfrm>
            <a:off x="8572680" y="909720"/>
            <a:ext cx="2315880" cy="2519280"/>
          </a:xfrm>
          <a:custGeom>
            <a:avLst/>
            <a:gdLst>
              <a:gd name="textAreaLeft" fmla="*/ 27720 w 2315880"/>
              <a:gd name="textAreaRight" fmla="*/ 2288160 w 2315880"/>
              <a:gd name="textAreaTop" fmla="*/ 27720 h 2519280"/>
              <a:gd name="textAreaBottom" fmla="*/ 2491560 h 2519280"/>
            </a:gdLst>
            <a:ahLst/>
            <a:rect l="textAreaLeft" t="textAreaTop" r="textAreaRight" b="textAreaBottom"/>
            <a:pathLst>
              <a:path w="21600" h="23497">
                <a:moveTo>
                  <a:pt x="888" y="0"/>
                </a:moveTo>
                <a:arcTo wR="888" hR="888" stAng="16200000" swAng="-5400000"/>
                <a:lnTo>
                  <a:pt x="0" y="22609"/>
                </a:lnTo>
                <a:arcTo wR="888" hR="888" stAng="10800000" swAng="-5400000"/>
                <a:lnTo>
                  <a:pt x="20712" y="23497"/>
                </a:lnTo>
                <a:arcTo wR="888" hR="888" stAng="5400000" swAng="-5400000"/>
                <a:lnTo>
                  <a:pt x="21600" y="888"/>
                </a:lnTo>
                <a:arcTo wR="888" hR="888" stAng="0" swAng="-5400000"/>
                <a:close/>
              </a:path>
            </a:pathLst>
          </a:custGeom>
          <a:solidFill>
            <a:srgbClr val="262626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43" name="Rounded Rectangle 22"/>
          <p:cNvSpPr/>
          <p:nvPr/>
        </p:nvSpPr>
        <p:spPr>
          <a:xfrm>
            <a:off x="1130400" y="3579840"/>
            <a:ext cx="2316240" cy="2519280"/>
          </a:xfrm>
          <a:custGeom>
            <a:avLst/>
            <a:gdLst>
              <a:gd name="textAreaLeft" fmla="*/ 27720 w 2316240"/>
              <a:gd name="textAreaRight" fmla="*/ 2288520 w 2316240"/>
              <a:gd name="textAreaTop" fmla="*/ 27720 h 2519280"/>
              <a:gd name="textAreaBottom" fmla="*/ 2491560 h 2519280"/>
            </a:gdLst>
            <a:ahLst/>
            <a:rect l="textAreaLeft" t="textAreaTop" r="textAreaRight" b="textAreaBottom"/>
            <a:pathLst>
              <a:path w="21600" h="23493">
                <a:moveTo>
                  <a:pt x="888" y="0"/>
                </a:moveTo>
                <a:arcTo wR="888" hR="888" stAng="16200000" swAng="-5400000"/>
                <a:lnTo>
                  <a:pt x="0" y="22605"/>
                </a:lnTo>
                <a:arcTo wR="888" hR="888" stAng="10800000" swAng="-5400000"/>
                <a:lnTo>
                  <a:pt x="20712" y="23493"/>
                </a:lnTo>
                <a:arcTo wR="888" hR="888" stAng="5400000" swAng="-5400000"/>
                <a:lnTo>
                  <a:pt x="21600" y="888"/>
                </a:lnTo>
                <a:arcTo wR="888" hR="888" stAng="0" swAng="-5400000"/>
                <a:close/>
              </a:path>
            </a:pathLst>
          </a:custGeom>
          <a:solidFill>
            <a:srgbClr val="262626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44" name="Rounded Rectangle 23"/>
          <p:cNvSpPr/>
          <p:nvPr/>
        </p:nvSpPr>
        <p:spPr>
          <a:xfrm>
            <a:off x="3611520" y="3579840"/>
            <a:ext cx="2314440" cy="2519280"/>
          </a:xfrm>
          <a:custGeom>
            <a:avLst/>
            <a:gdLst>
              <a:gd name="textAreaLeft" fmla="*/ 27720 w 2314440"/>
              <a:gd name="textAreaRight" fmla="*/ 2286720 w 2314440"/>
              <a:gd name="textAreaTop" fmla="*/ 27720 h 2519280"/>
              <a:gd name="textAreaBottom" fmla="*/ 2491560 h 2519280"/>
            </a:gdLst>
            <a:ahLst/>
            <a:rect l="textAreaLeft" t="textAreaTop" r="textAreaRight" b="textAreaBottom"/>
            <a:pathLst>
              <a:path w="21600" h="23511">
                <a:moveTo>
                  <a:pt x="888" y="0"/>
                </a:moveTo>
                <a:arcTo wR="888" hR="888" stAng="16200000" swAng="-5400000"/>
                <a:lnTo>
                  <a:pt x="0" y="22623"/>
                </a:lnTo>
                <a:arcTo wR="888" hR="888" stAng="10800000" swAng="-5400000"/>
                <a:lnTo>
                  <a:pt x="20712" y="23511"/>
                </a:lnTo>
                <a:arcTo wR="888" hR="888" stAng="5400000" swAng="-5400000"/>
                <a:lnTo>
                  <a:pt x="21600" y="888"/>
                </a:lnTo>
                <a:arcTo wR="888" hR="888" stAng="0" swAng="-5400000"/>
                <a:close/>
              </a:path>
            </a:pathLst>
          </a:custGeom>
          <a:solidFill>
            <a:srgbClr val="262626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6484680" y="3801600"/>
            <a:ext cx="4398840" cy="104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boto Black"/>
              </a:rPr>
              <a:t>We Are Stronger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Roboto Black"/>
              </a:rPr>
              <a:t>Together</a:t>
            </a:r>
            <a:endParaRPr b="0" lang="en-US" sz="32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746" name="TextBox 24"/>
          <p:cNvSpPr/>
          <p:nvPr/>
        </p:nvSpPr>
        <p:spPr>
          <a:xfrm>
            <a:off x="1312920" y="2771280"/>
            <a:ext cx="193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Angela 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Manibielo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47" name="TextBox 25"/>
          <p:cNvSpPr/>
          <p:nvPr/>
        </p:nvSpPr>
        <p:spPr>
          <a:xfrm>
            <a:off x="1319040" y="1041480"/>
            <a:ext cx="19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Dentist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48" name="TextBox 28"/>
          <p:cNvSpPr/>
          <p:nvPr/>
        </p:nvSpPr>
        <p:spPr>
          <a:xfrm>
            <a:off x="3795840" y="2771280"/>
            <a:ext cx="193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Bob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Open Sans"/>
              </a:rPr>
              <a:t>Fredicson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49" name="TextBox 29"/>
          <p:cNvSpPr/>
          <p:nvPr/>
        </p:nvSpPr>
        <p:spPr>
          <a:xfrm>
            <a:off x="3803760" y="1041480"/>
            <a:ext cx="193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Dentist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50" name="TextBox 30"/>
          <p:cNvSpPr/>
          <p:nvPr/>
        </p:nvSpPr>
        <p:spPr>
          <a:xfrm>
            <a:off x="6280200" y="2771280"/>
            <a:ext cx="193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Angela 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Manibielo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51" name="TextBox 31"/>
          <p:cNvSpPr/>
          <p:nvPr/>
        </p:nvSpPr>
        <p:spPr>
          <a:xfrm>
            <a:off x="6288120" y="1041480"/>
            <a:ext cx="193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Dentist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52" name="TextBox 32"/>
          <p:cNvSpPr/>
          <p:nvPr/>
        </p:nvSpPr>
        <p:spPr>
          <a:xfrm>
            <a:off x="8764560" y="2771280"/>
            <a:ext cx="193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Angela 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Manibielo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53" name="TextBox 33"/>
          <p:cNvSpPr/>
          <p:nvPr/>
        </p:nvSpPr>
        <p:spPr>
          <a:xfrm>
            <a:off x="8772480" y="1041480"/>
            <a:ext cx="193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Dentist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54" name="TextBox 34"/>
          <p:cNvSpPr/>
          <p:nvPr/>
        </p:nvSpPr>
        <p:spPr>
          <a:xfrm>
            <a:off x="1317600" y="5441400"/>
            <a:ext cx="193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Joshua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Mardika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55" name="TextBox 35"/>
          <p:cNvSpPr/>
          <p:nvPr/>
        </p:nvSpPr>
        <p:spPr>
          <a:xfrm>
            <a:off x="1324080" y="3711600"/>
            <a:ext cx="193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Dentist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56" name="TextBox 36"/>
          <p:cNvSpPr/>
          <p:nvPr/>
        </p:nvSpPr>
        <p:spPr>
          <a:xfrm>
            <a:off x="3801960" y="5441400"/>
            <a:ext cx="1938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Angela 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Manibielo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57" name="TextBox 37"/>
          <p:cNvSpPr/>
          <p:nvPr/>
        </p:nvSpPr>
        <p:spPr>
          <a:xfrm>
            <a:off x="3808440" y="3711600"/>
            <a:ext cx="193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Dentist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58" name="TextBox 39"/>
          <p:cNvSpPr/>
          <p:nvPr/>
        </p:nvSpPr>
        <p:spPr>
          <a:xfrm>
            <a:off x="6480000" y="4845600"/>
            <a:ext cx="4399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shuddered all over, and edged away from his companion. A dentist! A dentist at Philip lorem ipsum dolor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59" name="Rounded Rectangle 46"/>
          <p:cNvSpPr/>
          <p:nvPr/>
        </p:nvSpPr>
        <p:spPr>
          <a:xfrm>
            <a:off x="2160720" y="758880"/>
            <a:ext cx="241200" cy="247680"/>
          </a:xfrm>
          <a:custGeom>
            <a:avLst/>
            <a:gdLst>
              <a:gd name="textAreaLeft" fmla="*/ 8280 w 241200"/>
              <a:gd name="textAreaRight" fmla="*/ 232920 w 241200"/>
              <a:gd name="textAreaTop" fmla="*/ 8280 h 247680"/>
              <a:gd name="textAreaBottom" fmla="*/ 239400 h 247680"/>
            </a:gdLst>
            <a:ahLst/>
            <a:rect l="textAreaLeft" t="textAreaTop" r="textAreaRight" b="textAreaBottom"/>
            <a:pathLst>
              <a:path w="21600" h="22179">
                <a:moveTo>
                  <a:pt x="2563" y="0"/>
                </a:moveTo>
                <a:arcTo wR="2563" hR="2563" stAng="16200000" swAng="-5400000"/>
                <a:lnTo>
                  <a:pt x="0" y="19616"/>
                </a:lnTo>
                <a:arcTo wR="2563" hR="2563" stAng="10800000" swAng="-5400000"/>
                <a:lnTo>
                  <a:pt x="19037" y="22179"/>
                </a:lnTo>
                <a:arcTo wR="2563" hR="2563" stAng="5400000" swAng="-5400000"/>
                <a:lnTo>
                  <a:pt x="21600" y="2563"/>
                </a:lnTo>
                <a:arcTo wR="2563" hR="2563" stAng="0" swAng="-5400000"/>
                <a:close/>
              </a:path>
            </a:pathLst>
          </a:custGeom>
          <a:solidFill>
            <a:srgbClr val="8fd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60" name="Rounded Rectangle 47"/>
          <p:cNvSpPr/>
          <p:nvPr/>
        </p:nvSpPr>
        <p:spPr>
          <a:xfrm>
            <a:off x="4654440" y="758880"/>
            <a:ext cx="243000" cy="247680"/>
          </a:xfrm>
          <a:custGeom>
            <a:avLst/>
            <a:gdLst>
              <a:gd name="textAreaLeft" fmla="*/ 8280 w 243000"/>
              <a:gd name="textAreaRight" fmla="*/ 234720 w 243000"/>
              <a:gd name="textAreaTop" fmla="*/ 8280 h 247680"/>
              <a:gd name="textAreaBottom" fmla="*/ 239400 h 247680"/>
            </a:gdLst>
            <a:ahLst/>
            <a:rect l="textAreaLeft" t="textAreaTop" r="textAreaRight" b="textAreaBottom"/>
            <a:pathLst>
              <a:path w="21600" h="22015">
                <a:moveTo>
                  <a:pt x="2563" y="0"/>
                </a:moveTo>
                <a:arcTo wR="2563" hR="2563" stAng="16200000" swAng="-5400000"/>
                <a:lnTo>
                  <a:pt x="0" y="19452"/>
                </a:lnTo>
                <a:arcTo wR="2563" hR="2563" stAng="10800000" swAng="-5400000"/>
                <a:lnTo>
                  <a:pt x="19037" y="22015"/>
                </a:lnTo>
                <a:arcTo wR="2563" hR="2563" stAng="5400000" swAng="-5400000"/>
                <a:lnTo>
                  <a:pt x="21600" y="2563"/>
                </a:lnTo>
                <a:arcTo wR="2563" hR="2563" stAng="0" swAng="-5400000"/>
                <a:close/>
              </a:path>
            </a:pathLst>
          </a:custGeom>
          <a:solidFill>
            <a:srgbClr val="8fd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61" name="Rounded Rectangle 48"/>
          <p:cNvSpPr/>
          <p:nvPr/>
        </p:nvSpPr>
        <p:spPr>
          <a:xfrm>
            <a:off x="7149960" y="758880"/>
            <a:ext cx="241560" cy="247680"/>
          </a:xfrm>
          <a:custGeom>
            <a:avLst/>
            <a:gdLst>
              <a:gd name="textAreaLeft" fmla="*/ 8280 w 241560"/>
              <a:gd name="textAreaRight" fmla="*/ 233280 w 241560"/>
              <a:gd name="textAreaTop" fmla="*/ 8280 h 247680"/>
              <a:gd name="textAreaBottom" fmla="*/ 239400 h 247680"/>
            </a:gdLst>
            <a:ahLst/>
            <a:rect l="textAreaLeft" t="textAreaTop" r="textAreaRight" b="textAreaBottom"/>
            <a:pathLst>
              <a:path w="21600" h="22146">
                <a:moveTo>
                  <a:pt x="2563" y="0"/>
                </a:moveTo>
                <a:arcTo wR="2563" hR="2563" stAng="16200000" swAng="-5400000"/>
                <a:lnTo>
                  <a:pt x="0" y="19583"/>
                </a:lnTo>
                <a:arcTo wR="2563" hR="2563" stAng="10800000" swAng="-5400000"/>
                <a:lnTo>
                  <a:pt x="19037" y="22146"/>
                </a:lnTo>
                <a:arcTo wR="2563" hR="2563" stAng="5400000" swAng="-5400000"/>
                <a:lnTo>
                  <a:pt x="21600" y="2563"/>
                </a:lnTo>
                <a:arcTo wR="2563" hR="2563" stAng="0" swAng="-5400000"/>
                <a:close/>
              </a:path>
            </a:pathLst>
          </a:custGeom>
          <a:solidFill>
            <a:srgbClr val="8fd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62" name="Rounded Rectangle 49"/>
          <p:cNvSpPr/>
          <p:nvPr/>
        </p:nvSpPr>
        <p:spPr>
          <a:xfrm>
            <a:off x="9644040" y="758880"/>
            <a:ext cx="241200" cy="247680"/>
          </a:xfrm>
          <a:custGeom>
            <a:avLst/>
            <a:gdLst>
              <a:gd name="textAreaLeft" fmla="*/ 8280 w 241200"/>
              <a:gd name="textAreaRight" fmla="*/ 232920 w 241200"/>
              <a:gd name="textAreaTop" fmla="*/ 8280 h 247680"/>
              <a:gd name="textAreaBottom" fmla="*/ 239400 h 247680"/>
            </a:gdLst>
            <a:ahLst/>
            <a:rect l="textAreaLeft" t="textAreaTop" r="textAreaRight" b="textAreaBottom"/>
            <a:pathLst>
              <a:path w="21600" h="22179">
                <a:moveTo>
                  <a:pt x="2563" y="0"/>
                </a:moveTo>
                <a:arcTo wR="2563" hR="2563" stAng="16200000" swAng="-5400000"/>
                <a:lnTo>
                  <a:pt x="0" y="19616"/>
                </a:lnTo>
                <a:arcTo wR="2563" hR="2563" stAng="10800000" swAng="-5400000"/>
                <a:lnTo>
                  <a:pt x="19037" y="22179"/>
                </a:lnTo>
                <a:arcTo wR="2563" hR="2563" stAng="5400000" swAng="-5400000"/>
                <a:lnTo>
                  <a:pt x="21600" y="2563"/>
                </a:lnTo>
                <a:arcTo wR="2563" hR="2563" stAng="0" swAng="-5400000"/>
                <a:close/>
              </a:path>
            </a:pathLst>
          </a:custGeom>
          <a:solidFill>
            <a:srgbClr val="8fd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63" name="Rounded Rectangle 50"/>
          <p:cNvSpPr/>
          <p:nvPr/>
        </p:nvSpPr>
        <p:spPr>
          <a:xfrm>
            <a:off x="2160720" y="5975280"/>
            <a:ext cx="241200" cy="247680"/>
          </a:xfrm>
          <a:custGeom>
            <a:avLst/>
            <a:gdLst>
              <a:gd name="textAreaLeft" fmla="*/ 8280 w 241200"/>
              <a:gd name="textAreaRight" fmla="*/ 232920 w 241200"/>
              <a:gd name="textAreaTop" fmla="*/ 8280 h 247680"/>
              <a:gd name="textAreaBottom" fmla="*/ 239400 h 247680"/>
            </a:gdLst>
            <a:ahLst/>
            <a:rect l="textAreaLeft" t="textAreaTop" r="textAreaRight" b="textAreaBottom"/>
            <a:pathLst>
              <a:path w="21600" h="22179">
                <a:moveTo>
                  <a:pt x="2563" y="0"/>
                </a:moveTo>
                <a:arcTo wR="2563" hR="2563" stAng="16200000" swAng="-5400000"/>
                <a:lnTo>
                  <a:pt x="0" y="19616"/>
                </a:lnTo>
                <a:arcTo wR="2563" hR="2563" stAng="10800000" swAng="-5400000"/>
                <a:lnTo>
                  <a:pt x="19037" y="22179"/>
                </a:lnTo>
                <a:arcTo wR="2563" hR="2563" stAng="5400000" swAng="-5400000"/>
                <a:lnTo>
                  <a:pt x="21600" y="2563"/>
                </a:lnTo>
                <a:arcTo wR="2563" hR="2563" stAng="0" swAng="-5400000"/>
                <a:close/>
              </a:path>
            </a:pathLst>
          </a:custGeom>
          <a:solidFill>
            <a:srgbClr val="8fd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64" name="Rounded Rectangle 51"/>
          <p:cNvSpPr/>
          <p:nvPr/>
        </p:nvSpPr>
        <p:spPr>
          <a:xfrm>
            <a:off x="4654440" y="5975280"/>
            <a:ext cx="243000" cy="247680"/>
          </a:xfrm>
          <a:custGeom>
            <a:avLst/>
            <a:gdLst>
              <a:gd name="textAreaLeft" fmla="*/ 8280 w 243000"/>
              <a:gd name="textAreaRight" fmla="*/ 234720 w 243000"/>
              <a:gd name="textAreaTop" fmla="*/ 8280 h 247680"/>
              <a:gd name="textAreaBottom" fmla="*/ 239400 h 247680"/>
            </a:gdLst>
            <a:ahLst/>
            <a:rect l="textAreaLeft" t="textAreaTop" r="textAreaRight" b="textAreaBottom"/>
            <a:pathLst>
              <a:path w="21600" h="22015">
                <a:moveTo>
                  <a:pt x="2563" y="0"/>
                </a:moveTo>
                <a:arcTo wR="2563" hR="2563" stAng="16200000" swAng="-5400000"/>
                <a:lnTo>
                  <a:pt x="0" y="19452"/>
                </a:lnTo>
                <a:arcTo wR="2563" hR="2563" stAng="10800000" swAng="-5400000"/>
                <a:lnTo>
                  <a:pt x="19037" y="22015"/>
                </a:lnTo>
                <a:arcTo wR="2563" hR="2563" stAng="5400000" swAng="-5400000"/>
                <a:lnTo>
                  <a:pt x="21600" y="2563"/>
                </a:lnTo>
                <a:arcTo wR="2563" hR="2563" stAng="0" swAng="-5400000"/>
                <a:close/>
              </a:path>
            </a:pathLst>
          </a:custGeom>
          <a:solidFill>
            <a:srgbClr val="8fd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0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1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1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17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5" dur="500"/>
                                        <p:tgtEl>
                                          <p:spTgt spid="1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1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17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500"/>
                                        <p:tgtEl>
                                          <p:spTgt spid="1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1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1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17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7" dur="500"/>
                                        <p:tgtEl>
                                          <p:spTgt spid="1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1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1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7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3" dur="500"/>
                                        <p:tgtEl>
                                          <p:spTgt spid="1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1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1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17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9" dur="500"/>
                                        <p:tgtEl>
                                          <p:spTgt spid="1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1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1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17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5" dur="500"/>
                                        <p:tgtEl>
                                          <p:spTgt spid="1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1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1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17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1" dur="500"/>
                                        <p:tgtEl>
                                          <p:spTgt spid="1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1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1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7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7" dur="500"/>
                                        <p:tgtEl>
                                          <p:spTgt spid="1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1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1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17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3" dur="500"/>
                                        <p:tgtEl>
                                          <p:spTgt spid="1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1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1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17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9" dur="500"/>
                                        <p:tgtEl>
                                          <p:spTgt spid="1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1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1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17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5" dur="500"/>
                                        <p:tgtEl>
                                          <p:spTgt spid="1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1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1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17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1" dur="500"/>
                                        <p:tgtEl>
                                          <p:spTgt spid="1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1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1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17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7" dur="500"/>
                                        <p:tgtEl>
                                          <p:spTgt spid="1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1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1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17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3" dur="500"/>
                                        <p:tgtEl>
                                          <p:spTgt spid="1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17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17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17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9" dur="500"/>
                                        <p:tgtEl>
                                          <p:spTgt spid="1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1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1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17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5" dur="500"/>
                                        <p:tgtEl>
                                          <p:spTgt spid="1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1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1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17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1" dur="500"/>
                                        <p:tgtEl>
                                          <p:spTgt spid="1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17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17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17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7" dur="500"/>
                                        <p:tgtEl>
                                          <p:spTgt spid="1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1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1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17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3" dur="500"/>
                                        <p:tgtEl>
                                          <p:spTgt spid="1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1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1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17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9" dur="500"/>
                                        <p:tgtEl>
                                          <p:spTgt spid="1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1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1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17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5" dur="500"/>
                                        <p:tgtEl>
                                          <p:spTgt spid="1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1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1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17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1" dur="500"/>
                                        <p:tgtEl>
                                          <p:spTgt spid="1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1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1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17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7" dur="500"/>
                                        <p:tgtEl>
                                          <p:spTgt spid="1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1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1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17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3" dur="500"/>
                                        <p:tgtEl>
                                          <p:spTgt spid="1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1000" fill="hold"/>
                                        <p:tgtEl>
                                          <p:spTgt spid="1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1000" fill="hold"/>
                                        <p:tgtEl>
                                          <p:spTgt spid="1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1000" fill="hold"/>
                                        <p:tgtEl>
                                          <p:spTgt spid="1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1000" fill="hold"/>
                                        <p:tgtEl>
                                          <p:spTgt spid="1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Rectangle 10"/>
          <p:cNvSpPr/>
          <p:nvPr/>
        </p:nvSpPr>
        <p:spPr>
          <a:xfrm>
            <a:off x="1130400" y="1028880"/>
            <a:ext cx="4559040" cy="4800600"/>
          </a:xfrm>
          <a:prstGeom prst="rect">
            <a:avLst/>
          </a:prstGeom>
          <a:solidFill>
            <a:srgbClr val="262626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6501960" y="1564920"/>
            <a:ext cx="4559400" cy="10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boto Black"/>
              </a:rPr>
              <a:t>Michelangelo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Roboto Black"/>
              </a:rPr>
              <a:t>Huroniaze</a:t>
            </a:r>
            <a:endParaRPr b="0" lang="en-US" sz="3200" spc="-1" strike="noStrike">
              <a:solidFill>
                <a:srgbClr val="ffffff"/>
              </a:solidFill>
              <a:latin typeface="Roboto Black"/>
            </a:endParaRPr>
          </a:p>
        </p:txBody>
      </p:sp>
      <p:pic>
        <p:nvPicPr>
          <p:cNvPr id="1767" name="" descr=""/>
          <p:cNvPicPr/>
          <p:nvPr/>
        </p:nvPicPr>
        <p:blipFill>
          <a:blip r:embed="rId1"/>
          <a:stretch/>
        </p:blipFill>
        <p:spPr>
          <a:xfrm>
            <a:off x="1130400" y="1028520"/>
            <a:ext cx="4559040" cy="3841560"/>
          </a:xfrm>
          <a:prstGeom prst="rect">
            <a:avLst/>
          </a:prstGeom>
          <a:ln w="0">
            <a:noFill/>
          </a:ln>
        </p:spPr>
      </p:pic>
      <p:sp>
        <p:nvSpPr>
          <p:cNvPr id="1768" name="TextBox 11"/>
          <p:cNvSpPr/>
          <p:nvPr/>
        </p:nvSpPr>
        <p:spPr>
          <a:xfrm>
            <a:off x="6502320" y="1227600"/>
            <a:ext cx="1925640" cy="337320"/>
          </a:xfrm>
          <a:prstGeom prst="rect">
            <a:avLst/>
          </a:prstGeom>
          <a:solidFill>
            <a:srgbClr val="dceb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Open Sans"/>
              </a:rPr>
              <a:t>Pro - Dentist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69" name="TextBox 12"/>
          <p:cNvSpPr/>
          <p:nvPr/>
        </p:nvSpPr>
        <p:spPr>
          <a:xfrm>
            <a:off x="1892160" y="5218560"/>
            <a:ext cx="256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Verivied By Authorization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70" name="Freeform 13"/>
          <p:cNvSpPr/>
          <p:nvPr/>
        </p:nvSpPr>
        <p:spPr>
          <a:xfrm>
            <a:off x="1523880" y="5229360"/>
            <a:ext cx="263520" cy="263520"/>
          </a:xfrm>
          <a:custGeom>
            <a:avLst/>
            <a:gdLst/>
            <a:ahLst/>
            <a:rect l="l" t="t" r="r" b="b"/>
            <a:pathLst>
              <a:path w="1551636" h="1551636">
                <a:moveTo>
                  <a:pt x="1138720" y="466730"/>
                </a:moveTo>
                <a:lnTo>
                  <a:pt x="651040" y="927740"/>
                </a:lnTo>
                <a:lnTo>
                  <a:pt x="416725" y="687710"/>
                </a:lnTo>
                <a:lnTo>
                  <a:pt x="335762" y="764862"/>
                </a:lnTo>
                <a:lnTo>
                  <a:pt x="647230" y="1084903"/>
                </a:lnTo>
                <a:lnTo>
                  <a:pt x="729145" y="1008703"/>
                </a:lnTo>
                <a:lnTo>
                  <a:pt x="1215872" y="546740"/>
                </a:lnTo>
                <a:lnTo>
                  <a:pt x="1138720" y="466730"/>
                </a:lnTo>
                <a:close/>
                <a:moveTo>
                  <a:pt x="775818" y="0"/>
                </a:moveTo>
                <a:cubicBezTo>
                  <a:pt x="1204290" y="0"/>
                  <a:pt x="1551636" y="347346"/>
                  <a:pt x="1551636" y="775818"/>
                </a:cubicBezTo>
                <a:cubicBezTo>
                  <a:pt x="1551636" y="1204290"/>
                  <a:pt x="1204290" y="1551636"/>
                  <a:pt x="775818" y="1551636"/>
                </a:cubicBezTo>
                <a:cubicBezTo>
                  <a:pt x="347346" y="1551636"/>
                  <a:pt x="0" y="1204290"/>
                  <a:pt x="0" y="775818"/>
                </a:cubicBezTo>
                <a:cubicBezTo>
                  <a:pt x="0" y="347346"/>
                  <a:pt x="347346" y="0"/>
                  <a:pt x="775818" y="0"/>
                </a:cubicBezTo>
                <a:close/>
              </a:path>
            </a:pathLst>
          </a:custGeom>
          <a:solidFill>
            <a:srgbClr val="fe6b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71" name="TextBox 15"/>
          <p:cNvSpPr/>
          <p:nvPr/>
        </p:nvSpPr>
        <p:spPr>
          <a:xfrm>
            <a:off x="6502320" y="2604240"/>
            <a:ext cx="4559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shuddered all over, and edged away from his companion. A dentist! A dentist at Philip lorem ipsum dolor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72" name="Rounded Rectangle 16"/>
          <p:cNvSpPr/>
          <p:nvPr/>
        </p:nvSpPr>
        <p:spPr>
          <a:xfrm>
            <a:off x="6502320" y="3948120"/>
            <a:ext cx="4559400" cy="169920"/>
          </a:xfrm>
          <a:prstGeom prst="roundRect">
            <a:avLst>
              <a:gd name="adj" fmla="val 50000"/>
            </a:avLst>
          </a:prstGeom>
          <a:solidFill>
            <a:srgbClr val="2020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73" name="Rounded Rectangle 17"/>
          <p:cNvSpPr/>
          <p:nvPr/>
        </p:nvSpPr>
        <p:spPr>
          <a:xfrm>
            <a:off x="6502320" y="3948120"/>
            <a:ext cx="3589560" cy="169920"/>
          </a:xfrm>
          <a:prstGeom prst="roundRect">
            <a:avLst>
              <a:gd name="adj" fmla="val 50000"/>
            </a:avLst>
          </a:prstGeom>
          <a:solidFill>
            <a:srgbClr val="dceb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74" name="TextBox 20"/>
          <p:cNvSpPr/>
          <p:nvPr/>
        </p:nvSpPr>
        <p:spPr>
          <a:xfrm>
            <a:off x="6502320" y="3619800"/>
            <a:ext cx="256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75" name="Rounded Rectangle 27"/>
          <p:cNvSpPr/>
          <p:nvPr/>
        </p:nvSpPr>
        <p:spPr>
          <a:xfrm>
            <a:off x="6502320" y="4633920"/>
            <a:ext cx="4559400" cy="168120"/>
          </a:xfrm>
          <a:prstGeom prst="roundRect">
            <a:avLst>
              <a:gd name="adj" fmla="val 50000"/>
            </a:avLst>
          </a:prstGeom>
          <a:solidFill>
            <a:srgbClr val="2020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76" name="Rounded Rectangle 28"/>
          <p:cNvSpPr/>
          <p:nvPr/>
        </p:nvSpPr>
        <p:spPr>
          <a:xfrm>
            <a:off x="6502320" y="4633920"/>
            <a:ext cx="2743200" cy="168120"/>
          </a:xfrm>
          <a:prstGeom prst="roundRect">
            <a:avLst>
              <a:gd name="adj" fmla="val 50000"/>
            </a:avLst>
          </a:prstGeom>
          <a:solidFill>
            <a:srgbClr val="8fd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77" name="TextBox 29"/>
          <p:cNvSpPr/>
          <p:nvPr/>
        </p:nvSpPr>
        <p:spPr>
          <a:xfrm>
            <a:off x="6502320" y="4305600"/>
            <a:ext cx="256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78" name="Rounded Rectangle 30"/>
          <p:cNvSpPr/>
          <p:nvPr/>
        </p:nvSpPr>
        <p:spPr>
          <a:xfrm>
            <a:off x="6502320" y="5318280"/>
            <a:ext cx="4559400" cy="169560"/>
          </a:xfrm>
          <a:prstGeom prst="roundRect">
            <a:avLst>
              <a:gd name="adj" fmla="val 50000"/>
            </a:avLst>
          </a:prstGeom>
          <a:solidFill>
            <a:srgbClr val="2020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79" name="Rounded Rectangle 31"/>
          <p:cNvSpPr/>
          <p:nvPr/>
        </p:nvSpPr>
        <p:spPr>
          <a:xfrm>
            <a:off x="6502320" y="5318280"/>
            <a:ext cx="4165560" cy="169560"/>
          </a:xfrm>
          <a:prstGeom prst="roundRect">
            <a:avLst>
              <a:gd name="adj" fmla="val 50000"/>
            </a:avLst>
          </a:prstGeom>
          <a:solidFill>
            <a:srgbClr val="fe6b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80" name="TextBox 32"/>
          <p:cNvSpPr/>
          <p:nvPr/>
        </p:nvSpPr>
        <p:spPr>
          <a:xfrm>
            <a:off x="6502320" y="4989960"/>
            <a:ext cx="256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0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8" dur="1000"/>
                                        <p:tgtEl>
                                          <p:spTgt spid="17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1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900" fill="hold"/>
                                        <p:tgtEl>
                                          <p:spTgt spid="1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4" dur="1000"/>
                                        <p:tgtEl>
                                          <p:spTgt spid="17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1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900" fill="hold"/>
                                        <p:tgtEl>
                                          <p:spTgt spid="1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0" dur="1000"/>
                                        <p:tgtEl>
                                          <p:spTgt spid="17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1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900" fill="hold"/>
                                        <p:tgtEl>
                                          <p:spTgt spid="1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1000" fill="hold"/>
                                        <p:tgtEl>
                                          <p:spTgt spid="1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1000" fill="hold"/>
                                        <p:tgtEl>
                                          <p:spTgt spid="1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1000" fill="hold"/>
                                        <p:tgtEl>
                                          <p:spTgt spid="1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1000" fill="hold"/>
                                        <p:tgtEl>
                                          <p:spTgt spid="1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1000" fill="hold"/>
                                        <p:tgtEl>
                                          <p:spTgt spid="1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1000" fill="hold"/>
                                        <p:tgtEl>
                                          <p:spTgt spid="1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1000" fill="hold"/>
                                        <p:tgtEl>
                                          <p:spTgt spid="1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1000" fill="hold"/>
                                        <p:tgtEl>
                                          <p:spTgt spid="1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1000" fill="hold"/>
                                        <p:tgtEl>
                                          <p:spTgt spid="1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1000" fill="hold"/>
                                        <p:tgtEl>
                                          <p:spTgt spid="1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1000" fill="hold"/>
                                        <p:tgtEl>
                                          <p:spTgt spid="1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1000" fill="hold"/>
                                        <p:tgtEl>
                                          <p:spTgt spid="1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1000" fill="hold"/>
                                        <p:tgtEl>
                                          <p:spTgt spid="1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1000" fill="hold"/>
                                        <p:tgtEl>
                                          <p:spTgt spid="1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1000" fill="hold"/>
                                        <p:tgtEl>
                                          <p:spTgt spid="1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1000" fill="hold"/>
                                        <p:tgtEl>
                                          <p:spTgt spid="1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1000" fill="hold"/>
                                        <p:tgtEl>
                                          <p:spTgt spid="1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1000" fill="hold"/>
                                        <p:tgtEl>
                                          <p:spTgt spid="1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1000" fill="hold"/>
                                        <p:tgtEl>
                                          <p:spTgt spid="1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1000" fill="hold"/>
                                        <p:tgtEl>
                                          <p:spTgt spid="1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1000" fill="hold"/>
                                        <p:tgtEl>
                                          <p:spTgt spid="1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1000" fill="hold"/>
                                        <p:tgtEl>
                                          <p:spTgt spid="1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1000" fill="hold"/>
                                        <p:tgtEl>
                                          <p:spTgt spid="1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1000" fill="hold"/>
                                        <p:tgtEl>
                                          <p:spTgt spid="1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b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Freeform 6"/>
          <p:cNvSpPr/>
          <p:nvPr/>
        </p:nvSpPr>
        <p:spPr>
          <a:xfrm flipH="1">
            <a:off x="7230240" y="947880"/>
            <a:ext cx="4961160" cy="5910120"/>
          </a:xfrm>
          <a:custGeom>
            <a:avLst/>
            <a:gdLst/>
            <a:ahLst/>
            <a:rect l="l" t="t" r="r" b="b"/>
            <a:pathLst>
              <a:path w="3254762" h="3876975">
                <a:moveTo>
                  <a:pt x="399656" y="4"/>
                </a:moveTo>
                <a:cubicBezTo>
                  <a:pt x="460611" y="226"/>
                  <a:pt x="520908" y="10622"/>
                  <a:pt x="578752" y="33910"/>
                </a:cubicBezTo>
                <a:cubicBezTo>
                  <a:pt x="776673" y="113622"/>
                  <a:pt x="874521" y="320487"/>
                  <a:pt x="888852" y="514751"/>
                </a:cubicBezTo>
                <a:cubicBezTo>
                  <a:pt x="903184" y="709014"/>
                  <a:pt x="852975" y="902239"/>
                  <a:pt x="843684" y="1096800"/>
                </a:cubicBezTo>
                <a:cubicBezTo>
                  <a:pt x="834394" y="1291359"/>
                  <a:pt x="875607" y="1503463"/>
                  <a:pt x="1034636" y="1635904"/>
                </a:cubicBezTo>
                <a:cubicBezTo>
                  <a:pt x="1186796" y="1762662"/>
                  <a:pt x="1410660" y="1787717"/>
                  <a:pt x="1618217" y="1789496"/>
                </a:cubicBezTo>
                <a:cubicBezTo>
                  <a:pt x="1825774" y="1791226"/>
                  <a:pt x="2040942" y="1777092"/>
                  <a:pt x="2233525" y="1846723"/>
                </a:cubicBezTo>
                <a:cubicBezTo>
                  <a:pt x="2536855" y="1956332"/>
                  <a:pt x="2717034" y="2286101"/>
                  <a:pt x="2627982" y="2568527"/>
                </a:cubicBezTo>
                <a:cubicBezTo>
                  <a:pt x="2569470" y="2754142"/>
                  <a:pt x="2410937" y="2937534"/>
                  <a:pt x="2483730" y="3119096"/>
                </a:cubicBezTo>
                <a:cubicBezTo>
                  <a:pt x="2526773" y="3226433"/>
                  <a:pt x="2641424" y="3296508"/>
                  <a:pt x="2755877" y="3346124"/>
                </a:cubicBezTo>
                <a:cubicBezTo>
                  <a:pt x="2870330" y="3395740"/>
                  <a:pt x="2994073" y="3434089"/>
                  <a:pt x="3088709" y="3510242"/>
                </a:cubicBezTo>
                <a:cubicBezTo>
                  <a:pt x="3171473" y="3576877"/>
                  <a:pt x="3270089" y="3730913"/>
                  <a:pt x="3252762" y="3835553"/>
                </a:cubicBezTo>
                <a:lnTo>
                  <a:pt x="3237854" y="3876975"/>
                </a:lnTo>
                <a:lnTo>
                  <a:pt x="0" y="3876975"/>
                </a:lnTo>
                <a:lnTo>
                  <a:pt x="0" y="124561"/>
                </a:lnTo>
                <a:lnTo>
                  <a:pt x="40371" y="99034"/>
                </a:lnTo>
                <a:cubicBezTo>
                  <a:pt x="153201" y="39817"/>
                  <a:pt x="277746" y="-439"/>
                  <a:pt x="399656" y="4"/>
                </a:cubicBezTo>
                <a:close/>
              </a:path>
            </a:pathLst>
          </a:custGeom>
          <a:solidFill>
            <a:srgbClr val="8fd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5541840" y="2370240"/>
            <a:ext cx="5105520" cy="211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Roboto Black"/>
              </a:rPr>
              <a:t>All About</a:t>
            </a:r>
            <a:br>
              <a:rPr sz="6600"/>
            </a:br>
            <a:r>
              <a:rPr b="0" lang="en-US" sz="6600" spc="-1" strike="noStrike">
                <a:solidFill>
                  <a:srgbClr val="ffffff"/>
                </a:solidFill>
                <a:latin typeface="Roboto Black"/>
              </a:rPr>
              <a:t>Our Works</a:t>
            </a:r>
            <a:r>
              <a:rPr b="0" lang="en-US" sz="6600" spc="-1" strike="noStrike">
                <a:solidFill>
                  <a:srgbClr val="fe6b1a"/>
                </a:solidFill>
                <a:latin typeface="Roboto Black"/>
              </a:rPr>
              <a:t>.</a:t>
            </a:r>
            <a:endParaRPr b="0" lang="en-US" sz="6600" spc="-1" strike="noStrike">
              <a:solidFill>
                <a:srgbClr val="ffffff"/>
              </a:solidFill>
              <a:latin typeface="Roboto Black"/>
            </a:endParaRPr>
          </a:p>
        </p:txBody>
      </p:sp>
    </p:spTree>
  </p:cSld>
  <p:transition spd="med">
    <p:fade/>
  </p:transition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fill="hold">
                      <p:stCondLst>
                        <p:cond delay="0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1000" fill="hold"/>
                                        <p:tgtEl>
                                          <p:spTgt spid="1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1000" fill="hold"/>
                                        <p:tgtEl>
                                          <p:spTgt spid="1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1000" fill="hold"/>
                                        <p:tgtEl>
                                          <p:spTgt spid="1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1000" fill="hold"/>
                                        <p:tgtEl>
                                          <p:spTgt spid="1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1130400" y="5246640"/>
            <a:ext cx="42228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boto Black"/>
              </a:rPr>
              <a:t>Smile Gallery</a:t>
            </a:r>
            <a:endParaRPr b="0" lang="en-US" sz="32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784" name="TextBox 10"/>
          <p:cNvSpPr/>
          <p:nvPr/>
        </p:nvSpPr>
        <p:spPr>
          <a:xfrm>
            <a:off x="4508640" y="5247720"/>
            <a:ext cx="6553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shuddered all over, and edged away from his companion. A dentist! A dentist at Philip Philip gave a cry of personal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85" name="Rounded Rectangle 46"/>
          <p:cNvSpPr/>
          <p:nvPr/>
        </p:nvSpPr>
        <p:spPr>
          <a:xfrm>
            <a:off x="6797520" y="2359080"/>
            <a:ext cx="2752920" cy="1171440"/>
          </a:xfrm>
          <a:prstGeom prst="roundRect">
            <a:avLst>
              <a:gd name="adj" fmla="val 11866"/>
            </a:avLst>
          </a:prstGeom>
          <a:solidFill>
            <a:srgbClr val="262626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86" name="Rounded Rectangle 47"/>
          <p:cNvSpPr/>
          <p:nvPr/>
        </p:nvSpPr>
        <p:spPr>
          <a:xfrm>
            <a:off x="6095880" y="2359080"/>
            <a:ext cx="565200" cy="579240"/>
          </a:xfrm>
          <a:custGeom>
            <a:avLst/>
            <a:gdLst>
              <a:gd name="textAreaLeft" fmla="*/ 19440 w 565200"/>
              <a:gd name="textAreaRight" fmla="*/ 545760 w 565200"/>
              <a:gd name="textAreaTop" fmla="*/ 19440 h 579240"/>
              <a:gd name="textAreaBottom" fmla="*/ 559800 h 579240"/>
            </a:gdLst>
            <a:ahLst/>
            <a:rect l="textAreaLeft" t="textAreaTop" r="textAreaRight" b="textAreaBottom"/>
            <a:pathLst>
              <a:path w="21600" h="22136">
                <a:moveTo>
                  <a:pt x="2563" y="0"/>
                </a:moveTo>
                <a:arcTo wR="2563" hR="2563" stAng="16200000" swAng="-5400000"/>
                <a:lnTo>
                  <a:pt x="0" y="19573"/>
                </a:lnTo>
                <a:arcTo wR="2563" hR="2563" stAng="10800000" swAng="-5400000"/>
                <a:lnTo>
                  <a:pt x="19037" y="22136"/>
                </a:lnTo>
                <a:arcTo wR="2563" hR="2563" stAng="5400000" swAng="-5400000"/>
                <a:lnTo>
                  <a:pt x="21600" y="2563"/>
                </a:lnTo>
                <a:arcTo wR="2563" hR="2563" stAng="0" swAng="-5400000"/>
                <a:close/>
              </a:path>
            </a:pathLst>
          </a:custGeom>
          <a:solidFill>
            <a:srgbClr val="8fd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87" name="TextBox 48"/>
          <p:cNvSpPr/>
          <p:nvPr/>
        </p:nvSpPr>
        <p:spPr>
          <a:xfrm>
            <a:off x="6996240" y="2589840"/>
            <a:ext cx="2336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D" sz="1400" spc="-1" strike="noStrike">
                <a:solidFill>
                  <a:srgbClr val="ffffff"/>
                </a:solidFill>
                <a:latin typeface="Open Sans"/>
              </a:rPr>
              <a:t>A dentist at Philip Philip gave a cry of personal disgust and pain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788" name="Graphic 1"/>
          <p:cNvGrpSpPr/>
          <p:nvPr/>
        </p:nvGrpSpPr>
        <p:grpSpPr>
          <a:xfrm>
            <a:off x="6215040" y="2496960"/>
            <a:ext cx="322200" cy="322560"/>
            <a:chOff x="6215040" y="2496960"/>
            <a:chExt cx="322200" cy="322560"/>
          </a:xfrm>
        </p:grpSpPr>
        <p:sp>
          <p:nvSpPr>
            <p:cNvPr id="1789" name="Freeform: Shape 671"/>
            <p:cNvSpPr/>
            <p:nvPr/>
          </p:nvSpPr>
          <p:spPr>
            <a:xfrm>
              <a:off x="6216120" y="2498760"/>
              <a:ext cx="319320" cy="313920"/>
            </a:xfrm>
            <a:custGeom>
              <a:avLst/>
              <a:gdLst/>
              <a:ahLst/>
              <a:rect l="l" t="t" r="r" b="b"/>
              <a:pathLst>
                <a:path w="647183" h="647391">
                  <a:moveTo>
                    <a:pt x="512876" y="347236"/>
                  </a:moveTo>
                  <a:cubicBezTo>
                    <a:pt x="528349" y="347236"/>
                    <a:pt x="543191" y="349446"/>
                    <a:pt x="557559" y="353551"/>
                  </a:cubicBezTo>
                  <a:cubicBezTo>
                    <a:pt x="565611" y="339499"/>
                    <a:pt x="575874" y="326710"/>
                    <a:pt x="588031" y="315658"/>
                  </a:cubicBezTo>
                  <a:cubicBezTo>
                    <a:pt x="630504" y="276975"/>
                    <a:pt x="654503" y="218240"/>
                    <a:pt x="645187" y="154453"/>
                  </a:cubicBezTo>
                  <a:cubicBezTo>
                    <a:pt x="633977" y="76456"/>
                    <a:pt x="571137" y="13616"/>
                    <a:pt x="493298" y="2090"/>
                  </a:cubicBezTo>
                  <a:cubicBezTo>
                    <a:pt x="443721" y="-5331"/>
                    <a:pt x="397301" y="7458"/>
                    <a:pt x="360829" y="33352"/>
                  </a:cubicBezTo>
                  <a:cubicBezTo>
                    <a:pt x="338408" y="49299"/>
                    <a:pt x="308725" y="49299"/>
                    <a:pt x="286305" y="33352"/>
                  </a:cubicBezTo>
                  <a:cubicBezTo>
                    <a:pt x="249832" y="7458"/>
                    <a:pt x="203413" y="-5331"/>
                    <a:pt x="153836" y="2090"/>
                  </a:cubicBezTo>
                  <a:cubicBezTo>
                    <a:pt x="75996" y="13616"/>
                    <a:pt x="13156" y="76614"/>
                    <a:pt x="1946" y="154453"/>
                  </a:cubicBezTo>
                  <a:cubicBezTo>
                    <a:pt x="-7211" y="218240"/>
                    <a:pt x="16630" y="276975"/>
                    <a:pt x="59102" y="315658"/>
                  </a:cubicBezTo>
                  <a:cubicBezTo>
                    <a:pt x="91785" y="345499"/>
                    <a:pt x="110416" y="387656"/>
                    <a:pt x="110416" y="432022"/>
                  </a:cubicBezTo>
                  <a:lnTo>
                    <a:pt x="110416" y="521072"/>
                  </a:lnTo>
                  <a:cubicBezTo>
                    <a:pt x="110416" y="591333"/>
                    <a:pt x="167730" y="648173"/>
                    <a:pt x="238149" y="647383"/>
                  </a:cubicBezTo>
                  <a:cubicBezTo>
                    <a:pt x="255043" y="647226"/>
                    <a:pt x="268306" y="632700"/>
                    <a:pt x="268306" y="615806"/>
                  </a:cubicBezTo>
                  <a:cubicBezTo>
                    <a:pt x="268306" y="615806"/>
                    <a:pt x="268306" y="378972"/>
                    <a:pt x="323567" y="378972"/>
                  </a:cubicBezTo>
                  <a:cubicBezTo>
                    <a:pt x="342513" y="378972"/>
                    <a:pt x="354829" y="406602"/>
                    <a:pt x="363039" y="443075"/>
                  </a:cubicBezTo>
                  <a:cubicBezTo>
                    <a:pt x="389407" y="386392"/>
                    <a:pt x="446563" y="347236"/>
                    <a:pt x="512876" y="347236"/>
                  </a:cubicBezTo>
                  <a:close/>
                </a:path>
              </a:pathLst>
            </a:custGeom>
            <a:solidFill>
              <a:srgbClr val="f1fa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790" name="Freeform: Shape 672"/>
            <p:cNvSpPr/>
            <p:nvPr/>
          </p:nvSpPr>
          <p:spPr>
            <a:xfrm>
              <a:off x="6403320" y="2682720"/>
              <a:ext cx="132480" cy="129960"/>
            </a:xfrm>
            <a:custGeom>
              <a:avLst/>
              <a:gdLst/>
              <a:ahLst/>
              <a:rect l="l" t="t" r="r" b="b"/>
              <a:pathLst>
                <a:path w="268411" h="268411">
                  <a:moveTo>
                    <a:pt x="268412" y="134206"/>
                  </a:moveTo>
                  <a:cubicBezTo>
                    <a:pt x="268412" y="208326"/>
                    <a:pt x="208326" y="268412"/>
                    <a:pt x="134206" y="268412"/>
                  </a:cubicBezTo>
                  <a:cubicBezTo>
                    <a:pt x="60086" y="268412"/>
                    <a:pt x="0" y="208326"/>
                    <a:pt x="0" y="134206"/>
                  </a:cubicBezTo>
                  <a:cubicBezTo>
                    <a:pt x="0" y="60086"/>
                    <a:pt x="60086" y="0"/>
                    <a:pt x="134206" y="0"/>
                  </a:cubicBezTo>
                  <a:cubicBezTo>
                    <a:pt x="208326" y="0"/>
                    <a:pt x="268412" y="60086"/>
                    <a:pt x="268412" y="134206"/>
                  </a:cubicBezTo>
                  <a:close/>
                </a:path>
              </a:pathLst>
            </a:custGeom>
            <a:solidFill>
              <a:srgbClr val="06d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pic>
          <p:nvPicPr>
            <p:cNvPr id="1791" name="Graphic 1" descr=""/>
            <p:cNvPicPr/>
            <p:nvPr/>
          </p:nvPicPr>
          <p:blipFill>
            <a:blip r:embed="rId1"/>
            <a:stretch/>
          </p:blipFill>
          <p:spPr>
            <a:xfrm>
              <a:off x="6215040" y="2496960"/>
              <a:ext cx="322200" cy="322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92" name="Oval 60"/>
          <p:cNvSpPr/>
          <p:nvPr/>
        </p:nvSpPr>
        <p:spPr>
          <a:xfrm>
            <a:off x="755640" y="1601640"/>
            <a:ext cx="747720" cy="747720"/>
          </a:xfrm>
          <a:prstGeom prst="ellipse">
            <a:avLst/>
          </a:prstGeom>
          <a:solidFill>
            <a:srgbClr val="8fd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93" name="TextBox 61"/>
          <p:cNvSpPr/>
          <p:nvPr/>
        </p:nvSpPr>
        <p:spPr>
          <a:xfrm>
            <a:off x="755640" y="1806840"/>
            <a:ext cx="74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600" spc="-1" strike="noStrike">
                <a:solidFill>
                  <a:srgbClr val="ffffff"/>
                </a:solidFill>
                <a:latin typeface="Open Sans"/>
              </a:rPr>
              <a:t>01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054" dur="indefinite" restart="never" nodeType="tmRoot">
          <p:childTnLst>
            <p:seq>
              <p:cTn id="1055" dur="indefinite" nodeType="mainSeq">
                <p:childTnLst>
                  <p:par>
                    <p:cTn id="1056" fill="hold">
                      <p:stCondLst>
                        <p:cond delay="0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1000" fill="hold"/>
                                        <p:tgtEl>
                                          <p:spTgt spid="1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1000" fill="hold"/>
                                        <p:tgtEl>
                                          <p:spTgt spid="1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4" dur="1000" fill="hold"/>
                                        <p:tgtEl>
                                          <p:spTgt spid="1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5" dur="1000" fill="hold"/>
                                        <p:tgtEl>
                                          <p:spTgt spid="1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1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1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17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1" dur="500"/>
                                        <p:tgtEl>
                                          <p:spTgt spid="1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1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1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17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7" dur="500"/>
                                        <p:tgtEl>
                                          <p:spTgt spid="1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1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1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17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3" dur="500"/>
                                        <p:tgtEl>
                                          <p:spTgt spid="1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1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1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17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9" dur="500"/>
                                        <p:tgtEl>
                                          <p:spTgt spid="1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1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1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17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5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1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1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17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1" dur="500"/>
                                        <p:tgtEl>
                                          <p:spTgt spid="1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4" name="" descr=""/>
          <p:cNvPicPr/>
          <p:nvPr/>
        </p:nvPicPr>
        <p:blipFill>
          <a:blip r:embed="rId1"/>
          <a:stretch/>
        </p:blipFill>
        <p:spPr>
          <a:xfrm>
            <a:off x="2438280" y="1317240"/>
            <a:ext cx="2438640" cy="2492280"/>
          </a:xfrm>
          <a:prstGeom prst="rect">
            <a:avLst/>
          </a:prstGeom>
          <a:ln w="0">
            <a:noFill/>
          </a:ln>
        </p:spPr>
      </p:pic>
      <p:pic>
        <p:nvPicPr>
          <p:cNvPr id="1795" name="" descr=""/>
          <p:cNvPicPr/>
          <p:nvPr/>
        </p:nvPicPr>
        <p:blipFill>
          <a:blip r:embed="rId2"/>
          <a:stretch/>
        </p:blipFill>
        <p:spPr>
          <a:xfrm>
            <a:off x="4876560" y="936360"/>
            <a:ext cx="2438280" cy="2492280"/>
          </a:xfrm>
          <a:prstGeom prst="rect">
            <a:avLst/>
          </a:prstGeom>
          <a:ln w="0">
            <a:noFill/>
          </a:ln>
        </p:spPr>
      </p:pic>
      <p:pic>
        <p:nvPicPr>
          <p:cNvPr id="1796" name="" descr=""/>
          <p:cNvPicPr/>
          <p:nvPr/>
        </p:nvPicPr>
        <p:blipFill>
          <a:blip r:embed="rId3"/>
          <a:stretch/>
        </p:blipFill>
        <p:spPr>
          <a:xfrm>
            <a:off x="7314840" y="1317240"/>
            <a:ext cx="2438280" cy="2492280"/>
          </a:xfrm>
          <a:prstGeom prst="rect">
            <a:avLst/>
          </a:prstGeom>
          <a:ln w="0">
            <a:noFill/>
          </a:ln>
        </p:spPr>
      </p:pic>
      <p:pic>
        <p:nvPicPr>
          <p:cNvPr id="1797" name="" descr=""/>
          <p:cNvPicPr/>
          <p:nvPr/>
        </p:nvPicPr>
        <p:blipFill>
          <a:blip r:embed="rId4"/>
          <a:stretch/>
        </p:blipFill>
        <p:spPr>
          <a:xfrm>
            <a:off x="9753480" y="936360"/>
            <a:ext cx="2438640" cy="2492280"/>
          </a:xfrm>
          <a:prstGeom prst="rect">
            <a:avLst/>
          </a:prstGeom>
          <a:ln w="0">
            <a:noFill/>
          </a:ln>
        </p:spPr>
      </p:pic>
      <p:pic>
        <p:nvPicPr>
          <p:cNvPr id="1798" name="" descr=""/>
          <p:cNvPicPr/>
          <p:nvPr/>
        </p:nvPicPr>
        <p:blipFill>
          <a:blip r:embed="rId5"/>
          <a:stretch/>
        </p:blipFill>
        <p:spPr>
          <a:xfrm>
            <a:off x="-360" y="936360"/>
            <a:ext cx="2438280" cy="2492280"/>
          </a:xfrm>
          <a:prstGeom prst="rect">
            <a:avLst/>
          </a:prstGeom>
          <a:ln w="0">
            <a:noFill/>
          </a:ln>
        </p:spPr>
      </p:pic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1726920" y="4266720"/>
            <a:ext cx="8737560" cy="67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boto Black"/>
              </a:rPr>
              <a:t>Have A Good Smile</a:t>
            </a:r>
            <a:endParaRPr b="0" lang="en-US" sz="32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800" name="TextBox 14"/>
          <p:cNvSpPr/>
          <p:nvPr/>
        </p:nvSpPr>
        <p:spPr>
          <a:xfrm>
            <a:off x="5132520" y="4839840"/>
            <a:ext cx="1927080" cy="337320"/>
          </a:xfrm>
          <a:prstGeom prst="rect">
            <a:avLst/>
          </a:prstGeom>
          <a:solidFill>
            <a:srgbClr val="dceb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Open Sans"/>
              </a:rPr>
              <a:t>Sub-Title Here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01" name="TextBox 15"/>
          <p:cNvSpPr/>
          <p:nvPr/>
        </p:nvSpPr>
        <p:spPr>
          <a:xfrm>
            <a:off x="1727280" y="5292000"/>
            <a:ext cx="873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shuddered all over, and edged away from his companion. A dentist! A dentist at Philip Philip gave a cry of personal disgust and pain. He shuddered all over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02" name="Oval 26"/>
          <p:cNvSpPr/>
          <p:nvPr/>
        </p:nvSpPr>
        <p:spPr>
          <a:xfrm>
            <a:off x="5605560" y="2897280"/>
            <a:ext cx="981000" cy="981000"/>
          </a:xfrm>
          <a:prstGeom prst="ellipse">
            <a:avLst/>
          </a:prstGeom>
          <a:solidFill>
            <a:srgbClr val="8fd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03" name="TextBox 27"/>
          <p:cNvSpPr/>
          <p:nvPr/>
        </p:nvSpPr>
        <p:spPr>
          <a:xfrm>
            <a:off x="5746680" y="3219120"/>
            <a:ext cx="69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600" spc="-1" strike="noStrike">
                <a:solidFill>
                  <a:srgbClr val="ffffff"/>
                </a:solidFill>
                <a:latin typeface="Open Sans"/>
              </a:rPr>
              <a:t>2020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102" dur="indefinite" restart="never" nodeType="tmRoot">
          <p:childTnLst>
            <p:seq>
              <p:cTn id="1103" dur="indefinite" nodeType="mainSeq">
                <p:childTnLst>
                  <p:par>
                    <p:cTn id="1104" fill="hold">
                      <p:stCondLst>
                        <p:cond delay="0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1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1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18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1" dur="500"/>
                                        <p:tgtEl>
                                          <p:spTgt spid="1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18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7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8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0" dur="1000" fill="hold"/>
                                        <p:tgtEl>
                                          <p:spTgt spid="1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1" dur="1000" fill="hold"/>
                                        <p:tgtEl>
                                          <p:spTgt spid="1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1000" fill="hold"/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1000" fill="hold"/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8" dur="1000" fill="hold"/>
                                        <p:tgtEl>
                                          <p:spTgt spid="1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9" dur="1000" fill="hold"/>
                                        <p:tgtEl>
                                          <p:spTgt spid="1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b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2469960" y="2312640"/>
            <a:ext cx="7251480" cy="148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3200" spc="-1" strike="noStrike">
                <a:solidFill>
                  <a:srgbClr val="ffffff"/>
                </a:solidFill>
                <a:latin typeface="Roboto Black"/>
              </a:rPr>
              <a:t>Happiness Is Your Dentist Telling You</a:t>
            </a:r>
            <a:br>
              <a:rPr sz="3200"/>
            </a:br>
            <a:r>
              <a:rPr b="1" lang="en-ID" sz="3200" spc="-1" strike="noStrike">
                <a:solidFill>
                  <a:srgbClr val="ffffff"/>
                </a:solidFill>
                <a:latin typeface="Roboto Black"/>
              </a:rPr>
              <a:t>It Won't Hurt And Then Having Him</a:t>
            </a:r>
            <a:br>
              <a:rPr sz="3200"/>
            </a:br>
            <a:r>
              <a:rPr b="1" lang="en-ID" sz="3200" spc="-1" strike="noStrike">
                <a:solidFill>
                  <a:srgbClr val="ffffff"/>
                </a:solidFill>
                <a:latin typeface="Roboto Black"/>
              </a:rPr>
              <a:t>Catch His Hand In The Drill</a:t>
            </a:r>
            <a:endParaRPr b="0" lang="en-US" sz="32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023" name="Freeform 12"/>
          <p:cNvSpPr/>
          <p:nvPr/>
        </p:nvSpPr>
        <p:spPr>
          <a:xfrm>
            <a:off x="5678640" y="-417600"/>
            <a:ext cx="834840" cy="835200"/>
          </a:xfrm>
          <a:custGeom>
            <a:avLst/>
            <a:gdLst/>
            <a:ahLst/>
            <a:rect l="l" t="t" r="r" b="b"/>
            <a:pathLst>
              <a:path w="1190625" h="1190625">
                <a:moveTo>
                  <a:pt x="1190625" y="595313"/>
                </a:moveTo>
                <a:cubicBezTo>
                  <a:pt x="1190625" y="924094"/>
                  <a:pt x="924095" y="1190625"/>
                  <a:pt x="595313" y="1190625"/>
                </a:cubicBezTo>
                <a:cubicBezTo>
                  <a:pt x="266530" y="1190625"/>
                  <a:pt x="0" y="924094"/>
                  <a:pt x="0" y="595312"/>
                </a:cubicBezTo>
                <a:cubicBezTo>
                  <a:pt x="0" y="266530"/>
                  <a:pt x="266530" y="0"/>
                  <a:pt x="595313" y="0"/>
                </a:cubicBezTo>
                <a:cubicBezTo>
                  <a:pt x="924095" y="0"/>
                  <a:pt x="1190625" y="266530"/>
                  <a:pt x="1190625" y="595313"/>
                </a:cubicBezTo>
                <a:close/>
              </a:path>
            </a:pathLst>
          </a:custGeom>
          <a:solidFill>
            <a:srgbClr val="8fd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24" name="Freeform 13"/>
          <p:cNvSpPr/>
          <p:nvPr/>
        </p:nvSpPr>
        <p:spPr>
          <a:xfrm>
            <a:off x="5678640" y="6440400"/>
            <a:ext cx="834840" cy="835200"/>
          </a:xfrm>
          <a:custGeom>
            <a:avLst/>
            <a:gdLst/>
            <a:ahLst/>
            <a:rect l="l" t="t" r="r" b="b"/>
            <a:pathLst>
              <a:path w="1190625" h="1190625">
                <a:moveTo>
                  <a:pt x="1190625" y="595313"/>
                </a:moveTo>
                <a:cubicBezTo>
                  <a:pt x="1190625" y="924094"/>
                  <a:pt x="924095" y="1190625"/>
                  <a:pt x="595313" y="1190625"/>
                </a:cubicBezTo>
                <a:cubicBezTo>
                  <a:pt x="266530" y="1190625"/>
                  <a:pt x="0" y="924094"/>
                  <a:pt x="0" y="595312"/>
                </a:cubicBezTo>
                <a:cubicBezTo>
                  <a:pt x="0" y="266530"/>
                  <a:pt x="266530" y="0"/>
                  <a:pt x="595313" y="0"/>
                </a:cubicBezTo>
                <a:cubicBezTo>
                  <a:pt x="924095" y="0"/>
                  <a:pt x="1190625" y="266530"/>
                  <a:pt x="1190625" y="595313"/>
                </a:cubicBezTo>
                <a:close/>
              </a:path>
            </a:pathLst>
          </a:custGeom>
          <a:solidFill>
            <a:srgbClr val="8fd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25" name="Freeform 14"/>
          <p:cNvSpPr/>
          <p:nvPr/>
        </p:nvSpPr>
        <p:spPr>
          <a:xfrm>
            <a:off x="5956200" y="1425600"/>
            <a:ext cx="279360" cy="279360"/>
          </a:xfrm>
          <a:custGeom>
            <a:avLst/>
            <a:gdLst/>
            <a:ahLst/>
            <a:rect l="l" t="t" r="r" b="b"/>
            <a:pathLst>
              <a:path w="1190625" h="1190625">
                <a:moveTo>
                  <a:pt x="1190625" y="595313"/>
                </a:moveTo>
                <a:cubicBezTo>
                  <a:pt x="1190625" y="924094"/>
                  <a:pt x="924095" y="1190625"/>
                  <a:pt x="595313" y="1190625"/>
                </a:cubicBezTo>
                <a:cubicBezTo>
                  <a:pt x="266530" y="1190625"/>
                  <a:pt x="0" y="924094"/>
                  <a:pt x="0" y="595312"/>
                </a:cubicBezTo>
                <a:cubicBezTo>
                  <a:pt x="0" y="266530"/>
                  <a:pt x="266530" y="0"/>
                  <a:pt x="595313" y="0"/>
                </a:cubicBezTo>
                <a:cubicBezTo>
                  <a:pt x="924095" y="0"/>
                  <a:pt x="1190625" y="266530"/>
                  <a:pt x="1190625" y="595313"/>
                </a:cubicBezTo>
                <a:close/>
              </a:path>
            </a:pathLst>
          </a:custGeom>
          <a:solidFill>
            <a:srgbClr val="8fd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26" name="Freeform 15"/>
          <p:cNvSpPr/>
          <p:nvPr/>
        </p:nvSpPr>
        <p:spPr>
          <a:xfrm>
            <a:off x="5956200" y="5153040"/>
            <a:ext cx="279360" cy="279360"/>
          </a:xfrm>
          <a:custGeom>
            <a:avLst/>
            <a:gdLst/>
            <a:ahLst/>
            <a:rect l="l" t="t" r="r" b="b"/>
            <a:pathLst>
              <a:path w="1190625" h="1190625">
                <a:moveTo>
                  <a:pt x="1190625" y="595313"/>
                </a:moveTo>
                <a:cubicBezTo>
                  <a:pt x="1190625" y="924094"/>
                  <a:pt x="924095" y="1190625"/>
                  <a:pt x="595313" y="1190625"/>
                </a:cubicBezTo>
                <a:cubicBezTo>
                  <a:pt x="266530" y="1190625"/>
                  <a:pt x="0" y="924094"/>
                  <a:pt x="0" y="595312"/>
                </a:cubicBezTo>
                <a:cubicBezTo>
                  <a:pt x="0" y="266530"/>
                  <a:pt x="266530" y="0"/>
                  <a:pt x="595313" y="0"/>
                </a:cubicBezTo>
                <a:cubicBezTo>
                  <a:pt x="924095" y="0"/>
                  <a:pt x="1190625" y="266530"/>
                  <a:pt x="1190625" y="595313"/>
                </a:cubicBezTo>
                <a:close/>
              </a:path>
            </a:pathLst>
          </a:custGeom>
          <a:solidFill>
            <a:srgbClr val="8fd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27" name="TextBox 16"/>
          <p:cNvSpPr/>
          <p:nvPr/>
        </p:nvSpPr>
        <p:spPr>
          <a:xfrm>
            <a:off x="4170240" y="3786120"/>
            <a:ext cx="3851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ffffff"/>
                </a:solidFill>
                <a:latin typeface="Open Sans"/>
              </a:rPr>
              <a:t>He shuddered all over, and edged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4" name="" descr=""/>
          <p:cNvPicPr/>
          <p:nvPr/>
        </p:nvPicPr>
        <p:blipFill>
          <a:blip r:embed="rId1"/>
          <a:stretch/>
        </p:blipFill>
        <p:spPr>
          <a:xfrm>
            <a:off x="4385880" y="2141640"/>
            <a:ext cx="3419640" cy="3760560"/>
          </a:xfrm>
          <a:prstGeom prst="rect">
            <a:avLst/>
          </a:prstGeom>
          <a:ln w="0">
            <a:noFill/>
          </a:ln>
        </p:spPr>
      </p:pic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1218960" y="955800"/>
            <a:ext cx="975348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boto Black"/>
              </a:rPr>
              <a:t>Have A Good Smile</a:t>
            </a:r>
            <a:endParaRPr b="0" lang="en-US" sz="3200" spc="-1" strike="noStrike">
              <a:solidFill>
                <a:srgbClr val="ffffff"/>
              </a:solidFill>
              <a:latin typeface="Roboto Black"/>
            </a:endParaRPr>
          </a:p>
        </p:txBody>
      </p:sp>
      <p:pic>
        <p:nvPicPr>
          <p:cNvPr id="1806" name="" descr=""/>
          <p:cNvPicPr/>
          <p:nvPr/>
        </p:nvPicPr>
        <p:blipFill>
          <a:blip r:embed="rId2"/>
          <a:stretch/>
        </p:blipFill>
        <p:spPr>
          <a:xfrm>
            <a:off x="1219320" y="2141640"/>
            <a:ext cx="2944800" cy="1752480"/>
          </a:xfrm>
          <a:prstGeom prst="rect">
            <a:avLst/>
          </a:prstGeom>
          <a:ln w="0">
            <a:noFill/>
          </a:ln>
        </p:spPr>
      </p:pic>
      <p:pic>
        <p:nvPicPr>
          <p:cNvPr id="1807" name="" descr=""/>
          <p:cNvPicPr/>
          <p:nvPr/>
        </p:nvPicPr>
        <p:blipFill>
          <a:blip r:embed="rId3"/>
          <a:stretch/>
        </p:blipFill>
        <p:spPr>
          <a:xfrm>
            <a:off x="1219320" y="4149720"/>
            <a:ext cx="2944800" cy="1752480"/>
          </a:xfrm>
          <a:prstGeom prst="rect">
            <a:avLst/>
          </a:prstGeom>
          <a:ln w="0">
            <a:noFill/>
          </a:ln>
        </p:spPr>
      </p:pic>
      <p:pic>
        <p:nvPicPr>
          <p:cNvPr id="1808" name="" descr=""/>
          <p:cNvPicPr/>
          <p:nvPr/>
        </p:nvPicPr>
        <p:blipFill>
          <a:blip r:embed="rId4"/>
          <a:stretch/>
        </p:blipFill>
        <p:spPr>
          <a:xfrm>
            <a:off x="8028000" y="2141640"/>
            <a:ext cx="2944800" cy="1752480"/>
          </a:xfrm>
          <a:prstGeom prst="rect">
            <a:avLst/>
          </a:prstGeom>
          <a:ln w="0">
            <a:noFill/>
          </a:ln>
        </p:spPr>
      </p:pic>
      <p:sp>
        <p:nvSpPr>
          <p:cNvPr id="1809" name="TextBox 6"/>
          <p:cNvSpPr/>
          <p:nvPr/>
        </p:nvSpPr>
        <p:spPr>
          <a:xfrm>
            <a:off x="5132520" y="1609200"/>
            <a:ext cx="1927080" cy="337320"/>
          </a:xfrm>
          <a:prstGeom prst="rect">
            <a:avLst/>
          </a:prstGeom>
          <a:solidFill>
            <a:srgbClr val="dceb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Open Sans"/>
              </a:rPr>
              <a:t>Sub-Title Here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10" name="Rectangle 7"/>
          <p:cNvSpPr/>
          <p:nvPr/>
        </p:nvSpPr>
        <p:spPr>
          <a:xfrm>
            <a:off x="8028000" y="4149720"/>
            <a:ext cx="2944800" cy="1752480"/>
          </a:xfrm>
          <a:prstGeom prst="rect">
            <a:avLst/>
          </a:prstGeom>
          <a:solidFill>
            <a:srgbClr val="262626"/>
          </a:solidFill>
          <a:ln w="0">
            <a:noFill/>
          </a:ln>
          <a:effectLst>
            <a:outerShdw dist="153753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11" name="Rounded Rectangle 8"/>
          <p:cNvSpPr/>
          <p:nvPr/>
        </p:nvSpPr>
        <p:spPr>
          <a:xfrm>
            <a:off x="8813880" y="5856120"/>
            <a:ext cx="1371600" cy="46080"/>
          </a:xfrm>
          <a:prstGeom prst="roundRect">
            <a:avLst>
              <a:gd name="adj" fmla="val 50000"/>
            </a:avLst>
          </a:prstGeom>
          <a:solidFill>
            <a:srgbClr val="8fd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12" name="TextBox 18"/>
          <p:cNvSpPr/>
          <p:nvPr/>
        </p:nvSpPr>
        <p:spPr>
          <a:xfrm>
            <a:off x="8327880" y="4667760"/>
            <a:ext cx="23227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and pain. He shuddered all over, and edged away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13" name="TextBox 19"/>
          <p:cNvSpPr/>
          <p:nvPr/>
        </p:nvSpPr>
        <p:spPr>
          <a:xfrm>
            <a:off x="8327880" y="4428000"/>
            <a:ext cx="23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130" dur="indefinite" restart="never" nodeType="tmRoot">
          <p:childTnLst>
            <p:seq>
              <p:cTn id="1131" dur="indefinite" nodeType="mainSeq">
                <p:childTnLst>
                  <p:par>
                    <p:cTn id="1132" fill="hold">
                      <p:stCondLst>
                        <p:cond delay="0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6" dur="500"/>
                                        <p:tgtEl>
                                          <p:spTgt spid="1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500"/>
                                        <p:tgtEl>
                                          <p:spTgt spid="1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2" dur="1000" fill="hold"/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3" dur="1000" fill="hold"/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6" dur="1000" fill="hold"/>
                                        <p:tgtEl>
                                          <p:spTgt spid="1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7" dur="1000" fill="hold"/>
                                        <p:tgtEl>
                                          <p:spTgt spid="1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0" dur="1000" fill="hold"/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1" dur="1000" fill="hold"/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4" dur="1000" fill="hold"/>
                                        <p:tgtEl>
                                          <p:spTgt spid="1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5" dur="1000" fill="hold"/>
                                        <p:tgtEl>
                                          <p:spTgt spid="1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4" name="" descr=""/>
          <p:cNvPicPr/>
          <p:nvPr/>
        </p:nvPicPr>
        <p:blipFill>
          <a:blip r:embed="rId1"/>
          <a:stretch/>
        </p:blipFill>
        <p:spPr>
          <a:xfrm>
            <a:off x="3862080" y="1208160"/>
            <a:ext cx="2189160" cy="4656240"/>
          </a:xfrm>
          <a:prstGeom prst="rect">
            <a:avLst/>
          </a:prstGeom>
          <a:ln w="0">
            <a:noFill/>
          </a:ln>
        </p:spPr>
      </p:pic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7010280" y="2048040"/>
            <a:ext cx="4051440" cy="104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boto Black"/>
              </a:rPr>
              <a:t>Early Diagnose With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Roboto Black"/>
              </a:rPr>
              <a:t>The Doctor Online</a:t>
            </a:r>
            <a:endParaRPr b="0" lang="en-US" sz="3200" spc="-1" strike="noStrike">
              <a:solidFill>
                <a:srgbClr val="ffffff"/>
              </a:solidFill>
              <a:latin typeface="Roboto Black"/>
            </a:endParaRPr>
          </a:p>
        </p:txBody>
      </p:sp>
      <p:pic>
        <p:nvPicPr>
          <p:cNvPr id="1816" name="Mockup" descr=""/>
          <p:cNvPicPr/>
          <p:nvPr/>
        </p:nvPicPr>
        <p:blipFill>
          <a:blip r:embed="rId2"/>
          <a:stretch/>
        </p:blipFill>
        <p:spPr>
          <a:xfrm>
            <a:off x="3728880" y="1073160"/>
            <a:ext cx="2455920" cy="4927680"/>
          </a:xfrm>
          <a:prstGeom prst="rect">
            <a:avLst/>
          </a:prstGeom>
          <a:ln w="0">
            <a:noFill/>
          </a:ln>
        </p:spPr>
      </p:pic>
      <p:sp>
        <p:nvSpPr>
          <p:cNvPr id="1817" name="TextBox 12"/>
          <p:cNvSpPr/>
          <p:nvPr/>
        </p:nvSpPr>
        <p:spPr>
          <a:xfrm>
            <a:off x="7010280" y="1710000"/>
            <a:ext cx="1925640" cy="337320"/>
          </a:xfrm>
          <a:prstGeom prst="rect">
            <a:avLst/>
          </a:prstGeom>
          <a:solidFill>
            <a:srgbClr val="dceb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Open Sans"/>
              </a:rPr>
              <a:t>Sub-Title Here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18" name="TextBox 13"/>
          <p:cNvSpPr/>
          <p:nvPr/>
        </p:nvSpPr>
        <p:spPr>
          <a:xfrm>
            <a:off x="7010280" y="3088080"/>
            <a:ext cx="40514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shuddered all over, and edged away from his companion. A dentist! A dentist at Philip Philip gave a cry of personal disgust and pain. 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19" name="Rounded Rectangle 14"/>
          <p:cNvSpPr/>
          <p:nvPr/>
        </p:nvSpPr>
        <p:spPr>
          <a:xfrm>
            <a:off x="6421320" y="4568760"/>
            <a:ext cx="3146400" cy="579600"/>
          </a:xfrm>
          <a:prstGeom prst="roundRect">
            <a:avLst>
              <a:gd name="adj" fmla="val 11866"/>
            </a:avLst>
          </a:prstGeom>
          <a:solidFill>
            <a:srgbClr val="262626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20" name="Rounded Rectangle 15"/>
          <p:cNvSpPr/>
          <p:nvPr/>
        </p:nvSpPr>
        <p:spPr>
          <a:xfrm>
            <a:off x="5719680" y="4568760"/>
            <a:ext cx="565200" cy="579600"/>
          </a:xfrm>
          <a:custGeom>
            <a:avLst/>
            <a:gdLst>
              <a:gd name="textAreaLeft" fmla="*/ 19440 w 565200"/>
              <a:gd name="textAreaRight" fmla="*/ 545760 w 565200"/>
              <a:gd name="textAreaTop" fmla="*/ 19440 h 579600"/>
              <a:gd name="textAreaBottom" fmla="*/ 560160 h 579600"/>
            </a:gdLst>
            <a:ahLst/>
            <a:rect l="textAreaLeft" t="textAreaTop" r="textAreaRight" b="textAreaBottom"/>
            <a:pathLst>
              <a:path w="21600" h="22150">
                <a:moveTo>
                  <a:pt x="2563" y="0"/>
                </a:moveTo>
                <a:arcTo wR="2563" hR="2563" stAng="16200000" swAng="-5400000"/>
                <a:lnTo>
                  <a:pt x="0" y="19587"/>
                </a:lnTo>
                <a:arcTo wR="2563" hR="2563" stAng="10800000" swAng="-5400000"/>
                <a:lnTo>
                  <a:pt x="19037" y="22150"/>
                </a:lnTo>
                <a:arcTo wR="2563" hR="2563" stAng="5400000" swAng="-5400000"/>
                <a:lnTo>
                  <a:pt x="21600" y="2563"/>
                </a:lnTo>
                <a:arcTo wR="2563" hR="2563" stAng="0" swAng="-5400000"/>
                <a:close/>
              </a:path>
            </a:pathLst>
          </a:custGeom>
          <a:solidFill>
            <a:srgbClr val="8fd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21" name="TextBox 16"/>
          <p:cNvSpPr/>
          <p:nvPr/>
        </p:nvSpPr>
        <p:spPr>
          <a:xfrm>
            <a:off x="6620040" y="4707360"/>
            <a:ext cx="274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Open Sans"/>
              </a:rPr>
              <a:t>This Dentist Is The Best In Town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822" name="Graphic 1"/>
          <p:cNvGrpSpPr/>
          <p:nvPr/>
        </p:nvGrpSpPr>
        <p:grpSpPr>
          <a:xfrm>
            <a:off x="5838840" y="4707000"/>
            <a:ext cx="322200" cy="322200"/>
            <a:chOff x="5838840" y="4707000"/>
            <a:chExt cx="322200" cy="322200"/>
          </a:xfrm>
        </p:grpSpPr>
        <p:sp>
          <p:nvSpPr>
            <p:cNvPr id="1823" name="Freeform: Shape 671"/>
            <p:cNvSpPr/>
            <p:nvPr/>
          </p:nvSpPr>
          <p:spPr>
            <a:xfrm>
              <a:off x="5841360" y="4711680"/>
              <a:ext cx="313560" cy="313560"/>
            </a:xfrm>
            <a:custGeom>
              <a:avLst/>
              <a:gdLst/>
              <a:ahLst/>
              <a:rect l="l" t="t" r="r" b="b"/>
              <a:pathLst>
                <a:path w="647183" h="647391">
                  <a:moveTo>
                    <a:pt x="512876" y="347236"/>
                  </a:moveTo>
                  <a:cubicBezTo>
                    <a:pt x="528349" y="347236"/>
                    <a:pt x="543191" y="349446"/>
                    <a:pt x="557559" y="353551"/>
                  </a:cubicBezTo>
                  <a:cubicBezTo>
                    <a:pt x="565611" y="339499"/>
                    <a:pt x="575874" y="326710"/>
                    <a:pt x="588031" y="315658"/>
                  </a:cubicBezTo>
                  <a:cubicBezTo>
                    <a:pt x="630504" y="276975"/>
                    <a:pt x="654503" y="218240"/>
                    <a:pt x="645187" y="154453"/>
                  </a:cubicBezTo>
                  <a:cubicBezTo>
                    <a:pt x="633977" y="76456"/>
                    <a:pt x="571137" y="13616"/>
                    <a:pt x="493298" y="2090"/>
                  </a:cubicBezTo>
                  <a:cubicBezTo>
                    <a:pt x="443721" y="-5331"/>
                    <a:pt x="397301" y="7458"/>
                    <a:pt x="360829" y="33352"/>
                  </a:cubicBezTo>
                  <a:cubicBezTo>
                    <a:pt x="338408" y="49299"/>
                    <a:pt x="308725" y="49299"/>
                    <a:pt x="286305" y="33352"/>
                  </a:cubicBezTo>
                  <a:cubicBezTo>
                    <a:pt x="249832" y="7458"/>
                    <a:pt x="203413" y="-5331"/>
                    <a:pt x="153836" y="2090"/>
                  </a:cubicBezTo>
                  <a:cubicBezTo>
                    <a:pt x="75996" y="13616"/>
                    <a:pt x="13156" y="76614"/>
                    <a:pt x="1946" y="154453"/>
                  </a:cubicBezTo>
                  <a:cubicBezTo>
                    <a:pt x="-7211" y="218240"/>
                    <a:pt x="16630" y="276975"/>
                    <a:pt x="59102" y="315658"/>
                  </a:cubicBezTo>
                  <a:cubicBezTo>
                    <a:pt x="91785" y="345499"/>
                    <a:pt x="110416" y="387656"/>
                    <a:pt x="110416" y="432022"/>
                  </a:cubicBezTo>
                  <a:lnTo>
                    <a:pt x="110416" y="521072"/>
                  </a:lnTo>
                  <a:cubicBezTo>
                    <a:pt x="110416" y="591333"/>
                    <a:pt x="167730" y="648173"/>
                    <a:pt x="238149" y="647383"/>
                  </a:cubicBezTo>
                  <a:cubicBezTo>
                    <a:pt x="255043" y="647226"/>
                    <a:pt x="268306" y="632700"/>
                    <a:pt x="268306" y="615806"/>
                  </a:cubicBezTo>
                  <a:cubicBezTo>
                    <a:pt x="268306" y="615806"/>
                    <a:pt x="268306" y="378972"/>
                    <a:pt x="323567" y="378972"/>
                  </a:cubicBezTo>
                  <a:cubicBezTo>
                    <a:pt x="342513" y="378972"/>
                    <a:pt x="354829" y="406602"/>
                    <a:pt x="363039" y="443075"/>
                  </a:cubicBezTo>
                  <a:cubicBezTo>
                    <a:pt x="389407" y="386392"/>
                    <a:pt x="446563" y="347236"/>
                    <a:pt x="512876" y="347236"/>
                  </a:cubicBezTo>
                  <a:close/>
                </a:path>
              </a:pathLst>
            </a:custGeom>
            <a:solidFill>
              <a:srgbClr val="f1fa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824" name="Freeform: Shape 672"/>
            <p:cNvSpPr/>
            <p:nvPr/>
          </p:nvSpPr>
          <p:spPr>
            <a:xfrm>
              <a:off x="6024600" y="4895280"/>
              <a:ext cx="129960" cy="129960"/>
            </a:xfrm>
            <a:custGeom>
              <a:avLst/>
              <a:gdLst/>
              <a:ahLst/>
              <a:rect l="l" t="t" r="r" b="b"/>
              <a:pathLst>
                <a:path w="268411" h="268411">
                  <a:moveTo>
                    <a:pt x="268412" y="134206"/>
                  </a:moveTo>
                  <a:cubicBezTo>
                    <a:pt x="268412" y="208326"/>
                    <a:pt x="208326" y="268412"/>
                    <a:pt x="134206" y="268412"/>
                  </a:cubicBezTo>
                  <a:cubicBezTo>
                    <a:pt x="60086" y="268412"/>
                    <a:pt x="0" y="208326"/>
                    <a:pt x="0" y="134206"/>
                  </a:cubicBezTo>
                  <a:cubicBezTo>
                    <a:pt x="0" y="60086"/>
                    <a:pt x="60086" y="0"/>
                    <a:pt x="134206" y="0"/>
                  </a:cubicBezTo>
                  <a:cubicBezTo>
                    <a:pt x="208326" y="0"/>
                    <a:pt x="268412" y="60086"/>
                    <a:pt x="268412" y="134206"/>
                  </a:cubicBezTo>
                  <a:close/>
                </a:path>
              </a:pathLst>
            </a:custGeom>
            <a:solidFill>
              <a:srgbClr val="06d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pic>
          <p:nvPicPr>
            <p:cNvPr id="1825" name="Graphic 1" descr=""/>
            <p:cNvPicPr/>
            <p:nvPr/>
          </p:nvPicPr>
          <p:blipFill>
            <a:blip r:embed="rId3"/>
            <a:stretch/>
          </p:blipFill>
          <p:spPr>
            <a:xfrm>
              <a:off x="5838840" y="4707000"/>
              <a:ext cx="322200" cy="32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26" name="TextBox 27"/>
          <p:cNvSpPr/>
          <p:nvPr/>
        </p:nvSpPr>
        <p:spPr>
          <a:xfrm>
            <a:off x="1130400" y="1764720"/>
            <a:ext cx="2225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and pain. He shuddered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27" name="TextBox 28"/>
          <p:cNvSpPr/>
          <p:nvPr/>
        </p:nvSpPr>
        <p:spPr>
          <a:xfrm>
            <a:off x="1130400" y="1556280"/>
            <a:ext cx="22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Step On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28" name="TextBox 31"/>
          <p:cNvSpPr/>
          <p:nvPr/>
        </p:nvSpPr>
        <p:spPr>
          <a:xfrm>
            <a:off x="1130400" y="3306240"/>
            <a:ext cx="2225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and pain. He shuddered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29" name="TextBox 32"/>
          <p:cNvSpPr/>
          <p:nvPr/>
        </p:nvSpPr>
        <p:spPr>
          <a:xfrm>
            <a:off x="1130400" y="3097440"/>
            <a:ext cx="22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Step Two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30" name="TextBox 33"/>
          <p:cNvSpPr/>
          <p:nvPr/>
        </p:nvSpPr>
        <p:spPr>
          <a:xfrm>
            <a:off x="1130400" y="4847760"/>
            <a:ext cx="2225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and pain. He shuddered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31" name="TextBox 34"/>
          <p:cNvSpPr/>
          <p:nvPr/>
        </p:nvSpPr>
        <p:spPr>
          <a:xfrm>
            <a:off x="1130400" y="4638960"/>
            <a:ext cx="22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Step Thre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32" name="Oval 35"/>
          <p:cNvSpPr/>
          <p:nvPr/>
        </p:nvSpPr>
        <p:spPr>
          <a:xfrm>
            <a:off x="3589200" y="1550880"/>
            <a:ext cx="308160" cy="308160"/>
          </a:xfrm>
          <a:prstGeom prst="ellipse">
            <a:avLst/>
          </a:prstGeom>
          <a:solidFill>
            <a:srgbClr val="fe6b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33" name="Oval 36"/>
          <p:cNvSpPr/>
          <p:nvPr/>
        </p:nvSpPr>
        <p:spPr>
          <a:xfrm>
            <a:off x="3589200" y="3097080"/>
            <a:ext cx="308160" cy="308160"/>
          </a:xfrm>
          <a:prstGeom prst="ellipse">
            <a:avLst/>
          </a:prstGeom>
          <a:solidFill>
            <a:srgbClr val="fe6b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34" name="Oval 37"/>
          <p:cNvSpPr/>
          <p:nvPr/>
        </p:nvSpPr>
        <p:spPr>
          <a:xfrm>
            <a:off x="3589200" y="4643280"/>
            <a:ext cx="308160" cy="308160"/>
          </a:xfrm>
          <a:prstGeom prst="ellipse">
            <a:avLst/>
          </a:prstGeom>
          <a:solidFill>
            <a:srgbClr val="fe6b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156" dur="indefinite" restart="never" nodeType="tmRoot">
          <p:childTnLst>
            <p:seq>
              <p:cTn id="1157" dur="indefinite" nodeType="mainSeq">
                <p:childTnLst>
                  <p:par>
                    <p:cTn id="1158" fill="hold">
                      <p:stCondLst>
                        <p:cond delay="0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2" dur="1000" fill="hold"/>
                                        <p:tgtEl>
                                          <p:spTgt spid="1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3" dur="1000" fill="hold"/>
                                        <p:tgtEl>
                                          <p:spTgt spid="1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6" dur="1000" fill="hold"/>
                                        <p:tgtEl>
                                          <p:spTgt spid="1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7" dur="1000" fill="hold"/>
                                        <p:tgtEl>
                                          <p:spTgt spid="1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0" dur="1000" fill="hold"/>
                                        <p:tgtEl>
                                          <p:spTgt spid="1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1" dur="1000" fill="hold"/>
                                        <p:tgtEl>
                                          <p:spTgt spid="1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4" dur="1000" fill="hold"/>
                                        <p:tgtEl>
                                          <p:spTgt spid="1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5" dur="1000" fill="hold"/>
                                        <p:tgtEl>
                                          <p:spTgt spid="1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8" dur="1000" fill="hold"/>
                                        <p:tgtEl>
                                          <p:spTgt spid="1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9" dur="1000" fill="hold"/>
                                        <p:tgtEl>
                                          <p:spTgt spid="1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2" dur="1000" fill="hold"/>
                                        <p:tgtEl>
                                          <p:spTgt spid="1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3" dur="1000" fill="hold"/>
                                        <p:tgtEl>
                                          <p:spTgt spid="1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6" dur="1000" fill="hold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1000" fill="hold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0" dur="1000" fill="hold"/>
                                        <p:tgtEl>
                                          <p:spTgt spid="1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1" dur="1000" fill="hold"/>
                                        <p:tgtEl>
                                          <p:spTgt spid="1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4" dur="1000" fill="hold"/>
                                        <p:tgtEl>
                                          <p:spTgt spid="1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5" dur="1000" fill="hold"/>
                                        <p:tgtEl>
                                          <p:spTgt spid="1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1000" fill="hold"/>
                                        <p:tgtEl>
                                          <p:spTgt spid="1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1000" fill="hold"/>
                                        <p:tgtEl>
                                          <p:spTgt spid="1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1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1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18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5" dur="500"/>
                                        <p:tgtEl>
                                          <p:spTgt spid="1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18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18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18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1" dur="500"/>
                                        <p:tgtEl>
                                          <p:spTgt spid="1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18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18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18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7" dur="500"/>
                                        <p:tgtEl>
                                          <p:spTgt spid="1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1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1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18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3" dur="500"/>
                                        <p:tgtEl>
                                          <p:spTgt spid="1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18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18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18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9" dur="500"/>
                                        <p:tgtEl>
                                          <p:spTgt spid="1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18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18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18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5" dur="500"/>
                                        <p:tgtEl>
                                          <p:spTgt spid="1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18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18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18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1" dur="500"/>
                                        <p:tgtEl>
                                          <p:spTgt spid="1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5" name="" descr=""/>
          <p:cNvPicPr/>
          <p:nvPr/>
        </p:nvPicPr>
        <p:blipFill>
          <a:blip r:embed="rId1"/>
          <a:stretch/>
        </p:blipFill>
        <p:spPr>
          <a:xfrm>
            <a:off x="4505400" y="1114200"/>
            <a:ext cx="3225600" cy="4521240"/>
          </a:xfrm>
          <a:prstGeom prst="rect">
            <a:avLst/>
          </a:prstGeom>
          <a:ln w="0">
            <a:noFill/>
          </a:ln>
        </p:spPr>
      </p:pic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1008000" y="2014200"/>
            <a:ext cx="2749680" cy="157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boto Black"/>
              </a:rPr>
              <a:t>The Amazing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Roboto Black"/>
              </a:rPr>
              <a:t>Technology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Roboto Black"/>
              </a:rPr>
              <a:t>For Teeth</a:t>
            </a:r>
            <a:endParaRPr b="0" lang="en-US" sz="3200" spc="-1" strike="noStrike">
              <a:solidFill>
                <a:srgbClr val="ffffff"/>
              </a:solidFill>
              <a:latin typeface="Roboto Black"/>
            </a:endParaRPr>
          </a:p>
        </p:txBody>
      </p:sp>
      <p:pic>
        <p:nvPicPr>
          <p:cNvPr id="1837" name="Mockup" descr=""/>
          <p:cNvPicPr/>
          <p:nvPr/>
        </p:nvPicPr>
        <p:blipFill>
          <a:blip r:embed="rId2"/>
          <a:stretch/>
        </p:blipFill>
        <p:spPr>
          <a:xfrm>
            <a:off x="4275000" y="893880"/>
            <a:ext cx="3641760" cy="4970520"/>
          </a:xfrm>
          <a:prstGeom prst="rect">
            <a:avLst/>
          </a:prstGeom>
          <a:ln w="0">
            <a:noFill/>
          </a:ln>
        </p:spPr>
      </p:pic>
      <p:sp>
        <p:nvSpPr>
          <p:cNvPr id="1838" name="TextBox 35"/>
          <p:cNvSpPr/>
          <p:nvPr/>
        </p:nvSpPr>
        <p:spPr>
          <a:xfrm>
            <a:off x="1008000" y="1676880"/>
            <a:ext cx="1927440" cy="337320"/>
          </a:xfrm>
          <a:prstGeom prst="rect">
            <a:avLst/>
          </a:prstGeom>
          <a:solidFill>
            <a:srgbClr val="dceb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Open Sans"/>
              </a:rPr>
              <a:t>Sub-Title Here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39" name="TextBox 36"/>
          <p:cNvSpPr/>
          <p:nvPr/>
        </p:nvSpPr>
        <p:spPr>
          <a:xfrm>
            <a:off x="1008000" y="3585960"/>
            <a:ext cx="274968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shuddered all over, and edged away from his companion. A dentist! A dentist at Philip Philip gave a cry of personal disgust and pain. 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40" name="Rounded Rectangle 37"/>
          <p:cNvSpPr/>
          <p:nvPr/>
        </p:nvSpPr>
        <p:spPr>
          <a:xfrm>
            <a:off x="8145360" y="1920960"/>
            <a:ext cx="3038400" cy="2181240"/>
          </a:xfrm>
          <a:prstGeom prst="roundRect">
            <a:avLst>
              <a:gd name="adj" fmla="val 3657"/>
            </a:avLst>
          </a:prstGeom>
          <a:solidFill>
            <a:srgbClr val="262626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41" name="Rounded Rectangle 38"/>
          <p:cNvSpPr/>
          <p:nvPr/>
        </p:nvSpPr>
        <p:spPr>
          <a:xfrm>
            <a:off x="7443720" y="1920960"/>
            <a:ext cx="565200" cy="579240"/>
          </a:xfrm>
          <a:custGeom>
            <a:avLst/>
            <a:gdLst>
              <a:gd name="textAreaLeft" fmla="*/ 19440 w 565200"/>
              <a:gd name="textAreaRight" fmla="*/ 545760 w 565200"/>
              <a:gd name="textAreaTop" fmla="*/ 19440 h 579240"/>
              <a:gd name="textAreaBottom" fmla="*/ 559800 h 579240"/>
            </a:gdLst>
            <a:ahLst/>
            <a:rect l="textAreaLeft" t="textAreaTop" r="textAreaRight" b="textAreaBottom"/>
            <a:pathLst>
              <a:path w="21600" h="22136">
                <a:moveTo>
                  <a:pt x="2563" y="0"/>
                </a:moveTo>
                <a:arcTo wR="2563" hR="2563" stAng="16200000" swAng="-5400000"/>
                <a:lnTo>
                  <a:pt x="0" y="19573"/>
                </a:lnTo>
                <a:arcTo wR="2563" hR="2563" stAng="10800000" swAng="-5400000"/>
                <a:lnTo>
                  <a:pt x="19037" y="22136"/>
                </a:lnTo>
                <a:arcTo wR="2563" hR="2563" stAng="5400000" swAng="-5400000"/>
                <a:lnTo>
                  <a:pt x="21600" y="2563"/>
                </a:lnTo>
                <a:arcTo wR="2563" hR="2563" stAng="0" swAng="-5400000"/>
                <a:close/>
              </a:path>
            </a:pathLst>
          </a:custGeom>
          <a:solidFill>
            <a:srgbClr val="8fd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842" name="Graphic 1"/>
          <p:cNvGrpSpPr/>
          <p:nvPr/>
        </p:nvGrpSpPr>
        <p:grpSpPr>
          <a:xfrm>
            <a:off x="7562880" y="2058840"/>
            <a:ext cx="322200" cy="322560"/>
            <a:chOff x="7562880" y="2058840"/>
            <a:chExt cx="322200" cy="322560"/>
          </a:xfrm>
        </p:grpSpPr>
        <p:sp>
          <p:nvSpPr>
            <p:cNvPr id="1843" name="Freeform: Shape 671"/>
            <p:cNvSpPr/>
            <p:nvPr/>
          </p:nvSpPr>
          <p:spPr>
            <a:xfrm>
              <a:off x="7564320" y="2061360"/>
              <a:ext cx="319320" cy="313920"/>
            </a:xfrm>
            <a:custGeom>
              <a:avLst/>
              <a:gdLst/>
              <a:ahLst/>
              <a:rect l="l" t="t" r="r" b="b"/>
              <a:pathLst>
                <a:path w="647183" h="647391">
                  <a:moveTo>
                    <a:pt x="512876" y="347236"/>
                  </a:moveTo>
                  <a:cubicBezTo>
                    <a:pt x="528349" y="347236"/>
                    <a:pt x="543191" y="349446"/>
                    <a:pt x="557559" y="353551"/>
                  </a:cubicBezTo>
                  <a:cubicBezTo>
                    <a:pt x="565611" y="339499"/>
                    <a:pt x="575874" y="326710"/>
                    <a:pt x="588031" y="315658"/>
                  </a:cubicBezTo>
                  <a:cubicBezTo>
                    <a:pt x="630504" y="276975"/>
                    <a:pt x="654503" y="218240"/>
                    <a:pt x="645187" y="154453"/>
                  </a:cubicBezTo>
                  <a:cubicBezTo>
                    <a:pt x="633977" y="76456"/>
                    <a:pt x="571137" y="13616"/>
                    <a:pt x="493298" y="2090"/>
                  </a:cubicBezTo>
                  <a:cubicBezTo>
                    <a:pt x="443721" y="-5331"/>
                    <a:pt x="397301" y="7458"/>
                    <a:pt x="360829" y="33352"/>
                  </a:cubicBezTo>
                  <a:cubicBezTo>
                    <a:pt x="338408" y="49299"/>
                    <a:pt x="308725" y="49299"/>
                    <a:pt x="286305" y="33352"/>
                  </a:cubicBezTo>
                  <a:cubicBezTo>
                    <a:pt x="249832" y="7458"/>
                    <a:pt x="203413" y="-5331"/>
                    <a:pt x="153836" y="2090"/>
                  </a:cubicBezTo>
                  <a:cubicBezTo>
                    <a:pt x="75996" y="13616"/>
                    <a:pt x="13156" y="76614"/>
                    <a:pt x="1946" y="154453"/>
                  </a:cubicBezTo>
                  <a:cubicBezTo>
                    <a:pt x="-7211" y="218240"/>
                    <a:pt x="16630" y="276975"/>
                    <a:pt x="59102" y="315658"/>
                  </a:cubicBezTo>
                  <a:cubicBezTo>
                    <a:pt x="91785" y="345499"/>
                    <a:pt x="110416" y="387656"/>
                    <a:pt x="110416" y="432022"/>
                  </a:cubicBezTo>
                  <a:lnTo>
                    <a:pt x="110416" y="521072"/>
                  </a:lnTo>
                  <a:cubicBezTo>
                    <a:pt x="110416" y="591333"/>
                    <a:pt x="167730" y="648173"/>
                    <a:pt x="238149" y="647383"/>
                  </a:cubicBezTo>
                  <a:cubicBezTo>
                    <a:pt x="255043" y="647226"/>
                    <a:pt x="268306" y="632700"/>
                    <a:pt x="268306" y="615806"/>
                  </a:cubicBezTo>
                  <a:cubicBezTo>
                    <a:pt x="268306" y="615806"/>
                    <a:pt x="268306" y="378972"/>
                    <a:pt x="323567" y="378972"/>
                  </a:cubicBezTo>
                  <a:cubicBezTo>
                    <a:pt x="342513" y="378972"/>
                    <a:pt x="354829" y="406602"/>
                    <a:pt x="363039" y="443075"/>
                  </a:cubicBezTo>
                  <a:cubicBezTo>
                    <a:pt x="389407" y="386392"/>
                    <a:pt x="446563" y="347236"/>
                    <a:pt x="512876" y="347236"/>
                  </a:cubicBezTo>
                  <a:close/>
                </a:path>
              </a:pathLst>
            </a:custGeom>
            <a:solidFill>
              <a:srgbClr val="f1fa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844" name="Freeform: Shape 672"/>
            <p:cNvSpPr/>
            <p:nvPr/>
          </p:nvSpPr>
          <p:spPr>
            <a:xfrm>
              <a:off x="7751520" y="2245320"/>
              <a:ext cx="132480" cy="129960"/>
            </a:xfrm>
            <a:custGeom>
              <a:avLst/>
              <a:gdLst/>
              <a:ahLst/>
              <a:rect l="l" t="t" r="r" b="b"/>
              <a:pathLst>
                <a:path w="268411" h="268411">
                  <a:moveTo>
                    <a:pt x="268412" y="134206"/>
                  </a:moveTo>
                  <a:cubicBezTo>
                    <a:pt x="268412" y="208326"/>
                    <a:pt x="208326" y="268412"/>
                    <a:pt x="134206" y="268412"/>
                  </a:cubicBezTo>
                  <a:cubicBezTo>
                    <a:pt x="60086" y="268412"/>
                    <a:pt x="0" y="208326"/>
                    <a:pt x="0" y="134206"/>
                  </a:cubicBezTo>
                  <a:cubicBezTo>
                    <a:pt x="0" y="60086"/>
                    <a:pt x="60086" y="0"/>
                    <a:pt x="134206" y="0"/>
                  </a:cubicBezTo>
                  <a:cubicBezTo>
                    <a:pt x="208326" y="0"/>
                    <a:pt x="268412" y="60086"/>
                    <a:pt x="268412" y="134206"/>
                  </a:cubicBezTo>
                  <a:close/>
                </a:path>
              </a:pathLst>
            </a:custGeom>
            <a:solidFill>
              <a:srgbClr val="06d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pic>
          <p:nvPicPr>
            <p:cNvPr id="1845" name="Graphic 1" descr=""/>
            <p:cNvPicPr/>
            <p:nvPr/>
          </p:nvPicPr>
          <p:blipFill>
            <a:blip r:embed="rId3"/>
            <a:stretch/>
          </p:blipFill>
          <p:spPr>
            <a:xfrm>
              <a:off x="7562880" y="2058840"/>
              <a:ext cx="322200" cy="322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46" name="TextBox 50"/>
          <p:cNvSpPr/>
          <p:nvPr/>
        </p:nvSpPr>
        <p:spPr>
          <a:xfrm>
            <a:off x="8462880" y="2396520"/>
            <a:ext cx="239076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shuddered all over, and edged away from his companion. A dentist! A dentist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47" name="TextBox 51"/>
          <p:cNvSpPr/>
          <p:nvPr/>
        </p:nvSpPr>
        <p:spPr>
          <a:xfrm>
            <a:off x="8462880" y="2159280"/>
            <a:ext cx="23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48" name="TextBox 52"/>
          <p:cNvSpPr/>
          <p:nvPr/>
        </p:nvSpPr>
        <p:spPr>
          <a:xfrm>
            <a:off x="8462880" y="4326840"/>
            <a:ext cx="2390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242" dur="indefinite" restart="never" nodeType="tmRoot">
          <p:childTnLst>
            <p:seq>
              <p:cTn id="1243" dur="indefinite" nodeType="mainSeq">
                <p:childTnLst>
                  <p:par>
                    <p:cTn id="1244" fill="hold">
                      <p:stCondLst>
                        <p:cond delay="0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8" dur="1000" fill="hold"/>
                                        <p:tgtEl>
                                          <p:spTgt spid="1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9" dur="1000" fill="hold"/>
                                        <p:tgtEl>
                                          <p:spTgt spid="1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2" dur="1000" fill="hold"/>
                                        <p:tgtEl>
                                          <p:spTgt spid="1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3" dur="1000" fill="hold"/>
                                        <p:tgtEl>
                                          <p:spTgt spid="1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6" dur="1000" fill="hold"/>
                                        <p:tgtEl>
                                          <p:spTgt spid="1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7" dur="1000" fill="hold"/>
                                        <p:tgtEl>
                                          <p:spTgt spid="1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0" dur="1000" fill="hold"/>
                                        <p:tgtEl>
                                          <p:spTgt spid="1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1" dur="1000" fill="hold"/>
                                        <p:tgtEl>
                                          <p:spTgt spid="1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2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1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1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500" fill="hold"/>
                                        <p:tgtEl>
                                          <p:spTgt spid="18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7" dur="500"/>
                                        <p:tgtEl>
                                          <p:spTgt spid="1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8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1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1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18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3" dur="500"/>
                                        <p:tgtEl>
                                          <p:spTgt spid="1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4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1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 fill="hold"/>
                                        <p:tgtEl>
                                          <p:spTgt spid="1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500" fill="hold"/>
                                        <p:tgtEl>
                                          <p:spTgt spid="18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9" dur="500"/>
                                        <p:tgtEl>
                                          <p:spTgt spid="1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0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18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500" fill="hold"/>
                                        <p:tgtEl>
                                          <p:spTgt spid="18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18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5" dur="500"/>
                                        <p:tgtEl>
                                          <p:spTgt spid="1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6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18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18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18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1" dur="500"/>
                                        <p:tgtEl>
                                          <p:spTgt spid="1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2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1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1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18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7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1218960" y="955800"/>
            <a:ext cx="975348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boto Black"/>
              </a:rPr>
              <a:t>Pricing Table</a:t>
            </a:r>
            <a:endParaRPr b="0" lang="en-US" sz="32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850" name="TextBox 4"/>
          <p:cNvSpPr/>
          <p:nvPr/>
        </p:nvSpPr>
        <p:spPr>
          <a:xfrm>
            <a:off x="1103400" y="3329640"/>
            <a:ext cx="23241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and pain. He shuddered all over, and edged away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51" name="TextBox 5"/>
          <p:cNvSpPr/>
          <p:nvPr/>
        </p:nvSpPr>
        <p:spPr>
          <a:xfrm>
            <a:off x="1103400" y="2510280"/>
            <a:ext cx="23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Basic Check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52" name="TextBox 6"/>
          <p:cNvSpPr/>
          <p:nvPr/>
        </p:nvSpPr>
        <p:spPr>
          <a:xfrm>
            <a:off x="1103400" y="2818440"/>
            <a:ext cx="232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800" spc="-1" strike="noStrike">
                <a:solidFill>
                  <a:srgbClr val="ffffff"/>
                </a:solidFill>
                <a:latin typeface="Open Sans"/>
              </a:rPr>
              <a:t>$5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53" name="TextBox 7"/>
          <p:cNvSpPr/>
          <p:nvPr/>
        </p:nvSpPr>
        <p:spPr>
          <a:xfrm>
            <a:off x="1338120" y="4401000"/>
            <a:ext cx="208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54" name="Freeform 8"/>
          <p:cNvSpPr/>
          <p:nvPr/>
        </p:nvSpPr>
        <p:spPr>
          <a:xfrm>
            <a:off x="1187280" y="4449600"/>
            <a:ext cx="150840" cy="152640"/>
          </a:xfrm>
          <a:custGeom>
            <a:avLst/>
            <a:gdLst/>
            <a:ahLst/>
            <a:rect l="l" t="t" r="r" b="b"/>
            <a:pathLst>
              <a:path w="1551636" h="1551636">
                <a:moveTo>
                  <a:pt x="1138720" y="466730"/>
                </a:moveTo>
                <a:lnTo>
                  <a:pt x="651040" y="927740"/>
                </a:lnTo>
                <a:lnTo>
                  <a:pt x="416725" y="687710"/>
                </a:lnTo>
                <a:lnTo>
                  <a:pt x="335762" y="764862"/>
                </a:lnTo>
                <a:lnTo>
                  <a:pt x="647230" y="1084903"/>
                </a:lnTo>
                <a:lnTo>
                  <a:pt x="729145" y="1008703"/>
                </a:lnTo>
                <a:lnTo>
                  <a:pt x="1215872" y="546740"/>
                </a:lnTo>
                <a:lnTo>
                  <a:pt x="1138720" y="466730"/>
                </a:lnTo>
                <a:close/>
                <a:moveTo>
                  <a:pt x="775818" y="0"/>
                </a:moveTo>
                <a:cubicBezTo>
                  <a:pt x="1204290" y="0"/>
                  <a:pt x="1551636" y="347346"/>
                  <a:pt x="1551636" y="775818"/>
                </a:cubicBezTo>
                <a:cubicBezTo>
                  <a:pt x="1551636" y="1204290"/>
                  <a:pt x="1204290" y="1551636"/>
                  <a:pt x="775818" y="1551636"/>
                </a:cubicBezTo>
                <a:cubicBezTo>
                  <a:pt x="347346" y="1551636"/>
                  <a:pt x="0" y="1204290"/>
                  <a:pt x="0" y="775818"/>
                </a:cubicBezTo>
                <a:cubicBezTo>
                  <a:pt x="0" y="347346"/>
                  <a:pt x="347346" y="0"/>
                  <a:pt x="775818" y="0"/>
                </a:cubicBezTo>
                <a:close/>
              </a:path>
            </a:pathLst>
          </a:custGeom>
          <a:solidFill>
            <a:srgbClr val="2020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55" name="TextBox 9"/>
          <p:cNvSpPr/>
          <p:nvPr/>
        </p:nvSpPr>
        <p:spPr>
          <a:xfrm>
            <a:off x="1338120" y="4887000"/>
            <a:ext cx="208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He shuddered all over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56" name="Freeform 10"/>
          <p:cNvSpPr/>
          <p:nvPr/>
        </p:nvSpPr>
        <p:spPr>
          <a:xfrm>
            <a:off x="1187280" y="4937040"/>
            <a:ext cx="150840" cy="150840"/>
          </a:xfrm>
          <a:custGeom>
            <a:avLst/>
            <a:gdLst/>
            <a:ahLst/>
            <a:rect l="l" t="t" r="r" b="b"/>
            <a:pathLst>
              <a:path w="1551636" h="1551636">
                <a:moveTo>
                  <a:pt x="1138720" y="466730"/>
                </a:moveTo>
                <a:lnTo>
                  <a:pt x="651040" y="927740"/>
                </a:lnTo>
                <a:lnTo>
                  <a:pt x="416725" y="687710"/>
                </a:lnTo>
                <a:lnTo>
                  <a:pt x="335762" y="764862"/>
                </a:lnTo>
                <a:lnTo>
                  <a:pt x="647230" y="1084903"/>
                </a:lnTo>
                <a:lnTo>
                  <a:pt x="729145" y="1008703"/>
                </a:lnTo>
                <a:lnTo>
                  <a:pt x="1215872" y="546740"/>
                </a:lnTo>
                <a:lnTo>
                  <a:pt x="1138720" y="466730"/>
                </a:lnTo>
                <a:close/>
                <a:moveTo>
                  <a:pt x="775818" y="0"/>
                </a:moveTo>
                <a:cubicBezTo>
                  <a:pt x="1204290" y="0"/>
                  <a:pt x="1551636" y="347346"/>
                  <a:pt x="1551636" y="775818"/>
                </a:cubicBezTo>
                <a:cubicBezTo>
                  <a:pt x="1551636" y="1204290"/>
                  <a:pt x="1204290" y="1551636"/>
                  <a:pt x="775818" y="1551636"/>
                </a:cubicBezTo>
                <a:cubicBezTo>
                  <a:pt x="347346" y="1551636"/>
                  <a:pt x="0" y="1204290"/>
                  <a:pt x="0" y="775818"/>
                </a:cubicBezTo>
                <a:cubicBezTo>
                  <a:pt x="0" y="347346"/>
                  <a:pt x="347346" y="0"/>
                  <a:pt x="775818" y="0"/>
                </a:cubicBezTo>
                <a:close/>
              </a:path>
            </a:pathLst>
          </a:custGeom>
          <a:solidFill>
            <a:srgbClr val="2020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57" name="TextBox 11"/>
          <p:cNvSpPr/>
          <p:nvPr/>
        </p:nvSpPr>
        <p:spPr>
          <a:xfrm>
            <a:off x="1338120" y="5372640"/>
            <a:ext cx="208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And Pain He Shuddered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58" name="Freeform 12"/>
          <p:cNvSpPr/>
          <p:nvPr/>
        </p:nvSpPr>
        <p:spPr>
          <a:xfrm>
            <a:off x="1187280" y="5423040"/>
            <a:ext cx="150840" cy="150840"/>
          </a:xfrm>
          <a:custGeom>
            <a:avLst/>
            <a:gdLst/>
            <a:ahLst/>
            <a:rect l="l" t="t" r="r" b="b"/>
            <a:pathLst>
              <a:path w="1551636" h="1551636">
                <a:moveTo>
                  <a:pt x="1138720" y="466730"/>
                </a:moveTo>
                <a:lnTo>
                  <a:pt x="651040" y="927740"/>
                </a:lnTo>
                <a:lnTo>
                  <a:pt x="416725" y="687710"/>
                </a:lnTo>
                <a:lnTo>
                  <a:pt x="335762" y="764862"/>
                </a:lnTo>
                <a:lnTo>
                  <a:pt x="647230" y="1084903"/>
                </a:lnTo>
                <a:lnTo>
                  <a:pt x="729145" y="1008703"/>
                </a:lnTo>
                <a:lnTo>
                  <a:pt x="1215872" y="546740"/>
                </a:lnTo>
                <a:lnTo>
                  <a:pt x="1138720" y="466730"/>
                </a:lnTo>
                <a:close/>
                <a:moveTo>
                  <a:pt x="775818" y="0"/>
                </a:moveTo>
                <a:cubicBezTo>
                  <a:pt x="1204290" y="0"/>
                  <a:pt x="1551636" y="347346"/>
                  <a:pt x="1551636" y="775818"/>
                </a:cubicBezTo>
                <a:cubicBezTo>
                  <a:pt x="1551636" y="1204290"/>
                  <a:pt x="1204290" y="1551636"/>
                  <a:pt x="775818" y="1551636"/>
                </a:cubicBezTo>
                <a:cubicBezTo>
                  <a:pt x="347346" y="1551636"/>
                  <a:pt x="0" y="1204290"/>
                  <a:pt x="0" y="775818"/>
                </a:cubicBezTo>
                <a:cubicBezTo>
                  <a:pt x="0" y="347346"/>
                  <a:pt x="347346" y="0"/>
                  <a:pt x="775818" y="0"/>
                </a:cubicBezTo>
                <a:close/>
              </a:path>
            </a:pathLst>
          </a:custGeom>
          <a:solidFill>
            <a:srgbClr val="2020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59" name="TextBox 15"/>
          <p:cNvSpPr/>
          <p:nvPr/>
        </p:nvSpPr>
        <p:spPr>
          <a:xfrm>
            <a:off x="3657600" y="3329640"/>
            <a:ext cx="23223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and pain. He shuddered all over, and edged away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60" name="TextBox 16"/>
          <p:cNvSpPr/>
          <p:nvPr/>
        </p:nvSpPr>
        <p:spPr>
          <a:xfrm>
            <a:off x="3657600" y="2510280"/>
            <a:ext cx="232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Dental Check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61" name="TextBox 17"/>
          <p:cNvSpPr/>
          <p:nvPr/>
        </p:nvSpPr>
        <p:spPr>
          <a:xfrm>
            <a:off x="3657600" y="2818440"/>
            <a:ext cx="232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800" spc="-1" strike="noStrike">
                <a:solidFill>
                  <a:srgbClr val="ffffff"/>
                </a:solidFill>
                <a:latin typeface="Open Sans"/>
              </a:rPr>
              <a:t>$25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62" name="TextBox 18"/>
          <p:cNvSpPr/>
          <p:nvPr/>
        </p:nvSpPr>
        <p:spPr>
          <a:xfrm>
            <a:off x="3892680" y="4401000"/>
            <a:ext cx="20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63" name="Freeform 19"/>
          <p:cNvSpPr/>
          <p:nvPr/>
        </p:nvSpPr>
        <p:spPr>
          <a:xfrm>
            <a:off x="3741840" y="4449600"/>
            <a:ext cx="150840" cy="152640"/>
          </a:xfrm>
          <a:custGeom>
            <a:avLst/>
            <a:gdLst/>
            <a:ahLst/>
            <a:rect l="l" t="t" r="r" b="b"/>
            <a:pathLst>
              <a:path w="1551636" h="1551636">
                <a:moveTo>
                  <a:pt x="1138720" y="466730"/>
                </a:moveTo>
                <a:lnTo>
                  <a:pt x="651040" y="927740"/>
                </a:lnTo>
                <a:lnTo>
                  <a:pt x="416725" y="687710"/>
                </a:lnTo>
                <a:lnTo>
                  <a:pt x="335762" y="764862"/>
                </a:lnTo>
                <a:lnTo>
                  <a:pt x="647230" y="1084903"/>
                </a:lnTo>
                <a:lnTo>
                  <a:pt x="729145" y="1008703"/>
                </a:lnTo>
                <a:lnTo>
                  <a:pt x="1215872" y="546740"/>
                </a:lnTo>
                <a:lnTo>
                  <a:pt x="1138720" y="466730"/>
                </a:lnTo>
                <a:close/>
                <a:moveTo>
                  <a:pt x="775818" y="0"/>
                </a:moveTo>
                <a:cubicBezTo>
                  <a:pt x="1204290" y="0"/>
                  <a:pt x="1551636" y="347346"/>
                  <a:pt x="1551636" y="775818"/>
                </a:cubicBezTo>
                <a:cubicBezTo>
                  <a:pt x="1551636" y="1204290"/>
                  <a:pt x="1204290" y="1551636"/>
                  <a:pt x="775818" y="1551636"/>
                </a:cubicBezTo>
                <a:cubicBezTo>
                  <a:pt x="347346" y="1551636"/>
                  <a:pt x="0" y="1204290"/>
                  <a:pt x="0" y="775818"/>
                </a:cubicBezTo>
                <a:cubicBezTo>
                  <a:pt x="0" y="347346"/>
                  <a:pt x="347346" y="0"/>
                  <a:pt x="775818" y="0"/>
                </a:cubicBezTo>
                <a:close/>
              </a:path>
            </a:pathLst>
          </a:custGeom>
          <a:solidFill>
            <a:srgbClr val="fe6b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64" name="TextBox 20"/>
          <p:cNvSpPr/>
          <p:nvPr/>
        </p:nvSpPr>
        <p:spPr>
          <a:xfrm>
            <a:off x="3892680" y="4887000"/>
            <a:ext cx="20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He shuddered all over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65" name="Freeform 21"/>
          <p:cNvSpPr/>
          <p:nvPr/>
        </p:nvSpPr>
        <p:spPr>
          <a:xfrm>
            <a:off x="3741840" y="4937040"/>
            <a:ext cx="150840" cy="150840"/>
          </a:xfrm>
          <a:custGeom>
            <a:avLst/>
            <a:gdLst/>
            <a:ahLst/>
            <a:rect l="l" t="t" r="r" b="b"/>
            <a:pathLst>
              <a:path w="1551636" h="1551636">
                <a:moveTo>
                  <a:pt x="1138720" y="466730"/>
                </a:moveTo>
                <a:lnTo>
                  <a:pt x="651040" y="927740"/>
                </a:lnTo>
                <a:lnTo>
                  <a:pt x="416725" y="687710"/>
                </a:lnTo>
                <a:lnTo>
                  <a:pt x="335762" y="764862"/>
                </a:lnTo>
                <a:lnTo>
                  <a:pt x="647230" y="1084903"/>
                </a:lnTo>
                <a:lnTo>
                  <a:pt x="729145" y="1008703"/>
                </a:lnTo>
                <a:lnTo>
                  <a:pt x="1215872" y="546740"/>
                </a:lnTo>
                <a:lnTo>
                  <a:pt x="1138720" y="466730"/>
                </a:lnTo>
                <a:close/>
                <a:moveTo>
                  <a:pt x="775818" y="0"/>
                </a:moveTo>
                <a:cubicBezTo>
                  <a:pt x="1204290" y="0"/>
                  <a:pt x="1551636" y="347346"/>
                  <a:pt x="1551636" y="775818"/>
                </a:cubicBezTo>
                <a:cubicBezTo>
                  <a:pt x="1551636" y="1204290"/>
                  <a:pt x="1204290" y="1551636"/>
                  <a:pt x="775818" y="1551636"/>
                </a:cubicBezTo>
                <a:cubicBezTo>
                  <a:pt x="347346" y="1551636"/>
                  <a:pt x="0" y="1204290"/>
                  <a:pt x="0" y="775818"/>
                </a:cubicBezTo>
                <a:cubicBezTo>
                  <a:pt x="0" y="347346"/>
                  <a:pt x="347346" y="0"/>
                  <a:pt x="775818" y="0"/>
                </a:cubicBezTo>
                <a:close/>
              </a:path>
            </a:pathLst>
          </a:custGeom>
          <a:solidFill>
            <a:srgbClr val="2020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66" name="TextBox 22"/>
          <p:cNvSpPr/>
          <p:nvPr/>
        </p:nvSpPr>
        <p:spPr>
          <a:xfrm>
            <a:off x="3892680" y="5372640"/>
            <a:ext cx="20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And Pain He Shuddered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67" name="Freeform 23"/>
          <p:cNvSpPr/>
          <p:nvPr/>
        </p:nvSpPr>
        <p:spPr>
          <a:xfrm>
            <a:off x="3741840" y="5423040"/>
            <a:ext cx="150840" cy="150840"/>
          </a:xfrm>
          <a:custGeom>
            <a:avLst/>
            <a:gdLst/>
            <a:ahLst/>
            <a:rect l="l" t="t" r="r" b="b"/>
            <a:pathLst>
              <a:path w="1551636" h="1551636">
                <a:moveTo>
                  <a:pt x="1138720" y="466730"/>
                </a:moveTo>
                <a:lnTo>
                  <a:pt x="651040" y="927740"/>
                </a:lnTo>
                <a:lnTo>
                  <a:pt x="416725" y="687710"/>
                </a:lnTo>
                <a:lnTo>
                  <a:pt x="335762" y="764862"/>
                </a:lnTo>
                <a:lnTo>
                  <a:pt x="647230" y="1084903"/>
                </a:lnTo>
                <a:lnTo>
                  <a:pt x="729145" y="1008703"/>
                </a:lnTo>
                <a:lnTo>
                  <a:pt x="1215872" y="546740"/>
                </a:lnTo>
                <a:lnTo>
                  <a:pt x="1138720" y="466730"/>
                </a:lnTo>
                <a:close/>
                <a:moveTo>
                  <a:pt x="775818" y="0"/>
                </a:moveTo>
                <a:cubicBezTo>
                  <a:pt x="1204290" y="0"/>
                  <a:pt x="1551636" y="347346"/>
                  <a:pt x="1551636" y="775818"/>
                </a:cubicBezTo>
                <a:cubicBezTo>
                  <a:pt x="1551636" y="1204290"/>
                  <a:pt x="1204290" y="1551636"/>
                  <a:pt x="775818" y="1551636"/>
                </a:cubicBezTo>
                <a:cubicBezTo>
                  <a:pt x="347346" y="1551636"/>
                  <a:pt x="0" y="1204290"/>
                  <a:pt x="0" y="775818"/>
                </a:cubicBezTo>
                <a:cubicBezTo>
                  <a:pt x="0" y="347346"/>
                  <a:pt x="347346" y="0"/>
                  <a:pt x="775818" y="0"/>
                </a:cubicBezTo>
                <a:close/>
              </a:path>
            </a:pathLst>
          </a:custGeom>
          <a:solidFill>
            <a:srgbClr val="2020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68" name="TextBox 25"/>
          <p:cNvSpPr/>
          <p:nvPr/>
        </p:nvSpPr>
        <p:spPr>
          <a:xfrm>
            <a:off x="6211800" y="3329640"/>
            <a:ext cx="23227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and pain. He shuddered all over, and edged away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69" name="TextBox 26"/>
          <p:cNvSpPr/>
          <p:nvPr/>
        </p:nvSpPr>
        <p:spPr>
          <a:xfrm>
            <a:off x="6211800" y="2510280"/>
            <a:ext cx="23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Gum Check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70" name="TextBox 27"/>
          <p:cNvSpPr/>
          <p:nvPr/>
        </p:nvSpPr>
        <p:spPr>
          <a:xfrm>
            <a:off x="6211800" y="2818440"/>
            <a:ext cx="23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800" spc="-1" strike="noStrike">
                <a:solidFill>
                  <a:srgbClr val="ffffff"/>
                </a:solidFill>
                <a:latin typeface="Open Sans"/>
              </a:rPr>
              <a:t>$35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71" name="TextBox 28"/>
          <p:cNvSpPr/>
          <p:nvPr/>
        </p:nvSpPr>
        <p:spPr>
          <a:xfrm>
            <a:off x="6446880" y="4401000"/>
            <a:ext cx="20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72" name="Freeform 29"/>
          <p:cNvSpPr/>
          <p:nvPr/>
        </p:nvSpPr>
        <p:spPr>
          <a:xfrm>
            <a:off x="6296040" y="4449600"/>
            <a:ext cx="150840" cy="152640"/>
          </a:xfrm>
          <a:custGeom>
            <a:avLst/>
            <a:gdLst/>
            <a:ahLst/>
            <a:rect l="l" t="t" r="r" b="b"/>
            <a:pathLst>
              <a:path w="1551636" h="1551636">
                <a:moveTo>
                  <a:pt x="1138720" y="466730"/>
                </a:moveTo>
                <a:lnTo>
                  <a:pt x="651040" y="927740"/>
                </a:lnTo>
                <a:lnTo>
                  <a:pt x="416725" y="687710"/>
                </a:lnTo>
                <a:lnTo>
                  <a:pt x="335762" y="764862"/>
                </a:lnTo>
                <a:lnTo>
                  <a:pt x="647230" y="1084903"/>
                </a:lnTo>
                <a:lnTo>
                  <a:pt x="729145" y="1008703"/>
                </a:lnTo>
                <a:lnTo>
                  <a:pt x="1215872" y="546740"/>
                </a:lnTo>
                <a:lnTo>
                  <a:pt x="1138720" y="466730"/>
                </a:lnTo>
                <a:close/>
                <a:moveTo>
                  <a:pt x="775818" y="0"/>
                </a:moveTo>
                <a:cubicBezTo>
                  <a:pt x="1204290" y="0"/>
                  <a:pt x="1551636" y="347346"/>
                  <a:pt x="1551636" y="775818"/>
                </a:cubicBezTo>
                <a:cubicBezTo>
                  <a:pt x="1551636" y="1204290"/>
                  <a:pt x="1204290" y="1551636"/>
                  <a:pt x="775818" y="1551636"/>
                </a:cubicBezTo>
                <a:cubicBezTo>
                  <a:pt x="347346" y="1551636"/>
                  <a:pt x="0" y="1204290"/>
                  <a:pt x="0" y="775818"/>
                </a:cubicBezTo>
                <a:cubicBezTo>
                  <a:pt x="0" y="347346"/>
                  <a:pt x="347346" y="0"/>
                  <a:pt x="775818" y="0"/>
                </a:cubicBezTo>
                <a:close/>
              </a:path>
            </a:pathLst>
          </a:custGeom>
          <a:solidFill>
            <a:srgbClr val="fe6b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73" name="TextBox 30"/>
          <p:cNvSpPr/>
          <p:nvPr/>
        </p:nvSpPr>
        <p:spPr>
          <a:xfrm>
            <a:off x="6446880" y="4887000"/>
            <a:ext cx="20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He shuddered all over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74" name="Freeform 31"/>
          <p:cNvSpPr/>
          <p:nvPr/>
        </p:nvSpPr>
        <p:spPr>
          <a:xfrm>
            <a:off x="6296040" y="4937040"/>
            <a:ext cx="150840" cy="150840"/>
          </a:xfrm>
          <a:custGeom>
            <a:avLst/>
            <a:gdLst/>
            <a:ahLst/>
            <a:rect l="l" t="t" r="r" b="b"/>
            <a:pathLst>
              <a:path w="1551636" h="1551636">
                <a:moveTo>
                  <a:pt x="1138720" y="466730"/>
                </a:moveTo>
                <a:lnTo>
                  <a:pt x="651040" y="927740"/>
                </a:lnTo>
                <a:lnTo>
                  <a:pt x="416725" y="687710"/>
                </a:lnTo>
                <a:lnTo>
                  <a:pt x="335762" y="764862"/>
                </a:lnTo>
                <a:lnTo>
                  <a:pt x="647230" y="1084903"/>
                </a:lnTo>
                <a:lnTo>
                  <a:pt x="729145" y="1008703"/>
                </a:lnTo>
                <a:lnTo>
                  <a:pt x="1215872" y="546740"/>
                </a:lnTo>
                <a:lnTo>
                  <a:pt x="1138720" y="466730"/>
                </a:lnTo>
                <a:close/>
                <a:moveTo>
                  <a:pt x="775818" y="0"/>
                </a:moveTo>
                <a:cubicBezTo>
                  <a:pt x="1204290" y="0"/>
                  <a:pt x="1551636" y="347346"/>
                  <a:pt x="1551636" y="775818"/>
                </a:cubicBezTo>
                <a:cubicBezTo>
                  <a:pt x="1551636" y="1204290"/>
                  <a:pt x="1204290" y="1551636"/>
                  <a:pt x="775818" y="1551636"/>
                </a:cubicBezTo>
                <a:cubicBezTo>
                  <a:pt x="347346" y="1551636"/>
                  <a:pt x="0" y="1204290"/>
                  <a:pt x="0" y="775818"/>
                </a:cubicBezTo>
                <a:cubicBezTo>
                  <a:pt x="0" y="347346"/>
                  <a:pt x="347346" y="0"/>
                  <a:pt x="775818" y="0"/>
                </a:cubicBezTo>
                <a:close/>
              </a:path>
            </a:pathLst>
          </a:custGeom>
          <a:solidFill>
            <a:srgbClr val="fe6b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75" name="TextBox 32"/>
          <p:cNvSpPr/>
          <p:nvPr/>
        </p:nvSpPr>
        <p:spPr>
          <a:xfrm>
            <a:off x="6446880" y="5372640"/>
            <a:ext cx="20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And Pain He Shuddered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76" name="Freeform 33"/>
          <p:cNvSpPr/>
          <p:nvPr/>
        </p:nvSpPr>
        <p:spPr>
          <a:xfrm>
            <a:off x="6296040" y="5423040"/>
            <a:ext cx="150840" cy="150840"/>
          </a:xfrm>
          <a:custGeom>
            <a:avLst/>
            <a:gdLst/>
            <a:ahLst/>
            <a:rect l="l" t="t" r="r" b="b"/>
            <a:pathLst>
              <a:path w="1551636" h="1551636">
                <a:moveTo>
                  <a:pt x="1138720" y="466730"/>
                </a:moveTo>
                <a:lnTo>
                  <a:pt x="651040" y="927740"/>
                </a:lnTo>
                <a:lnTo>
                  <a:pt x="416725" y="687710"/>
                </a:lnTo>
                <a:lnTo>
                  <a:pt x="335762" y="764862"/>
                </a:lnTo>
                <a:lnTo>
                  <a:pt x="647230" y="1084903"/>
                </a:lnTo>
                <a:lnTo>
                  <a:pt x="729145" y="1008703"/>
                </a:lnTo>
                <a:lnTo>
                  <a:pt x="1215872" y="546740"/>
                </a:lnTo>
                <a:lnTo>
                  <a:pt x="1138720" y="466730"/>
                </a:lnTo>
                <a:close/>
                <a:moveTo>
                  <a:pt x="775818" y="0"/>
                </a:moveTo>
                <a:cubicBezTo>
                  <a:pt x="1204290" y="0"/>
                  <a:pt x="1551636" y="347346"/>
                  <a:pt x="1551636" y="775818"/>
                </a:cubicBezTo>
                <a:cubicBezTo>
                  <a:pt x="1551636" y="1204290"/>
                  <a:pt x="1204290" y="1551636"/>
                  <a:pt x="775818" y="1551636"/>
                </a:cubicBezTo>
                <a:cubicBezTo>
                  <a:pt x="347346" y="1551636"/>
                  <a:pt x="0" y="1204290"/>
                  <a:pt x="0" y="775818"/>
                </a:cubicBezTo>
                <a:cubicBezTo>
                  <a:pt x="0" y="347346"/>
                  <a:pt x="347346" y="0"/>
                  <a:pt x="775818" y="0"/>
                </a:cubicBezTo>
                <a:close/>
              </a:path>
            </a:pathLst>
          </a:custGeom>
          <a:solidFill>
            <a:srgbClr val="2020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77" name="TextBox 35"/>
          <p:cNvSpPr/>
          <p:nvPr/>
        </p:nvSpPr>
        <p:spPr>
          <a:xfrm>
            <a:off x="8764560" y="3329640"/>
            <a:ext cx="23241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and pain. He shuddered all over, and edged away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78" name="TextBox 36"/>
          <p:cNvSpPr/>
          <p:nvPr/>
        </p:nvSpPr>
        <p:spPr>
          <a:xfrm>
            <a:off x="8764560" y="2510280"/>
            <a:ext cx="23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WT Operation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79" name="TextBox 37"/>
          <p:cNvSpPr/>
          <p:nvPr/>
        </p:nvSpPr>
        <p:spPr>
          <a:xfrm>
            <a:off x="8764560" y="2818440"/>
            <a:ext cx="232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800" spc="-1" strike="noStrike">
                <a:solidFill>
                  <a:srgbClr val="ffffff"/>
                </a:solidFill>
                <a:latin typeface="Open Sans"/>
              </a:rPr>
              <a:t>$125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80" name="TextBox 38"/>
          <p:cNvSpPr/>
          <p:nvPr/>
        </p:nvSpPr>
        <p:spPr>
          <a:xfrm>
            <a:off x="8999640" y="440100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81" name="Freeform 39"/>
          <p:cNvSpPr/>
          <p:nvPr/>
        </p:nvSpPr>
        <p:spPr>
          <a:xfrm>
            <a:off x="8848800" y="4449600"/>
            <a:ext cx="150840" cy="152640"/>
          </a:xfrm>
          <a:custGeom>
            <a:avLst/>
            <a:gdLst/>
            <a:ahLst/>
            <a:rect l="l" t="t" r="r" b="b"/>
            <a:pathLst>
              <a:path w="1551636" h="1551636">
                <a:moveTo>
                  <a:pt x="1138720" y="466730"/>
                </a:moveTo>
                <a:lnTo>
                  <a:pt x="651040" y="927740"/>
                </a:lnTo>
                <a:lnTo>
                  <a:pt x="416725" y="687710"/>
                </a:lnTo>
                <a:lnTo>
                  <a:pt x="335762" y="764862"/>
                </a:lnTo>
                <a:lnTo>
                  <a:pt x="647230" y="1084903"/>
                </a:lnTo>
                <a:lnTo>
                  <a:pt x="729145" y="1008703"/>
                </a:lnTo>
                <a:lnTo>
                  <a:pt x="1215872" y="546740"/>
                </a:lnTo>
                <a:lnTo>
                  <a:pt x="1138720" y="466730"/>
                </a:lnTo>
                <a:close/>
                <a:moveTo>
                  <a:pt x="775818" y="0"/>
                </a:moveTo>
                <a:cubicBezTo>
                  <a:pt x="1204290" y="0"/>
                  <a:pt x="1551636" y="347346"/>
                  <a:pt x="1551636" y="775818"/>
                </a:cubicBezTo>
                <a:cubicBezTo>
                  <a:pt x="1551636" y="1204290"/>
                  <a:pt x="1204290" y="1551636"/>
                  <a:pt x="775818" y="1551636"/>
                </a:cubicBezTo>
                <a:cubicBezTo>
                  <a:pt x="347346" y="1551636"/>
                  <a:pt x="0" y="1204290"/>
                  <a:pt x="0" y="775818"/>
                </a:cubicBezTo>
                <a:cubicBezTo>
                  <a:pt x="0" y="347346"/>
                  <a:pt x="347346" y="0"/>
                  <a:pt x="775818" y="0"/>
                </a:cubicBezTo>
                <a:close/>
              </a:path>
            </a:pathLst>
          </a:custGeom>
          <a:solidFill>
            <a:srgbClr val="fe6b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82" name="TextBox 40"/>
          <p:cNvSpPr/>
          <p:nvPr/>
        </p:nvSpPr>
        <p:spPr>
          <a:xfrm>
            <a:off x="8999640" y="488700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He shuddered all over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83" name="Freeform 41"/>
          <p:cNvSpPr/>
          <p:nvPr/>
        </p:nvSpPr>
        <p:spPr>
          <a:xfrm>
            <a:off x="8848800" y="4937040"/>
            <a:ext cx="150840" cy="150840"/>
          </a:xfrm>
          <a:custGeom>
            <a:avLst/>
            <a:gdLst/>
            <a:ahLst/>
            <a:rect l="l" t="t" r="r" b="b"/>
            <a:pathLst>
              <a:path w="1551636" h="1551636">
                <a:moveTo>
                  <a:pt x="1138720" y="466730"/>
                </a:moveTo>
                <a:lnTo>
                  <a:pt x="651040" y="927740"/>
                </a:lnTo>
                <a:lnTo>
                  <a:pt x="416725" y="687710"/>
                </a:lnTo>
                <a:lnTo>
                  <a:pt x="335762" y="764862"/>
                </a:lnTo>
                <a:lnTo>
                  <a:pt x="647230" y="1084903"/>
                </a:lnTo>
                <a:lnTo>
                  <a:pt x="729145" y="1008703"/>
                </a:lnTo>
                <a:lnTo>
                  <a:pt x="1215872" y="546740"/>
                </a:lnTo>
                <a:lnTo>
                  <a:pt x="1138720" y="466730"/>
                </a:lnTo>
                <a:close/>
                <a:moveTo>
                  <a:pt x="775818" y="0"/>
                </a:moveTo>
                <a:cubicBezTo>
                  <a:pt x="1204290" y="0"/>
                  <a:pt x="1551636" y="347346"/>
                  <a:pt x="1551636" y="775818"/>
                </a:cubicBezTo>
                <a:cubicBezTo>
                  <a:pt x="1551636" y="1204290"/>
                  <a:pt x="1204290" y="1551636"/>
                  <a:pt x="775818" y="1551636"/>
                </a:cubicBezTo>
                <a:cubicBezTo>
                  <a:pt x="347346" y="1551636"/>
                  <a:pt x="0" y="1204290"/>
                  <a:pt x="0" y="775818"/>
                </a:cubicBezTo>
                <a:cubicBezTo>
                  <a:pt x="0" y="347346"/>
                  <a:pt x="347346" y="0"/>
                  <a:pt x="775818" y="0"/>
                </a:cubicBezTo>
                <a:close/>
              </a:path>
            </a:pathLst>
          </a:custGeom>
          <a:solidFill>
            <a:srgbClr val="fe6b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84" name="TextBox 42"/>
          <p:cNvSpPr/>
          <p:nvPr/>
        </p:nvSpPr>
        <p:spPr>
          <a:xfrm>
            <a:off x="8999640" y="5372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And Pain He Shuddered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85" name="Freeform 43"/>
          <p:cNvSpPr/>
          <p:nvPr/>
        </p:nvSpPr>
        <p:spPr>
          <a:xfrm>
            <a:off x="8848800" y="5423040"/>
            <a:ext cx="150840" cy="150840"/>
          </a:xfrm>
          <a:custGeom>
            <a:avLst/>
            <a:gdLst/>
            <a:ahLst/>
            <a:rect l="l" t="t" r="r" b="b"/>
            <a:pathLst>
              <a:path w="1551636" h="1551636">
                <a:moveTo>
                  <a:pt x="1138720" y="466730"/>
                </a:moveTo>
                <a:lnTo>
                  <a:pt x="651040" y="927740"/>
                </a:lnTo>
                <a:lnTo>
                  <a:pt x="416725" y="687710"/>
                </a:lnTo>
                <a:lnTo>
                  <a:pt x="335762" y="764862"/>
                </a:lnTo>
                <a:lnTo>
                  <a:pt x="647230" y="1084903"/>
                </a:lnTo>
                <a:lnTo>
                  <a:pt x="729145" y="1008703"/>
                </a:lnTo>
                <a:lnTo>
                  <a:pt x="1215872" y="546740"/>
                </a:lnTo>
                <a:lnTo>
                  <a:pt x="1138720" y="466730"/>
                </a:lnTo>
                <a:close/>
                <a:moveTo>
                  <a:pt x="775818" y="0"/>
                </a:moveTo>
                <a:cubicBezTo>
                  <a:pt x="1204290" y="0"/>
                  <a:pt x="1551636" y="347346"/>
                  <a:pt x="1551636" y="775818"/>
                </a:cubicBezTo>
                <a:cubicBezTo>
                  <a:pt x="1551636" y="1204290"/>
                  <a:pt x="1204290" y="1551636"/>
                  <a:pt x="775818" y="1551636"/>
                </a:cubicBezTo>
                <a:cubicBezTo>
                  <a:pt x="347346" y="1551636"/>
                  <a:pt x="0" y="1204290"/>
                  <a:pt x="0" y="775818"/>
                </a:cubicBezTo>
                <a:cubicBezTo>
                  <a:pt x="0" y="347346"/>
                  <a:pt x="347346" y="0"/>
                  <a:pt x="775818" y="0"/>
                </a:cubicBezTo>
                <a:close/>
              </a:path>
            </a:pathLst>
          </a:custGeom>
          <a:solidFill>
            <a:srgbClr val="fe6b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86" name="Straight Connector 47"/>
          <p:cNvSpPr/>
          <p:nvPr/>
        </p:nvSpPr>
        <p:spPr>
          <a:xfrm>
            <a:off x="3443400" y="2262240"/>
            <a:ext cx="0" cy="3639960"/>
          </a:xfrm>
          <a:prstGeom prst="line">
            <a:avLst/>
          </a:prstGeom>
          <a:ln w="12600">
            <a:solidFill>
              <a:srgbClr val="202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87" name="Straight Connector 48"/>
          <p:cNvSpPr/>
          <p:nvPr/>
        </p:nvSpPr>
        <p:spPr>
          <a:xfrm>
            <a:off x="5978520" y="2262240"/>
            <a:ext cx="0" cy="3639960"/>
          </a:xfrm>
          <a:prstGeom prst="line">
            <a:avLst/>
          </a:prstGeom>
          <a:ln w="12600">
            <a:solidFill>
              <a:srgbClr val="202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88" name="Straight Connector 49"/>
          <p:cNvSpPr/>
          <p:nvPr/>
        </p:nvSpPr>
        <p:spPr>
          <a:xfrm>
            <a:off x="8512200" y="2262240"/>
            <a:ext cx="0" cy="3639960"/>
          </a:xfrm>
          <a:prstGeom prst="line">
            <a:avLst/>
          </a:prstGeom>
          <a:ln w="12600">
            <a:solidFill>
              <a:srgbClr val="202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89" name="TextBox 50"/>
          <p:cNvSpPr/>
          <p:nvPr/>
        </p:nvSpPr>
        <p:spPr>
          <a:xfrm>
            <a:off x="5132520" y="1609200"/>
            <a:ext cx="1927080" cy="337320"/>
          </a:xfrm>
          <a:prstGeom prst="rect">
            <a:avLst/>
          </a:prstGeom>
          <a:solidFill>
            <a:srgbClr val="dceb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Open Sans"/>
              </a:rPr>
              <a:t>Sub-Title Here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298" dur="indefinite" restart="never" nodeType="tmRoot">
          <p:childTnLst>
            <p:seq>
              <p:cTn id="1299" dur="indefinite" nodeType="mainSeq">
                <p:childTnLst>
                  <p:par>
                    <p:cTn id="1300" fill="hold">
                      <p:stCondLst>
                        <p:cond delay="0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4" dur="500"/>
                                        <p:tgtEl>
                                          <p:spTgt spid="1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7" dur="500"/>
                                        <p:tgtEl>
                                          <p:spTgt spid="1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0" dur="1000"/>
                                        <p:tgtEl>
                                          <p:spTgt spid="18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1" dur="1000" fill="hold"/>
                                        <p:tgtEl>
                                          <p:spTgt spid="1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900" fill="hold"/>
                                        <p:tgtEl>
                                          <p:spTgt spid="1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6" dur="1000"/>
                                        <p:tgtEl>
                                          <p:spTgt spid="18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7" dur="1000" fill="hold"/>
                                        <p:tgtEl>
                                          <p:spTgt spid="1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900" fill="hold"/>
                                        <p:tgtEl>
                                          <p:spTgt spid="1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2" dur="1000"/>
                                        <p:tgtEl>
                                          <p:spTgt spid="18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3" dur="1000" fill="hold"/>
                                        <p:tgtEl>
                                          <p:spTgt spid="1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900" fill="hold"/>
                                        <p:tgtEl>
                                          <p:spTgt spid="1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8" dur="1000"/>
                                        <p:tgtEl>
                                          <p:spTgt spid="18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9" dur="1000" fill="hold"/>
                                        <p:tgtEl>
                                          <p:spTgt spid="1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900" fill="hold"/>
                                        <p:tgtEl>
                                          <p:spTgt spid="1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4" dur="1000"/>
                                        <p:tgtEl>
                                          <p:spTgt spid="18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5" dur="1000" fill="hold"/>
                                        <p:tgtEl>
                                          <p:spTgt spid="1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900" fill="hold"/>
                                        <p:tgtEl>
                                          <p:spTgt spid="1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0" dur="1000"/>
                                        <p:tgtEl>
                                          <p:spTgt spid="18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1" dur="1000" fill="hold"/>
                                        <p:tgtEl>
                                          <p:spTgt spid="1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900" fill="hold"/>
                                        <p:tgtEl>
                                          <p:spTgt spid="1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6" dur="1000"/>
                                        <p:tgtEl>
                                          <p:spTgt spid="18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7" dur="1000" fill="hold"/>
                                        <p:tgtEl>
                                          <p:spTgt spid="1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900" fill="hold"/>
                                        <p:tgtEl>
                                          <p:spTgt spid="1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2" dur="1000"/>
                                        <p:tgtEl>
                                          <p:spTgt spid="18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3" dur="1000" fill="hold"/>
                                        <p:tgtEl>
                                          <p:spTgt spid="1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900" fill="hold"/>
                                        <p:tgtEl>
                                          <p:spTgt spid="1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8" dur="1000"/>
                                        <p:tgtEl>
                                          <p:spTgt spid="18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9" dur="1000" fill="hold"/>
                                        <p:tgtEl>
                                          <p:spTgt spid="1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900" fill="hold"/>
                                        <p:tgtEl>
                                          <p:spTgt spid="1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4" dur="1000"/>
                                        <p:tgtEl>
                                          <p:spTgt spid="18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5" dur="1000" fill="hold"/>
                                        <p:tgtEl>
                                          <p:spTgt spid="1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900" fill="hold"/>
                                        <p:tgtEl>
                                          <p:spTgt spid="1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8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0" dur="1000"/>
                                        <p:tgtEl>
                                          <p:spTgt spid="18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1" dur="1000" fill="hold"/>
                                        <p:tgtEl>
                                          <p:spTgt spid="1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900" fill="hold"/>
                                        <p:tgtEl>
                                          <p:spTgt spid="1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4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6" dur="1000"/>
                                        <p:tgtEl>
                                          <p:spTgt spid="18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7" dur="1000" fill="hold"/>
                                        <p:tgtEl>
                                          <p:spTgt spid="1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900" fill="hold"/>
                                        <p:tgtEl>
                                          <p:spTgt spid="1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0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2" dur="1000"/>
                                        <p:tgtEl>
                                          <p:spTgt spid="18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3" dur="1000" fill="hold"/>
                                        <p:tgtEl>
                                          <p:spTgt spid="1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900" fill="hold"/>
                                        <p:tgtEl>
                                          <p:spTgt spid="1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6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8" dur="1000"/>
                                        <p:tgtEl>
                                          <p:spTgt spid="18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9" dur="1000" fill="hold"/>
                                        <p:tgtEl>
                                          <p:spTgt spid="1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900" fill="hold"/>
                                        <p:tgtEl>
                                          <p:spTgt spid="1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2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4" dur="1000"/>
                                        <p:tgtEl>
                                          <p:spTgt spid="18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5" dur="1000" fill="hold"/>
                                        <p:tgtEl>
                                          <p:spTgt spid="1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900" fill="hold"/>
                                        <p:tgtEl>
                                          <p:spTgt spid="1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8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0" dur="1000"/>
                                        <p:tgtEl>
                                          <p:spTgt spid="18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1" dur="1000" fill="hold"/>
                                        <p:tgtEl>
                                          <p:spTgt spid="1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900" fill="hold"/>
                                        <p:tgtEl>
                                          <p:spTgt spid="1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4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6" dur="1000"/>
                                        <p:tgtEl>
                                          <p:spTgt spid="18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7" dur="1000" fill="hold"/>
                                        <p:tgtEl>
                                          <p:spTgt spid="1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900" fill="hold"/>
                                        <p:tgtEl>
                                          <p:spTgt spid="1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0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2" dur="1000"/>
                                        <p:tgtEl>
                                          <p:spTgt spid="18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3" dur="1000" fill="hold"/>
                                        <p:tgtEl>
                                          <p:spTgt spid="1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900" fill="hold"/>
                                        <p:tgtEl>
                                          <p:spTgt spid="1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6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8" dur="1000"/>
                                        <p:tgtEl>
                                          <p:spTgt spid="18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9" dur="1000" fill="hold"/>
                                        <p:tgtEl>
                                          <p:spTgt spid="1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900" fill="hold"/>
                                        <p:tgtEl>
                                          <p:spTgt spid="1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2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4" dur="1000"/>
                                        <p:tgtEl>
                                          <p:spTgt spid="18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5" dur="1000" fill="hold"/>
                                        <p:tgtEl>
                                          <p:spTgt spid="1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900" fill="hold"/>
                                        <p:tgtEl>
                                          <p:spTgt spid="1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8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0" dur="1000"/>
                                        <p:tgtEl>
                                          <p:spTgt spid="18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1" dur="1000" fill="hold"/>
                                        <p:tgtEl>
                                          <p:spTgt spid="1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900" fill="hold"/>
                                        <p:tgtEl>
                                          <p:spTgt spid="1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4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6" dur="10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7" dur="1000" fill="hold"/>
                                        <p:tgtEl>
                                          <p:spTgt spid="1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900" fill="hold"/>
                                        <p:tgtEl>
                                          <p:spTgt spid="1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0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2" dur="1000"/>
                                        <p:tgtEl>
                                          <p:spTgt spid="18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3" dur="1000" fill="hold"/>
                                        <p:tgtEl>
                                          <p:spTgt spid="1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900" fill="hold"/>
                                        <p:tgtEl>
                                          <p:spTgt spid="1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6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8" dur="1000"/>
                                        <p:tgtEl>
                                          <p:spTgt spid="18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9" dur="1000" fill="hold"/>
                                        <p:tgtEl>
                                          <p:spTgt spid="1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900" fill="hold"/>
                                        <p:tgtEl>
                                          <p:spTgt spid="1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2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4" dur="10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5" dur="1000" fill="hold"/>
                                        <p:tgtEl>
                                          <p:spTgt spid="1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900" fill="hold"/>
                                        <p:tgtEl>
                                          <p:spTgt spid="1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8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0" dur="1000"/>
                                        <p:tgtEl>
                                          <p:spTgt spid="18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1" dur="1000" fill="hold"/>
                                        <p:tgtEl>
                                          <p:spTgt spid="1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900" fill="hold"/>
                                        <p:tgtEl>
                                          <p:spTgt spid="1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4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6" dur="1000"/>
                                        <p:tgtEl>
                                          <p:spTgt spid="18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7" dur="1000" fill="hold"/>
                                        <p:tgtEl>
                                          <p:spTgt spid="1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900" fill="hold"/>
                                        <p:tgtEl>
                                          <p:spTgt spid="1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0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2" dur="1000"/>
                                        <p:tgtEl>
                                          <p:spTgt spid="18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3" dur="1000" fill="hold"/>
                                        <p:tgtEl>
                                          <p:spTgt spid="1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900" fill="hold"/>
                                        <p:tgtEl>
                                          <p:spTgt spid="1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6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8" dur="1000"/>
                                        <p:tgtEl>
                                          <p:spTgt spid="18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9" dur="1000" fill="hold"/>
                                        <p:tgtEl>
                                          <p:spTgt spid="1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900" fill="hold"/>
                                        <p:tgtEl>
                                          <p:spTgt spid="1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2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4" dur="1000"/>
                                        <p:tgtEl>
                                          <p:spTgt spid="18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5" dur="1000" fill="hold"/>
                                        <p:tgtEl>
                                          <p:spTgt spid="1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900" fill="hold"/>
                                        <p:tgtEl>
                                          <p:spTgt spid="1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8" nodeType="withEffect" fill="hold" presetClass="entr" presetID="37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0" dur="1000"/>
                                        <p:tgtEl>
                                          <p:spTgt spid="18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1" dur="1000" fill="hold"/>
                                        <p:tgtEl>
                                          <p:spTgt spid="1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900" fill="hold"/>
                                        <p:tgtEl>
                                          <p:spTgt spid="1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4" nodeType="withEffect" fill="hold" presetClass="entr" presetID="37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6" dur="1000"/>
                                        <p:tgtEl>
                                          <p:spTgt spid="18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7" dur="1000" fill="hold"/>
                                        <p:tgtEl>
                                          <p:spTgt spid="1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900" fill="hold"/>
                                        <p:tgtEl>
                                          <p:spTgt spid="1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0" nodeType="withEffect" fill="hold" presetClass="entr" presetID="37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2" dur="1000"/>
                                        <p:tgtEl>
                                          <p:spTgt spid="18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3" dur="1000" fill="hold"/>
                                        <p:tgtEl>
                                          <p:spTgt spid="1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4" dur="900" fill="hold"/>
                                        <p:tgtEl>
                                          <p:spTgt spid="1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6" nodeType="withEffect" fill="hold" presetClass="entr" presetID="37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8" dur="1000"/>
                                        <p:tgtEl>
                                          <p:spTgt spid="18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9" dur="1000" fill="hold"/>
                                        <p:tgtEl>
                                          <p:spTgt spid="1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0" dur="900" fill="hold"/>
                                        <p:tgtEl>
                                          <p:spTgt spid="1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2" nodeType="withEffect" fill="hold" presetClass="entr" presetID="37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4" dur="1000"/>
                                        <p:tgtEl>
                                          <p:spTgt spid="18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5" dur="1000" fill="hold"/>
                                        <p:tgtEl>
                                          <p:spTgt spid="1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6" dur="900" fill="hold"/>
                                        <p:tgtEl>
                                          <p:spTgt spid="1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8" nodeType="withEffect" fill="hold" presetClass="entr" presetID="37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0" dur="1000"/>
                                        <p:tgtEl>
                                          <p:spTgt spid="18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1" dur="1000" fill="hold"/>
                                        <p:tgtEl>
                                          <p:spTgt spid="1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900" fill="hold"/>
                                        <p:tgtEl>
                                          <p:spTgt spid="1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4" nodeType="withEffect" fill="hold" presetClass="entr" presetID="37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6" dur="1000"/>
                                        <p:tgtEl>
                                          <p:spTgt spid="18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7" dur="1000" fill="hold"/>
                                        <p:tgtEl>
                                          <p:spTgt spid="1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900" fill="hold"/>
                                        <p:tgtEl>
                                          <p:spTgt spid="1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0" nodeType="withEffect" fill="hold" presetClass="entr" presetID="37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2" dur="1000"/>
                                        <p:tgtEl>
                                          <p:spTgt spid="18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3" dur="1000" fill="hold"/>
                                        <p:tgtEl>
                                          <p:spTgt spid="1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900" fill="hold"/>
                                        <p:tgtEl>
                                          <p:spTgt spid="1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6" nodeType="withEffect" fill="hold" presetClass="entr" presetID="37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8" dur="1000"/>
                                        <p:tgtEl>
                                          <p:spTgt spid="18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9" dur="1000" fill="hold"/>
                                        <p:tgtEl>
                                          <p:spTgt spid="1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0" dur="900" fill="hold"/>
                                        <p:tgtEl>
                                          <p:spTgt spid="1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Rounded Rectangle 3"/>
          <p:cNvSpPr/>
          <p:nvPr/>
        </p:nvSpPr>
        <p:spPr>
          <a:xfrm>
            <a:off x="1219320" y="3300480"/>
            <a:ext cx="4593960" cy="2601720"/>
          </a:xfrm>
          <a:prstGeom prst="roundRect">
            <a:avLst>
              <a:gd name="adj" fmla="val 4111"/>
            </a:avLst>
          </a:prstGeom>
          <a:solidFill>
            <a:srgbClr val="262626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91" name="Rounded Rectangle 4"/>
          <p:cNvSpPr/>
          <p:nvPr/>
        </p:nvSpPr>
        <p:spPr>
          <a:xfrm>
            <a:off x="6378480" y="3300480"/>
            <a:ext cx="4594320" cy="2601720"/>
          </a:xfrm>
          <a:prstGeom prst="roundRect">
            <a:avLst>
              <a:gd name="adj" fmla="val 4111"/>
            </a:avLst>
          </a:prstGeom>
          <a:solidFill>
            <a:srgbClr val="262626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1218960" y="955800"/>
            <a:ext cx="975348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boto Black"/>
              </a:rPr>
              <a:t>Testimonial</a:t>
            </a:r>
            <a:endParaRPr b="0" lang="en-US" sz="32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893" name="TextBox 2"/>
          <p:cNvSpPr/>
          <p:nvPr/>
        </p:nvSpPr>
        <p:spPr>
          <a:xfrm>
            <a:off x="5132520" y="1609200"/>
            <a:ext cx="1927080" cy="337320"/>
          </a:xfrm>
          <a:prstGeom prst="rect">
            <a:avLst/>
          </a:prstGeom>
          <a:solidFill>
            <a:srgbClr val="dceb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Open Sans"/>
              </a:rPr>
              <a:t>Sub-Title Here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94" name="TextBox 5"/>
          <p:cNvSpPr/>
          <p:nvPr/>
        </p:nvSpPr>
        <p:spPr>
          <a:xfrm>
            <a:off x="1727280" y="2133720"/>
            <a:ext cx="873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shuddered all over, and edged away from his companion. A dentist! A dentist at Philip Philip gave a cry of personal disgust and pain. He shuddered all over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95" name="TextBox 14"/>
          <p:cNvSpPr/>
          <p:nvPr/>
        </p:nvSpPr>
        <p:spPr>
          <a:xfrm>
            <a:off x="6688080" y="4927680"/>
            <a:ext cx="109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Bob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Open Sans"/>
              </a:rPr>
              <a:t>Fredicson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96" name="TextBox 15"/>
          <p:cNvSpPr/>
          <p:nvPr/>
        </p:nvSpPr>
        <p:spPr>
          <a:xfrm>
            <a:off x="1530360" y="4927680"/>
            <a:ext cx="109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Joshua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Mardika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97" name="TextBox 16"/>
          <p:cNvSpPr/>
          <p:nvPr/>
        </p:nvSpPr>
        <p:spPr>
          <a:xfrm>
            <a:off x="2881440" y="4007520"/>
            <a:ext cx="25700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shuddered all over, and edged away from his companion. A dentist! 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98" name="Freeform 20"/>
          <p:cNvSpPr/>
          <p:nvPr/>
        </p:nvSpPr>
        <p:spPr>
          <a:xfrm>
            <a:off x="4937040" y="3186000"/>
            <a:ext cx="392040" cy="228600"/>
          </a:xfrm>
          <a:custGeom>
            <a:avLst/>
            <a:gdLst/>
            <a:ahLst/>
            <a:rect l="l" t="t" r="r" b="b"/>
            <a:pathLst>
              <a:path w="76173" h="44271">
                <a:moveTo>
                  <a:pt x="56820" y="0"/>
                </a:moveTo>
                <a:lnTo>
                  <a:pt x="76173" y="0"/>
                </a:lnTo>
                <a:cubicBezTo>
                  <a:pt x="72284" y="15729"/>
                  <a:pt x="69309" y="30486"/>
                  <a:pt x="67247" y="44271"/>
                </a:cubicBezTo>
                <a:lnTo>
                  <a:pt x="42505" y="44271"/>
                </a:lnTo>
                <a:lnTo>
                  <a:pt x="41268" y="42327"/>
                </a:lnTo>
                <a:cubicBezTo>
                  <a:pt x="42564" y="36966"/>
                  <a:pt x="44699" y="30236"/>
                  <a:pt x="47674" y="22135"/>
                </a:cubicBezTo>
                <a:cubicBezTo>
                  <a:pt x="50649" y="14035"/>
                  <a:pt x="53698" y="6657"/>
                  <a:pt x="56820" y="0"/>
                </a:cubicBezTo>
                <a:close/>
                <a:moveTo>
                  <a:pt x="15553" y="0"/>
                </a:moveTo>
                <a:lnTo>
                  <a:pt x="34905" y="0"/>
                </a:lnTo>
                <a:cubicBezTo>
                  <a:pt x="31017" y="15729"/>
                  <a:pt x="28042" y="30486"/>
                  <a:pt x="25980" y="44271"/>
                </a:cubicBezTo>
                <a:lnTo>
                  <a:pt x="1238" y="44271"/>
                </a:lnTo>
                <a:lnTo>
                  <a:pt x="0" y="42327"/>
                </a:lnTo>
                <a:cubicBezTo>
                  <a:pt x="1296" y="36966"/>
                  <a:pt x="3432" y="30236"/>
                  <a:pt x="6407" y="22135"/>
                </a:cubicBezTo>
                <a:cubicBezTo>
                  <a:pt x="9382" y="14035"/>
                  <a:pt x="12431" y="6657"/>
                  <a:pt x="15553" y="0"/>
                </a:cubicBezTo>
                <a:close/>
              </a:path>
            </a:pathLst>
          </a:custGeom>
          <a:solidFill>
            <a:srgbClr val="fe6b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99" name="Freeform 21"/>
          <p:cNvSpPr/>
          <p:nvPr/>
        </p:nvSpPr>
        <p:spPr>
          <a:xfrm>
            <a:off x="10072800" y="3186000"/>
            <a:ext cx="392040" cy="228600"/>
          </a:xfrm>
          <a:custGeom>
            <a:avLst/>
            <a:gdLst/>
            <a:ahLst/>
            <a:rect l="l" t="t" r="r" b="b"/>
            <a:pathLst>
              <a:path w="76173" h="44271">
                <a:moveTo>
                  <a:pt x="56820" y="0"/>
                </a:moveTo>
                <a:lnTo>
                  <a:pt x="76173" y="0"/>
                </a:lnTo>
                <a:cubicBezTo>
                  <a:pt x="72284" y="15729"/>
                  <a:pt x="69309" y="30486"/>
                  <a:pt x="67247" y="44271"/>
                </a:cubicBezTo>
                <a:lnTo>
                  <a:pt x="42505" y="44271"/>
                </a:lnTo>
                <a:lnTo>
                  <a:pt x="41268" y="42327"/>
                </a:lnTo>
                <a:cubicBezTo>
                  <a:pt x="42564" y="36966"/>
                  <a:pt x="44699" y="30236"/>
                  <a:pt x="47674" y="22135"/>
                </a:cubicBezTo>
                <a:cubicBezTo>
                  <a:pt x="50649" y="14035"/>
                  <a:pt x="53698" y="6657"/>
                  <a:pt x="56820" y="0"/>
                </a:cubicBezTo>
                <a:close/>
                <a:moveTo>
                  <a:pt x="15553" y="0"/>
                </a:moveTo>
                <a:lnTo>
                  <a:pt x="34905" y="0"/>
                </a:lnTo>
                <a:cubicBezTo>
                  <a:pt x="31017" y="15729"/>
                  <a:pt x="28042" y="30486"/>
                  <a:pt x="25980" y="44271"/>
                </a:cubicBezTo>
                <a:lnTo>
                  <a:pt x="1238" y="44271"/>
                </a:lnTo>
                <a:lnTo>
                  <a:pt x="0" y="42327"/>
                </a:lnTo>
                <a:cubicBezTo>
                  <a:pt x="1296" y="36966"/>
                  <a:pt x="3432" y="30236"/>
                  <a:pt x="6407" y="22135"/>
                </a:cubicBezTo>
                <a:cubicBezTo>
                  <a:pt x="9382" y="14035"/>
                  <a:pt x="12431" y="6657"/>
                  <a:pt x="15553" y="0"/>
                </a:cubicBezTo>
                <a:close/>
              </a:path>
            </a:pathLst>
          </a:custGeom>
          <a:solidFill>
            <a:srgbClr val="fe6b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00" name="TextBox 22"/>
          <p:cNvSpPr/>
          <p:nvPr/>
        </p:nvSpPr>
        <p:spPr>
          <a:xfrm>
            <a:off x="8039160" y="4007520"/>
            <a:ext cx="25718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shuddered all over, and edged away from his companion. A dentist! 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01" name="Rounded Rectangle 26"/>
          <p:cNvSpPr/>
          <p:nvPr/>
        </p:nvSpPr>
        <p:spPr>
          <a:xfrm>
            <a:off x="5692680" y="5778360"/>
            <a:ext cx="243000" cy="247680"/>
          </a:xfrm>
          <a:custGeom>
            <a:avLst/>
            <a:gdLst>
              <a:gd name="textAreaLeft" fmla="*/ 8280 w 243000"/>
              <a:gd name="textAreaRight" fmla="*/ 234720 w 243000"/>
              <a:gd name="textAreaTop" fmla="*/ 8280 h 247680"/>
              <a:gd name="textAreaBottom" fmla="*/ 239400 h 247680"/>
            </a:gdLst>
            <a:ahLst/>
            <a:rect l="textAreaLeft" t="textAreaTop" r="textAreaRight" b="textAreaBottom"/>
            <a:pathLst>
              <a:path w="21600" h="22015">
                <a:moveTo>
                  <a:pt x="2563" y="0"/>
                </a:moveTo>
                <a:arcTo wR="2563" hR="2563" stAng="16200000" swAng="-5400000"/>
                <a:lnTo>
                  <a:pt x="0" y="19452"/>
                </a:lnTo>
                <a:arcTo wR="2563" hR="2563" stAng="10800000" swAng="-5400000"/>
                <a:lnTo>
                  <a:pt x="19037" y="22015"/>
                </a:lnTo>
                <a:arcTo wR="2563" hR="2563" stAng="5400000" swAng="-5400000"/>
                <a:lnTo>
                  <a:pt x="21600" y="2563"/>
                </a:lnTo>
                <a:arcTo wR="2563" hR="2563" stAng="0" swAng="-5400000"/>
                <a:close/>
              </a:path>
            </a:pathLst>
          </a:custGeom>
          <a:solidFill>
            <a:srgbClr val="8fd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02" name="Rounded Rectangle 27"/>
          <p:cNvSpPr/>
          <p:nvPr/>
        </p:nvSpPr>
        <p:spPr>
          <a:xfrm>
            <a:off x="10852200" y="5778360"/>
            <a:ext cx="241200" cy="247680"/>
          </a:xfrm>
          <a:custGeom>
            <a:avLst/>
            <a:gdLst>
              <a:gd name="textAreaLeft" fmla="*/ 8280 w 241200"/>
              <a:gd name="textAreaRight" fmla="*/ 232920 w 241200"/>
              <a:gd name="textAreaTop" fmla="*/ 8280 h 247680"/>
              <a:gd name="textAreaBottom" fmla="*/ 239400 h 247680"/>
            </a:gdLst>
            <a:ahLst/>
            <a:rect l="textAreaLeft" t="textAreaTop" r="textAreaRight" b="textAreaBottom"/>
            <a:pathLst>
              <a:path w="21600" h="22179">
                <a:moveTo>
                  <a:pt x="2563" y="0"/>
                </a:moveTo>
                <a:arcTo wR="2563" hR="2563" stAng="16200000" swAng="-5400000"/>
                <a:lnTo>
                  <a:pt x="0" y="19616"/>
                </a:lnTo>
                <a:arcTo wR="2563" hR="2563" stAng="10800000" swAng="-5400000"/>
                <a:lnTo>
                  <a:pt x="19037" y="22179"/>
                </a:lnTo>
                <a:arcTo wR="2563" hR="2563" stAng="5400000" swAng="-5400000"/>
                <a:lnTo>
                  <a:pt x="21600" y="2563"/>
                </a:lnTo>
                <a:arcTo wR="2563" hR="2563" stAng="0" swAng="-5400000"/>
                <a:close/>
              </a:path>
            </a:pathLst>
          </a:custGeom>
          <a:solidFill>
            <a:srgbClr val="8fd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542" dur="indefinite" restart="never" nodeType="tmRoot">
          <p:childTnLst>
            <p:seq>
              <p:cTn id="1543" dur="indefinite" nodeType="mainSeq">
                <p:childTnLst>
                  <p:par>
                    <p:cTn id="1544" fill="hold">
                      <p:stCondLst>
                        <p:cond delay="0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8" dur="500"/>
                                        <p:tgtEl>
                                          <p:spTgt spid="1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1" dur="500"/>
                                        <p:tgtEl>
                                          <p:spTgt spid="1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4" dur="500"/>
                                        <p:tgtEl>
                                          <p:spTgt spid="1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7" dur="1000"/>
                                        <p:tgtEl>
                                          <p:spTgt spid="18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8" dur="1000" fill="hold"/>
                                        <p:tgtEl>
                                          <p:spTgt spid="1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900" fill="hold"/>
                                        <p:tgtEl>
                                          <p:spTgt spid="1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3" dur="1000"/>
                                        <p:tgtEl>
                                          <p:spTgt spid="18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4" dur="1000" fill="hold"/>
                                        <p:tgtEl>
                                          <p:spTgt spid="1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900" fill="hold"/>
                                        <p:tgtEl>
                                          <p:spTgt spid="1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9" dur="1000"/>
                                        <p:tgtEl>
                                          <p:spTgt spid="18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0" dur="1000" fill="hold"/>
                                        <p:tgtEl>
                                          <p:spTgt spid="1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900" fill="hold"/>
                                        <p:tgtEl>
                                          <p:spTgt spid="1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5" dur="1000"/>
                                        <p:tgtEl>
                                          <p:spTgt spid="18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6" dur="1000" fill="hold"/>
                                        <p:tgtEl>
                                          <p:spTgt spid="1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900" fill="hold"/>
                                        <p:tgtEl>
                                          <p:spTgt spid="1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1" dur="1000"/>
                                        <p:tgtEl>
                                          <p:spTgt spid="19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2" dur="1000" fill="hold"/>
                                        <p:tgtEl>
                                          <p:spTgt spid="19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900" fill="hold"/>
                                        <p:tgtEl>
                                          <p:spTgt spid="1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5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7" dur="1000"/>
                                        <p:tgtEl>
                                          <p:spTgt spid="18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8" dur="1000" fill="hold"/>
                                        <p:tgtEl>
                                          <p:spTgt spid="1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9" dur="900" fill="hold"/>
                                        <p:tgtEl>
                                          <p:spTgt spid="1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1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3" dur="1000"/>
                                        <p:tgtEl>
                                          <p:spTgt spid="18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4" dur="1000" fill="hold"/>
                                        <p:tgtEl>
                                          <p:spTgt spid="1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900" fill="hold"/>
                                        <p:tgtEl>
                                          <p:spTgt spid="1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7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9" dur="1000"/>
                                        <p:tgtEl>
                                          <p:spTgt spid="18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0" dur="1000" fill="hold"/>
                                        <p:tgtEl>
                                          <p:spTgt spid="18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900" fill="hold"/>
                                        <p:tgtEl>
                                          <p:spTgt spid="1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3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5" dur="1000"/>
                                        <p:tgtEl>
                                          <p:spTgt spid="19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6" dur="1000" fill="hold"/>
                                        <p:tgtEl>
                                          <p:spTgt spid="1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7" dur="900" fill="hold"/>
                                        <p:tgtEl>
                                          <p:spTgt spid="1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9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1" dur="1000"/>
                                        <p:tgtEl>
                                          <p:spTgt spid="19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2" dur="1000" fill="hold"/>
                                        <p:tgtEl>
                                          <p:spTgt spid="1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900" fill="hold"/>
                                        <p:tgtEl>
                                          <p:spTgt spid="1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b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Freeform 8"/>
          <p:cNvSpPr/>
          <p:nvPr/>
        </p:nvSpPr>
        <p:spPr>
          <a:xfrm>
            <a:off x="2427120" y="800280"/>
            <a:ext cx="7337520" cy="6057720"/>
          </a:xfrm>
          <a:custGeom>
            <a:avLst/>
            <a:gdLst/>
            <a:ahLst/>
            <a:rect l="l" t="t" r="r" b="b"/>
            <a:pathLst>
              <a:path w="5822872" h="4807343">
                <a:moveTo>
                  <a:pt x="5814935" y="4754067"/>
                </a:moveTo>
                <a:cubicBezTo>
                  <a:pt x="5858560" y="4577156"/>
                  <a:pt x="5712002" y="4409389"/>
                  <a:pt x="5556808" y="4315917"/>
                </a:cubicBezTo>
                <a:cubicBezTo>
                  <a:pt x="5401551" y="4222445"/>
                  <a:pt x="5219432" y="4159199"/>
                  <a:pt x="5109133" y="4014800"/>
                </a:cubicBezTo>
                <a:cubicBezTo>
                  <a:pt x="4956225" y="3814648"/>
                  <a:pt x="4995151" y="3520961"/>
                  <a:pt x="5113705" y="3298393"/>
                </a:cubicBezTo>
                <a:cubicBezTo>
                  <a:pt x="5232259" y="3075826"/>
                  <a:pt x="5416853" y="2897073"/>
                  <a:pt x="5559919" y="2689619"/>
                </a:cubicBezTo>
                <a:cubicBezTo>
                  <a:pt x="5702985" y="2482164"/>
                  <a:pt x="5805791" y="2219211"/>
                  <a:pt x="5728893" y="1978736"/>
                </a:cubicBezTo>
                <a:cubicBezTo>
                  <a:pt x="5647168" y="1723085"/>
                  <a:pt x="5384088" y="1567574"/>
                  <a:pt x="5123928" y="1510170"/>
                </a:cubicBezTo>
                <a:cubicBezTo>
                  <a:pt x="4863769" y="1452766"/>
                  <a:pt x="4593068" y="1469657"/>
                  <a:pt x="4329352" y="1432128"/>
                </a:cubicBezTo>
                <a:cubicBezTo>
                  <a:pt x="4065637" y="1394600"/>
                  <a:pt x="3789857" y="1286142"/>
                  <a:pt x="3653395" y="1055510"/>
                </a:cubicBezTo>
                <a:cubicBezTo>
                  <a:pt x="3575798" y="924319"/>
                  <a:pt x="3552049" y="768490"/>
                  <a:pt x="3494645" y="627139"/>
                </a:cubicBezTo>
                <a:cubicBezTo>
                  <a:pt x="3353358" y="279540"/>
                  <a:pt x="2999980" y="39510"/>
                  <a:pt x="2629077" y="4775"/>
                </a:cubicBezTo>
                <a:cubicBezTo>
                  <a:pt x="2258173" y="-30023"/>
                  <a:pt x="1881427" y="127965"/>
                  <a:pt x="1618411" y="393967"/>
                </a:cubicBezTo>
                <a:cubicBezTo>
                  <a:pt x="1355393" y="659968"/>
                  <a:pt x="1202295" y="1025474"/>
                  <a:pt x="1160067" y="1398664"/>
                </a:cubicBezTo>
                <a:cubicBezTo>
                  <a:pt x="1112633" y="1817764"/>
                  <a:pt x="1195691" y="2257311"/>
                  <a:pt x="1053515" y="2654059"/>
                </a:cubicBezTo>
                <a:cubicBezTo>
                  <a:pt x="959788" y="2915615"/>
                  <a:pt x="776147" y="3133039"/>
                  <a:pt x="591806" y="3339922"/>
                </a:cubicBezTo>
                <a:cubicBezTo>
                  <a:pt x="407466" y="3546805"/>
                  <a:pt x="215568" y="3754006"/>
                  <a:pt x="99173" y="4006101"/>
                </a:cubicBezTo>
                <a:cubicBezTo>
                  <a:pt x="-17222" y="4258259"/>
                  <a:pt x="-46687" y="4569156"/>
                  <a:pt x="95680" y="4807344"/>
                </a:cubicBezTo>
                <a:lnTo>
                  <a:pt x="5822873" y="4807344"/>
                </a:lnTo>
                <a:lnTo>
                  <a:pt x="5814935" y="4754067"/>
                </a:lnTo>
                <a:close/>
              </a:path>
            </a:pathLst>
          </a:custGeom>
          <a:solidFill>
            <a:srgbClr val="8fd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3543120" y="1620360"/>
            <a:ext cx="5105160" cy="21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Roboto Black"/>
              </a:rPr>
              <a:t>Process</a:t>
            </a:r>
            <a:br>
              <a:rPr sz="6600"/>
            </a:br>
            <a:r>
              <a:rPr b="0" lang="en-US" sz="6600" spc="-1" strike="noStrike">
                <a:solidFill>
                  <a:srgbClr val="ffffff"/>
                </a:solidFill>
                <a:latin typeface="Roboto Black"/>
              </a:rPr>
              <a:t>Data</a:t>
            </a:r>
            <a:endParaRPr b="0" lang="en-US" sz="66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905" name="Freeform 10"/>
          <p:cNvSpPr/>
          <p:nvPr/>
        </p:nvSpPr>
        <p:spPr>
          <a:xfrm>
            <a:off x="1817640" y="5491080"/>
            <a:ext cx="384120" cy="384120"/>
          </a:xfrm>
          <a:custGeom>
            <a:avLst/>
            <a:gdLst/>
            <a:ahLst/>
            <a:rect l="l" t="t" r="r" b="b"/>
            <a:pathLst>
              <a:path w="1190625" h="1190625">
                <a:moveTo>
                  <a:pt x="1190625" y="595313"/>
                </a:moveTo>
                <a:cubicBezTo>
                  <a:pt x="1190625" y="924094"/>
                  <a:pt x="924095" y="1190625"/>
                  <a:pt x="595313" y="1190625"/>
                </a:cubicBezTo>
                <a:cubicBezTo>
                  <a:pt x="266530" y="1190625"/>
                  <a:pt x="0" y="924094"/>
                  <a:pt x="0" y="595312"/>
                </a:cubicBezTo>
                <a:cubicBezTo>
                  <a:pt x="0" y="266530"/>
                  <a:pt x="266530" y="0"/>
                  <a:pt x="595313" y="0"/>
                </a:cubicBezTo>
                <a:cubicBezTo>
                  <a:pt x="924095" y="0"/>
                  <a:pt x="1190625" y="266530"/>
                  <a:pt x="1190625" y="595313"/>
                </a:cubicBezTo>
                <a:close/>
              </a:path>
            </a:pathLst>
          </a:custGeom>
          <a:solidFill>
            <a:srgbClr val="8fd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06" name="Freeform 11"/>
          <p:cNvSpPr/>
          <p:nvPr/>
        </p:nvSpPr>
        <p:spPr>
          <a:xfrm>
            <a:off x="9732960" y="2444760"/>
            <a:ext cx="590400" cy="590400"/>
          </a:xfrm>
          <a:custGeom>
            <a:avLst/>
            <a:gdLst/>
            <a:ahLst/>
            <a:rect l="l" t="t" r="r" b="b"/>
            <a:pathLst>
              <a:path w="1190625" h="1190625">
                <a:moveTo>
                  <a:pt x="1190625" y="595313"/>
                </a:moveTo>
                <a:cubicBezTo>
                  <a:pt x="1190625" y="924094"/>
                  <a:pt x="924095" y="1190625"/>
                  <a:pt x="595313" y="1190625"/>
                </a:cubicBezTo>
                <a:cubicBezTo>
                  <a:pt x="266530" y="1190625"/>
                  <a:pt x="0" y="924094"/>
                  <a:pt x="0" y="595312"/>
                </a:cubicBezTo>
                <a:cubicBezTo>
                  <a:pt x="0" y="266530"/>
                  <a:pt x="266530" y="0"/>
                  <a:pt x="595313" y="0"/>
                </a:cubicBezTo>
                <a:cubicBezTo>
                  <a:pt x="924095" y="0"/>
                  <a:pt x="1190625" y="266530"/>
                  <a:pt x="1190625" y="595313"/>
                </a:cubicBezTo>
                <a:close/>
              </a:path>
            </a:pathLst>
          </a:custGeom>
          <a:solidFill>
            <a:srgbClr val="8fd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07" name="Freeform 12"/>
          <p:cNvSpPr/>
          <p:nvPr/>
        </p:nvSpPr>
        <p:spPr>
          <a:xfrm>
            <a:off x="3543480" y="1860480"/>
            <a:ext cx="195120" cy="195480"/>
          </a:xfrm>
          <a:custGeom>
            <a:avLst/>
            <a:gdLst/>
            <a:ahLst/>
            <a:rect l="l" t="t" r="r" b="b"/>
            <a:pathLst>
              <a:path w="1190625" h="1190625">
                <a:moveTo>
                  <a:pt x="1190625" y="595313"/>
                </a:moveTo>
                <a:cubicBezTo>
                  <a:pt x="1190625" y="924094"/>
                  <a:pt x="924095" y="1190625"/>
                  <a:pt x="595313" y="1190625"/>
                </a:cubicBezTo>
                <a:cubicBezTo>
                  <a:pt x="266530" y="1190625"/>
                  <a:pt x="0" y="924094"/>
                  <a:pt x="0" y="595312"/>
                </a:cubicBezTo>
                <a:cubicBezTo>
                  <a:pt x="0" y="266530"/>
                  <a:pt x="266530" y="0"/>
                  <a:pt x="595313" y="0"/>
                </a:cubicBezTo>
                <a:cubicBezTo>
                  <a:pt x="924095" y="0"/>
                  <a:pt x="1190625" y="266530"/>
                  <a:pt x="1190625" y="595313"/>
                </a:cubicBezTo>
                <a:close/>
              </a:path>
            </a:pathLst>
          </a:custGeom>
          <a:solidFill>
            <a:srgbClr val="8fd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615" dur="indefinite" restart="never" nodeType="tmRoot">
          <p:childTnLst>
            <p:seq>
              <p:cTn id="1616" dur="indefinite" nodeType="mainSeq">
                <p:childTnLst>
                  <p:par>
                    <p:cTn id="1617" fill="hold">
                      <p:stCondLst>
                        <p:cond delay="0"/>
                      </p:stCondLst>
                      <p:childTnLst>
                        <p:par>
                          <p:cTn id="1618" fill="hold">
                            <p:stCondLst>
                              <p:cond delay="0"/>
                            </p:stCondLst>
                            <p:childTnLst>
                              <p:par>
                                <p:cTn id="161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1" dur="1000" fill="hold"/>
                                        <p:tgtEl>
                                          <p:spTgt spid="19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2" dur="1000" fill="hold"/>
                                        <p:tgtEl>
                                          <p:spTgt spid="1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5" dur="1000" fill="hold"/>
                                        <p:tgtEl>
                                          <p:spTgt spid="1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6" dur="1000" fill="hold"/>
                                        <p:tgtEl>
                                          <p:spTgt spid="1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7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9" dur="500" fill="hold"/>
                                        <p:tgtEl>
                                          <p:spTgt spid="19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0" dur="500" fill="hold"/>
                                        <p:tgtEl>
                                          <p:spTgt spid="19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1" dur="500" fill="hold"/>
                                        <p:tgtEl>
                                          <p:spTgt spid="19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2" dur="500"/>
                                        <p:tgtEl>
                                          <p:spTgt spid="1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3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5" dur="500" fill="hold"/>
                                        <p:tgtEl>
                                          <p:spTgt spid="19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500" fill="hold"/>
                                        <p:tgtEl>
                                          <p:spTgt spid="19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7" dur="500" fill="hold"/>
                                        <p:tgtEl>
                                          <p:spTgt spid="19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8" dur="500"/>
                                        <p:tgtEl>
                                          <p:spTgt spid="1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9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1" dur="500" fill="hold"/>
                                        <p:tgtEl>
                                          <p:spTgt spid="19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500" fill="hold"/>
                                        <p:tgtEl>
                                          <p:spTgt spid="19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3" dur="500" fill="hold"/>
                                        <p:tgtEl>
                                          <p:spTgt spid="19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4" dur="500"/>
                                        <p:tgtEl>
                                          <p:spTgt spid="1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1218960" y="955800"/>
            <a:ext cx="975348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boto Black"/>
              </a:rPr>
              <a:t>Step By Step</a:t>
            </a:r>
            <a:endParaRPr b="0" lang="en-US" sz="32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909" name="TextBox 4"/>
          <p:cNvSpPr/>
          <p:nvPr/>
        </p:nvSpPr>
        <p:spPr>
          <a:xfrm>
            <a:off x="5132520" y="1609200"/>
            <a:ext cx="1927080" cy="337320"/>
          </a:xfrm>
          <a:prstGeom prst="rect">
            <a:avLst/>
          </a:prstGeom>
          <a:solidFill>
            <a:srgbClr val="dceb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Open Sans"/>
              </a:rPr>
              <a:t>Sub-Title Here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10" name="Freeform 19"/>
          <p:cNvSpPr/>
          <p:nvPr/>
        </p:nvSpPr>
        <p:spPr>
          <a:xfrm flipH="1">
            <a:off x="4267080" y="2344680"/>
            <a:ext cx="1828800" cy="1774800"/>
          </a:xfrm>
          <a:custGeom>
            <a:avLst/>
            <a:gdLst/>
            <a:ahLst/>
            <a:rect l="l" t="t" r="r" b="b"/>
            <a:pathLst>
              <a:path w="1828802" h="1775220">
                <a:moveTo>
                  <a:pt x="748118" y="1151"/>
                </a:moveTo>
                <a:cubicBezTo>
                  <a:pt x="545517" y="10691"/>
                  <a:pt x="358423" y="79106"/>
                  <a:pt x="203097" y="189380"/>
                </a:cubicBezTo>
                <a:cubicBezTo>
                  <a:pt x="171270" y="212018"/>
                  <a:pt x="136865" y="228997"/>
                  <a:pt x="101172" y="240316"/>
                </a:cubicBezTo>
                <a:lnTo>
                  <a:pt x="1" y="255980"/>
                </a:lnTo>
                <a:lnTo>
                  <a:pt x="0" y="255980"/>
                </a:lnTo>
                <a:lnTo>
                  <a:pt x="0" y="720143"/>
                </a:lnTo>
                <a:lnTo>
                  <a:pt x="0" y="726206"/>
                </a:lnTo>
                <a:lnTo>
                  <a:pt x="0" y="1775220"/>
                </a:lnTo>
                <a:lnTo>
                  <a:pt x="1055077" y="1775220"/>
                </a:lnTo>
                <a:lnTo>
                  <a:pt x="1509930" y="1775220"/>
                </a:lnTo>
                <a:lnTo>
                  <a:pt x="1578526" y="1704839"/>
                </a:lnTo>
                <a:cubicBezTo>
                  <a:pt x="1765289" y="1488902"/>
                  <a:pt x="1863248" y="1193942"/>
                  <a:pt x="1817752" y="877019"/>
                </a:cubicBezTo>
                <a:cubicBezTo>
                  <a:pt x="1754099" y="435032"/>
                  <a:pt x="1397279" y="77316"/>
                  <a:pt x="955286" y="11869"/>
                </a:cubicBezTo>
                <a:cubicBezTo>
                  <a:pt x="884908" y="1334"/>
                  <a:pt x="815651" y="-2029"/>
                  <a:pt x="748118" y="1151"/>
                </a:cubicBezTo>
                <a:close/>
              </a:path>
            </a:pathLst>
          </a:custGeom>
          <a:solidFill>
            <a:srgbClr val="dceb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11" name="Freeform 21"/>
          <p:cNvSpPr/>
          <p:nvPr/>
        </p:nvSpPr>
        <p:spPr>
          <a:xfrm flipH="1">
            <a:off x="6095880" y="2344680"/>
            <a:ext cx="1828800" cy="1774800"/>
          </a:xfrm>
          <a:custGeom>
            <a:avLst/>
            <a:gdLst/>
            <a:ahLst/>
            <a:rect l="l" t="t" r="r" b="b"/>
            <a:pathLst>
              <a:path w="1828800" h="1775219">
                <a:moveTo>
                  <a:pt x="1080685" y="1151"/>
                </a:moveTo>
                <a:cubicBezTo>
                  <a:pt x="1013151" y="-2029"/>
                  <a:pt x="943894" y="1334"/>
                  <a:pt x="873517" y="11869"/>
                </a:cubicBezTo>
                <a:cubicBezTo>
                  <a:pt x="431524" y="77316"/>
                  <a:pt x="74703" y="435032"/>
                  <a:pt x="11050" y="877019"/>
                </a:cubicBezTo>
                <a:cubicBezTo>
                  <a:pt x="-34446" y="1193942"/>
                  <a:pt x="63513" y="1488902"/>
                  <a:pt x="250276" y="1704839"/>
                </a:cubicBezTo>
                <a:lnTo>
                  <a:pt x="318872" y="1775219"/>
                </a:lnTo>
                <a:lnTo>
                  <a:pt x="773723" y="1775219"/>
                </a:lnTo>
                <a:lnTo>
                  <a:pt x="1828800" y="1775219"/>
                </a:lnTo>
                <a:lnTo>
                  <a:pt x="1828800" y="726205"/>
                </a:lnTo>
                <a:lnTo>
                  <a:pt x="1828800" y="720142"/>
                </a:lnTo>
                <a:lnTo>
                  <a:pt x="1828800" y="255980"/>
                </a:lnTo>
                <a:lnTo>
                  <a:pt x="1727630" y="240316"/>
                </a:lnTo>
                <a:cubicBezTo>
                  <a:pt x="1691937" y="228997"/>
                  <a:pt x="1657533" y="212018"/>
                  <a:pt x="1625705" y="189380"/>
                </a:cubicBezTo>
                <a:cubicBezTo>
                  <a:pt x="1470379" y="79106"/>
                  <a:pt x="1283285" y="10691"/>
                  <a:pt x="1080685" y="1151"/>
                </a:cubicBezTo>
                <a:close/>
              </a:path>
            </a:pathLst>
          </a:custGeom>
          <a:solidFill>
            <a:srgbClr val="8fd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12" name="Freeform 23"/>
          <p:cNvSpPr/>
          <p:nvPr/>
        </p:nvSpPr>
        <p:spPr>
          <a:xfrm flipH="1">
            <a:off x="4585680" y="4119480"/>
            <a:ext cx="1509480" cy="1901880"/>
          </a:xfrm>
          <a:custGeom>
            <a:avLst/>
            <a:gdLst/>
            <a:ahLst/>
            <a:rect l="l" t="t" r="r" b="b"/>
            <a:pathLst>
              <a:path w="1509931" h="1900816">
                <a:moveTo>
                  <a:pt x="1509931" y="0"/>
                </a:moveTo>
                <a:lnTo>
                  <a:pt x="1055077" y="0"/>
                </a:lnTo>
                <a:lnTo>
                  <a:pt x="0" y="0"/>
                </a:lnTo>
                <a:lnTo>
                  <a:pt x="0" y="378991"/>
                </a:lnTo>
                <a:lnTo>
                  <a:pt x="1" y="378991"/>
                </a:lnTo>
                <a:lnTo>
                  <a:pt x="46748" y="391773"/>
                </a:lnTo>
                <a:cubicBezTo>
                  <a:pt x="305299" y="539518"/>
                  <a:pt x="305299" y="1721469"/>
                  <a:pt x="305299" y="1721469"/>
                </a:cubicBezTo>
                <a:cubicBezTo>
                  <a:pt x="305299" y="1817397"/>
                  <a:pt x="380609" y="1899878"/>
                  <a:pt x="476537" y="1900770"/>
                </a:cubicBezTo>
                <a:cubicBezTo>
                  <a:pt x="876392" y="1905255"/>
                  <a:pt x="1201834" y="1582505"/>
                  <a:pt x="1201834" y="1183548"/>
                </a:cubicBezTo>
                <a:lnTo>
                  <a:pt x="1201834" y="677902"/>
                </a:lnTo>
                <a:cubicBezTo>
                  <a:pt x="1201834" y="425982"/>
                  <a:pt x="1307626" y="186604"/>
                  <a:pt x="1493207" y="17159"/>
                </a:cubicBezTo>
                <a:lnTo>
                  <a:pt x="1509931" y="0"/>
                </a:lnTo>
                <a:close/>
              </a:path>
            </a:pathLst>
          </a:custGeom>
          <a:solidFill>
            <a:srgbClr val="8fd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13" name="Freeform 26"/>
          <p:cNvSpPr/>
          <p:nvPr/>
        </p:nvSpPr>
        <p:spPr>
          <a:xfrm flipH="1">
            <a:off x="6095880" y="4119480"/>
            <a:ext cx="1509840" cy="1901880"/>
          </a:xfrm>
          <a:custGeom>
            <a:avLst/>
            <a:gdLst/>
            <a:ahLst/>
            <a:rect l="l" t="t" r="r" b="b"/>
            <a:pathLst>
              <a:path w="1509929" h="1900817">
                <a:moveTo>
                  <a:pt x="1509929" y="0"/>
                </a:moveTo>
                <a:lnTo>
                  <a:pt x="454852" y="0"/>
                </a:lnTo>
                <a:lnTo>
                  <a:pt x="0" y="0"/>
                </a:lnTo>
                <a:lnTo>
                  <a:pt x="16725" y="17160"/>
                </a:lnTo>
                <a:cubicBezTo>
                  <a:pt x="202305" y="186605"/>
                  <a:pt x="308098" y="425983"/>
                  <a:pt x="308098" y="677903"/>
                </a:cubicBezTo>
                <a:lnTo>
                  <a:pt x="308098" y="1183549"/>
                </a:lnTo>
                <a:cubicBezTo>
                  <a:pt x="308098" y="1582506"/>
                  <a:pt x="633539" y="1905256"/>
                  <a:pt x="1033395" y="1900771"/>
                </a:cubicBezTo>
                <a:cubicBezTo>
                  <a:pt x="1129323" y="1899879"/>
                  <a:pt x="1204633" y="1817398"/>
                  <a:pt x="1204633" y="1721470"/>
                </a:cubicBezTo>
                <a:cubicBezTo>
                  <a:pt x="1204633" y="1721470"/>
                  <a:pt x="1204633" y="539519"/>
                  <a:pt x="1463184" y="391774"/>
                </a:cubicBezTo>
                <a:lnTo>
                  <a:pt x="1509929" y="378993"/>
                </a:lnTo>
                <a:lnTo>
                  <a:pt x="1509929" y="0"/>
                </a:lnTo>
                <a:close/>
              </a:path>
            </a:pathLst>
          </a:custGeom>
          <a:solidFill>
            <a:srgbClr val="dceb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14" name="TextBox 29"/>
          <p:cNvSpPr/>
          <p:nvPr/>
        </p:nvSpPr>
        <p:spPr>
          <a:xfrm>
            <a:off x="8774280" y="2783520"/>
            <a:ext cx="23907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all over, and edged away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15" name="TextBox 30"/>
          <p:cNvSpPr/>
          <p:nvPr/>
        </p:nvSpPr>
        <p:spPr>
          <a:xfrm>
            <a:off x="8774280" y="2538720"/>
            <a:ext cx="23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16" name="TextBox 31"/>
          <p:cNvSpPr/>
          <p:nvPr/>
        </p:nvSpPr>
        <p:spPr>
          <a:xfrm>
            <a:off x="8774280" y="4729680"/>
            <a:ext cx="23907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all over, and edged away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17" name="TextBox 32"/>
          <p:cNvSpPr/>
          <p:nvPr/>
        </p:nvSpPr>
        <p:spPr>
          <a:xfrm>
            <a:off x="8774280" y="4484880"/>
            <a:ext cx="23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18" name="TextBox 33"/>
          <p:cNvSpPr/>
          <p:nvPr/>
        </p:nvSpPr>
        <p:spPr>
          <a:xfrm>
            <a:off x="1027080" y="2783520"/>
            <a:ext cx="23925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all over, and edged away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19" name="TextBox 34"/>
          <p:cNvSpPr/>
          <p:nvPr/>
        </p:nvSpPr>
        <p:spPr>
          <a:xfrm>
            <a:off x="1027080" y="2538720"/>
            <a:ext cx="239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20" name="TextBox 35"/>
          <p:cNvSpPr/>
          <p:nvPr/>
        </p:nvSpPr>
        <p:spPr>
          <a:xfrm>
            <a:off x="1027080" y="4729680"/>
            <a:ext cx="23925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all over, and edged away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21" name="TextBox 36"/>
          <p:cNvSpPr/>
          <p:nvPr/>
        </p:nvSpPr>
        <p:spPr>
          <a:xfrm>
            <a:off x="1027080" y="4484880"/>
            <a:ext cx="239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22" name="Oval 37"/>
          <p:cNvSpPr/>
          <p:nvPr/>
        </p:nvSpPr>
        <p:spPr>
          <a:xfrm>
            <a:off x="3860640" y="2846520"/>
            <a:ext cx="725760" cy="723600"/>
          </a:xfrm>
          <a:prstGeom prst="ellipse">
            <a:avLst/>
          </a:prstGeom>
          <a:solidFill>
            <a:srgbClr val="fe6b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23" name="Oval 38"/>
          <p:cNvSpPr/>
          <p:nvPr/>
        </p:nvSpPr>
        <p:spPr>
          <a:xfrm>
            <a:off x="4456080" y="4738680"/>
            <a:ext cx="725400" cy="725400"/>
          </a:xfrm>
          <a:prstGeom prst="ellipse">
            <a:avLst/>
          </a:prstGeom>
          <a:solidFill>
            <a:srgbClr val="fe6b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24" name="Oval 39"/>
          <p:cNvSpPr/>
          <p:nvPr/>
        </p:nvSpPr>
        <p:spPr>
          <a:xfrm>
            <a:off x="7010280" y="4745160"/>
            <a:ext cx="725760" cy="725400"/>
          </a:xfrm>
          <a:prstGeom prst="ellipse">
            <a:avLst/>
          </a:prstGeom>
          <a:solidFill>
            <a:srgbClr val="fe6b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25" name="Oval 42"/>
          <p:cNvSpPr/>
          <p:nvPr/>
        </p:nvSpPr>
        <p:spPr>
          <a:xfrm>
            <a:off x="7605720" y="2843280"/>
            <a:ext cx="725400" cy="725400"/>
          </a:xfrm>
          <a:prstGeom prst="ellipse">
            <a:avLst/>
          </a:prstGeom>
          <a:solidFill>
            <a:srgbClr val="fe6b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26" name="TextBox 43"/>
          <p:cNvSpPr/>
          <p:nvPr/>
        </p:nvSpPr>
        <p:spPr>
          <a:xfrm>
            <a:off x="3860640" y="3053160"/>
            <a:ext cx="72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262626"/>
                </a:solidFill>
                <a:latin typeface="Open Sans"/>
              </a:rPr>
              <a:t>01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27" name="TextBox 44"/>
          <p:cNvSpPr/>
          <p:nvPr/>
        </p:nvSpPr>
        <p:spPr>
          <a:xfrm>
            <a:off x="7605720" y="305460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262626"/>
                </a:solidFill>
                <a:latin typeface="Open Sans"/>
              </a:rPr>
              <a:t>02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28" name="TextBox 45"/>
          <p:cNvSpPr/>
          <p:nvPr/>
        </p:nvSpPr>
        <p:spPr>
          <a:xfrm>
            <a:off x="7010280" y="4950360"/>
            <a:ext cx="72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262626"/>
                </a:solidFill>
                <a:latin typeface="Open Sans"/>
              </a:rPr>
              <a:t>04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29" name="TextBox 46"/>
          <p:cNvSpPr/>
          <p:nvPr/>
        </p:nvSpPr>
        <p:spPr>
          <a:xfrm>
            <a:off x="4456080" y="49550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262626"/>
                </a:solidFill>
                <a:latin typeface="Open Sans"/>
              </a:rPr>
              <a:t>03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930" name="Graphic 1"/>
          <p:cNvGrpSpPr/>
          <p:nvPr/>
        </p:nvGrpSpPr>
        <p:grpSpPr>
          <a:xfrm>
            <a:off x="5186520" y="3170160"/>
            <a:ext cx="398160" cy="379440"/>
            <a:chOff x="5186520" y="3170160"/>
            <a:chExt cx="398160" cy="379440"/>
          </a:xfrm>
        </p:grpSpPr>
        <p:sp>
          <p:nvSpPr>
            <p:cNvPr id="1931" name="Freeform: Shape 733"/>
            <p:cNvSpPr/>
            <p:nvPr/>
          </p:nvSpPr>
          <p:spPr>
            <a:xfrm>
              <a:off x="5306400" y="3517560"/>
              <a:ext cx="146880" cy="29160"/>
            </a:xfrm>
            <a:custGeom>
              <a:avLst/>
              <a:gdLst/>
              <a:ahLst/>
              <a:rect l="l" t="t" r="r" b="b"/>
              <a:pathLst>
                <a:path w="236833" h="47366">
                  <a:moveTo>
                    <a:pt x="213151" y="47367"/>
                  </a:moveTo>
                  <a:lnTo>
                    <a:pt x="23683" y="47367"/>
                  </a:lnTo>
                  <a:cubicBezTo>
                    <a:pt x="10579" y="47367"/>
                    <a:pt x="0" y="36788"/>
                    <a:pt x="0" y="23683"/>
                  </a:cubicBezTo>
                  <a:lnTo>
                    <a:pt x="0" y="23683"/>
                  </a:lnTo>
                  <a:cubicBezTo>
                    <a:pt x="0" y="10579"/>
                    <a:pt x="10579" y="0"/>
                    <a:pt x="23683" y="0"/>
                  </a:cubicBezTo>
                  <a:lnTo>
                    <a:pt x="213151" y="0"/>
                  </a:lnTo>
                  <a:cubicBezTo>
                    <a:pt x="226255" y="0"/>
                    <a:pt x="236834" y="10579"/>
                    <a:pt x="236834" y="23683"/>
                  </a:cubicBezTo>
                  <a:lnTo>
                    <a:pt x="236834" y="23683"/>
                  </a:lnTo>
                  <a:cubicBezTo>
                    <a:pt x="236834" y="36788"/>
                    <a:pt x="226255" y="47367"/>
                    <a:pt x="213151" y="47367"/>
                  </a:cubicBezTo>
                  <a:close/>
                </a:path>
              </a:pathLst>
            </a:custGeom>
            <a:solidFill>
              <a:srgbClr val="457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932" name="Freeform: Shape 734"/>
            <p:cNvSpPr/>
            <p:nvPr/>
          </p:nvSpPr>
          <p:spPr>
            <a:xfrm>
              <a:off x="5189400" y="3244680"/>
              <a:ext cx="361440" cy="232920"/>
            </a:xfrm>
            <a:custGeom>
              <a:avLst/>
              <a:gdLst/>
              <a:ahLst/>
              <a:rect l="l" t="t" r="r" b="b"/>
              <a:pathLst>
                <a:path w="582743" h="375888">
                  <a:moveTo>
                    <a:pt x="575737" y="335587"/>
                  </a:moveTo>
                  <a:lnTo>
                    <a:pt x="425742" y="187487"/>
                  </a:lnTo>
                  <a:lnTo>
                    <a:pt x="191908" y="187487"/>
                  </a:lnTo>
                  <a:lnTo>
                    <a:pt x="41755" y="8440"/>
                  </a:lnTo>
                  <a:cubicBezTo>
                    <a:pt x="33387" y="-1507"/>
                    <a:pt x="18387" y="-2928"/>
                    <a:pt x="8440" y="5598"/>
                  </a:cubicBezTo>
                  <a:cubicBezTo>
                    <a:pt x="-1507" y="14124"/>
                    <a:pt x="-2928" y="28966"/>
                    <a:pt x="5598" y="38913"/>
                  </a:cubicBezTo>
                  <a:lnTo>
                    <a:pt x="169961" y="234696"/>
                  </a:lnTo>
                  <a:lnTo>
                    <a:pt x="173277" y="234696"/>
                  </a:lnTo>
                  <a:lnTo>
                    <a:pt x="408216" y="234696"/>
                  </a:lnTo>
                  <a:lnTo>
                    <a:pt x="542422" y="368902"/>
                  </a:lnTo>
                  <a:cubicBezTo>
                    <a:pt x="551737" y="378217"/>
                    <a:pt x="566737" y="378217"/>
                    <a:pt x="575894" y="368902"/>
                  </a:cubicBezTo>
                  <a:cubicBezTo>
                    <a:pt x="585052" y="359586"/>
                    <a:pt x="585052" y="344745"/>
                    <a:pt x="575737" y="335587"/>
                  </a:cubicBezTo>
                  <a:close/>
                </a:path>
              </a:pathLst>
            </a:custGeom>
            <a:solidFill>
              <a:srgbClr val="457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933" name="Freeform: Shape 735"/>
            <p:cNvSpPr/>
            <p:nvPr/>
          </p:nvSpPr>
          <p:spPr>
            <a:xfrm>
              <a:off x="5355360" y="3390480"/>
              <a:ext cx="48960" cy="97560"/>
            </a:xfrm>
            <a:custGeom>
              <a:avLst/>
              <a:gdLst/>
              <a:ahLst/>
              <a:rect l="l" t="t" r="r" b="b"/>
              <a:pathLst>
                <a:path w="78944" h="157889">
                  <a:moveTo>
                    <a:pt x="0" y="0"/>
                  </a:moveTo>
                  <a:lnTo>
                    <a:pt x="78945" y="0"/>
                  </a:lnTo>
                  <a:lnTo>
                    <a:pt x="78945" y="157889"/>
                  </a:lnTo>
                  <a:lnTo>
                    <a:pt x="0" y="1578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934" name="Freeform: Shape 736"/>
            <p:cNvSpPr/>
            <p:nvPr/>
          </p:nvSpPr>
          <p:spPr>
            <a:xfrm>
              <a:off x="5365440" y="3322080"/>
              <a:ext cx="29160" cy="38880"/>
            </a:xfrm>
            <a:custGeom>
              <a:avLst/>
              <a:gdLst/>
              <a:ahLst/>
              <a:rect l="l" t="t" r="r" b="b"/>
              <a:pathLst>
                <a:path w="47366" h="63155">
                  <a:moveTo>
                    <a:pt x="0" y="0"/>
                  </a:moveTo>
                  <a:lnTo>
                    <a:pt x="-18169" y="0"/>
                  </a:lnTo>
                  <a:lnTo>
                    <a:pt x="-18169" y="-2380"/>
                  </a:lnTo>
                  <a:lnTo>
                    <a:pt x="0" y="-23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935" name="Freeform: Shape 737"/>
            <p:cNvSpPr/>
            <p:nvPr/>
          </p:nvSpPr>
          <p:spPr>
            <a:xfrm>
              <a:off x="5326200" y="3292560"/>
              <a:ext cx="107640" cy="29160"/>
            </a:xfrm>
            <a:custGeom>
              <a:avLst/>
              <a:gdLst/>
              <a:ahLst/>
              <a:rect l="l" t="t" r="r" b="b"/>
              <a:pathLst>
                <a:path w="173678" h="47366">
                  <a:moveTo>
                    <a:pt x="149995" y="47367"/>
                  </a:moveTo>
                  <a:lnTo>
                    <a:pt x="23683" y="47367"/>
                  </a:lnTo>
                  <a:cubicBezTo>
                    <a:pt x="10579" y="47367"/>
                    <a:pt x="0" y="36788"/>
                    <a:pt x="0" y="23683"/>
                  </a:cubicBezTo>
                  <a:lnTo>
                    <a:pt x="0" y="23683"/>
                  </a:lnTo>
                  <a:cubicBezTo>
                    <a:pt x="0" y="10579"/>
                    <a:pt x="10579" y="0"/>
                    <a:pt x="23683" y="0"/>
                  </a:cubicBezTo>
                  <a:lnTo>
                    <a:pt x="149995" y="0"/>
                  </a:lnTo>
                  <a:cubicBezTo>
                    <a:pt x="163100" y="0"/>
                    <a:pt x="173678" y="10579"/>
                    <a:pt x="173678" y="23683"/>
                  </a:cubicBezTo>
                  <a:lnTo>
                    <a:pt x="173678" y="23683"/>
                  </a:lnTo>
                  <a:cubicBezTo>
                    <a:pt x="173678" y="36788"/>
                    <a:pt x="163100" y="47367"/>
                    <a:pt x="149995" y="47367"/>
                  </a:cubicBezTo>
                  <a:close/>
                </a:path>
              </a:pathLst>
            </a:custGeom>
            <a:solidFill>
              <a:srgbClr val="edf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936" name="Freeform: Shape 738"/>
            <p:cNvSpPr/>
            <p:nvPr/>
          </p:nvSpPr>
          <p:spPr>
            <a:xfrm>
              <a:off x="5279760" y="3182040"/>
              <a:ext cx="68760" cy="68760"/>
            </a:xfrm>
            <a:custGeom>
              <a:avLst/>
              <a:gdLst/>
              <a:ahLst/>
              <a:rect l="l" t="t" r="r" b="b"/>
              <a:pathLst>
                <a:path w="111114" h="111114">
                  <a:moveTo>
                    <a:pt x="78155" y="111115"/>
                  </a:moveTo>
                  <a:lnTo>
                    <a:pt x="0" y="32959"/>
                  </a:lnTo>
                  <a:lnTo>
                    <a:pt x="16736" y="16223"/>
                  </a:lnTo>
                  <a:cubicBezTo>
                    <a:pt x="38367" y="-5408"/>
                    <a:pt x="73261" y="-5408"/>
                    <a:pt x="94892" y="16223"/>
                  </a:cubicBezTo>
                  <a:lnTo>
                    <a:pt x="94892" y="16223"/>
                  </a:lnTo>
                  <a:cubicBezTo>
                    <a:pt x="116522" y="37854"/>
                    <a:pt x="116522" y="72748"/>
                    <a:pt x="94892" y="94378"/>
                  </a:cubicBezTo>
                  <a:lnTo>
                    <a:pt x="78155" y="111115"/>
                  </a:lnTo>
                  <a:close/>
                </a:path>
              </a:pathLst>
            </a:custGeom>
            <a:solidFill>
              <a:srgbClr val="fcbf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937" name="Freeform: Shape 739"/>
            <p:cNvSpPr/>
            <p:nvPr/>
          </p:nvSpPr>
          <p:spPr>
            <a:xfrm>
              <a:off x="5335920" y="3458880"/>
              <a:ext cx="87840" cy="87840"/>
            </a:xfrm>
            <a:custGeom>
              <a:avLst/>
              <a:gdLst/>
              <a:ahLst/>
              <a:rect l="l" t="t" r="r" b="b"/>
              <a:pathLst>
                <a:path w="142100" h="142100">
                  <a:moveTo>
                    <a:pt x="142100" y="71050"/>
                  </a:moveTo>
                  <a:cubicBezTo>
                    <a:pt x="142100" y="110290"/>
                    <a:pt x="110290" y="142100"/>
                    <a:pt x="71050" y="142100"/>
                  </a:cubicBezTo>
                  <a:cubicBezTo>
                    <a:pt x="31810" y="142100"/>
                    <a:pt x="0" y="110290"/>
                    <a:pt x="0" y="71050"/>
                  </a:cubicBezTo>
                  <a:cubicBezTo>
                    <a:pt x="0" y="31810"/>
                    <a:pt x="31810" y="0"/>
                    <a:pt x="71050" y="0"/>
                  </a:cubicBezTo>
                  <a:cubicBezTo>
                    <a:pt x="110290" y="0"/>
                    <a:pt x="142100" y="31810"/>
                    <a:pt x="142100" y="71050"/>
                  </a:cubicBezTo>
                  <a:close/>
                </a:path>
              </a:pathLst>
            </a:custGeom>
            <a:solidFill>
              <a:srgbClr val="457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938" name="Freeform: Shape 740"/>
            <p:cNvSpPr/>
            <p:nvPr/>
          </p:nvSpPr>
          <p:spPr>
            <a:xfrm>
              <a:off x="5522040" y="3243600"/>
              <a:ext cx="58680" cy="38880"/>
            </a:xfrm>
            <a:custGeom>
              <a:avLst/>
              <a:gdLst/>
              <a:ahLst/>
              <a:rect l="l" t="t" r="r" b="b"/>
              <a:pathLst>
                <a:path w="94733" h="63155">
                  <a:moveTo>
                    <a:pt x="0" y="0"/>
                  </a:moveTo>
                  <a:lnTo>
                    <a:pt x="94734" y="0"/>
                  </a:lnTo>
                  <a:lnTo>
                    <a:pt x="94734" y="63156"/>
                  </a:lnTo>
                  <a:lnTo>
                    <a:pt x="0" y="63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8ca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pic>
          <p:nvPicPr>
            <p:cNvPr id="1939" name="Graphic 1" descr=""/>
            <p:cNvPicPr/>
            <p:nvPr/>
          </p:nvPicPr>
          <p:blipFill>
            <a:blip r:embed="rId1"/>
            <a:stretch/>
          </p:blipFill>
          <p:spPr>
            <a:xfrm>
              <a:off x="5186520" y="3170160"/>
              <a:ext cx="398160" cy="37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40" name="Graphic 1"/>
          <p:cNvGrpSpPr/>
          <p:nvPr/>
        </p:nvGrpSpPr>
        <p:grpSpPr>
          <a:xfrm>
            <a:off x="5235480" y="4394160"/>
            <a:ext cx="351000" cy="409680"/>
            <a:chOff x="5235480" y="4394160"/>
            <a:chExt cx="351000" cy="409680"/>
          </a:xfrm>
        </p:grpSpPr>
        <p:sp>
          <p:nvSpPr>
            <p:cNvPr id="1941" name="Freeform: Shape 962"/>
            <p:cNvSpPr/>
            <p:nvPr/>
          </p:nvSpPr>
          <p:spPr>
            <a:xfrm>
              <a:off x="5239080" y="4398480"/>
              <a:ext cx="285480" cy="400680"/>
            </a:xfrm>
            <a:custGeom>
              <a:avLst/>
              <a:gdLst/>
              <a:ahLst/>
              <a:rect l="l" t="t" r="r" b="b"/>
              <a:pathLst>
                <a:path w="457878" h="647346">
                  <a:moveTo>
                    <a:pt x="252623" y="513140"/>
                  </a:moveTo>
                  <a:cubicBezTo>
                    <a:pt x="252623" y="421722"/>
                    <a:pt x="326989" y="347356"/>
                    <a:pt x="418407" y="347356"/>
                  </a:cubicBezTo>
                  <a:cubicBezTo>
                    <a:pt x="431985" y="347356"/>
                    <a:pt x="445248" y="349251"/>
                    <a:pt x="457879" y="352251"/>
                  </a:cubicBezTo>
                  <a:lnTo>
                    <a:pt x="457879" y="31578"/>
                  </a:lnTo>
                  <a:cubicBezTo>
                    <a:pt x="457879" y="14210"/>
                    <a:pt x="443669" y="0"/>
                    <a:pt x="426301" y="0"/>
                  </a:cubicBezTo>
                  <a:lnTo>
                    <a:pt x="31578" y="0"/>
                  </a:lnTo>
                  <a:cubicBezTo>
                    <a:pt x="14210" y="0"/>
                    <a:pt x="0" y="14210"/>
                    <a:pt x="0" y="31578"/>
                  </a:cubicBezTo>
                  <a:lnTo>
                    <a:pt x="0" y="615768"/>
                  </a:lnTo>
                  <a:cubicBezTo>
                    <a:pt x="0" y="633136"/>
                    <a:pt x="14210" y="647346"/>
                    <a:pt x="31578" y="647346"/>
                  </a:cubicBezTo>
                  <a:lnTo>
                    <a:pt x="321463" y="647346"/>
                  </a:lnTo>
                  <a:cubicBezTo>
                    <a:pt x="279780" y="617189"/>
                    <a:pt x="252623" y="568244"/>
                    <a:pt x="252623" y="513140"/>
                  </a:cubicBezTo>
                  <a:close/>
                </a:path>
              </a:pathLst>
            </a:custGeom>
            <a:solidFill>
              <a:srgbClr val="edf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942" name="Freeform: Shape 963"/>
            <p:cNvSpPr/>
            <p:nvPr/>
          </p:nvSpPr>
          <p:spPr>
            <a:xfrm>
              <a:off x="5416200" y="4633200"/>
              <a:ext cx="167400" cy="165960"/>
            </a:xfrm>
            <a:custGeom>
              <a:avLst/>
              <a:gdLst/>
              <a:ahLst/>
              <a:rect l="l" t="t" r="r" b="b"/>
              <a:pathLst>
                <a:path w="268411" h="268411">
                  <a:moveTo>
                    <a:pt x="268412" y="134206"/>
                  </a:moveTo>
                  <a:cubicBezTo>
                    <a:pt x="268412" y="208326"/>
                    <a:pt x="208326" y="268412"/>
                    <a:pt x="134206" y="268412"/>
                  </a:cubicBezTo>
                  <a:cubicBezTo>
                    <a:pt x="60086" y="268412"/>
                    <a:pt x="0" y="208326"/>
                    <a:pt x="0" y="134206"/>
                  </a:cubicBezTo>
                  <a:cubicBezTo>
                    <a:pt x="0" y="60086"/>
                    <a:pt x="60086" y="0"/>
                    <a:pt x="134206" y="0"/>
                  </a:cubicBezTo>
                  <a:cubicBezTo>
                    <a:pt x="208326" y="0"/>
                    <a:pt x="268412" y="60086"/>
                    <a:pt x="268412" y="134206"/>
                  </a:cubicBezTo>
                  <a:close/>
                </a:path>
              </a:pathLst>
            </a:custGeom>
            <a:solidFill>
              <a:srgbClr val="ffc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943" name="Freeform: Shape 964"/>
            <p:cNvSpPr/>
            <p:nvPr/>
          </p:nvSpPr>
          <p:spPr>
            <a:xfrm>
              <a:off x="5278320" y="4623480"/>
              <a:ext cx="29520" cy="29160"/>
            </a:xfrm>
            <a:custGeom>
              <a:avLst/>
              <a:gdLst/>
              <a:ahLst/>
              <a:rect l="l" t="t" r="r" b="b"/>
              <a:pathLst>
                <a:path w="47366" h="47366">
                  <a:moveTo>
                    <a:pt x="0" y="0"/>
                  </a:moveTo>
                  <a:lnTo>
                    <a:pt x="-18169" y="0"/>
                  </a:lnTo>
                  <a:lnTo>
                    <a:pt x="-18169" y="-18169"/>
                  </a:lnTo>
                  <a:lnTo>
                    <a:pt x="0" y="-181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ec4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944" name="Freeform: Shape 965"/>
            <p:cNvSpPr/>
            <p:nvPr/>
          </p:nvSpPr>
          <p:spPr>
            <a:xfrm>
              <a:off x="5278320" y="4682160"/>
              <a:ext cx="29520" cy="29160"/>
            </a:xfrm>
            <a:custGeom>
              <a:avLst/>
              <a:gdLst/>
              <a:ahLst/>
              <a:rect l="l" t="t" r="r" b="b"/>
              <a:pathLst>
                <a:path w="47366" h="47366">
                  <a:moveTo>
                    <a:pt x="0" y="0"/>
                  </a:moveTo>
                  <a:lnTo>
                    <a:pt x="-18169" y="0"/>
                  </a:lnTo>
                  <a:lnTo>
                    <a:pt x="-18169" y="-18169"/>
                  </a:lnTo>
                  <a:lnTo>
                    <a:pt x="0" y="-181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ec4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945" name="Freeform: Shape 966"/>
            <p:cNvSpPr/>
            <p:nvPr/>
          </p:nvSpPr>
          <p:spPr>
            <a:xfrm>
              <a:off x="5278320" y="4740840"/>
              <a:ext cx="29520" cy="29160"/>
            </a:xfrm>
            <a:custGeom>
              <a:avLst/>
              <a:gdLst/>
              <a:ahLst/>
              <a:rect l="l" t="t" r="r" b="b"/>
              <a:pathLst>
                <a:path w="47366" h="47366">
                  <a:moveTo>
                    <a:pt x="0" y="0"/>
                  </a:moveTo>
                  <a:lnTo>
                    <a:pt x="-18169" y="0"/>
                  </a:lnTo>
                  <a:lnTo>
                    <a:pt x="-18169" y="-18169"/>
                  </a:lnTo>
                  <a:lnTo>
                    <a:pt x="0" y="-181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946" name="Freeform: Shape 967"/>
            <p:cNvSpPr/>
            <p:nvPr/>
          </p:nvSpPr>
          <p:spPr>
            <a:xfrm>
              <a:off x="5308200" y="4447440"/>
              <a:ext cx="147600" cy="136800"/>
            </a:xfrm>
            <a:custGeom>
              <a:avLst/>
              <a:gdLst/>
              <a:ahLst/>
              <a:rect l="l" t="t" r="r" b="b"/>
              <a:pathLst>
                <a:path w="236664" h="221086">
                  <a:moveTo>
                    <a:pt x="234933" y="48154"/>
                  </a:moveTo>
                  <a:cubicBezTo>
                    <a:pt x="229722" y="25576"/>
                    <a:pt x="211407" y="7261"/>
                    <a:pt x="188987" y="1893"/>
                  </a:cubicBezTo>
                  <a:cubicBezTo>
                    <a:pt x="165619" y="-3634"/>
                    <a:pt x="143830" y="3787"/>
                    <a:pt x="129305" y="18471"/>
                  </a:cubicBezTo>
                  <a:cubicBezTo>
                    <a:pt x="123305" y="24629"/>
                    <a:pt x="113516" y="24629"/>
                    <a:pt x="107358" y="18471"/>
                  </a:cubicBezTo>
                  <a:cubicBezTo>
                    <a:pt x="92674" y="3787"/>
                    <a:pt x="71043" y="-3791"/>
                    <a:pt x="47676" y="1893"/>
                  </a:cubicBezTo>
                  <a:cubicBezTo>
                    <a:pt x="25098" y="7261"/>
                    <a:pt x="6940" y="25576"/>
                    <a:pt x="1730" y="48154"/>
                  </a:cubicBezTo>
                  <a:cubicBezTo>
                    <a:pt x="-3165" y="69469"/>
                    <a:pt x="2677" y="89363"/>
                    <a:pt x="14835" y="103731"/>
                  </a:cubicBezTo>
                  <a:cubicBezTo>
                    <a:pt x="35360" y="127888"/>
                    <a:pt x="47360" y="157887"/>
                    <a:pt x="47360" y="189465"/>
                  </a:cubicBezTo>
                  <a:lnTo>
                    <a:pt x="47360" y="189465"/>
                  </a:lnTo>
                  <a:cubicBezTo>
                    <a:pt x="47360" y="207465"/>
                    <a:pt x="62360" y="221832"/>
                    <a:pt x="80517" y="221043"/>
                  </a:cubicBezTo>
                  <a:cubicBezTo>
                    <a:pt x="88569" y="220727"/>
                    <a:pt x="94727" y="213464"/>
                    <a:pt x="94727" y="205254"/>
                  </a:cubicBezTo>
                  <a:cubicBezTo>
                    <a:pt x="94727" y="205254"/>
                    <a:pt x="94727" y="142098"/>
                    <a:pt x="118410" y="142098"/>
                  </a:cubicBezTo>
                  <a:cubicBezTo>
                    <a:pt x="142094" y="142098"/>
                    <a:pt x="142094" y="205254"/>
                    <a:pt x="142094" y="205254"/>
                  </a:cubicBezTo>
                  <a:cubicBezTo>
                    <a:pt x="142094" y="213306"/>
                    <a:pt x="148251" y="220569"/>
                    <a:pt x="156304" y="221043"/>
                  </a:cubicBezTo>
                  <a:cubicBezTo>
                    <a:pt x="174461" y="221990"/>
                    <a:pt x="189460" y="207465"/>
                    <a:pt x="189460" y="189465"/>
                  </a:cubicBezTo>
                  <a:lnTo>
                    <a:pt x="189460" y="189465"/>
                  </a:lnTo>
                  <a:cubicBezTo>
                    <a:pt x="189460" y="157887"/>
                    <a:pt x="201460" y="127730"/>
                    <a:pt x="221986" y="103731"/>
                  </a:cubicBezTo>
                  <a:cubicBezTo>
                    <a:pt x="233985" y="89363"/>
                    <a:pt x="239827" y="69469"/>
                    <a:pt x="234933" y="48154"/>
                  </a:cubicBezTo>
                  <a:close/>
                </a:path>
              </a:pathLst>
            </a:custGeom>
            <a:solidFill>
              <a:srgbClr val="f1fa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pic>
          <p:nvPicPr>
            <p:cNvPr id="1947" name="Graphic 1" descr=""/>
            <p:cNvPicPr/>
            <p:nvPr/>
          </p:nvPicPr>
          <p:blipFill>
            <a:blip r:embed="rId2"/>
            <a:stretch/>
          </p:blipFill>
          <p:spPr>
            <a:xfrm>
              <a:off x="5235480" y="4394160"/>
              <a:ext cx="351000" cy="409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48" name="Graphic 1"/>
          <p:cNvGrpSpPr/>
          <p:nvPr/>
        </p:nvGrpSpPr>
        <p:grpSpPr>
          <a:xfrm>
            <a:off x="6629400" y="3165480"/>
            <a:ext cx="322200" cy="320760"/>
            <a:chOff x="6629400" y="3165480"/>
            <a:chExt cx="322200" cy="320760"/>
          </a:xfrm>
        </p:grpSpPr>
        <p:sp>
          <p:nvSpPr>
            <p:cNvPr id="1949" name="Freeform: Shape 671"/>
            <p:cNvSpPr/>
            <p:nvPr/>
          </p:nvSpPr>
          <p:spPr>
            <a:xfrm>
              <a:off x="6635880" y="3170160"/>
              <a:ext cx="313560" cy="312120"/>
            </a:xfrm>
            <a:custGeom>
              <a:avLst/>
              <a:gdLst/>
              <a:ahLst/>
              <a:rect l="l" t="t" r="r" b="b"/>
              <a:pathLst>
                <a:path w="647183" h="647391">
                  <a:moveTo>
                    <a:pt x="512876" y="347236"/>
                  </a:moveTo>
                  <a:cubicBezTo>
                    <a:pt x="528349" y="347236"/>
                    <a:pt x="543191" y="349446"/>
                    <a:pt x="557559" y="353551"/>
                  </a:cubicBezTo>
                  <a:cubicBezTo>
                    <a:pt x="565611" y="339499"/>
                    <a:pt x="575874" y="326710"/>
                    <a:pt x="588031" y="315658"/>
                  </a:cubicBezTo>
                  <a:cubicBezTo>
                    <a:pt x="630504" y="276975"/>
                    <a:pt x="654503" y="218240"/>
                    <a:pt x="645187" y="154453"/>
                  </a:cubicBezTo>
                  <a:cubicBezTo>
                    <a:pt x="633977" y="76456"/>
                    <a:pt x="571137" y="13616"/>
                    <a:pt x="493298" y="2090"/>
                  </a:cubicBezTo>
                  <a:cubicBezTo>
                    <a:pt x="443721" y="-5331"/>
                    <a:pt x="397301" y="7458"/>
                    <a:pt x="360829" y="33352"/>
                  </a:cubicBezTo>
                  <a:cubicBezTo>
                    <a:pt x="338408" y="49299"/>
                    <a:pt x="308725" y="49299"/>
                    <a:pt x="286305" y="33352"/>
                  </a:cubicBezTo>
                  <a:cubicBezTo>
                    <a:pt x="249832" y="7458"/>
                    <a:pt x="203413" y="-5331"/>
                    <a:pt x="153836" y="2090"/>
                  </a:cubicBezTo>
                  <a:cubicBezTo>
                    <a:pt x="75996" y="13616"/>
                    <a:pt x="13156" y="76614"/>
                    <a:pt x="1946" y="154453"/>
                  </a:cubicBezTo>
                  <a:cubicBezTo>
                    <a:pt x="-7211" y="218240"/>
                    <a:pt x="16630" y="276975"/>
                    <a:pt x="59102" y="315658"/>
                  </a:cubicBezTo>
                  <a:cubicBezTo>
                    <a:pt x="91785" y="345499"/>
                    <a:pt x="110416" y="387656"/>
                    <a:pt x="110416" y="432022"/>
                  </a:cubicBezTo>
                  <a:lnTo>
                    <a:pt x="110416" y="521072"/>
                  </a:lnTo>
                  <a:cubicBezTo>
                    <a:pt x="110416" y="591333"/>
                    <a:pt x="167730" y="648173"/>
                    <a:pt x="238149" y="647383"/>
                  </a:cubicBezTo>
                  <a:cubicBezTo>
                    <a:pt x="255043" y="647226"/>
                    <a:pt x="268306" y="632700"/>
                    <a:pt x="268306" y="615806"/>
                  </a:cubicBezTo>
                  <a:cubicBezTo>
                    <a:pt x="268306" y="615806"/>
                    <a:pt x="268306" y="378972"/>
                    <a:pt x="323567" y="378972"/>
                  </a:cubicBezTo>
                  <a:cubicBezTo>
                    <a:pt x="342513" y="378972"/>
                    <a:pt x="354829" y="406602"/>
                    <a:pt x="363039" y="443075"/>
                  </a:cubicBezTo>
                  <a:cubicBezTo>
                    <a:pt x="389407" y="386392"/>
                    <a:pt x="446563" y="347236"/>
                    <a:pt x="512876" y="347236"/>
                  </a:cubicBezTo>
                  <a:close/>
                </a:path>
              </a:pathLst>
            </a:custGeom>
            <a:solidFill>
              <a:srgbClr val="f1fa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950" name="Freeform: Shape 672"/>
            <p:cNvSpPr/>
            <p:nvPr/>
          </p:nvSpPr>
          <p:spPr>
            <a:xfrm>
              <a:off x="6819480" y="3353040"/>
              <a:ext cx="129960" cy="129240"/>
            </a:xfrm>
            <a:custGeom>
              <a:avLst/>
              <a:gdLst/>
              <a:ahLst/>
              <a:rect l="l" t="t" r="r" b="b"/>
              <a:pathLst>
                <a:path w="268411" h="268411">
                  <a:moveTo>
                    <a:pt x="268412" y="134206"/>
                  </a:moveTo>
                  <a:cubicBezTo>
                    <a:pt x="268412" y="208326"/>
                    <a:pt x="208326" y="268412"/>
                    <a:pt x="134206" y="268412"/>
                  </a:cubicBezTo>
                  <a:cubicBezTo>
                    <a:pt x="60086" y="268412"/>
                    <a:pt x="0" y="208326"/>
                    <a:pt x="0" y="134206"/>
                  </a:cubicBezTo>
                  <a:cubicBezTo>
                    <a:pt x="0" y="60086"/>
                    <a:pt x="60086" y="0"/>
                    <a:pt x="134206" y="0"/>
                  </a:cubicBezTo>
                  <a:cubicBezTo>
                    <a:pt x="208326" y="0"/>
                    <a:pt x="268412" y="60086"/>
                    <a:pt x="268412" y="134206"/>
                  </a:cubicBezTo>
                  <a:close/>
                </a:path>
              </a:pathLst>
            </a:custGeom>
            <a:solidFill>
              <a:srgbClr val="06d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pic>
          <p:nvPicPr>
            <p:cNvPr id="1951" name="Graphic 1" descr=""/>
            <p:cNvPicPr/>
            <p:nvPr/>
          </p:nvPicPr>
          <p:blipFill>
            <a:blip r:embed="rId3"/>
            <a:stretch/>
          </p:blipFill>
          <p:spPr>
            <a:xfrm>
              <a:off x="6629400" y="3165480"/>
              <a:ext cx="322200" cy="320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52" name="Group 93"/>
          <p:cNvGrpSpPr/>
          <p:nvPr/>
        </p:nvGrpSpPr>
        <p:grpSpPr>
          <a:xfrm>
            <a:off x="6558120" y="4389480"/>
            <a:ext cx="365040" cy="365040"/>
            <a:chOff x="6558120" y="4389480"/>
            <a:chExt cx="365040" cy="365040"/>
          </a:xfrm>
        </p:grpSpPr>
        <p:sp>
          <p:nvSpPr>
            <p:cNvPr id="1953" name="Freeform: Shape 963"/>
            <p:cNvSpPr/>
            <p:nvPr/>
          </p:nvSpPr>
          <p:spPr>
            <a:xfrm>
              <a:off x="6568200" y="4399560"/>
              <a:ext cx="344880" cy="344880"/>
            </a:xfrm>
            <a:custGeom>
              <a:avLst/>
              <a:gdLst/>
              <a:ahLst/>
              <a:rect l="l" t="t" r="r" b="b"/>
              <a:pathLst>
                <a:path w="268411" h="268411">
                  <a:moveTo>
                    <a:pt x="268412" y="134206"/>
                  </a:moveTo>
                  <a:cubicBezTo>
                    <a:pt x="268412" y="208326"/>
                    <a:pt x="208326" y="268412"/>
                    <a:pt x="134206" y="268412"/>
                  </a:cubicBezTo>
                  <a:cubicBezTo>
                    <a:pt x="60086" y="268412"/>
                    <a:pt x="0" y="208326"/>
                    <a:pt x="0" y="134206"/>
                  </a:cubicBezTo>
                  <a:cubicBezTo>
                    <a:pt x="0" y="60086"/>
                    <a:pt x="60086" y="0"/>
                    <a:pt x="134206" y="0"/>
                  </a:cubicBezTo>
                  <a:cubicBezTo>
                    <a:pt x="208326" y="0"/>
                    <a:pt x="268412" y="60086"/>
                    <a:pt x="268412" y="134206"/>
                  </a:cubicBezTo>
                  <a:close/>
                </a:path>
              </a:pathLst>
            </a:custGeom>
            <a:solidFill>
              <a:srgbClr val="ffc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954" name="Freeform: Shape 970"/>
            <p:cNvSpPr/>
            <p:nvPr/>
          </p:nvSpPr>
          <p:spPr>
            <a:xfrm>
              <a:off x="6558120" y="4389480"/>
              <a:ext cx="365040" cy="365040"/>
            </a:xfrm>
            <a:custGeom>
              <a:avLst/>
              <a:gdLst/>
              <a:ahLst/>
              <a:rect l="l" t="t" r="r" b="b"/>
              <a:pathLst>
                <a:path w="284200" h="284200">
                  <a:moveTo>
                    <a:pt x="142100" y="0"/>
                  </a:moveTo>
                  <a:cubicBezTo>
                    <a:pt x="63787" y="0"/>
                    <a:pt x="0" y="63787"/>
                    <a:pt x="0" y="142100"/>
                  </a:cubicBezTo>
                  <a:cubicBezTo>
                    <a:pt x="0" y="220413"/>
                    <a:pt x="63787" y="284201"/>
                    <a:pt x="142100" y="284201"/>
                  </a:cubicBezTo>
                  <a:cubicBezTo>
                    <a:pt x="220414" y="284201"/>
                    <a:pt x="284201" y="220413"/>
                    <a:pt x="284201" y="142100"/>
                  </a:cubicBezTo>
                  <a:cubicBezTo>
                    <a:pt x="284201" y="63629"/>
                    <a:pt x="220414" y="0"/>
                    <a:pt x="142100" y="0"/>
                  </a:cubicBezTo>
                  <a:close/>
                  <a:moveTo>
                    <a:pt x="142100" y="268412"/>
                  </a:moveTo>
                  <a:cubicBezTo>
                    <a:pt x="72471" y="268412"/>
                    <a:pt x="15789" y="211730"/>
                    <a:pt x="15789" y="142100"/>
                  </a:cubicBezTo>
                  <a:cubicBezTo>
                    <a:pt x="15789" y="72471"/>
                    <a:pt x="72471" y="15789"/>
                    <a:pt x="142100" y="15789"/>
                  </a:cubicBezTo>
                  <a:cubicBezTo>
                    <a:pt x="211730" y="15789"/>
                    <a:pt x="268412" y="72471"/>
                    <a:pt x="268412" y="142100"/>
                  </a:cubicBezTo>
                  <a:cubicBezTo>
                    <a:pt x="268412" y="211730"/>
                    <a:pt x="211730" y="268412"/>
                    <a:pt x="142100" y="268412"/>
                  </a:cubicBezTo>
                  <a:close/>
                </a:path>
              </a:pathLst>
            </a:custGeom>
            <a:solidFill>
              <a:srgbClr val="1d35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955" name="Freeform: Shape 978"/>
            <p:cNvSpPr/>
            <p:nvPr/>
          </p:nvSpPr>
          <p:spPr>
            <a:xfrm>
              <a:off x="6659280" y="4450320"/>
              <a:ext cx="182520" cy="243360"/>
            </a:xfrm>
            <a:custGeom>
              <a:avLst/>
              <a:gdLst/>
              <a:ahLst/>
              <a:rect l="l" t="t" r="r" b="b"/>
              <a:pathLst>
                <a:path w="142100" h="189467">
                  <a:moveTo>
                    <a:pt x="102628" y="78945"/>
                  </a:moveTo>
                  <a:lnTo>
                    <a:pt x="78945" y="78945"/>
                  </a:lnTo>
                  <a:lnTo>
                    <a:pt x="78945" y="31578"/>
                  </a:lnTo>
                  <a:lnTo>
                    <a:pt x="118417" y="31578"/>
                  </a:lnTo>
                  <a:cubicBezTo>
                    <a:pt x="122838" y="31578"/>
                    <a:pt x="126311" y="28104"/>
                    <a:pt x="126311" y="23683"/>
                  </a:cubicBezTo>
                  <a:cubicBezTo>
                    <a:pt x="126311" y="19263"/>
                    <a:pt x="122838" y="15789"/>
                    <a:pt x="118417" y="15789"/>
                  </a:cubicBezTo>
                  <a:lnTo>
                    <a:pt x="78945" y="15789"/>
                  </a:lnTo>
                  <a:lnTo>
                    <a:pt x="78945" y="7894"/>
                  </a:lnTo>
                  <a:cubicBezTo>
                    <a:pt x="78945" y="3474"/>
                    <a:pt x="75471" y="0"/>
                    <a:pt x="71050" y="0"/>
                  </a:cubicBezTo>
                  <a:cubicBezTo>
                    <a:pt x="66629" y="0"/>
                    <a:pt x="63156" y="3474"/>
                    <a:pt x="63156" y="7894"/>
                  </a:cubicBezTo>
                  <a:lnTo>
                    <a:pt x="63156" y="15789"/>
                  </a:lnTo>
                  <a:lnTo>
                    <a:pt x="39472" y="15789"/>
                  </a:lnTo>
                  <a:cubicBezTo>
                    <a:pt x="17684" y="15789"/>
                    <a:pt x="0" y="33472"/>
                    <a:pt x="0" y="55261"/>
                  </a:cubicBezTo>
                  <a:cubicBezTo>
                    <a:pt x="0" y="77050"/>
                    <a:pt x="17684" y="94734"/>
                    <a:pt x="39472" y="94734"/>
                  </a:cubicBezTo>
                  <a:lnTo>
                    <a:pt x="63156" y="94734"/>
                  </a:lnTo>
                  <a:lnTo>
                    <a:pt x="63156" y="142100"/>
                  </a:lnTo>
                  <a:lnTo>
                    <a:pt x="23683" y="142100"/>
                  </a:lnTo>
                  <a:cubicBezTo>
                    <a:pt x="19263" y="142100"/>
                    <a:pt x="15789" y="145574"/>
                    <a:pt x="15789" y="149995"/>
                  </a:cubicBezTo>
                  <a:cubicBezTo>
                    <a:pt x="15789" y="154416"/>
                    <a:pt x="19263" y="157889"/>
                    <a:pt x="23683" y="157889"/>
                  </a:cubicBezTo>
                  <a:lnTo>
                    <a:pt x="63156" y="157889"/>
                  </a:lnTo>
                  <a:lnTo>
                    <a:pt x="63156" y="181573"/>
                  </a:lnTo>
                  <a:cubicBezTo>
                    <a:pt x="63156" y="185994"/>
                    <a:pt x="66629" y="189467"/>
                    <a:pt x="71050" y="189467"/>
                  </a:cubicBezTo>
                  <a:cubicBezTo>
                    <a:pt x="75471" y="189467"/>
                    <a:pt x="78945" y="185994"/>
                    <a:pt x="78945" y="181573"/>
                  </a:cubicBezTo>
                  <a:lnTo>
                    <a:pt x="78945" y="157889"/>
                  </a:lnTo>
                  <a:lnTo>
                    <a:pt x="102628" y="157889"/>
                  </a:lnTo>
                  <a:cubicBezTo>
                    <a:pt x="124417" y="157889"/>
                    <a:pt x="142100" y="140206"/>
                    <a:pt x="142100" y="118417"/>
                  </a:cubicBezTo>
                  <a:cubicBezTo>
                    <a:pt x="142100" y="96628"/>
                    <a:pt x="124417" y="78945"/>
                    <a:pt x="102628" y="78945"/>
                  </a:cubicBezTo>
                  <a:close/>
                  <a:moveTo>
                    <a:pt x="63156" y="78945"/>
                  </a:moveTo>
                  <a:lnTo>
                    <a:pt x="39472" y="78945"/>
                  </a:lnTo>
                  <a:cubicBezTo>
                    <a:pt x="26367" y="78945"/>
                    <a:pt x="15789" y="68366"/>
                    <a:pt x="15789" y="55261"/>
                  </a:cubicBezTo>
                  <a:cubicBezTo>
                    <a:pt x="15789" y="42156"/>
                    <a:pt x="26367" y="31578"/>
                    <a:pt x="39472" y="31578"/>
                  </a:cubicBezTo>
                  <a:lnTo>
                    <a:pt x="63156" y="31578"/>
                  </a:lnTo>
                  <a:lnTo>
                    <a:pt x="63156" y="78945"/>
                  </a:lnTo>
                  <a:close/>
                  <a:moveTo>
                    <a:pt x="102628" y="142100"/>
                  </a:moveTo>
                  <a:lnTo>
                    <a:pt x="78945" y="142100"/>
                  </a:lnTo>
                  <a:lnTo>
                    <a:pt x="78945" y="94734"/>
                  </a:lnTo>
                  <a:lnTo>
                    <a:pt x="102628" y="94734"/>
                  </a:lnTo>
                  <a:cubicBezTo>
                    <a:pt x="115733" y="94734"/>
                    <a:pt x="126311" y="105312"/>
                    <a:pt x="126311" y="118417"/>
                  </a:cubicBezTo>
                  <a:cubicBezTo>
                    <a:pt x="126311" y="131364"/>
                    <a:pt x="115733" y="142100"/>
                    <a:pt x="102628" y="142100"/>
                  </a:cubicBezTo>
                  <a:close/>
                </a:path>
              </a:pathLst>
            </a:custGeom>
            <a:solidFill>
              <a:srgbClr val="1d35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</p:spTree>
  </p:cSld>
  <p:transition spd="med">
    <p:fade/>
  </p:transition>
  <p:timing>
    <p:tnLst>
      <p:par>
        <p:cTn id="1645" dur="indefinite" restart="never" nodeType="tmRoot">
          <p:childTnLst>
            <p:seq>
              <p:cTn id="1646" dur="indefinite" nodeType="mainSeq">
                <p:childTnLst>
                  <p:par>
                    <p:cTn id="1647" fill="hold">
                      <p:stCondLst>
                        <p:cond delay="0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1" dur="500"/>
                                        <p:tgtEl>
                                          <p:spTgt spid="1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4" dur="500"/>
                                        <p:tgtEl>
                                          <p:spTgt spid="1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7" dur="500" fill="hold"/>
                                        <p:tgtEl>
                                          <p:spTgt spid="1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8" dur="500" fill="hold"/>
                                        <p:tgtEl>
                                          <p:spTgt spid="19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9" dur="500" fill="hold"/>
                                        <p:tgtEl>
                                          <p:spTgt spid="19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0" dur="500"/>
                                        <p:tgtEl>
                                          <p:spTgt spid="1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3" dur="500" fill="hold"/>
                                        <p:tgtEl>
                                          <p:spTgt spid="1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4" dur="500" fill="hold"/>
                                        <p:tgtEl>
                                          <p:spTgt spid="1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5" dur="500" fill="hold"/>
                                        <p:tgtEl>
                                          <p:spTgt spid="19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6" dur="500"/>
                                        <p:tgtEl>
                                          <p:spTgt spid="1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9" dur="500" fill="hold"/>
                                        <p:tgtEl>
                                          <p:spTgt spid="19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500" fill="hold"/>
                                        <p:tgtEl>
                                          <p:spTgt spid="19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500" fill="hold"/>
                                        <p:tgtEl>
                                          <p:spTgt spid="19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2" dur="500"/>
                                        <p:tgtEl>
                                          <p:spTgt spid="1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5" dur="500" fill="hold"/>
                                        <p:tgtEl>
                                          <p:spTgt spid="1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500" fill="hold"/>
                                        <p:tgtEl>
                                          <p:spTgt spid="19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500" fill="hold"/>
                                        <p:tgtEl>
                                          <p:spTgt spid="19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8" dur="500"/>
                                        <p:tgtEl>
                                          <p:spTgt spid="1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1" dur="500" fill="hold"/>
                                        <p:tgtEl>
                                          <p:spTgt spid="1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2" dur="500" fill="hold"/>
                                        <p:tgtEl>
                                          <p:spTgt spid="19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500" fill="hold"/>
                                        <p:tgtEl>
                                          <p:spTgt spid="19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4" dur="500"/>
                                        <p:tgtEl>
                                          <p:spTgt spid="1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7" dur="500" fill="hold"/>
                                        <p:tgtEl>
                                          <p:spTgt spid="19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8" dur="500" fill="hold"/>
                                        <p:tgtEl>
                                          <p:spTgt spid="19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9" dur="500" fill="hold"/>
                                        <p:tgtEl>
                                          <p:spTgt spid="19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0" dur="500"/>
                                        <p:tgtEl>
                                          <p:spTgt spid="1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3" dur="500" fill="hold"/>
                                        <p:tgtEl>
                                          <p:spTgt spid="19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4" dur="500" fill="hold"/>
                                        <p:tgtEl>
                                          <p:spTgt spid="19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500" fill="hold"/>
                                        <p:tgtEl>
                                          <p:spTgt spid="19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6" dur="500"/>
                                        <p:tgtEl>
                                          <p:spTgt spid="1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9" dur="500" fill="hold"/>
                                        <p:tgtEl>
                                          <p:spTgt spid="19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500" fill="hold"/>
                                        <p:tgtEl>
                                          <p:spTgt spid="19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1" dur="500" fill="hold"/>
                                        <p:tgtEl>
                                          <p:spTgt spid="19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2" dur="500"/>
                                        <p:tgtEl>
                                          <p:spTgt spid="1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5" dur="500" fill="hold"/>
                                        <p:tgtEl>
                                          <p:spTgt spid="19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6" dur="500" fill="hold"/>
                                        <p:tgtEl>
                                          <p:spTgt spid="19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500" fill="hold"/>
                                        <p:tgtEl>
                                          <p:spTgt spid="19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8" dur="500"/>
                                        <p:tgtEl>
                                          <p:spTgt spid="1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1" dur="500" fill="hold"/>
                                        <p:tgtEl>
                                          <p:spTgt spid="19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2" dur="500" fill="hold"/>
                                        <p:tgtEl>
                                          <p:spTgt spid="19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3" dur="500" fill="hold"/>
                                        <p:tgtEl>
                                          <p:spTgt spid="19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4" dur="500"/>
                                        <p:tgtEl>
                                          <p:spTgt spid="1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7" dur="500" fill="hold"/>
                                        <p:tgtEl>
                                          <p:spTgt spid="19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8" dur="500" fill="hold"/>
                                        <p:tgtEl>
                                          <p:spTgt spid="19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9" dur="500" fill="hold"/>
                                        <p:tgtEl>
                                          <p:spTgt spid="19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0" dur="500"/>
                                        <p:tgtEl>
                                          <p:spTgt spid="1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3" dur="500" fill="hold"/>
                                        <p:tgtEl>
                                          <p:spTgt spid="19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4" dur="500" fill="hold"/>
                                        <p:tgtEl>
                                          <p:spTgt spid="19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5" dur="500" fill="hold"/>
                                        <p:tgtEl>
                                          <p:spTgt spid="19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6" dur="500"/>
                                        <p:tgtEl>
                                          <p:spTgt spid="1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9" dur="500" fill="hold"/>
                                        <p:tgtEl>
                                          <p:spTgt spid="19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500" fill="hold"/>
                                        <p:tgtEl>
                                          <p:spTgt spid="19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1" dur="500" fill="hold"/>
                                        <p:tgtEl>
                                          <p:spTgt spid="19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2" dur="500"/>
                                        <p:tgtEl>
                                          <p:spTgt spid="1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5" dur="500" fill="hold"/>
                                        <p:tgtEl>
                                          <p:spTgt spid="19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6" dur="500" fill="hold"/>
                                        <p:tgtEl>
                                          <p:spTgt spid="19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7" dur="500" fill="hold"/>
                                        <p:tgtEl>
                                          <p:spTgt spid="19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8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1" dur="500" fill="hold"/>
                                        <p:tgtEl>
                                          <p:spTgt spid="19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2" dur="500" fill="hold"/>
                                        <p:tgtEl>
                                          <p:spTgt spid="19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3" dur="500" fill="hold"/>
                                        <p:tgtEl>
                                          <p:spTgt spid="19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4" dur="500"/>
                                        <p:tgtEl>
                                          <p:spTgt spid="1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7" dur="500" fill="hold"/>
                                        <p:tgtEl>
                                          <p:spTgt spid="19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8" dur="500" fill="hold"/>
                                        <p:tgtEl>
                                          <p:spTgt spid="19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500" fill="hold"/>
                                        <p:tgtEl>
                                          <p:spTgt spid="19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0" dur="500"/>
                                        <p:tgtEl>
                                          <p:spTgt spid="1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3" dur="1000" fill="hold"/>
                                        <p:tgtEl>
                                          <p:spTgt spid="1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4" dur="1000" fill="hold"/>
                                        <p:tgtEl>
                                          <p:spTgt spid="1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7" dur="1000" fill="hold"/>
                                        <p:tgtEl>
                                          <p:spTgt spid="1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8" dur="1000" fill="hold"/>
                                        <p:tgtEl>
                                          <p:spTgt spid="1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1" dur="1000" fill="hold"/>
                                        <p:tgtEl>
                                          <p:spTgt spid="1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2" dur="1000" fill="hold"/>
                                        <p:tgtEl>
                                          <p:spTgt spid="1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5" dur="1000" fill="hold"/>
                                        <p:tgtEl>
                                          <p:spTgt spid="1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6" dur="1000" fill="hold"/>
                                        <p:tgtEl>
                                          <p:spTgt spid="1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9" dur="1000" fill="hold"/>
                                        <p:tgtEl>
                                          <p:spTgt spid="1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0" dur="1000" fill="hold"/>
                                        <p:tgtEl>
                                          <p:spTgt spid="1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3" dur="1000" fill="hold"/>
                                        <p:tgtEl>
                                          <p:spTgt spid="1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4" dur="1000" fill="hold"/>
                                        <p:tgtEl>
                                          <p:spTgt spid="1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7" dur="1000" fill="hold"/>
                                        <p:tgtEl>
                                          <p:spTgt spid="1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8" dur="1000" fill="hold"/>
                                        <p:tgtEl>
                                          <p:spTgt spid="1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1" dur="1000" fill="hold"/>
                                        <p:tgtEl>
                                          <p:spTgt spid="19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2" dur="1000" fill="hold"/>
                                        <p:tgtEl>
                                          <p:spTgt spid="1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218960" y="955800"/>
            <a:ext cx="975348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boto Black"/>
              </a:rPr>
              <a:t>Infographics</a:t>
            </a:r>
            <a:endParaRPr b="0" lang="en-US" sz="32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957" name="TextBox 4"/>
          <p:cNvSpPr/>
          <p:nvPr/>
        </p:nvSpPr>
        <p:spPr>
          <a:xfrm>
            <a:off x="5132520" y="1609200"/>
            <a:ext cx="1927080" cy="337320"/>
          </a:xfrm>
          <a:prstGeom prst="rect">
            <a:avLst/>
          </a:prstGeom>
          <a:solidFill>
            <a:srgbClr val="dceb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Open Sans"/>
              </a:rPr>
              <a:t>Sub-Title Here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58" name="Freeform 8"/>
          <p:cNvSpPr/>
          <p:nvPr/>
        </p:nvSpPr>
        <p:spPr>
          <a:xfrm rot="4500000">
            <a:off x="4781880" y="616680"/>
            <a:ext cx="2627280" cy="8623080"/>
          </a:xfrm>
          <a:custGeom>
            <a:avLst/>
            <a:gdLst/>
            <a:ahLst/>
            <a:rect l="l" t="t" r="r" b="b"/>
            <a:pathLst>
              <a:path w="2626686" h="8624047">
                <a:moveTo>
                  <a:pt x="0" y="8624047"/>
                </a:moveTo>
                <a:lnTo>
                  <a:pt x="0" y="5163671"/>
                </a:lnTo>
                <a:lnTo>
                  <a:pt x="918882" y="5163671"/>
                </a:lnTo>
                <a:lnTo>
                  <a:pt x="918882" y="5163672"/>
                </a:lnTo>
                <a:lnTo>
                  <a:pt x="1429872" y="5163672"/>
                </a:lnTo>
                <a:lnTo>
                  <a:pt x="1429872" y="914400"/>
                </a:lnTo>
                <a:lnTo>
                  <a:pt x="1147482" y="914400"/>
                </a:lnTo>
                <a:lnTo>
                  <a:pt x="1887084" y="0"/>
                </a:lnTo>
                <a:lnTo>
                  <a:pt x="2626686" y="914400"/>
                </a:lnTo>
                <a:lnTo>
                  <a:pt x="2348754" y="914400"/>
                </a:lnTo>
                <a:lnTo>
                  <a:pt x="2348754" y="6082554"/>
                </a:lnTo>
                <a:lnTo>
                  <a:pt x="1429872" y="6082554"/>
                </a:lnTo>
                <a:lnTo>
                  <a:pt x="1429872" y="6082553"/>
                </a:lnTo>
                <a:lnTo>
                  <a:pt x="918882" y="6082553"/>
                </a:lnTo>
                <a:lnTo>
                  <a:pt x="918882" y="8624047"/>
                </a:lnTo>
                <a:lnTo>
                  <a:pt x="0" y="8624047"/>
                </a:lnTo>
                <a:close/>
              </a:path>
            </a:pathLst>
          </a:custGeom>
          <a:solidFill>
            <a:srgbClr val="2020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59" name="Oval 9"/>
          <p:cNvSpPr/>
          <p:nvPr/>
        </p:nvSpPr>
        <p:spPr>
          <a:xfrm>
            <a:off x="1752480" y="4005360"/>
            <a:ext cx="839880" cy="838080"/>
          </a:xfrm>
          <a:prstGeom prst="ellipse">
            <a:avLst/>
          </a:prstGeom>
          <a:solidFill>
            <a:srgbClr val="dceb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60" name="TextBox 10"/>
          <p:cNvSpPr/>
          <p:nvPr/>
        </p:nvSpPr>
        <p:spPr>
          <a:xfrm>
            <a:off x="1911240" y="4223160"/>
            <a:ext cx="52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000" spc="-1" strike="noStrike">
                <a:solidFill>
                  <a:srgbClr val="ffffff"/>
                </a:solidFill>
                <a:latin typeface="Open Sans"/>
              </a:rPr>
              <a:t>01</a:t>
            </a:r>
            <a:endParaRPr b="0" lang="en-US" sz="2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61" name="Oval 17"/>
          <p:cNvSpPr/>
          <p:nvPr/>
        </p:nvSpPr>
        <p:spPr>
          <a:xfrm>
            <a:off x="4294080" y="3471840"/>
            <a:ext cx="838440" cy="838080"/>
          </a:xfrm>
          <a:prstGeom prst="ellipse">
            <a:avLst/>
          </a:prstGeom>
          <a:solidFill>
            <a:srgbClr val="8fd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62" name="TextBox 18"/>
          <p:cNvSpPr/>
          <p:nvPr/>
        </p:nvSpPr>
        <p:spPr>
          <a:xfrm>
            <a:off x="4452840" y="3689640"/>
            <a:ext cx="52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000" spc="-1" strike="noStrike">
                <a:solidFill>
                  <a:srgbClr val="ffffff"/>
                </a:solidFill>
                <a:latin typeface="Open Sans"/>
              </a:rPr>
              <a:t>02</a:t>
            </a:r>
            <a:endParaRPr b="0" lang="en-US" sz="2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63" name="Oval 19"/>
          <p:cNvSpPr/>
          <p:nvPr/>
        </p:nvSpPr>
        <p:spPr>
          <a:xfrm>
            <a:off x="6835680" y="4251240"/>
            <a:ext cx="838440" cy="838440"/>
          </a:xfrm>
          <a:prstGeom prst="ellipse">
            <a:avLst/>
          </a:prstGeom>
          <a:solidFill>
            <a:srgbClr val="dceb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64" name="TextBox 20"/>
          <p:cNvSpPr/>
          <p:nvPr/>
        </p:nvSpPr>
        <p:spPr>
          <a:xfrm>
            <a:off x="6993000" y="4469400"/>
            <a:ext cx="52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000" spc="-1" strike="noStrike">
                <a:solidFill>
                  <a:srgbClr val="ffffff"/>
                </a:solidFill>
                <a:latin typeface="Open Sans"/>
              </a:rPr>
              <a:t>03</a:t>
            </a:r>
            <a:endParaRPr b="0" lang="en-US" sz="2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65" name="Oval 21"/>
          <p:cNvSpPr/>
          <p:nvPr/>
        </p:nvSpPr>
        <p:spPr>
          <a:xfrm>
            <a:off x="9375840" y="3621240"/>
            <a:ext cx="839880" cy="839520"/>
          </a:xfrm>
          <a:prstGeom prst="ellipse">
            <a:avLst/>
          </a:prstGeom>
          <a:solidFill>
            <a:srgbClr val="8fd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66" name="TextBox 22"/>
          <p:cNvSpPr/>
          <p:nvPr/>
        </p:nvSpPr>
        <p:spPr>
          <a:xfrm>
            <a:off x="9534600" y="3839040"/>
            <a:ext cx="52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000" spc="-1" strike="noStrike">
                <a:solidFill>
                  <a:srgbClr val="ffffff"/>
                </a:solidFill>
                <a:latin typeface="Open Sans"/>
              </a:rPr>
              <a:t>04</a:t>
            </a:r>
            <a:endParaRPr b="0" lang="en-US" sz="2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67" name="TextBox 23"/>
          <p:cNvSpPr/>
          <p:nvPr/>
        </p:nvSpPr>
        <p:spPr>
          <a:xfrm>
            <a:off x="976320" y="2631600"/>
            <a:ext cx="2392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68" name="TextBox 24"/>
          <p:cNvSpPr/>
          <p:nvPr/>
        </p:nvSpPr>
        <p:spPr>
          <a:xfrm>
            <a:off x="976320" y="2410200"/>
            <a:ext cx="239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69" name="TextBox 36"/>
          <p:cNvSpPr/>
          <p:nvPr/>
        </p:nvSpPr>
        <p:spPr>
          <a:xfrm>
            <a:off x="3517920" y="2631600"/>
            <a:ext cx="2390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70" name="TextBox 37"/>
          <p:cNvSpPr/>
          <p:nvPr/>
        </p:nvSpPr>
        <p:spPr>
          <a:xfrm>
            <a:off x="3517920" y="2410200"/>
            <a:ext cx="23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71" name="TextBox 39"/>
          <p:cNvSpPr/>
          <p:nvPr/>
        </p:nvSpPr>
        <p:spPr>
          <a:xfrm>
            <a:off x="6059520" y="2631600"/>
            <a:ext cx="2390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72" name="TextBox 40"/>
          <p:cNvSpPr/>
          <p:nvPr/>
        </p:nvSpPr>
        <p:spPr>
          <a:xfrm>
            <a:off x="6059520" y="2410200"/>
            <a:ext cx="23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73" name="TextBox 42"/>
          <p:cNvSpPr/>
          <p:nvPr/>
        </p:nvSpPr>
        <p:spPr>
          <a:xfrm>
            <a:off x="8599320" y="2631600"/>
            <a:ext cx="2392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74" name="TextBox 43"/>
          <p:cNvSpPr/>
          <p:nvPr/>
        </p:nvSpPr>
        <p:spPr>
          <a:xfrm>
            <a:off x="8599320" y="2410200"/>
            <a:ext cx="239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783" dur="indefinite" restart="never" nodeType="tmRoot">
          <p:childTnLst>
            <p:seq>
              <p:cTn id="1784" dur="indefinite" nodeType="mainSeq">
                <p:childTnLst>
                  <p:par>
                    <p:cTn id="1785" fill="hold">
                      <p:stCondLst>
                        <p:cond delay="0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9" dur="500"/>
                                        <p:tgtEl>
                                          <p:spTgt spid="1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2" dur="500"/>
                                        <p:tgtEl>
                                          <p:spTgt spid="1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5" dur="1000"/>
                                        <p:tgtEl>
                                          <p:spTgt spid="19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6" dur="1000" fill="hold"/>
                                        <p:tgtEl>
                                          <p:spTgt spid="1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7" dur="900" fill="hold"/>
                                        <p:tgtEl>
                                          <p:spTgt spid="1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1" dur="1000"/>
                                        <p:tgtEl>
                                          <p:spTgt spid="19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2" dur="1000" fill="hold"/>
                                        <p:tgtEl>
                                          <p:spTgt spid="19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3" dur="900" fill="hold"/>
                                        <p:tgtEl>
                                          <p:spTgt spid="1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7" dur="1000"/>
                                        <p:tgtEl>
                                          <p:spTgt spid="19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8" dur="10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9" dur="9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3" dur="1000"/>
                                        <p:tgtEl>
                                          <p:spTgt spid="19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4" dur="1000" fill="hold"/>
                                        <p:tgtEl>
                                          <p:spTgt spid="1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5" dur="900" fill="hold"/>
                                        <p:tgtEl>
                                          <p:spTgt spid="1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9" dur="1000"/>
                                        <p:tgtEl>
                                          <p:spTgt spid="19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0" dur="1000" fill="hold"/>
                                        <p:tgtEl>
                                          <p:spTgt spid="1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1" dur="900" fill="hold"/>
                                        <p:tgtEl>
                                          <p:spTgt spid="1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5" dur="1000"/>
                                        <p:tgtEl>
                                          <p:spTgt spid="19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6" dur="1000" fill="hold"/>
                                        <p:tgtEl>
                                          <p:spTgt spid="19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7" dur="900" fill="hold"/>
                                        <p:tgtEl>
                                          <p:spTgt spid="1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1" dur="1000"/>
                                        <p:tgtEl>
                                          <p:spTgt spid="19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2" dur="1000" fill="hold"/>
                                        <p:tgtEl>
                                          <p:spTgt spid="19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3" dur="900" fill="hold"/>
                                        <p:tgtEl>
                                          <p:spTgt spid="1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7" dur="1000"/>
                                        <p:tgtEl>
                                          <p:spTgt spid="19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8" dur="1000" fill="hold"/>
                                        <p:tgtEl>
                                          <p:spTgt spid="1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9" dur="900" fill="hold"/>
                                        <p:tgtEl>
                                          <p:spTgt spid="1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3" dur="1000"/>
                                        <p:tgtEl>
                                          <p:spTgt spid="19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4" dur="1000" fill="hold"/>
                                        <p:tgtEl>
                                          <p:spTgt spid="19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5" dur="900" fill="hold"/>
                                        <p:tgtEl>
                                          <p:spTgt spid="19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7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9" dur="500"/>
                                        <p:tgtEl>
                                          <p:spTgt spid="1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0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2" dur="500"/>
                                        <p:tgtEl>
                                          <p:spTgt spid="1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3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5" dur="500"/>
                                        <p:tgtEl>
                                          <p:spTgt spid="1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6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8" dur="500"/>
                                        <p:tgtEl>
                                          <p:spTgt spid="1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9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1" dur="500"/>
                                        <p:tgtEl>
                                          <p:spTgt spid="1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4" dur="500"/>
                                        <p:tgtEl>
                                          <p:spTgt spid="1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7" dur="500"/>
                                        <p:tgtEl>
                                          <p:spTgt spid="1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0" dur="500"/>
                                        <p:tgtEl>
                                          <p:spTgt spid="1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1218960" y="955800"/>
            <a:ext cx="975348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boto Black"/>
              </a:rPr>
              <a:t>Dental Problem</a:t>
            </a:r>
            <a:endParaRPr b="0" lang="en-US" sz="32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976" name="TextBox 4"/>
          <p:cNvSpPr/>
          <p:nvPr/>
        </p:nvSpPr>
        <p:spPr>
          <a:xfrm>
            <a:off x="5132520" y="1609200"/>
            <a:ext cx="1927080" cy="337320"/>
          </a:xfrm>
          <a:prstGeom prst="rect">
            <a:avLst/>
          </a:prstGeom>
          <a:solidFill>
            <a:srgbClr val="dceb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Open Sans"/>
              </a:rPr>
              <a:t>Sub-Title Here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graphicFrame>
        <p:nvGraphicFramePr>
          <p:cNvPr id="1977" name="Chart 1"/>
          <p:cNvGraphicFramePr/>
          <p:nvPr/>
        </p:nvGraphicFramePr>
        <p:xfrm>
          <a:off x="1168560" y="2054160"/>
          <a:ext cx="9855000" cy="2749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78" name="Char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8560" y="2054160"/>
                    <a:ext cx="9855000" cy="27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9" name="TextBox 5"/>
          <p:cNvSpPr/>
          <p:nvPr/>
        </p:nvSpPr>
        <p:spPr>
          <a:xfrm>
            <a:off x="4751280" y="5152320"/>
            <a:ext cx="6221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shuddered all over, and edged away from his companion. A dentist! A dentist at Philip Philip gave a cry of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80" name="TextBox 6"/>
          <p:cNvSpPr/>
          <p:nvPr/>
        </p:nvSpPr>
        <p:spPr>
          <a:xfrm>
            <a:off x="1219320" y="5594760"/>
            <a:ext cx="150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Total Patient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81" name="TextBox 7"/>
          <p:cNvSpPr/>
          <p:nvPr/>
        </p:nvSpPr>
        <p:spPr>
          <a:xfrm>
            <a:off x="1219320" y="5072040"/>
            <a:ext cx="150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800" spc="-1" strike="noStrike">
                <a:solidFill>
                  <a:srgbClr val="ffffff"/>
                </a:solidFill>
                <a:latin typeface="Open Sans"/>
              </a:rPr>
              <a:t>1,283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82" name="TextBox 8"/>
          <p:cNvSpPr/>
          <p:nvPr/>
        </p:nvSpPr>
        <p:spPr>
          <a:xfrm>
            <a:off x="2984400" y="5594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This Month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83" name="TextBox 9"/>
          <p:cNvSpPr/>
          <p:nvPr/>
        </p:nvSpPr>
        <p:spPr>
          <a:xfrm>
            <a:off x="2984400" y="5072040"/>
            <a:ext cx="150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800" spc="-1" strike="noStrike">
                <a:solidFill>
                  <a:srgbClr val="ffffff"/>
                </a:solidFill>
                <a:latin typeface="Open Sans"/>
              </a:rPr>
              <a:t>235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871" dur="indefinite" restart="never" nodeType="tmRoot">
          <p:childTnLst>
            <p:seq>
              <p:cTn id="1872" dur="indefinite" nodeType="mainSeq">
                <p:childTnLst>
                  <p:par>
                    <p:cTn id="1873" fill="hold">
                      <p:stCondLst>
                        <p:cond delay="0"/>
                      </p:stCondLst>
                      <p:childTnLst>
                        <p:par>
                          <p:cTn id="1874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7" dur="500"/>
                                        <p:tgtEl>
                                          <p:spTgt spid="1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0" dur="500"/>
                                        <p:tgtEl>
                                          <p:spTgt spid="1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3" dur="500"/>
                                        <p:tgtEl>
                                          <p:spTgt spid="1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6" dur="1000" fill="hold"/>
                                        <p:tgtEl>
                                          <p:spTgt spid="19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7" dur="1000" fill="hold"/>
                                        <p:tgtEl>
                                          <p:spTgt spid="19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0" dur="1000" fill="hold"/>
                                        <p:tgtEl>
                                          <p:spTgt spid="1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1" dur="1000" fill="hold"/>
                                        <p:tgtEl>
                                          <p:spTgt spid="1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2" nodeType="withEffect" fill="hold" presetClass="entr" presetID="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4" dur="1000" fill="hold"/>
                                        <p:tgtEl>
                                          <p:spTgt spid="1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5" dur="1000" fill="hold"/>
                                        <p:tgtEl>
                                          <p:spTgt spid="1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6" nodeType="withEffect" fill="hold" presetClass="entr" presetID="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8" dur="1000" fill="hold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9" dur="1000" fill="hold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0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2" dur="1000" fill="hold"/>
                                        <p:tgtEl>
                                          <p:spTgt spid="1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3" dur="1000" fill="hold"/>
                                        <p:tgtEl>
                                          <p:spTgt spid="1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4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4429080" cy="6858000"/>
          </a:xfrm>
          <a:prstGeom prst="rect">
            <a:avLst/>
          </a:prstGeom>
          <a:ln w="0">
            <a:noFill/>
          </a:ln>
        </p:spPr>
      </p:pic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5217840" y="2313000"/>
            <a:ext cx="5970600" cy="6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boto Black"/>
              </a:rPr>
              <a:t>Contact Us Here</a:t>
            </a:r>
            <a:endParaRPr b="0" lang="en-US" sz="32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986" name="TextBox 4"/>
          <p:cNvSpPr/>
          <p:nvPr/>
        </p:nvSpPr>
        <p:spPr>
          <a:xfrm>
            <a:off x="5218200" y="1977480"/>
            <a:ext cx="1925640" cy="337320"/>
          </a:xfrm>
          <a:prstGeom prst="rect">
            <a:avLst/>
          </a:prstGeom>
          <a:solidFill>
            <a:srgbClr val="dceb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Open Sans"/>
              </a:rPr>
              <a:t>Sub-Title Here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87" name="TextBox 5"/>
          <p:cNvSpPr/>
          <p:nvPr/>
        </p:nvSpPr>
        <p:spPr>
          <a:xfrm>
            <a:off x="5218200" y="3229200"/>
            <a:ext cx="2225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and pain. He shuddered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88" name="TextBox 6"/>
          <p:cNvSpPr/>
          <p:nvPr/>
        </p:nvSpPr>
        <p:spPr>
          <a:xfrm>
            <a:off x="5218200" y="3019680"/>
            <a:ext cx="22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Address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89" name="TextBox 7"/>
          <p:cNvSpPr/>
          <p:nvPr/>
        </p:nvSpPr>
        <p:spPr>
          <a:xfrm>
            <a:off x="7658280" y="3229200"/>
            <a:ext cx="1503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+1 234 567 890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+1 098 765 432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90" name="TextBox 8"/>
          <p:cNvSpPr/>
          <p:nvPr/>
        </p:nvSpPr>
        <p:spPr>
          <a:xfrm>
            <a:off x="7658280" y="3019680"/>
            <a:ext cx="150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Phon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91" name="TextBox 9"/>
          <p:cNvSpPr/>
          <p:nvPr/>
        </p:nvSpPr>
        <p:spPr>
          <a:xfrm>
            <a:off x="9375840" y="3175200"/>
            <a:ext cx="2081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Support@company.com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Manager@company.com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92" name="TextBox 10"/>
          <p:cNvSpPr/>
          <p:nvPr/>
        </p:nvSpPr>
        <p:spPr>
          <a:xfrm>
            <a:off x="9375840" y="2965680"/>
            <a:ext cx="208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Email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93" name="TextBox 11"/>
          <p:cNvSpPr/>
          <p:nvPr/>
        </p:nvSpPr>
        <p:spPr>
          <a:xfrm>
            <a:off x="5218200" y="4115880"/>
            <a:ext cx="6238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shuddered all over, and edged away from his companion. A dentist! A dentist at Philip Philip gave a cry of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904" dur="indefinite" restart="never" nodeType="tmRoot">
          <p:childTnLst>
            <p:seq>
              <p:cTn id="1905" dur="indefinite" nodeType="mainSeq">
                <p:childTnLst>
                  <p:par>
                    <p:cTn id="1906" fill="hold">
                      <p:stCondLst>
                        <p:cond delay="0"/>
                      </p:stCondLst>
                      <p:childTnLst>
                        <p:par>
                          <p:cTn id="1907" fill="hold">
                            <p:stCondLst>
                              <p:cond delay="0"/>
                            </p:stCondLst>
                            <p:childTnLst>
                              <p:par>
                                <p:cTn id="19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0" dur="1000" fill="hold"/>
                                        <p:tgtEl>
                                          <p:spTgt spid="1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1" dur="1000" fill="hold"/>
                                        <p:tgtEl>
                                          <p:spTgt spid="1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4" dur="1000" fill="hold"/>
                                        <p:tgtEl>
                                          <p:spTgt spid="1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5" dur="1000" fill="hold"/>
                                        <p:tgtEl>
                                          <p:spTgt spid="1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8" dur="1000" fill="hold"/>
                                        <p:tgtEl>
                                          <p:spTgt spid="1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9" dur="1000" fill="hold"/>
                                        <p:tgtEl>
                                          <p:spTgt spid="1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2" dur="1000" fill="hold"/>
                                        <p:tgtEl>
                                          <p:spTgt spid="1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3" dur="1000" fill="hold"/>
                                        <p:tgtEl>
                                          <p:spTgt spid="1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6" dur="1000" fill="hold"/>
                                        <p:tgtEl>
                                          <p:spTgt spid="1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7" dur="1000" fill="hold"/>
                                        <p:tgtEl>
                                          <p:spTgt spid="1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0" dur="1000" fill="hold"/>
                                        <p:tgtEl>
                                          <p:spTgt spid="1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1" dur="1000" fill="hold"/>
                                        <p:tgtEl>
                                          <p:spTgt spid="1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4" dur="1000" fill="hold"/>
                                        <p:tgtEl>
                                          <p:spTgt spid="19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5" dur="1000" fill="hold"/>
                                        <p:tgtEl>
                                          <p:spTgt spid="1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8" dur="1000" fill="hold"/>
                                        <p:tgtEl>
                                          <p:spTgt spid="19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9" dur="1000" fill="hold"/>
                                        <p:tgtEl>
                                          <p:spTgt spid="19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2" dur="1000" fill="hold"/>
                                        <p:tgtEl>
                                          <p:spTgt spid="19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3" dur="1000" fill="hold"/>
                                        <p:tgtEl>
                                          <p:spTgt spid="19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ounded Rectangle 5"/>
          <p:cNvSpPr/>
          <p:nvPr/>
        </p:nvSpPr>
        <p:spPr>
          <a:xfrm>
            <a:off x="847800" y="2502000"/>
            <a:ext cx="3301920" cy="1442880"/>
          </a:xfrm>
          <a:prstGeom prst="roundRect">
            <a:avLst>
              <a:gd name="adj" fmla="val 4000"/>
            </a:avLst>
          </a:prstGeom>
          <a:solidFill>
            <a:srgbClr val="262626"/>
          </a:solidFill>
          <a:ln w="0">
            <a:noFill/>
          </a:ln>
          <a:effectLst>
            <a:outerShdw dist="153753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218960" y="955800"/>
            <a:ext cx="975348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boto Black"/>
              </a:rPr>
              <a:t>Table Of Content</a:t>
            </a:r>
            <a:endParaRPr b="0" lang="en-US" sz="32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030" name="TextBox 3"/>
          <p:cNvSpPr/>
          <p:nvPr/>
        </p:nvSpPr>
        <p:spPr>
          <a:xfrm>
            <a:off x="1065240" y="3005280"/>
            <a:ext cx="2867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shuddered all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31" name="TextBox 4"/>
          <p:cNvSpPr/>
          <p:nvPr/>
        </p:nvSpPr>
        <p:spPr>
          <a:xfrm>
            <a:off x="1065240" y="2759400"/>
            <a:ext cx="28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32" name="Rounded Rectangle 12"/>
          <p:cNvSpPr/>
          <p:nvPr/>
        </p:nvSpPr>
        <p:spPr>
          <a:xfrm>
            <a:off x="8042400" y="2502000"/>
            <a:ext cx="3301920" cy="1442880"/>
          </a:xfrm>
          <a:prstGeom prst="roundRect">
            <a:avLst>
              <a:gd name="adj" fmla="val 4000"/>
            </a:avLst>
          </a:prstGeom>
          <a:solidFill>
            <a:srgbClr val="262626"/>
          </a:solidFill>
          <a:ln w="0">
            <a:noFill/>
          </a:ln>
          <a:effectLst>
            <a:outerShdw dist="153753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33" name="TextBox 13"/>
          <p:cNvSpPr/>
          <p:nvPr/>
        </p:nvSpPr>
        <p:spPr>
          <a:xfrm>
            <a:off x="8259840" y="3005280"/>
            <a:ext cx="2867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shuddered all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34" name="TextBox 14"/>
          <p:cNvSpPr/>
          <p:nvPr/>
        </p:nvSpPr>
        <p:spPr>
          <a:xfrm>
            <a:off x="8259840" y="2759400"/>
            <a:ext cx="28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35" name="Rounded Rectangle 15"/>
          <p:cNvSpPr/>
          <p:nvPr/>
        </p:nvSpPr>
        <p:spPr>
          <a:xfrm>
            <a:off x="4444920" y="2502000"/>
            <a:ext cx="3301920" cy="1442880"/>
          </a:xfrm>
          <a:prstGeom prst="roundRect">
            <a:avLst>
              <a:gd name="adj" fmla="val 4000"/>
            </a:avLst>
          </a:prstGeom>
          <a:solidFill>
            <a:srgbClr val="262626"/>
          </a:solidFill>
          <a:ln w="0">
            <a:noFill/>
          </a:ln>
          <a:effectLst>
            <a:outerShdw dist="153753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36" name="TextBox 16"/>
          <p:cNvSpPr/>
          <p:nvPr/>
        </p:nvSpPr>
        <p:spPr>
          <a:xfrm>
            <a:off x="4662360" y="3005280"/>
            <a:ext cx="2867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shuddered all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37" name="TextBox 17"/>
          <p:cNvSpPr/>
          <p:nvPr/>
        </p:nvSpPr>
        <p:spPr>
          <a:xfrm>
            <a:off x="4662360" y="2759400"/>
            <a:ext cx="28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38" name="Rounded Rectangle 18"/>
          <p:cNvSpPr/>
          <p:nvPr/>
        </p:nvSpPr>
        <p:spPr>
          <a:xfrm>
            <a:off x="5975280" y="2381400"/>
            <a:ext cx="241200" cy="247680"/>
          </a:xfrm>
          <a:custGeom>
            <a:avLst/>
            <a:gdLst>
              <a:gd name="textAreaLeft" fmla="*/ 8280 w 241200"/>
              <a:gd name="textAreaRight" fmla="*/ 232920 w 241200"/>
              <a:gd name="textAreaTop" fmla="*/ 8280 h 247680"/>
              <a:gd name="textAreaBottom" fmla="*/ 239400 h 247680"/>
            </a:gdLst>
            <a:ahLst/>
            <a:rect l="textAreaLeft" t="textAreaTop" r="textAreaRight" b="textAreaBottom"/>
            <a:pathLst>
              <a:path w="21600" h="22179">
                <a:moveTo>
                  <a:pt x="2563" y="0"/>
                </a:moveTo>
                <a:arcTo wR="2563" hR="2563" stAng="16200000" swAng="-5400000"/>
                <a:lnTo>
                  <a:pt x="0" y="19616"/>
                </a:lnTo>
                <a:arcTo wR="2563" hR="2563" stAng="10800000" swAng="-5400000"/>
                <a:lnTo>
                  <a:pt x="19037" y="22179"/>
                </a:lnTo>
                <a:arcTo wR="2563" hR="2563" stAng="5400000" swAng="-5400000"/>
                <a:lnTo>
                  <a:pt x="21600" y="2563"/>
                </a:lnTo>
                <a:arcTo wR="2563" hR="2563" stAng="0" swAng="-5400000"/>
                <a:close/>
              </a:path>
            </a:pathLst>
          </a:custGeom>
          <a:solidFill>
            <a:srgbClr val="8fd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39" name="Rounded Rectangle 19"/>
          <p:cNvSpPr/>
          <p:nvPr/>
        </p:nvSpPr>
        <p:spPr>
          <a:xfrm>
            <a:off x="2378160" y="2378160"/>
            <a:ext cx="241200" cy="247680"/>
          </a:xfrm>
          <a:custGeom>
            <a:avLst/>
            <a:gdLst>
              <a:gd name="textAreaLeft" fmla="*/ 8280 w 241200"/>
              <a:gd name="textAreaRight" fmla="*/ 232920 w 241200"/>
              <a:gd name="textAreaTop" fmla="*/ 8280 h 247680"/>
              <a:gd name="textAreaBottom" fmla="*/ 239400 h 247680"/>
            </a:gdLst>
            <a:ahLst/>
            <a:rect l="textAreaLeft" t="textAreaTop" r="textAreaRight" b="textAreaBottom"/>
            <a:pathLst>
              <a:path w="21600" h="22179">
                <a:moveTo>
                  <a:pt x="2563" y="0"/>
                </a:moveTo>
                <a:arcTo wR="2563" hR="2563" stAng="16200000" swAng="-5400000"/>
                <a:lnTo>
                  <a:pt x="0" y="19616"/>
                </a:lnTo>
                <a:arcTo wR="2563" hR="2563" stAng="10800000" swAng="-5400000"/>
                <a:lnTo>
                  <a:pt x="19037" y="22179"/>
                </a:lnTo>
                <a:arcTo wR="2563" hR="2563" stAng="5400000" swAng="-5400000"/>
                <a:lnTo>
                  <a:pt x="21600" y="2563"/>
                </a:lnTo>
                <a:arcTo wR="2563" hR="2563" stAng="0" swAng="-5400000"/>
                <a:close/>
              </a:path>
            </a:pathLst>
          </a:custGeom>
          <a:solidFill>
            <a:srgbClr val="8fd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40" name="Rounded Rectangle 20"/>
          <p:cNvSpPr/>
          <p:nvPr/>
        </p:nvSpPr>
        <p:spPr>
          <a:xfrm>
            <a:off x="9572760" y="2378160"/>
            <a:ext cx="241200" cy="247680"/>
          </a:xfrm>
          <a:custGeom>
            <a:avLst/>
            <a:gdLst>
              <a:gd name="textAreaLeft" fmla="*/ 8280 w 241200"/>
              <a:gd name="textAreaRight" fmla="*/ 232920 w 241200"/>
              <a:gd name="textAreaTop" fmla="*/ 8280 h 247680"/>
              <a:gd name="textAreaBottom" fmla="*/ 239400 h 247680"/>
            </a:gdLst>
            <a:ahLst/>
            <a:rect l="textAreaLeft" t="textAreaTop" r="textAreaRight" b="textAreaBottom"/>
            <a:pathLst>
              <a:path w="21600" h="22179">
                <a:moveTo>
                  <a:pt x="2563" y="0"/>
                </a:moveTo>
                <a:arcTo wR="2563" hR="2563" stAng="16200000" swAng="-5400000"/>
                <a:lnTo>
                  <a:pt x="0" y="19616"/>
                </a:lnTo>
                <a:arcTo wR="2563" hR="2563" stAng="10800000" swAng="-5400000"/>
                <a:lnTo>
                  <a:pt x="19037" y="22179"/>
                </a:lnTo>
                <a:arcTo wR="2563" hR="2563" stAng="5400000" swAng="-5400000"/>
                <a:lnTo>
                  <a:pt x="21600" y="2563"/>
                </a:lnTo>
                <a:arcTo wR="2563" hR="2563" stAng="0" swAng="-5400000"/>
                <a:close/>
              </a:path>
            </a:pathLst>
          </a:custGeom>
          <a:solidFill>
            <a:srgbClr val="8fd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41" name="Rounded Rectangle 21"/>
          <p:cNvSpPr/>
          <p:nvPr/>
        </p:nvSpPr>
        <p:spPr>
          <a:xfrm>
            <a:off x="847800" y="4459320"/>
            <a:ext cx="3301920" cy="1442880"/>
          </a:xfrm>
          <a:prstGeom prst="roundRect">
            <a:avLst>
              <a:gd name="adj" fmla="val 4000"/>
            </a:avLst>
          </a:prstGeom>
          <a:solidFill>
            <a:srgbClr val="262626"/>
          </a:solidFill>
          <a:ln w="0">
            <a:noFill/>
          </a:ln>
          <a:effectLst>
            <a:outerShdw dist="153753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42" name="TextBox 22"/>
          <p:cNvSpPr/>
          <p:nvPr/>
        </p:nvSpPr>
        <p:spPr>
          <a:xfrm>
            <a:off x="1065240" y="4963320"/>
            <a:ext cx="2867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shuddered all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43" name="TextBox 23"/>
          <p:cNvSpPr/>
          <p:nvPr/>
        </p:nvSpPr>
        <p:spPr>
          <a:xfrm>
            <a:off x="1065240" y="4717800"/>
            <a:ext cx="28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44" name="Rounded Rectangle 24"/>
          <p:cNvSpPr/>
          <p:nvPr/>
        </p:nvSpPr>
        <p:spPr>
          <a:xfrm>
            <a:off x="8042400" y="4459320"/>
            <a:ext cx="3301920" cy="1442880"/>
          </a:xfrm>
          <a:prstGeom prst="roundRect">
            <a:avLst>
              <a:gd name="adj" fmla="val 4000"/>
            </a:avLst>
          </a:prstGeom>
          <a:solidFill>
            <a:srgbClr val="262626"/>
          </a:solidFill>
          <a:ln w="0">
            <a:noFill/>
          </a:ln>
          <a:effectLst>
            <a:outerShdw dist="153753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45" name="TextBox 25"/>
          <p:cNvSpPr/>
          <p:nvPr/>
        </p:nvSpPr>
        <p:spPr>
          <a:xfrm>
            <a:off x="8259840" y="4963320"/>
            <a:ext cx="2867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shuddered all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46" name="TextBox 26"/>
          <p:cNvSpPr/>
          <p:nvPr/>
        </p:nvSpPr>
        <p:spPr>
          <a:xfrm>
            <a:off x="8259840" y="4717800"/>
            <a:ext cx="28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47" name="Rounded Rectangle 27"/>
          <p:cNvSpPr/>
          <p:nvPr/>
        </p:nvSpPr>
        <p:spPr>
          <a:xfrm>
            <a:off x="4444920" y="4459320"/>
            <a:ext cx="3301920" cy="1442880"/>
          </a:xfrm>
          <a:prstGeom prst="roundRect">
            <a:avLst>
              <a:gd name="adj" fmla="val 4000"/>
            </a:avLst>
          </a:prstGeom>
          <a:solidFill>
            <a:srgbClr val="262626"/>
          </a:solidFill>
          <a:ln w="0">
            <a:noFill/>
          </a:ln>
          <a:effectLst>
            <a:outerShdw dist="153753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48" name="TextBox 28"/>
          <p:cNvSpPr/>
          <p:nvPr/>
        </p:nvSpPr>
        <p:spPr>
          <a:xfrm>
            <a:off x="4662360" y="4963320"/>
            <a:ext cx="2867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shuddered all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49" name="TextBox 29"/>
          <p:cNvSpPr/>
          <p:nvPr/>
        </p:nvSpPr>
        <p:spPr>
          <a:xfrm>
            <a:off x="4662360" y="4717800"/>
            <a:ext cx="28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50" name="Rounded Rectangle 30"/>
          <p:cNvSpPr/>
          <p:nvPr/>
        </p:nvSpPr>
        <p:spPr>
          <a:xfrm>
            <a:off x="5975280" y="4338720"/>
            <a:ext cx="241200" cy="247680"/>
          </a:xfrm>
          <a:custGeom>
            <a:avLst/>
            <a:gdLst>
              <a:gd name="textAreaLeft" fmla="*/ 8280 w 241200"/>
              <a:gd name="textAreaRight" fmla="*/ 232920 w 241200"/>
              <a:gd name="textAreaTop" fmla="*/ 8280 h 247680"/>
              <a:gd name="textAreaBottom" fmla="*/ 239400 h 247680"/>
            </a:gdLst>
            <a:ahLst/>
            <a:rect l="textAreaLeft" t="textAreaTop" r="textAreaRight" b="textAreaBottom"/>
            <a:pathLst>
              <a:path w="21600" h="22179">
                <a:moveTo>
                  <a:pt x="2563" y="0"/>
                </a:moveTo>
                <a:arcTo wR="2563" hR="2563" stAng="16200000" swAng="-5400000"/>
                <a:lnTo>
                  <a:pt x="0" y="19616"/>
                </a:lnTo>
                <a:arcTo wR="2563" hR="2563" stAng="10800000" swAng="-5400000"/>
                <a:lnTo>
                  <a:pt x="19037" y="22179"/>
                </a:lnTo>
                <a:arcTo wR="2563" hR="2563" stAng="5400000" swAng="-5400000"/>
                <a:lnTo>
                  <a:pt x="21600" y="2563"/>
                </a:lnTo>
                <a:arcTo wR="2563" hR="2563" stAng="0" swAng="-5400000"/>
                <a:close/>
              </a:path>
            </a:pathLst>
          </a:custGeom>
          <a:solidFill>
            <a:srgbClr val="8fd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51" name="Rounded Rectangle 31"/>
          <p:cNvSpPr/>
          <p:nvPr/>
        </p:nvSpPr>
        <p:spPr>
          <a:xfrm>
            <a:off x="2378160" y="4335480"/>
            <a:ext cx="241200" cy="247680"/>
          </a:xfrm>
          <a:custGeom>
            <a:avLst/>
            <a:gdLst>
              <a:gd name="textAreaLeft" fmla="*/ 8280 w 241200"/>
              <a:gd name="textAreaRight" fmla="*/ 232920 w 241200"/>
              <a:gd name="textAreaTop" fmla="*/ 8280 h 247680"/>
              <a:gd name="textAreaBottom" fmla="*/ 239400 h 247680"/>
            </a:gdLst>
            <a:ahLst/>
            <a:rect l="textAreaLeft" t="textAreaTop" r="textAreaRight" b="textAreaBottom"/>
            <a:pathLst>
              <a:path w="21600" h="22179">
                <a:moveTo>
                  <a:pt x="2563" y="0"/>
                </a:moveTo>
                <a:arcTo wR="2563" hR="2563" stAng="16200000" swAng="-5400000"/>
                <a:lnTo>
                  <a:pt x="0" y="19616"/>
                </a:lnTo>
                <a:arcTo wR="2563" hR="2563" stAng="10800000" swAng="-5400000"/>
                <a:lnTo>
                  <a:pt x="19037" y="22179"/>
                </a:lnTo>
                <a:arcTo wR="2563" hR="2563" stAng="5400000" swAng="-5400000"/>
                <a:lnTo>
                  <a:pt x="21600" y="2563"/>
                </a:lnTo>
                <a:arcTo wR="2563" hR="2563" stAng="0" swAng="-5400000"/>
                <a:close/>
              </a:path>
            </a:pathLst>
          </a:custGeom>
          <a:solidFill>
            <a:srgbClr val="8fd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52" name="Rounded Rectangle 32"/>
          <p:cNvSpPr/>
          <p:nvPr/>
        </p:nvSpPr>
        <p:spPr>
          <a:xfrm>
            <a:off x="9572760" y="4335480"/>
            <a:ext cx="241200" cy="247680"/>
          </a:xfrm>
          <a:custGeom>
            <a:avLst/>
            <a:gdLst>
              <a:gd name="textAreaLeft" fmla="*/ 8280 w 241200"/>
              <a:gd name="textAreaRight" fmla="*/ 232920 w 241200"/>
              <a:gd name="textAreaTop" fmla="*/ 8280 h 247680"/>
              <a:gd name="textAreaBottom" fmla="*/ 239400 h 247680"/>
            </a:gdLst>
            <a:ahLst/>
            <a:rect l="textAreaLeft" t="textAreaTop" r="textAreaRight" b="textAreaBottom"/>
            <a:pathLst>
              <a:path w="21600" h="22179">
                <a:moveTo>
                  <a:pt x="2563" y="0"/>
                </a:moveTo>
                <a:arcTo wR="2563" hR="2563" stAng="16200000" swAng="-5400000"/>
                <a:lnTo>
                  <a:pt x="0" y="19616"/>
                </a:lnTo>
                <a:arcTo wR="2563" hR="2563" stAng="10800000" swAng="-5400000"/>
                <a:lnTo>
                  <a:pt x="19037" y="22179"/>
                </a:lnTo>
                <a:arcTo wR="2563" hR="2563" stAng="5400000" swAng="-5400000"/>
                <a:lnTo>
                  <a:pt x="21600" y="2563"/>
                </a:lnTo>
                <a:arcTo wR="2563" hR="2563" stAng="0" swAng="-5400000"/>
                <a:close/>
              </a:path>
            </a:pathLst>
          </a:custGeom>
          <a:solidFill>
            <a:srgbClr val="8fd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53" name="TextBox 33"/>
          <p:cNvSpPr/>
          <p:nvPr/>
        </p:nvSpPr>
        <p:spPr>
          <a:xfrm>
            <a:off x="5132520" y="1609200"/>
            <a:ext cx="1927080" cy="337320"/>
          </a:xfrm>
          <a:prstGeom prst="rect">
            <a:avLst/>
          </a:prstGeom>
          <a:solidFill>
            <a:srgbClr val="dceb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Open Sans"/>
              </a:rPr>
              <a:t>Sub-Title Here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9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9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9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9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9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9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9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9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9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9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9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9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9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9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9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9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9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9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9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9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9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9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9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9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b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Freeform 5"/>
          <p:cNvSpPr/>
          <p:nvPr/>
        </p:nvSpPr>
        <p:spPr>
          <a:xfrm>
            <a:off x="3352680" y="2327400"/>
            <a:ext cx="5486400" cy="4530600"/>
          </a:xfrm>
          <a:custGeom>
            <a:avLst/>
            <a:gdLst/>
            <a:ahLst/>
            <a:rect l="l" t="t" r="r" b="b"/>
            <a:pathLst>
              <a:path w="5822872" h="4807343">
                <a:moveTo>
                  <a:pt x="5814935" y="4754067"/>
                </a:moveTo>
                <a:cubicBezTo>
                  <a:pt x="5858560" y="4577156"/>
                  <a:pt x="5712002" y="4409389"/>
                  <a:pt x="5556808" y="4315917"/>
                </a:cubicBezTo>
                <a:cubicBezTo>
                  <a:pt x="5401551" y="4222445"/>
                  <a:pt x="5219432" y="4159199"/>
                  <a:pt x="5109133" y="4014800"/>
                </a:cubicBezTo>
                <a:cubicBezTo>
                  <a:pt x="4956225" y="3814648"/>
                  <a:pt x="4995151" y="3520961"/>
                  <a:pt x="5113705" y="3298393"/>
                </a:cubicBezTo>
                <a:cubicBezTo>
                  <a:pt x="5232259" y="3075826"/>
                  <a:pt x="5416853" y="2897073"/>
                  <a:pt x="5559919" y="2689619"/>
                </a:cubicBezTo>
                <a:cubicBezTo>
                  <a:pt x="5702985" y="2482164"/>
                  <a:pt x="5805791" y="2219211"/>
                  <a:pt x="5728893" y="1978736"/>
                </a:cubicBezTo>
                <a:cubicBezTo>
                  <a:pt x="5647168" y="1723085"/>
                  <a:pt x="5384088" y="1567574"/>
                  <a:pt x="5123928" y="1510170"/>
                </a:cubicBezTo>
                <a:cubicBezTo>
                  <a:pt x="4863769" y="1452766"/>
                  <a:pt x="4593068" y="1469657"/>
                  <a:pt x="4329352" y="1432128"/>
                </a:cubicBezTo>
                <a:cubicBezTo>
                  <a:pt x="4065637" y="1394600"/>
                  <a:pt x="3789857" y="1286142"/>
                  <a:pt x="3653395" y="1055510"/>
                </a:cubicBezTo>
                <a:cubicBezTo>
                  <a:pt x="3575798" y="924319"/>
                  <a:pt x="3552049" y="768490"/>
                  <a:pt x="3494645" y="627139"/>
                </a:cubicBezTo>
                <a:cubicBezTo>
                  <a:pt x="3353358" y="279540"/>
                  <a:pt x="2999980" y="39510"/>
                  <a:pt x="2629077" y="4775"/>
                </a:cubicBezTo>
                <a:cubicBezTo>
                  <a:pt x="2258173" y="-30023"/>
                  <a:pt x="1881427" y="127965"/>
                  <a:pt x="1618411" y="393967"/>
                </a:cubicBezTo>
                <a:cubicBezTo>
                  <a:pt x="1355393" y="659968"/>
                  <a:pt x="1202295" y="1025474"/>
                  <a:pt x="1160067" y="1398664"/>
                </a:cubicBezTo>
                <a:cubicBezTo>
                  <a:pt x="1112633" y="1817764"/>
                  <a:pt x="1195691" y="2257311"/>
                  <a:pt x="1053515" y="2654059"/>
                </a:cubicBezTo>
                <a:cubicBezTo>
                  <a:pt x="959788" y="2915615"/>
                  <a:pt x="776147" y="3133039"/>
                  <a:pt x="591806" y="3339922"/>
                </a:cubicBezTo>
                <a:cubicBezTo>
                  <a:pt x="407466" y="3546805"/>
                  <a:pt x="215568" y="3754006"/>
                  <a:pt x="99173" y="4006101"/>
                </a:cubicBezTo>
                <a:cubicBezTo>
                  <a:pt x="-17222" y="4258259"/>
                  <a:pt x="-46687" y="4569156"/>
                  <a:pt x="95680" y="4807344"/>
                </a:cubicBezTo>
                <a:lnTo>
                  <a:pt x="5822873" y="4807344"/>
                </a:lnTo>
                <a:lnTo>
                  <a:pt x="5814935" y="4754067"/>
                </a:lnTo>
                <a:close/>
              </a:path>
            </a:pathLst>
          </a:custGeom>
          <a:solidFill>
            <a:srgbClr val="8fd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2565000" y="3711240"/>
            <a:ext cx="7061400" cy="10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Roboto Black"/>
              </a:rPr>
              <a:t>Thank You</a:t>
            </a:r>
            <a:endParaRPr b="0" lang="en-US" sz="66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996" name="TextBox 6"/>
          <p:cNvSpPr/>
          <p:nvPr/>
        </p:nvSpPr>
        <p:spPr>
          <a:xfrm>
            <a:off x="3648240" y="4748400"/>
            <a:ext cx="4895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shuddered all over, and edged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97" name="Freeform 7"/>
          <p:cNvSpPr/>
          <p:nvPr/>
        </p:nvSpPr>
        <p:spPr>
          <a:xfrm>
            <a:off x="3840120" y="2198520"/>
            <a:ext cx="384120" cy="384480"/>
          </a:xfrm>
          <a:custGeom>
            <a:avLst/>
            <a:gdLst/>
            <a:ahLst/>
            <a:rect l="l" t="t" r="r" b="b"/>
            <a:pathLst>
              <a:path w="1190625" h="1190625">
                <a:moveTo>
                  <a:pt x="1190625" y="595313"/>
                </a:moveTo>
                <a:cubicBezTo>
                  <a:pt x="1190625" y="924094"/>
                  <a:pt x="924095" y="1190625"/>
                  <a:pt x="595313" y="1190625"/>
                </a:cubicBezTo>
                <a:cubicBezTo>
                  <a:pt x="266530" y="1190625"/>
                  <a:pt x="0" y="924094"/>
                  <a:pt x="0" y="595312"/>
                </a:cubicBezTo>
                <a:cubicBezTo>
                  <a:pt x="0" y="266530"/>
                  <a:pt x="266530" y="0"/>
                  <a:pt x="595313" y="0"/>
                </a:cubicBezTo>
                <a:cubicBezTo>
                  <a:pt x="924095" y="0"/>
                  <a:pt x="1190625" y="266530"/>
                  <a:pt x="1190625" y="595313"/>
                </a:cubicBezTo>
                <a:close/>
              </a:path>
            </a:pathLst>
          </a:custGeom>
          <a:solidFill>
            <a:srgbClr val="8fd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98" name="Freeform 8"/>
          <p:cNvSpPr/>
          <p:nvPr/>
        </p:nvSpPr>
        <p:spPr>
          <a:xfrm>
            <a:off x="8543880" y="5513400"/>
            <a:ext cx="590760" cy="590400"/>
          </a:xfrm>
          <a:custGeom>
            <a:avLst/>
            <a:gdLst/>
            <a:ahLst/>
            <a:rect l="l" t="t" r="r" b="b"/>
            <a:pathLst>
              <a:path w="1190625" h="1190625">
                <a:moveTo>
                  <a:pt x="1190625" y="595313"/>
                </a:moveTo>
                <a:cubicBezTo>
                  <a:pt x="1190625" y="924094"/>
                  <a:pt x="924095" y="1190625"/>
                  <a:pt x="595313" y="1190625"/>
                </a:cubicBezTo>
                <a:cubicBezTo>
                  <a:pt x="266530" y="1190625"/>
                  <a:pt x="0" y="924094"/>
                  <a:pt x="0" y="595312"/>
                </a:cubicBezTo>
                <a:cubicBezTo>
                  <a:pt x="0" y="266530"/>
                  <a:pt x="266530" y="0"/>
                  <a:pt x="595313" y="0"/>
                </a:cubicBezTo>
                <a:cubicBezTo>
                  <a:pt x="924095" y="0"/>
                  <a:pt x="1190625" y="266530"/>
                  <a:pt x="1190625" y="595313"/>
                </a:cubicBezTo>
                <a:close/>
              </a:path>
            </a:pathLst>
          </a:custGeom>
          <a:solidFill>
            <a:srgbClr val="8fd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99" name="Freeform 9"/>
          <p:cNvSpPr/>
          <p:nvPr/>
        </p:nvSpPr>
        <p:spPr>
          <a:xfrm>
            <a:off x="2870280" y="5719680"/>
            <a:ext cx="196920" cy="195480"/>
          </a:xfrm>
          <a:custGeom>
            <a:avLst/>
            <a:gdLst/>
            <a:ahLst/>
            <a:rect l="l" t="t" r="r" b="b"/>
            <a:pathLst>
              <a:path w="1190625" h="1190625">
                <a:moveTo>
                  <a:pt x="1190625" y="595313"/>
                </a:moveTo>
                <a:cubicBezTo>
                  <a:pt x="1190625" y="924094"/>
                  <a:pt x="924095" y="1190625"/>
                  <a:pt x="595313" y="1190625"/>
                </a:cubicBezTo>
                <a:cubicBezTo>
                  <a:pt x="266530" y="1190625"/>
                  <a:pt x="0" y="924094"/>
                  <a:pt x="0" y="595312"/>
                </a:cubicBezTo>
                <a:cubicBezTo>
                  <a:pt x="0" y="266530"/>
                  <a:pt x="266530" y="0"/>
                  <a:pt x="595313" y="0"/>
                </a:cubicBezTo>
                <a:cubicBezTo>
                  <a:pt x="924095" y="0"/>
                  <a:pt x="1190625" y="266530"/>
                  <a:pt x="1190625" y="595313"/>
                </a:cubicBezTo>
                <a:close/>
              </a:path>
            </a:pathLst>
          </a:custGeom>
          <a:solidFill>
            <a:srgbClr val="8fd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944" dur="indefinite" restart="never" nodeType="tmRoot">
          <p:childTnLst>
            <p:seq>
              <p:cTn id="1945" dur="indefinite" nodeType="mainSeq">
                <p:childTnLst>
                  <p:par>
                    <p:cTn id="1946" fill="hold">
                      <p:stCondLst>
                        <p:cond delay="0"/>
                      </p:stCondLst>
                      <p:childTnLst>
                        <p:par>
                          <p:cTn id="1947" fill="hold">
                            <p:stCondLst>
                              <p:cond delay="0"/>
                            </p:stCondLst>
                            <p:childTnLst>
                              <p:par>
                                <p:cTn id="19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0" dur="1000" fill="hold"/>
                                        <p:tgtEl>
                                          <p:spTgt spid="1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1" dur="1000" fill="hold"/>
                                        <p:tgtEl>
                                          <p:spTgt spid="1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4" dur="1000" fill="hold"/>
                                        <p:tgtEl>
                                          <p:spTgt spid="19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5" dur="1000" fill="hold"/>
                                        <p:tgtEl>
                                          <p:spTgt spid="19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8" dur="1000" fill="hold"/>
                                        <p:tgtEl>
                                          <p:spTgt spid="1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9" dur="1000" fill="hold"/>
                                        <p:tgtEl>
                                          <p:spTgt spid="1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0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2" dur="500" fill="hold"/>
                                        <p:tgtEl>
                                          <p:spTgt spid="19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3" dur="500" fill="hold"/>
                                        <p:tgtEl>
                                          <p:spTgt spid="19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4" dur="500" fill="hold"/>
                                        <p:tgtEl>
                                          <p:spTgt spid="19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5" dur="500"/>
                                        <p:tgtEl>
                                          <p:spTgt spid="1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6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8" dur="500" fill="hold"/>
                                        <p:tgtEl>
                                          <p:spTgt spid="19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9" dur="500" fill="hold"/>
                                        <p:tgtEl>
                                          <p:spTgt spid="19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0" dur="500" fill="hold"/>
                                        <p:tgtEl>
                                          <p:spTgt spid="19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1" dur="500"/>
                                        <p:tgtEl>
                                          <p:spTgt spid="1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2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4" dur="500" fill="hold"/>
                                        <p:tgtEl>
                                          <p:spTgt spid="19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5" dur="500" fill="hold"/>
                                        <p:tgtEl>
                                          <p:spTgt spid="19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6" dur="500" fill="hold"/>
                                        <p:tgtEl>
                                          <p:spTgt spid="19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7" dur="500"/>
                                        <p:tgtEl>
                                          <p:spTgt spid="1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Freeform 10"/>
          <p:cNvSpPr/>
          <p:nvPr/>
        </p:nvSpPr>
        <p:spPr>
          <a:xfrm>
            <a:off x="407880" y="1800360"/>
            <a:ext cx="6126120" cy="5057640"/>
          </a:xfrm>
          <a:custGeom>
            <a:avLst/>
            <a:gdLst/>
            <a:ahLst/>
            <a:rect l="l" t="t" r="r" b="b"/>
            <a:pathLst>
              <a:path w="5822872" h="4807343">
                <a:moveTo>
                  <a:pt x="5814935" y="4754067"/>
                </a:moveTo>
                <a:cubicBezTo>
                  <a:pt x="5858560" y="4577156"/>
                  <a:pt x="5712002" y="4409389"/>
                  <a:pt x="5556808" y="4315917"/>
                </a:cubicBezTo>
                <a:cubicBezTo>
                  <a:pt x="5401551" y="4222445"/>
                  <a:pt x="5219432" y="4159199"/>
                  <a:pt x="5109133" y="4014800"/>
                </a:cubicBezTo>
                <a:cubicBezTo>
                  <a:pt x="4956225" y="3814648"/>
                  <a:pt x="4995151" y="3520961"/>
                  <a:pt x="5113705" y="3298393"/>
                </a:cubicBezTo>
                <a:cubicBezTo>
                  <a:pt x="5232259" y="3075826"/>
                  <a:pt x="5416853" y="2897073"/>
                  <a:pt x="5559919" y="2689619"/>
                </a:cubicBezTo>
                <a:cubicBezTo>
                  <a:pt x="5702985" y="2482164"/>
                  <a:pt x="5805791" y="2219211"/>
                  <a:pt x="5728893" y="1978736"/>
                </a:cubicBezTo>
                <a:cubicBezTo>
                  <a:pt x="5647168" y="1723085"/>
                  <a:pt x="5384088" y="1567574"/>
                  <a:pt x="5123928" y="1510170"/>
                </a:cubicBezTo>
                <a:cubicBezTo>
                  <a:pt x="4863769" y="1452766"/>
                  <a:pt x="4593068" y="1469657"/>
                  <a:pt x="4329352" y="1432128"/>
                </a:cubicBezTo>
                <a:cubicBezTo>
                  <a:pt x="4065637" y="1394600"/>
                  <a:pt x="3789857" y="1286142"/>
                  <a:pt x="3653395" y="1055510"/>
                </a:cubicBezTo>
                <a:cubicBezTo>
                  <a:pt x="3575798" y="924319"/>
                  <a:pt x="3552049" y="768490"/>
                  <a:pt x="3494645" y="627139"/>
                </a:cubicBezTo>
                <a:cubicBezTo>
                  <a:pt x="3353358" y="279540"/>
                  <a:pt x="2999980" y="39510"/>
                  <a:pt x="2629077" y="4775"/>
                </a:cubicBezTo>
                <a:cubicBezTo>
                  <a:pt x="2258173" y="-30023"/>
                  <a:pt x="1881427" y="127965"/>
                  <a:pt x="1618411" y="393967"/>
                </a:cubicBezTo>
                <a:cubicBezTo>
                  <a:pt x="1355393" y="659968"/>
                  <a:pt x="1202295" y="1025474"/>
                  <a:pt x="1160067" y="1398664"/>
                </a:cubicBezTo>
                <a:cubicBezTo>
                  <a:pt x="1112633" y="1817764"/>
                  <a:pt x="1195691" y="2257311"/>
                  <a:pt x="1053515" y="2654059"/>
                </a:cubicBezTo>
                <a:cubicBezTo>
                  <a:pt x="959788" y="2915615"/>
                  <a:pt x="776147" y="3133039"/>
                  <a:pt x="591806" y="3339922"/>
                </a:cubicBezTo>
                <a:cubicBezTo>
                  <a:pt x="407466" y="3546805"/>
                  <a:pt x="215568" y="3754006"/>
                  <a:pt x="99173" y="4006101"/>
                </a:cubicBezTo>
                <a:cubicBezTo>
                  <a:pt x="-17222" y="4258259"/>
                  <a:pt x="-46687" y="4569156"/>
                  <a:pt x="95680" y="4807344"/>
                </a:cubicBezTo>
                <a:lnTo>
                  <a:pt x="5822873" y="4807344"/>
                </a:lnTo>
                <a:lnTo>
                  <a:pt x="5814935" y="4754067"/>
                </a:lnTo>
                <a:close/>
              </a:path>
            </a:pathLst>
          </a:custGeom>
          <a:solidFill>
            <a:srgbClr val="dceb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055" name="" descr=""/>
          <p:cNvPicPr/>
          <p:nvPr/>
        </p:nvPicPr>
        <p:blipFill>
          <a:blip r:embed="rId1"/>
          <a:stretch/>
        </p:blipFill>
        <p:spPr>
          <a:xfrm>
            <a:off x="1138320" y="1138320"/>
            <a:ext cx="4665600" cy="5719680"/>
          </a:xfrm>
          <a:prstGeom prst="rect">
            <a:avLst/>
          </a:prstGeom>
          <a:ln w="0">
            <a:noFill/>
          </a:ln>
        </p:spPr>
      </p:pic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6773400" y="2060280"/>
            <a:ext cx="4280040" cy="10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boto Black"/>
              </a:rPr>
              <a:t>Get Your Smile A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Roboto Black"/>
              </a:rPr>
              <a:t>Nice As Possible</a:t>
            </a:r>
            <a:endParaRPr b="0" lang="en-US" sz="32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057" name="TextBox 9"/>
          <p:cNvSpPr/>
          <p:nvPr/>
        </p:nvSpPr>
        <p:spPr>
          <a:xfrm>
            <a:off x="6773760" y="3101040"/>
            <a:ext cx="42800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shuddered all over, and edged away from his companion. A dentist! A dentist at Philip Philip gave a cry of personal disgust and pain. He shuddered all over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58" name="Rounded Rectangle 11"/>
          <p:cNvSpPr/>
          <p:nvPr/>
        </p:nvSpPr>
        <p:spPr>
          <a:xfrm>
            <a:off x="3343320" y="4548240"/>
            <a:ext cx="2752560" cy="1171440"/>
          </a:xfrm>
          <a:prstGeom prst="roundRect">
            <a:avLst>
              <a:gd name="adj" fmla="val 11866"/>
            </a:avLst>
          </a:prstGeom>
          <a:solidFill>
            <a:srgbClr val="262626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59" name="Rounded Rectangle 12"/>
          <p:cNvSpPr/>
          <p:nvPr/>
        </p:nvSpPr>
        <p:spPr>
          <a:xfrm>
            <a:off x="2641680" y="4548240"/>
            <a:ext cx="565200" cy="581040"/>
          </a:xfrm>
          <a:custGeom>
            <a:avLst/>
            <a:gdLst>
              <a:gd name="textAreaLeft" fmla="*/ 19440 w 565200"/>
              <a:gd name="textAreaRight" fmla="*/ 545760 w 565200"/>
              <a:gd name="textAreaTop" fmla="*/ 19440 h 581040"/>
              <a:gd name="textAreaBottom" fmla="*/ 561600 h 581040"/>
            </a:gdLst>
            <a:ahLst/>
            <a:rect l="textAreaLeft" t="textAreaTop" r="textAreaRight" b="textAreaBottom"/>
            <a:pathLst>
              <a:path w="21600" h="22205">
                <a:moveTo>
                  <a:pt x="2563" y="0"/>
                </a:moveTo>
                <a:arcTo wR="2563" hR="2563" stAng="16200000" swAng="-5400000"/>
                <a:lnTo>
                  <a:pt x="0" y="19642"/>
                </a:lnTo>
                <a:arcTo wR="2563" hR="2563" stAng="10800000" swAng="-5400000"/>
                <a:lnTo>
                  <a:pt x="19037" y="22205"/>
                </a:lnTo>
                <a:arcTo wR="2563" hR="2563" stAng="5400000" swAng="-5400000"/>
                <a:lnTo>
                  <a:pt x="21600" y="2563"/>
                </a:lnTo>
                <a:arcTo wR="2563" hR="2563" stAng="0" swAng="-5400000"/>
                <a:close/>
              </a:path>
            </a:pathLst>
          </a:custGeom>
          <a:solidFill>
            <a:srgbClr val="8fd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60" name="TextBox 13"/>
          <p:cNvSpPr/>
          <p:nvPr/>
        </p:nvSpPr>
        <p:spPr>
          <a:xfrm>
            <a:off x="3541680" y="4780080"/>
            <a:ext cx="2336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D" sz="1400" spc="-1" strike="noStrike">
                <a:solidFill>
                  <a:srgbClr val="ffffff"/>
                </a:solidFill>
                <a:latin typeface="Open Sans"/>
              </a:rPr>
              <a:t>A dentist at Philip Philip gave a cry of personal disgust and pain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061" name="Graphic 1"/>
          <p:cNvGrpSpPr/>
          <p:nvPr/>
        </p:nvGrpSpPr>
        <p:grpSpPr>
          <a:xfrm>
            <a:off x="2760840" y="4687920"/>
            <a:ext cx="322200" cy="320760"/>
            <a:chOff x="2760840" y="4687920"/>
            <a:chExt cx="322200" cy="320760"/>
          </a:xfrm>
        </p:grpSpPr>
        <p:sp>
          <p:nvSpPr>
            <p:cNvPr id="1062" name="Freeform: Shape 671"/>
            <p:cNvSpPr/>
            <p:nvPr/>
          </p:nvSpPr>
          <p:spPr>
            <a:xfrm>
              <a:off x="2763360" y="4691160"/>
              <a:ext cx="313560" cy="312120"/>
            </a:xfrm>
            <a:custGeom>
              <a:avLst/>
              <a:gdLst/>
              <a:ahLst/>
              <a:rect l="l" t="t" r="r" b="b"/>
              <a:pathLst>
                <a:path w="647183" h="647391">
                  <a:moveTo>
                    <a:pt x="512876" y="347236"/>
                  </a:moveTo>
                  <a:cubicBezTo>
                    <a:pt x="528349" y="347236"/>
                    <a:pt x="543191" y="349446"/>
                    <a:pt x="557559" y="353551"/>
                  </a:cubicBezTo>
                  <a:cubicBezTo>
                    <a:pt x="565611" y="339499"/>
                    <a:pt x="575874" y="326710"/>
                    <a:pt x="588031" y="315658"/>
                  </a:cubicBezTo>
                  <a:cubicBezTo>
                    <a:pt x="630504" y="276975"/>
                    <a:pt x="654503" y="218240"/>
                    <a:pt x="645187" y="154453"/>
                  </a:cubicBezTo>
                  <a:cubicBezTo>
                    <a:pt x="633977" y="76456"/>
                    <a:pt x="571137" y="13616"/>
                    <a:pt x="493298" y="2090"/>
                  </a:cubicBezTo>
                  <a:cubicBezTo>
                    <a:pt x="443721" y="-5331"/>
                    <a:pt x="397301" y="7458"/>
                    <a:pt x="360829" y="33352"/>
                  </a:cubicBezTo>
                  <a:cubicBezTo>
                    <a:pt x="338408" y="49299"/>
                    <a:pt x="308725" y="49299"/>
                    <a:pt x="286305" y="33352"/>
                  </a:cubicBezTo>
                  <a:cubicBezTo>
                    <a:pt x="249832" y="7458"/>
                    <a:pt x="203413" y="-5331"/>
                    <a:pt x="153836" y="2090"/>
                  </a:cubicBezTo>
                  <a:cubicBezTo>
                    <a:pt x="75996" y="13616"/>
                    <a:pt x="13156" y="76614"/>
                    <a:pt x="1946" y="154453"/>
                  </a:cubicBezTo>
                  <a:cubicBezTo>
                    <a:pt x="-7211" y="218240"/>
                    <a:pt x="16630" y="276975"/>
                    <a:pt x="59102" y="315658"/>
                  </a:cubicBezTo>
                  <a:cubicBezTo>
                    <a:pt x="91785" y="345499"/>
                    <a:pt x="110416" y="387656"/>
                    <a:pt x="110416" y="432022"/>
                  </a:cubicBezTo>
                  <a:lnTo>
                    <a:pt x="110416" y="521072"/>
                  </a:lnTo>
                  <a:cubicBezTo>
                    <a:pt x="110416" y="591333"/>
                    <a:pt x="167730" y="648173"/>
                    <a:pt x="238149" y="647383"/>
                  </a:cubicBezTo>
                  <a:cubicBezTo>
                    <a:pt x="255043" y="647226"/>
                    <a:pt x="268306" y="632700"/>
                    <a:pt x="268306" y="615806"/>
                  </a:cubicBezTo>
                  <a:cubicBezTo>
                    <a:pt x="268306" y="615806"/>
                    <a:pt x="268306" y="378972"/>
                    <a:pt x="323567" y="378972"/>
                  </a:cubicBezTo>
                  <a:cubicBezTo>
                    <a:pt x="342513" y="378972"/>
                    <a:pt x="354829" y="406602"/>
                    <a:pt x="363039" y="443075"/>
                  </a:cubicBezTo>
                  <a:cubicBezTo>
                    <a:pt x="389407" y="386392"/>
                    <a:pt x="446563" y="347236"/>
                    <a:pt x="512876" y="347236"/>
                  </a:cubicBezTo>
                  <a:close/>
                </a:path>
              </a:pathLst>
            </a:custGeom>
            <a:solidFill>
              <a:srgbClr val="f1fa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063" name="Freeform: Shape 672"/>
            <p:cNvSpPr/>
            <p:nvPr/>
          </p:nvSpPr>
          <p:spPr>
            <a:xfrm>
              <a:off x="2946960" y="4873680"/>
              <a:ext cx="129960" cy="129240"/>
            </a:xfrm>
            <a:custGeom>
              <a:avLst/>
              <a:gdLst/>
              <a:ahLst/>
              <a:rect l="l" t="t" r="r" b="b"/>
              <a:pathLst>
                <a:path w="268411" h="268411">
                  <a:moveTo>
                    <a:pt x="268412" y="134206"/>
                  </a:moveTo>
                  <a:cubicBezTo>
                    <a:pt x="268412" y="208326"/>
                    <a:pt x="208326" y="268412"/>
                    <a:pt x="134206" y="268412"/>
                  </a:cubicBezTo>
                  <a:cubicBezTo>
                    <a:pt x="60086" y="268412"/>
                    <a:pt x="0" y="208326"/>
                    <a:pt x="0" y="134206"/>
                  </a:cubicBezTo>
                  <a:cubicBezTo>
                    <a:pt x="0" y="60086"/>
                    <a:pt x="60086" y="0"/>
                    <a:pt x="134206" y="0"/>
                  </a:cubicBezTo>
                  <a:cubicBezTo>
                    <a:pt x="208326" y="0"/>
                    <a:pt x="268412" y="60086"/>
                    <a:pt x="268412" y="134206"/>
                  </a:cubicBezTo>
                  <a:close/>
                </a:path>
              </a:pathLst>
            </a:custGeom>
            <a:solidFill>
              <a:srgbClr val="06d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pic>
          <p:nvPicPr>
            <p:cNvPr id="1064" name="Graphic 1" descr=""/>
            <p:cNvPicPr/>
            <p:nvPr/>
          </p:nvPicPr>
          <p:blipFill>
            <a:blip r:embed="rId2"/>
            <a:stretch/>
          </p:blipFill>
          <p:spPr>
            <a:xfrm>
              <a:off x="2760840" y="4687920"/>
              <a:ext cx="322200" cy="320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5" name="Freeform 24"/>
          <p:cNvSpPr/>
          <p:nvPr/>
        </p:nvSpPr>
        <p:spPr>
          <a:xfrm>
            <a:off x="1366920" y="1706400"/>
            <a:ext cx="387360" cy="389160"/>
          </a:xfrm>
          <a:custGeom>
            <a:avLst/>
            <a:gdLst/>
            <a:ahLst/>
            <a:rect l="l" t="t" r="r" b="b"/>
            <a:pathLst>
              <a:path w="1190625" h="1190625">
                <a:moveTo>
                  <a:pt x="1190625" y="595313"/>
                </a:moveTo>
                <a:cubicBezTo>
                  <a:pt x="1190625" y="924094"/>
                  <a:pt x="924095" y="1190625"/>
                  <a:pt x="595313" y="1190625"/>
                </a:cubicBezTo>
                <a:cubicBezTo>
                  <a:pt x="266530" y="1190625"/>
                  <a:pt x="0" y="924094"/>
                  <a:pt x="0" y="595312"/>
                </a:cubicBezTo>
                <a:cubicBezTo>
                  <a:pt x="0" y="266530"/>
                  <a:pt x="266530" y="0"/>
                  <a:pt x="595313" y="0"/>
                </a:cubicBezTo>
                <a:cubicBezTo>
                  <a:pt x="924095" y="0"/>
                  <a:pt x="1190625" y="266530"/>
                  <a:pt x="1190625" y="595313"/>
                </a:cubicBezTo>
                <a:close/>
              </a:path>
            </a:pathLst>
          </a:custGeom>
          <a:solidFill>
            <a:srgbClr val="dceb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66" name="TextBox 25"/>
          <p:cNvSpPr/>
          <p:nvPr/>
        </p:nvSpPr>
        <p:spPr>
          <a:xfrm>
            <a:off x="6773760" y="4341960"/>
            <a:ext cx="4280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shuddered all over, and edged Philip gave a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67" name="TextBox 26"/>
          <p:cNvSpPr/>
          <p:nvPr/>
        </p:nvSpPr>
        <p:spPr>
          <a:xfrm>
            <a:off x="6773760" y="1630800"/>
            <a:ext cx="1927440" cy="337320"/>
          </a:xfrm>
          <a:prstGeom prst="rect">
            <a:avLst/>
          </a:prstGeom>
          <a:solidFill>
            <a:srgbClr val="dceb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Open Sans"/>
              </a:rPr>
              <a:t>Sub-Title Here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b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Freeform 4"/>
          <p:cNvSpPr/>
          <p:nvPr/>
        </p:nvSpPr>
        <p:spPr>
          <a:xfrm>
            <a:off x="5302080" y="1735200"/>
            <a:ext cx="6204240" cy="5122800"/>
          </a:xfrm>
          <a:custGeom>
            <a:avLst/>
            <a:gdLst/>
            <a:ahLst/>
            <a:rect l="l" t="t" r="r" b="b"/>
            <a:pathLst>
              <a:path w="5822872" h="4807343">
                <a:moveTo>
                  <a:pt x="5814935" y="4754067"/>
                </a:moveTo>
                <a:cubicBezTo>
                  <a:pt x="5858560" y="4577156"/>
                  <a:pt x="5712002" y="4409389"/>
                  <a:pt x="5556808" y="4315917"/>
                </a:cubicBezTo>
                <a:cubicBezTo>
                  <a:pt x="5401551" y="4222445"/>
                  <a:pt x="5219432" y="4159199"/>
                  <a:pt x="5109133" y="4014800"/>
                </a:cubicBezTo>
                <a:cubicBezTo>
                  <a:pt x="4956225" y="3814648"/>
                  <a:pt x="4995151" y="3520961"/>
                  <a:pt x="5113705" y="3298393"/>
                </a:cubicBezTo>
                <a:cubicBezTo>
                  <a:pt x="5232259" y="3075826"/>
                  <a:pt x="5416853" y="2897073"/>
                  <a:pt x="5559919" y="2689619"/>
                </a:cubicBezTo>
                <a:cubicBezTo>
                  <a:pt x="5702985" y="2482164"/>
                  <a:pt x="5805791" y="2219211"/>
                  <a:pt x="5728893" y="1978736"/>
                </a:cubicBezTo>
                <a:cubicBezTo>
                  <a:pt x="5647168" y="1723085"/>
                  <a:pt x="5384088" y="1567574"/>
                  <a:pt x="5123928" y="1510170"/>
                </a:cubicBezTo>
                <a:cubicBezTo>
                  <a:pt x="4863769" y="1452766"/>
                  <a:pt x="4593068" y="1469657"/>
                  <a:pt x="4329352" y="1432128"/>
                </a:cubicBezTo>
                <a:cubicBezTo>
                  <a:pt x="4065637" y="1394600"/>
                  <a:pt x="3789857" y="1286142"/>
                  <a:pt x="3653395" y="1055510"/>
                </a:cubicBezTo>
                <a:cubicBezTo>
                  <a:pt x="3575798" y="924319"/>
                  <a:pt x="3552049" y="768490"/>
                  <a:pt x="3494645" y="627139"/>
                </a:cubicBezTo>
                <a:cubicBezTo>
                  <a:pt x="3353358" y="279540"/>
                  <a:pt x="2999980" y="39510"/>
                  <a:pt x="2629077" y="4775"/>
                </a:cubicBezTo>
                <a:cubicBezTo>
                  <a:pt x="2258173" y="-30023"/>
                  <a:pt x="1881427" y="127965"/>
                  <a:pt x="1618411" y="393967"/>
                </a:cubicBezTo>
                <a:cubicBezTo>
                  <a:pt x="1355393" y="659968"/>
                  <a:pt x="1202295" y="1025474"/>
                  <a:pt x="1160067" y="1398664"/>
                </a:cubicBezTo>
                <a:cubicBezTo>
                  <a:pt x="1112633" y="1817764"/>
                  <a:pt x="1195691" y="2257311"/>
                  <a:pt x="1053515" y="2654059"/>
                </a:cubicBezTo>
                <a:cubicBezTo>
                  <a:pt x="959788" y="2915615"/>
                  <a:pt x="776147" y="3133039"/>
                  <a:pt x="591806" y="3339922"/>
                </a:cubicBezTo>
                <a:cubicBezTo>
                  <a:pt x="407466" y="3546805"/>
                  <a:pt x="215568" y="3754006"/>
                  <a:pt x="99173" y="4006101"/>
                </a:cubicBezTo>
                <a:cubicBezTo>
                  <a:pt x="-17222" y="4258259"/>
                  <a:pt x="-46687" y="4569156"/>
                  <a:pt x="95680" y="4807344"/>
                </a:cubicBezTo>
                <a:lnTo>
                  <a:pt x="5822873" y="4807344"/>
                </a:lnTo>
                <a:lnTo>
                  <a:pt x="5814935" y="4754067"/>
                </a:lnTo>
                <a:close/>
              </a:path>
            </a:pathLst>
          </a:custGeom>
          <a:solidFill>
            <a:srgbClr val="8fd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6095520" y="2370240"/>
            <a:ext cx="4892760" cy="211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Roboto Black"/>
              </a:rPr>
              <a:t>Why We Are</a:t>
            </a:r>
            <a:br>
              <a:rPr sz="6600"/>
            </a:br>
            <a:r>
              <a:rPr b="0" lang="en-US" sz="6600" spc="-1" strike="noStrike">
                <a:solidFill>
                  <a:srgbClr val="ffffff"/>
                </a:solidFill>
                <a:latin typeface="Roboto Black"/>
              </a:rPr>
              <a:t>Great</a:t>
            </a:r>
            <a:r>
              <a:rPr b="0" lang="en-US" sz="6600" spc="-1" strike="noStrike">
                <a:solidFill>
                  <a:srgbClr val="fe6b1a"/>
                </a:solidFill>
                <a:latin typeface="Roboto Black"/>
              </a:rPr>
              <a:t>.</a:t>
            </a:r>
            <a:endParaRPr b="0" lang="en-US" sz="6600" spc="-1" strike="noStrike">
              <a:solidFill>
                <a:srgbClr val="ffffff"/>
              </a:solidFill>
              <a:latin typeface="Roboto Black"/>
            </a:endParaRPr>
          </a:p>
        </p:txBody>
      </p:sp>
    </p:spTree>
  </p:cSld>
  <p:transition spd="med">
    <p:fade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1085400" y="1800360"/>
            <a:ext cx="4172040" cy="104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3200" spc="-1" strike="noStrike">
                <a:solidFill>
                  <a:srgbClr val="ffffff"/>
                </a:solidFill>
                <a:latin typeface="Roboto Black"/>
              </a:rPr>
              <a:t>Species That Had</a:t>
            </a:r>
            <a:br>
              <a:rPr sz="3200"/>
            </a:br>
            <a:r>
              <a:rPr b="0" lang="en-ID" sz="3200" spc="-1" strike="noStrike">
                <a:solidFill>
                  <a:srgbClr val="ffffff"/>
                </a:solidFill>
                <a:latin typeface="Roboto Black"/>
              </a:rPr>
              <a:t>Evolved Tooth</a:t>
            </a:r>
            <a:endParaRPr b="0" lang="en-US" sz="32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071" name="TextBox 284"/>
          <p:cNvSpPr/>
          <p:nvPr/>
        </p:nvSpPr>
        <p:spPr>
          <a:xfrm>
            <a:off x="1085760" y="1461600"/>
            <a:ext cx="1925640" cy="337320"/>
          </a:xfrm>
          <a:prstGeom prst="rect">
            <a:avLst/>
          </a:prstGeom>
          <a:solidFill>
            <a:srgbClr val="dceb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Open Sans"/>
              </a:rPr>
              <a:t>Sub-Title Here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72" name="TextBox 285"/>
          <p:cNvSpPr/>
          <p:nvPr/>
        </p:nvSpPr>
        <p:spPr>
          <a:xfrm>
            <a:off x="1085760" y="2837520"/>
            <a:ext cx="4172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shuddered all over, and edged away from his companion. A dentist! A dentist at Philip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073" name="Group 286"/>
          <p:cNvGrpSpPr/>
          <p:nvPr/>
        </p:nvGrpSpPr>
        <p:grpSpPr>
          <a:xfrm>
            <a:off x="5580000" y="1120680"/>
            <a:ext cx="6276960" cy="4616640"/>
            <a:chOff x="5580000" y="1120680"/>
            <a:chExt cx="6276960" cy="4616640"/>
          </a:xfrm>
        </p:grpSpPr>
        <p:sp>
          <p:nvSpPr>
            <p:cNvPr id="1074" name="Freeform 287"/>
            <p:cNvSpPr/>
            <p:nvPr/>
          </p:nvSpPr>
          <p:spPr>
            <a:xfrm>
              <a:off x="5580000" y="5511600"/>
              <a:ext cx="6276960" cy="190440"/>
            </a:xfrm>
            <a:custGeom>
              <a:avLst/>
              <a:gdLst/>
              <a:ahLst/>
              <a:rect l="l" t="t" r="r" b="b"/>
              <a:pathLst>
                <a:path w="6754113" h="205231">
                  <a:moveTo>
                    <a:pt x="6754114" y="102616"/>
                  </a:moveTo>
                  <a:cubicBezTo>
                    <a:pt x="6754114" y="159289"/>
                    <a:pt x="5242155" y="205232"/>
                    <a:pt x="3377057" y="205232"/>
                  </a:cubicBezTo>
                  <a:cubicBezTo>
                    <a:pt x="1511960" y="205232"/>
                    <a:pt x="0" y="159289"/>
                    <a:pt x="0" y="102616"/>
                  </a:cubicBezTo>
                  <a:cubicBezTo>
                    <a:pt x="0" y="45943"/>
                    <a:pt x="1511960" y="0"/>
                    <a:pt x="3377057" y="0"/>
                  </a:cubicBezTo>
                  <a:cubicBezTo>
                    <a:pt x="5242155" y="0"/>
                    <a:pt x="6754114" y="45943"/>
                    <a:pt x="6754114" y="102616"/>
                  </a:cubicBezTo>
                  <a:close/>
                </a:path>
              </a:pathLst>
            </a:custGeom>
            <a:solidFill>
              <a:srgbClr val="bfd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075" name="Freeform 288"/>
            <p:cNvSpPr/>
            <p:nvPr/>
          </p:nvSpPr>
          <p:spPr>
            <a:xfrm>
              <a:off x="6203520" y="2446560"/>
              <a:ext cx="533160" cy="1039320"/>
            </a:xfrm>
            <a:custGeom>
              <a:avLst/>
              <a:gdLst/>
              <a:ahLst/>
              <a:rect l="l" t="t" r="r" b="b"/>
              <a:pathLst>
                <a:path w="573690" h="1118341">
                  <a:moveTo>
                    <a:pt x="571546" y="409580"/>
                  </a:moveTo>
                  <a:cubicBezTo>
                    <a:pt x="563291" y="302011"/>
                    <a:pt x="530716" y="193108"/>
                    <a:pt x="459850" y="111765"/>
                  </a:cubicBezTo>
                  <a:cubicBezTo>
                    <a:pt x="389047" y="30421"/>
                    <a:pt x="275509" y="-18410"/>
                    <a:pt x="170544" y="6545"/>
                  </a:cubicBezTo>
                  <a:cubicBezTo>
                    <a:pt x="65578" y="31501"/>
                    <a:pt x="-17988" y="140975"/>
                    <a:pt x="3348" y="246702"/>
                  </a:cubicBezTo>
                  <a:cubicBezTo>
                    <a:pt x="17255" y="315790"/>
                    <a:pt x="68626" y="370019"/>
                    <a:pt x="105329" y="430154"/>
                  </a:cubicBezTo>
                  <a:cubicBezTo>
                    <a:pt x="186165" y="562551"/>
                    <a:pt x="194991" y="736033"/>
                    <a:pt x="128126" y="875988"/>
                  </a:cubicBezTo>
                  <a:cubicBezTo>
                    <a:pt x="111235" y="911294"/>
                    <a:pt x="89708" y="945012"/>
                    <a:pt x="80310" y="982985"/>
                  </a:cubicBezTo>
                  <a:cubicBezTo>
                    <a:pt x="70912" y="1021021"/>
                    <a:pt x="76500" y="1066107"/>
                    <a:pt x="106472" y="1091316"/>
                  </a:cubicBezTo>
                  <a:cubicBezTo>
                    <a:pt x="232329" y="1197297"/>
                    <a:pt x="403525" y="963173"/>
                    <a:pt x="455595" y="878083"/>
                  </a:cubicBezTo>
                  <a:cubicBezTo>
                    <a:pt x="540876" y="738764"/>
                    <a:pt x="584119" y="572902"/>
                    <a:pt x="571546" y="409580"/>
                  </a:cubicBezTo>
                  <a:close/>
                </a:path>
              </a:pathLst>
            </a:custGeom>
            <a:solidFill>
              <a:srgbClr val="dce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076" name="Freeform 289"/>
            <p:cNvSpPr/>
            <p:nvPr/>
          </p:nvSpPr>
          <p:spPr>
            <a:xfrm>
              <a:off x="5859720" y="1120680"/>
              <a:ext cx="5411520" cy="4468680"/>
            </a:xfrm>
            <a:custGeom>
              <a:avLst/>
              <a:gdLst/>
              <a:ahLst/>
              <a:rect l="l" t="t" r="r" b="b"/>
              <a:pathLst>
                <a:path w="5822872" h="4807343">
                  <a:moveTo>
                    <a:pt x="5814935" y="4754067"/>
                  </a:moveTo>
                  <a:cubicBezTo>
                    <a:pt x="5858560" y="4577156"/>
                    <a:pt x="5712002" y="4409389"/>
                    <a:pt x="5556808" y="4315917"/>
                  </a:cubicBezTo>
                  <a:cubicBezTo>
                    <a:pt x="5401551" y="4222445"/>
                    <a:pt x="5219432" y="4159199"/>
                    <a:pt x="5109133" y="4014800"/>
                  </a:cubicBezTo>
                  <a:cubicBezTo>
                    <a:pt x="4956225" y="3814648"/>
                    <a:pt x="4995151" y="3520961"/>
                    <a:pt x="5113705" y="3298393"/>
                  </a:cubicBezTo>
                  <a:cubicBezTo>
                    <a:pt x="5232259" y="3075826"/>
                    <a:pt x="5416853" y="2897073"/>
                    <a:pt x="5559919" y="2689619"/>
                  </a:cubicBezTo>
                  <a:cubicBezTo>
                    <a:pt x="5702985" y="2482164"/>
                    <a:pt x="5805791" y="2219211"/>
                    <a:pt x="5728893" y="1978736"/>
                  </a:cubicBezTo>
                  <a:cubicBezTo>
                    <a:pt x="5647168" y="1723085"/>
                    <a:pt x="5384088" y="1567574"/>
                    <a:pt x="5123928" y="1510170"/>
                  </a:cubicBezTo>
                  <a:cubicBezTo>
                    <a:pt x="4863769" y="1452766"/>
                    <a:pt x="4593068" y="1469657"/>
                    <a:pt x="4329352" y="1432128"/>
                  </a:cubicBezTo>
                  <a:cubicBezTo>
                    <a:pt x="4065637" y="1394600"/>
                    <a:pt x="3789857" y="1286142"/>
                    <a:pt x="3653395" y="1055510"/>
                  </a:cubicBezTo>
                  <a:cubicBezTo>
                    <a:pt x="3575798" y="924319"/>
                    <a:pt x="3552049" y="768490"/>
                    <a:pt x="3494645" y="627139"/>
                  </a:cubicBezTo>
                  <a:cubicBezTo>
                    <a:pt x="3353358" y="279540"/>
                    <a:pt x="2999980" y="39510"/>
                    <a:pt x="2629077" y="4775"/>
                  </a:cubicBezTo>
                  <a:cubicBezTo>
                    <a:pt x="2258173" y="-30023"/>
                    <a:pt x="1881427" y="127965"/>
                    <a:pt x="1618411" y="393967"/>
                  </a:cubicBezTo>
                  <a:cubicBezTo>
                    <a:pt x="1355393" y="659968"/>
                    <a:pt x="1202295" y="1025474"/>
                    <a:pt x="1160067" y="1398664"/>
                  </a:cubicBezTo>
                  <a:cubicBezTo>
                    <a:pt x="1112633" y="1817764"/>
                    <a:pt x="1195691" y="2257311"/>
                    <a:pt x="1053515" y="2654059"/>
                  </a:cubicBezTo>
                  <a:cubicBezTo>
                    <a:pt x="959788" y="2915615"/>
                    <a:pt x="776147" y="3133039"/>
                    <a:pt x="591806" y="3339922"/>
                  </a:cubicBezTo>
                  <a:cubicBezTo>
                    <a:pt x="407466" y="3546805"/>
                    <a:pt x="215568" y="3754006"/>
                    <a:pt x="99173" y="4006101"/>
                  </a:cubicBezTo>
                  <a:cubicBezTo>
                    <a:pt x="-17222" y="4258259"/>
                    <a:pt x="-46687" y="4569156"/>
                    <a:pt x="95680" y="4807344"/>
                  </a:cubicBezTo>
                  <a:lnTo>
                    <a:pt x="5822873" y="4807344"/>
                  </a:lnTo>
                  <a:lnTo>
                    <a:pt x="5814935" y="4754067"/>
                  </a:lnTo>
                  <a:close/>
                </a:path>
              </a:pathLst>
            </a:custGeom>
            <a:solidFill>
              <a:srgbClr val="dce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077" name="Freeform 290"/>
            <p:cNvSpPr/>
            <p:nvPr/>
          </p:nvSpPr>
          <p:spPr>
            <a:xfrm>
              <a:off x="6539760" y="1749240"/>
              <a:ext cx="2656080" cy="3840120"/>
            </a:xfrm>
            <a:custGeom>
              <a:avLst/>
              <a:gdLst/>
              <a:ahLst/>
              <a:rect l="l" t="t" r="r" b="b"/>
              <a:pathLst>
                <a:path w="2857888" h="4130874">
                  <a:moveTo>
                    <a:pt x="2713708" y="1443749"/>
                  </a:moveTo>
                  <a:cubicBezTo>
                    <a:pt x="2702913" y="1457084"/>
                    <a:pt x="2691483" y="1470165"/>
                    <a:pt x="2679290" y="1482738"/>
                  </a:cubicBezTo>
                  <a:cubicBezTo>
                    <a:pt x="2432466" y="1739024"/>
                    <a:pt x="2362489" y="2080400"/>
                    <a:pt x="2350043" y="2337956"/>
                  </a:cubicBezTo>
                  <a:cubicBezTo>
                    <a:pt x="2339565" y="2552968"/>
                    <a:pt x="2369093" y="2709622"/>
                    <a:pt x="2369093" y="2709622"/>
                  </a:cubicBezTo>
                  <a:cubicBezTo>
                    <a:pt x="2369093" y="2709622"/>
                    <a:pt x="2376269" y="2841130"/>
                    <a:pt x="2369919" y="3024137"/>
                  </a:cubicBezTo>
                  <a:cubicBezTo>
                    <a:pt x="2355060" y="3445968"/>
                    <a:pt x="2267684" y="4141483"/>
                    <a:pt x="1852266" y="4130752"/>
                  </a:cubicBezTo>
                  <a:cubicBezTo>
                    <a:pt x="1852266" y="4130752"/>
                    <a:pt x="1752572" y="4124656"/>
                    <a:pt x="1741014" y="3959746"/>
                  </a:cubicBezTo>
                  <a:cubicBezTo>
                    <a:pt x="1737586" y="3910978"/>
                    <a:pt x="1741840" y="3848304"/>
                    <a:pt x="1758731" y="3767849"/>
                  </a:cubicBezTo>
                  <a:cubicBezTo>
                    <a:pt x="1798926" y="3576016"/>
                    <a:pt x="1805530" y="3199715"/>
                    <a:pt x="1744634" y="2896312"/>
                  </a:cubicBezTo>
                  <a:cubicBezTo>
                    <a:pt x="1693580" y="2641804"/>
                    <a:pt x="1595028" y="2438668"/>
                    <a:pt x="1428849" y="2438668"/>
                  </a:cubicBezTo>
                  <a:cubicBezTo>
                    <a:pt x="1262669" y="2438668"/>
                    <a:pt x="1164117" y="2641804"/>
                    <a:pt x="1113063" y="2896312"/>
                  </a:cubicBezTo>
                  <a:cubicBezTo>
                    <a:pt x="1052230" y="3199651"/>
                    <a:pt x="1058834" y="3576016"/>
                    <a:pt x="1099029" y="3767849"/>
                  </a:cubicBezTo>
                  <a:cubicBezTo>
                    <a:pt x="1115730" y="3847478"/>
                    <a:pt x="1120048" y="3909708"/>
                    <a:pt x="1116810" y="3958222"/>
                  </a:cubicBezTo>
                  <a:cubicBezTo>
                    <a:pt x="1105761" y="4124593"/>
                    <a:pt x="1005494" y="4130752"/>
                    <a:pt x="1005494" y="4130752"/>
                  </a:cubicBezTo>
                  <a:cubicBezTo>
                    <a:pt x="409864" y="4146119"/>
                    <a:pt x="488604" y="2709558"/>
                    <a:pt x="488604" y="2709558"/>
                  </a:cubicBezTo>
                  <a:cubicBezTo>
                    <a:pt x="488604" y="2709558"/>
                    <a:pt x="631416" y="1952956"/>
                    <a:pt x="178534" y="1482675"/>
                  </a:cubicBezTo>
                  <a:cubicBezTo>
                    <a:pt x="167421" y="1471118"/>
                    <a:pt x="156880" y="1459180"/>
                    <a:pt x="146910" y="1446988"/>
                  </a:cubicBezTo>
                  <a:cubicBezTo>
                    <a:pt x="-5426" y="1260615"/>
                    <a:pt x="-24857" y="1001916"/>
                    <a:pt x="23466" y="754711"/>
                  </a:cubicBezTo>
                  <a:cubicBezTo>
                    <a:pt x="100810" y="359614"/>
                    <a:pt x="351508" y="-6083"/>
                    <a:pt x="510004" y="77"/>
                  </a:cubicBezTo>
                  <a:cubicBezTo>
                    <a:pt x="700376" y="7443"/>
                    <a:pt x="917102" y="251029"/>
                    <a:pt x="1150464" y="375108"/>
                  </a:cubicBezTo>
                  <a:cubicBezTo>
                    <a:pt x="1240952" y="423304"/>
                    <a:pt x="1333979" y="453403"/>
                    <a:pt x="1428849" y="444831"/>
                  </a:cubicBezTo>
                  <a:cubicBezTo>
                    <a:pt x="1768510" y="475501"/>
                    <a:pt x="2083597" y="10300"/>
                    <a:pt x="2347757" y="77"/>
                  </a:cubicBezTo>
                  <a:cubicBezTo>
                    <a:pt x="2604932" y="-9766"/>
                    <a:pt x="3104487" y="958292"/>
                    <a:pt x="2713708" y="14437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078" name="Freeform 291"/>
            <p:cNvSpPr/>
            <p:nvPr/>
          </p:nvSpPr>
          <p:spPr>
            <a:xfrm>
              <a:off x="6561720" y="1749240"/>
              <a:ext cx="1047240" cy="806400"/>
            </a:xfrm>
            <a:custGeom>
              <a:avLst/>
              <a:gdLst/>
              <a:ahLst/>
              <a:rect l="l" t="t" r="r" b="b"/>
              <a:pathLst>
                <a:path w="1127061" h="867582">
                  <a:moveTo>
                    <a:pt x="1127062" y="375171"/>
                  </a:moveTo>
                  <a:cubicBezTo>
                    <a:pt x="1088834" y="460642"/>
                    <a:pt x="1015492" y="530429"/>
                    <a:pt x="924878" y="552336"/>
                  </a:cubicBezTo>
                  <a:cubicBezTo>
                    <a:pt x="862585" y="567386"/>
                    <a:pt x="797497" y="560274"/>
                    <a:pt x="733425" y="558686"/>
                  </a:cubicBezTo>
                  <a:cubicBezTo>
                    <a:pt x="669417" y="557035"/>
                    <a:pt x="601726" y="562052"/>
                    <a:pt x="548259" y="597421"/>
                  </a:cubicBezTo>
                  <a:cubicBezTo>
                    <a:pt x="475679" y="645364"/>
                    <a:pt x="445897" y="737375"/>
                    <a:pt x="383413" y="797954"/>
                  </a:cubicBezTo>
                  <a:cubicBezTo>
                    <a:pt x="315214" y="864185"/>
                    <a:pt x="207328" y="885902"/>
                    <a:pt x="118809" y="851231"/>
                  </a:cubicBezTo>
                  <a:cubicBezTo>
                    <a:pt x="74422" y="833832"/>
                    <a:pt x="29528" y="798335"/>
                    <a:pt x="0" y="754711"/>
                  </a:cubicBezTo>
                  <a:cubicBezTo>
                    <a:pt x="77343" y="359614"/>
                    <a:pt x="328041" y="-6083"/>
                    <a:pt x="486537" y="77"/>
                  </a:cubicBezTo>
                  <a:cubicBezTo>
                    <a:pt x="676973" y="7570"/>
                    <a:pt x="893699" y="251156"/>
                    <a:pt x="1127062" y="375171"/>
                  </a:cubicBezTo>
                  <a:close/>
                </a:path>
              </a:pathLst>
            </a:custGeom>
            <a:solidFill>
              <a:srgbClr val="f4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grpSp>
          <p:nvGrpSpPr>
            <p:cNvPr id="1079" name="Graphic 199"/>
            <p:cNvGrpSpPr/>
            <p:nvPr/>
          </p:nvGrpSpPr>
          <p:grpSpPr>
            <a:xfrm>
              <a:off x="8136000" y="2257200"/>
              <a:ext cx="429480" cy="429480"/>
              <a:chOff x="8136000" y="2257200"/>
              <a:chExt cx="429480" cy="429480"/>
            </a:xfrm>
          </p:grpSpPr>
          <p:sp>
            <p:nvSpPr>
              <p:cNvPr id="1080" name="Freeform 350"/>
              <p:cNvSpPr/>
              <p:nvPr/>
            </p:nvSpPr>
            <p:spPr>
              <a:xfrm>
                <a:off x="8249040" y="2257200"/>
                <a:ext cx="203400" cy="122760"/>
              </a:xfrm>
              <a:custGeom>
                <a:avLst/>
                <a:gdLst/>
                <a:ahLst/>
                <a:rect l="l" t="t" r="r" b="b"/>
                <a:pathLst>
                  <a:path w="218757" h="132270">
                    <a:moveTo>
                      <a:pt x="218757" y="21018"/>
                    </a:moveTo>
                    <a:lnTo>
                      <a:pt x="218757" y="132271"/>
                    </a:lnTo>
                    <a:lnTo>
                      <a:pt x="0" y="132271"/>
                    </a:lnTo>
                    <a:lnTo>
                      <a:pt x="0" y="21018"/>
                    </a:lnTo>
                    <a:cubicBezTo>
                      <a:pt x="0" y="9398"/>
                      <a:pt x="9398" y="0"/>
                      <a:pt x="21018" y="0"/>
                    </a:cubicBezTo>
                    <a:lnTo>
                      <a:pt x="197739" y="0"/>
                    </a:lnTo>
                    <a:cubicBezTo>
                      <a:pt x="209359" y="64"/>
                      <a:pt x="218757" y="9461"/>
                      <a:pt x="218757" y="21018"/>
                    </a:cubicBezTo>
                    <a:close/>
                  </a:path>
                </a:pathLst>
              </a:custGeom>
              <a:solidFill>
                <a:srgbClr val="f59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081" name="Freeform 351"/>
              <p:cNvSpPr/>
              <p:nvPr/>
            </p:nvSpPr>
            <p:spPr>
              <a:xfrm>
                <a:off x="8249040" y="2563920"/>
                <a:ext cx="203400" cy="122760"/>
              </a:xfrm>
              <a:custGeom>
                <a:avLst/>
                <a:gdLst/>
                <a:ahLst/>
                <a:rect l="l" t="t" r="r" b="b"/>
                <a:pathLst>
                  <a:path w="218820" h="132270">
                    <a:moveTo>
                      <a:pt x="64" y="0"/>
                    </a:moveTo>
                    <a:lnTo>
                      <a:pt x="218821" y="0"/>
                    </a:lnTo>
                    <a:lnTo>
                      <a:pt x="218821" y="113220"/>
                    </a:lnTo>
                    <a:cubicBezTo>
                      <a:pt x="218821" y="123698"/>
                      <a:pt x="210312" y="132270"/>
                      <a:pt x="199771" y="132270"/>
                    </a:cubicBezTo>
                    <a:lnTo>
                      <a:pt x="19050" y="132270"/>
                    </a:lnTo>
                    <a:cubicBezTo>
                      <a:pt x="8572" y="132270"/>
                      <a:pt x="0" y="123761"/>
                      <a:pt x="0" y="113220"/>
                    </a:cubicBezTo>
                    <a:lnTo>
                      <a:pt x="0" y="0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f59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082" name="Freeform 352"/>
              <p:cNvSpPr/>
              <p:nvPr/>
            </p:nvSpPr>
            <p:spPr>
              <a:xfrm>
                <a:off x="8136000" y="2379960"/>
                <a:ext cx="429480" cy="183600"/>
              </a:xfrm>
              <a:custGeom>
                <a:avLst/>
                <a:gdLst/>
                <a:ahLst/>
                <a:rect l="l" t="t" r="r" b="b"/>
                <a:pathLst>
                  <a:path w="462216" h="197675">
                    <a:moveTo>
                      <a:pt x="462217" y="26543"/>
                    </a:moveTo>
                    <a:lnTo>
                      <a:pt x="462217" y="171133"/>
                    </a:lnTo>
                    <a:cubicBezTo>
                      <a:pt x="462217" y="185801"/>
                      <a:pt x="450342" y="197676"/>
                      <a:pt x="435673" y="197676"/>
                    </a:cubicBezTo>
                    <a:lnTo>
                      <a:pt x="26543" y="197676"/>
                    </a:lnTo>
                    <a:cubicBezTo>
                      <a:pt x="11874" y="197676"/>
                      <a:pt x="0" y="185801"/>
                      <a:pt x="0" y="171133"/>
                    </a:cubicBezTo>
                    <a:lnTo>
                      <a:pt x="0" y="26543"/>
                    </a:lnTo>
                    <a:cubicBezTo>
                      <a:pt x="0" y="11874"/>
                      <a:pt x="11874" y="0"/>
                      <a:pt x="26543" y="0"/>
                    </a:cubicBezTo>
                    <a:lnTo>
                      <a:pt x="435673" y="0"/>
                    </a:lnTo>
                    <a:cubicBezTo>
                      <a:pt x="450342" y="0"/>
                      <a:pt x="462217" y="11874"/>
                      <a:pt x="462217" y="26543"/>
                    </a:cubicBezTo>
                    <a:close/>
                  </a:path>
                </a:pathLst>
              </a:custGeom>
              <a:solidFill>
                <a:srgbClr val="f8b0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083" name="Freeform 353"/>
              <p:cNvSpPr/>
              <p:nvPr/>
            </p:nvSpPr>
            <p:spPr>
              <a:xfrm>
                <a:off x="8229600" y="2398680"/>
                <a:ext cx="242280" cy="146520"/>
              </a:xfrm>
              <a:custGeom>
                <a:avLst/>
                <a:gdLst/>
                <a:ahLst/>
                <a:rect l="l" t="t" r="r" b="b"/>
                <a:pathLst>
                  <a:path w="260667" h="157734">
                    <a:moveTo>
                      <a:pt x="0" y="131572"/>
                    </a:moveTo>
                    <a:lnTo>
                      <a:pt x="0" y="26162"/>
                    </a:lnTo>
                    <a:cubicBezTo>
                      <a:pt x="0" y="11748"/>
                      <a:pt x="11685" y="0"/>
                      <a:pt x="26162" y="0"/>
                    </a:cubicBezTo>
                    <a:lnTo>
                      <a:pt x="234506" y="0"/>
                    </a:lnTo>
                    <a:cubicBezTo>
                      <a:pt x="248920" y="0"/>
                      <a:pt x="260668" y="11684"/>
                      <a:pt x="260668" y="26162"/>
                    </a:cubicBezTo>
                    <a:lnTo>
                      <a:pt x="260668" y="131572"/>
                    </a:lnTo>
                    <a:cubicBezTo>
                      <a:pt x="260668" y="145987"/>
                      <a:pt x="248984" y="157734"/>
                      <a:pt x="234506" y="157734"/>
                    </a:cubicBezTo>
                    <a:lnTo>
                      <a:pt x="26162" y="157734"/>
                    </a:lnTo>
                    <a:cubicBezTo>
                      <a:pt x="11748" y="157671"/>
                      <a:pt x="0" y="145987"/>
                      <a:pt x="0" y="13157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</p:grpSp>
        <p:grpSp>
          <p:nvGrpSpPr>
            <p:cNvPr id="1084" name="Graphic 199"/>
            <p:cNvGrpSpPr/>
            <p:nvPr/>
          </p:nvGrpSpPr>
          <p:grpSpPr>
            <a:xfrm>
              <a:off x="7151400" y="3238200"/>
              <a:ext cx="313200" cy="313200"/>
              <a:chOff x="7151400" y="3238200"/>
              <a:chExt cx="313200" cy="313200"/>
            </a:xfrm>
          </p:grpSpPr>
          <p:sp>
            <p:nvSpPr>
              <p:cNvPr id="1085" name="Freeform 346"/>
              <p:cNvSpPr/>
              <p:nvPr/>
            </p:nvSpPr>
            <p:spPr>
              <a:xfrm>
                <a:off x="7151400" y="3238200"/>
                <a:ext cx="161280" cy="161280"/>
              </a:xfrm>
              <a:custGeom>
                <a:avLst/>
                <a:gdLst/>
                <a:ahLst/>
                <a:rect l="l" t="t" r="r" b="b"/>
                <a:pathLst>
                  <a:path w="173704" h="173656">
                    <a:moveTo>
                      <a:pt x="116681" y="4429"/>
                    </a:moveTo>
                    <a:lnTo>
                      <a:pt x="173704" y="61515"/>
                    </a:lnTo>
                    <a:lnTo>
                      <a:pt x="61563" y="173657"/>
                    </a:lnTo>
                    <a:lnTo>
                      <a:pt x="4476" y="116570"/>
                    </a:lnTo>
                    <a:cubicBezTo>
                      <a:pt x="-1492" y="110601"/>
                      <a:pt x="-1492" y="101013"/>
                      <a:pt x="4476" y="95044"/>
                    </a:cubicBezTo>
                    <a:lnTo>
                      <a:pt x="95091" y="4429"/>
                    </a:lnTo>
                    <a:cubicBezTo>
                      <a:pt x="101060" y="-1476"/>
                      <a:pt x="110712" y="-1476"/>
                      <a:pt x="116681" y="4429"/>
                    </a:cubicBezTo>
                    <a:close/>
                  </a:path>
                </a:pathLst>
              </a:custGeom>
              <a:solidFill>
                <a:srgbClr val="f59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086" name="Freeform 347"/>
              <p:cNvSpPr/>
              <p:nvPr/>
            </p:nvSpPr>
            <p:spPr>
              <a:xfrm>
                <a:off x="7302600" y="3389400"/>
                <a:ext cx="162000" cy="162000"/>
              </a:xfrm>
              <a:custGeom>
                <a:avLst/>
                <a:gdLst/>
                <a:ahLst/>
                <a:rect l="l" t="t" r="r" b="b"/>
                <a:pathLst>
                  <a:path w="174228" h="174228">
                    <a:moveTo>
                      <a:pt x="0" y="112141"/>
                    </a:moveTo>
                    <a:lnTo>
                      <a:pt x="112141" y="0"/>
                    </a:lnTo>
                    <a:lnTo>
                      <a:pt x="170180" y="58039"/>
                    </a:lnTo>
                    <a:cubicBezTo>
                      <a:pt x="175578" y="63436"/>
                      <a:pt x="175578" y="72136"/>
                      <a:pt x="170180" y="77534"/>
                    </a:cubicBezTo>
                    <a:lnTo>
                      <a:pt x="77534" y="170180"/>
                    </a:lnTo>
                    <a:cubicBezTo>
                      <a:pt x="72137" y="175578"/>
                      <a:pt x="63437" y="175578"/>
                      <a:pt x="58039" y="170180"/>
                    </a:cubicBezTo>
                    <a:lnTo>
                      <a:pt x="0" y="112141"/>
                    </a:lnTo>
                    <a:close/>
                  </a:path>
                </a:pathLst>
              </a:custGeom>
              <a:solidFill>
                <a:srgbClr val="f59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087" name="Freeform 348"/>
              <p:cNvSpPr/>
              <p:nvPr/>
            </p:nvSpPr>
            <p:spPr>
              <a:xfrm>
                <a:off x="7157880" y="3244680"/>
                <a:ext cx="299520" cy="299520"/>
              </a:xfrm>
              <a:custGeom>
                <a:avLst/>
                <a:gdLst/>
                <a:ahLst/>
                <a:rect l="l" t="t" r="r" b="b"/>
                <a:pathLst>
                  <a:path w="322325" h="322326">
                    <a:moveTo>
                      <a:pt x="242602" y="5620"/>
                    </a:moveTo>
                    <a:lnTo>
                      <a:pt x="316706" y="79724"/>
                    </a:lnTo>
                    <a:cubicBezTo>
                      <a:pt x="324199" y="87217"/>
                      <a:pt x="324199" y="99473"/>
                      <a:pt x="316706" y="106966"/>
                    </a:cubicBezTo>
                    <a:lnTo>
                      <a:pt x="106966" y="316706"/>
                    </a:lnTo>
                    <a:cubicBezTo>
                      <a:pt x="99472" y="324199"/>
                      <a:pt x="87217" y="324199"/>
                      <a:pt x="79724" y="316706"/>
                    </a:cubicBezTo>
                    <a:lnTo>
                      <a:pt x="5620" y="242602"/>
                    </a:lnTo>
                    <a:cubicBezTo>
                      <a:pt x="-1873" y="235109"/>
                      <a:pt x="-1873" y="222853"/>
                      <a:pt x="5620" y="215360"/>
                    </a:cubicBezTo>
                    <a:lnTo>
                      <a:pt x="215360" y="5620"/>
                    </a:lnTo>
                    <a:cubicBezTo>
                      <a:pt x="222853" y="-1873"/>
                      <a:pt x="235046" y="-1873"/>
                      <a:pt x="242602" y="5620"/>
                    </a:cubicBezTo>
                    <a:close/>
                  </a:path>
                </a:pathLst>
              </a:custGeom>
              <a:solidFill>
                <a:srgbClr val="f8b0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088" name="Freeform 349"/>
              <p:cNvSpPr/>
              <p:nvPr/>
            </p:nvSpPr>
            <p:spPr>
              <a:xfrm>
                <a:off x="7215480" y="3302280"/>
                <a:ext cx="184680" cy="184680"/>
              </a:xfrm>
              <a:custGeom>
                <a:avLst/>
                <a:gdLst/>
                <a:ahLst/>
                <a:rect l="l" t="t" r="r" b="b"/>
                <a:pathLst>
                  <a:path w="198786" h="198786">
                    <a:moveTo>
                      <a:pt x="59611" y="193214"/>
                    </a:moveTo>
                    <a:lnTo>
                      <a:pt x="5572" y="139176"/>
                    </a:lnTo>
                    <a:cubicBezTo>
                      <a:pt x="-1857" y="131747"/>
                      <a:pt x="-1857" y="119745"/>
                      <a:pt x="5572" y="112379"/>
                    </a:cubicBezTo>
                    <a:lnTo>
                      <a:pt x="112379" y="5572"/>
                    </a:lnTo>
                    <a:cubicBezTo>
                      <a:pt x="119809" y="-1857"/>
                      <a:pt x="131810" y="-1857"/>
                      <a:pt x="139176" y="5572"/>
                    </a:cubicBezTo>
                    <a:lnTo>
                      <a:pt x="193214" y="59611"/>
                    </a:lnTo>
                    <a:cubicBezTo>
                      <a:pt x="200644" y="67040"/>
                      <a:pt x="200644" y="79042"/>
                      <a:pt x="193214" y="86407"/>
                    </a:cubicBezTo>
                    <a:lnTo>
                      <a:pt x="86408" y="193214"/>
                    </a:lnTo>
                    <a:cubicBezTo>
                      <a:pt x="79041" y="200644"/>
                      <a:pt x="66976" y="200644"/>
                      <a:pt x="59611" y="1932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</p:grpSp>
        <p:sp>
          <p:nvSpPr>
            <p:cNvPr id="1089" name="Freeform 294"/>
            <p:cNvSpPr/>
            <p:nvPr/>
          </p:nvSpPr>
          <p:spPr>
            <a:xfrm>
              <a:off x="6676560" y="3094560"/>
              <a:ext cx="901080" cy="2494800"/>
            </a:xfrm>
            <a:custGeom>
              <a:avLst/>
              <a:gdLst/>
              <a:ahLst/>
              <a:rect l="l" t="t" r="r" b="b"/>
              <a:pathLst>
                <a:path w="969899" h="2683886">
                  <a:moveTo>
                    <a:pt x="969899" y="2511235"/>
                  </a:moveTo>
                  <a:cubicBezTo>
                    <a:pt x="958850" y="2677605"/>
                    <a:pt x="858584" y="2683764"/>
                    <a:pt x="858584" y="2683764"/>
                  </a:cubicBezTo>
                  <a:cubicBezTo>
                    <a:pt x="262954" y="2699131"/>
                    <a:pt x="341694" y="1262571"/>
                    <a:pt x="341694" y="1262571"/>
                  </a:cubicBezTo>
                  <a:cubicBezTo>
                    <a:pt x="341694" y="1262571"/>
                    <a:pt x="484505" y="505968"/>
                    <a:pt x="31623" y="35687"/>
                  </a:cubicBezTo>
                  <a:cubicBezTo>
                    <a:pt x="20510" y="24130"/>
                    <a:pt x="9970" y="12192"/>
                    <a:pt x="0" y="0"/>
                  </a:cubicBezTo>
                  <a:cubicBezTo>
                    <a:pt x="163513" y="126810"/>
                    <a:pt x="291465" y="299784"/>
                    <a:pt x="362077" y="494411"/>
                  </a:cubicBezTo>
                  <a:cubicBezTo>
                    <a:pt x="473266" y="800862"/>
                    <a:pt x="442849" y="1137476"/>
                    <a:pt x="430594" y="1463294"/>
                  </a:cubicBezTo>
                  <a:cubicBezTo>
                    <a:pt x="418338" y="1789113"/>
                    <a:pt x="431927" y="2136267"/>
                    <a:pt x="613283" y="2407222"/>
                  </a:cubicBezTo>
                  <a:cubicBezTo>
                    <a:pt x="658559" y="2474913"/>
                    <a:pt x="719201" y="2539619"/>
                    <a:pt x="798830" y="2556764"/>
                  </a:cubicBezTo>
                  <a:cubicBezTo>
                    <a:pt x="858711" y="2569591"/>
                    <a:pt x="924179" y="2551875"/>
                    <a:pt x="969899" y="2511235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090" name="Freeform 295"/>
            <p:cNvSpPr/>
            <p:nvPr/>
          </p:nvSpPr>
          <p:spPr>
            <a:xfrm>
              <a:off x="8157960" y="3091320"/>
              <a:ext cx="903600" cy="2498040"/>
            </a:xfrm>
            <a:custGeom>
              <a:avLst/>
              <a:gdLst/>
              <a:ahLst/>
              <a:rect l="l" t="t" r="r" b="b"/>
              <a:pathLst>
                <a:path w="972566" h="2687252">
                  <a:moveTo>
                    <a:pt x="609029" y="894334"/>
                  </a:moveTo>
                  <a:cubicBezTo>
                    <a:pt x="598551" y="1109345"/>
                    <a:pt x="628079" y="1266000"/>
                    <a:pt x="628079" y="1266000"/>
                  </a:cubicBezTo>
                  <a:cubicBezTo>
                    <a:pt x="628079" y="1266000"/>
                    <a:pt x="635254" y="1397508"/>
                    <a:pt x="628904" y="1580515"/>
                  </a:cubicBezTo>
                  <a:cubicBezTo>
                    <a:pt x="614045" y="2002345"/>
                    <a:pt x="526669" y="2697861"/>
                    <a:pt x="111252" y="2687130"/>
                  </a:cubicBezTo>
                  <a:cubicBezTo>
                    <a:pt x="111252" y="2687130"/>
                    <a:pt x="11557" y="2681034"/>
                    <a:pt x="0" y="2516124"/>
                  </a:cubicBezTo>
                  <a:cubicBezTo>
                    <a:pt x="45593" y="2555685"/>
                    <a:pt x="110236" y="2572766"/>
                    <a:pt x="169355" y="2560066"/>
                  </a:cubicBezTo>
                  <a:cubicBezTo>
                    <a:pt x="248984" y="2542921"/>
                    <a:pt x="309626" y="2478278"/>
                    <a:pt x="354902" y="2410524"/>
                  </a:cubicBezTo>
                  <a:cubicBezTo>
                    <a:pt x="536258" y="2139569"/>
                    <a:pt x="549784" y="1792478"/>
                    <a:pt x="537528" y="1466596"/>
                  </a:cubicBezTo>
                  <a:cubicBezTo>
                    <a:pt x="525273" y="1140841"/>
                    <a:pt x="494856" y="804164"/>
                    <a:pt x="606108" y="497713"/>
                  </a:cubicBezTo>
                  <a:cubicBezTo>
                    <a:pt x="677355" y="301308"/>
                    <a:pt x="806959" y="127064"/>
                    <a:pt x="972566" y="0"/>
                  </a:cubicBezTo>
                  <a:cubicBezTo>
                    <a:pt x="961772" y="13335"/>
                    <a:pt x="950341" y="26416"/>
                    <a:pt x="938149" y="38989"/>
                  </a:cubicBezTo>
                  <a:cubicBezTo>
                    <a:pt x="691452" y="295402"/>
                    <a:pt x="621475" y="636778"/>
                    <a:pt x="609029" y="894334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091" name="Freeform 296"/>
            <p:cNvSpPr/>
            <p:nvPr/>
          </p:nvSpPr>
          <p:spPr>
            <a:xfrm>
              <a:off x="7574040" y="3921840"/>
              <a:ext cx="587160" cy="519480"/>
            </a:xfrm>
            <a:custGeom>
              <a:avLst/>
              <a:gdLst/>
              <a:ahLst/>
              <a:rect l="l" t="t" r="r" b="b"/>
              <a:pathLst>
                <a:path w="632039" h="559117">
                  <a:moveTo>
                    <a:pt x="632006" y="559117"/>
                  </a:moveTo>
                  <a:lnTo>
                    <a:pt x="632006" y="559117"/>
                  </a:lnTo>
                  <a:cubicBezTo>
                    <a:pt x="580952" y="304610"/>
                    <a:pt x="482337" y="101473"/>
                    <a:pt x="316221" y="101473"/>
                  </a:cubicBezTo>
                  <a:cubicBezTo>
                    <a:pt x="150041" y="101473"/>
                    <a:pt x="51489" y="304610"/>
                    <a:pt x="435" y="559117"/>
                  </a:cubicBezTo>
                  <a:cubicBezTo>
                    <a:pt x="435" y="559117"/>
                    <a:pt x="-24774" y="0"/>
                    <a:pt x="308664" y="0"/>
                  </a:cubicBezTo>
                  <a:cubicBezTo>
                    <a:pt x="642103" y="0"/>
                    <a:pt x="632006" y="559117"/>
                    <a:pt x="632006" y="559117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092" name="Freeform 297"/>
            <p:cNvSpPr/>
            <p:nvPr/>
          </p:nvSpPr>
          <p:spPr>
            <a:xfrm>
              <a:off x="8785440" y="2983680"/>
              <a:ext cx="101160" cy="194760"/>
            </a:xfrm>
            <a:custGeom>
              <a:avLst/>
              <a:gdLst/>
              <a:ahLst/>
              <a:rect l="l" t="t" r="r" b="b"/>
              <a:pathLst>
                <a:path w="109069" h="209654">
                  <a:moveTo>
                    <a:pt x="109070" y="203962"/>
                  </a:moveTo>
                  <a:lnTo>
                    <a:pt x="71605" y="209169"/>
                  </a:lnTo>
                  <a:cubicBezTo>
                    <a:pt x="44237" y="212979"/>
                    <a:pt x="19027" y="193929"/>
                    <a:pt x="15153" y="166561"/>
                  </a:cubicBezTo>
                  <a:lnTo>
                    <a:pt x="485" y="61658"/>
                  </a:lnTo>
                  <a:cubicBezTo>
                    <a:pt x="-3325" y="34290"/>
                    <a:pt x="15725" y="9080"/>
                    <a:pt x="43093" y="5207"/>
                  </a:cubicBezTo>
                  <a:lnTo>
                    <a:pt x="80558" y="0"/>
                  </a:lnTo>
                  <a:lnTo>
                    <a:pt x="109070" y="203962"/>
                  </a:lnTo>
                  <a:close/>
                </a:path>
              </a:pathLst>
            </a:custGeom>
            <a:solidFill>
              <a:srgbClr val="e2e3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093" name="Freeform 298"/>
            <p:cNvSpPr/>
            <p:nvPr/>
          </p:nvSpPr>
          <p:spPr>
            <a:xfrm>
              <a:off x="8854200" y="2876760"/>
              <a:ext cx="184320" cy="375480"/>
            </a:xfrm>
            <a:custGeom>
              <a:avLst/>
              <a:gdLst/>
              <a:ahLst/>
              <a:rect l="l" t="t" r="r" b="b"/>
              <a:pathLst>
                <a:path w="198572" h="404058">
                  <a:moveTo>
                    <a:pt x="198572" y="268478"/>
                  </a:moveTo>
                  <a:lnTo>
                    <a:pt x="198572" y="268478"/>
                  </a:lnTo>
                  <a:lnTo>
                    <a:pt x="198572" y="268478"/>
                  </a:lnTo>
                  <a:cubicBezTo>
                    <a:pt x="194382" y="270891"/>
                    <a:pt x="190571" y="273876"/>
                    <a:pt x="187270" y="277305"/>
                  </a:cubicBezTo>
                  <a:cubicBezTo>
                    <a:pt x="175649" y="289560"/>
                    <a:pt x="170125" y="306578"/>
                    <a:pt x="168791" y="323342"/>
                  </a:cubicBezTo>
                  <a:cubicBezTo>
                    <a:pt x="167458" y="340170"/>
                    <a:pt x="170252" y="369253"/>
                    <a:pt x="172728" y="385953"/>
                  </a:cubicBezTo>
                  <a:cubicBezTo>
                    <a:pt x="166759" y="380556"/>
                    <a:pt x="158821" y="374777"/>
                    <a:pt x="151456" y="377825"/>
                  </a:cubicBezTo>
                  <a:cubicBezTo>
                    <a:pt x="145931" y="380111"/>
                    <a:pt x="143328" y="386652"/>
                    <a:pt x="143709" y="392621"/>
                  </a:cubicBezTo>
                  <a:cubicBezTo>
                    <a:pt x="143835" y="394018"/>
                    <a:pt x="144026" y="395351"/>
                    <a:pt x="144407" y="396621"/>
                  </a:cubicBezTo>
                  <a:lnTo>
                    <a:pt x="94369" y="403606"/>
                  </a:lnTo>
                  <a:cubicBezTo>
                    <a:pt x="68842" y="407162"/>
                    <a:pt x="45221" y="389382"/>
                    <a:pt x="41601" y="363728"/>
                  </a:cubicBezTo>
                  <a:lnTo>
                    <a:pt x="453" y="69596"/>
                  </a:lnTo>
                  <a:cubicBezTo>
                    <a:pt x="-3104" y="44069"/>
                    <a:pt x="14677" y="20447"/>
                    <a:pt x="40331" y="16828"/>
                  </a:cubicBezTo>
                  <a:lnTo>
                    <a:pt x="161108" y="0"/>
                  </a:lnTo>
                  <a:lnTo>
                    <a:pt x="198572" y="268478"/>
                  </a:lnTo>
                  <a:close/>
                </a:path>
              </a:pathLst>
            </a:custGeom>
            <a:solidFill>
              <a:srgbClr val="918e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094" name="Freeform 299"/>
            <p:cNvSpPr/>
            <p:nvPr/>
          </p:nvSpPr>
          <p:spPr>
            <a:xfrm>
              <a:off x="9003240" y="2652480"/>
              <a:ext cx="1051920" cy="653760"/>
            </a:xfrm>
            <a:custGeom>
              <a:avLst/>
              <a:gdLst/>
              <a:ahLst/>
              <a:rect l="l" t="t" r="r" b="b"/>
              <a:pathLst>
                <a:path w="1131840" h="703431">
                  <a:moveTo>
                    <a:pt x="1066846" y="589513"/>
                  </a:moveTo>
                  <a:cubicBezTo>
                    <a:pt x="1057830" y="593513"/>
                    <a:pt x="1048114" y="596371"/>
                    <a:pt x="1037891" y="597768"/>
                  </a:cubicBezTo>
                  <a:lnTo>
                    <a:pt x="676321" y="648314"/>
                  </a:lnTo>
                  <a:lnTo>
                    <a:pt x="494522" y="673777"/>
                  </a:lnTo>
                  <a:lnTo>
                    <a:pt x="282177" y="703432"/>
                  </a:lnTo>
                  <a:cubicBezTo>
                    <a:pt x="214804" y="658664"/>
                    <a:pt x="155304" y="602086"/>
                    <a:pt x="107234" y="537125"/>
                  </a:cubicBezTo>
                  <a:cubicBezTo>
                    <a:pt x="97837" y="524489"/>
                    <a:pt x="87931" y="510709"/>
                    <a:pt x="73009" y="505566"/>
                  </a:cubicBezTo>
                  <a:cubicBezTo>
                    <a:pt x="61515" y="501629"/>
                    <a:pt x="48815" y="503851"/>
                    <a:pt x="38210" y="509884"/>
                  </a:cubicBezTo>
                  <a:lnTo>
                    <a:pt x="38210" y="509947"/>
                  </a:lnTo>
                  <a:lnTo>
                    <a:pt x="38146" y="509947"/>
                  </a:lnTo>
                  <a:lnTo>
                    <a:pt x="1063" y="244454"/>
                  </a:lnTo>
                  <a:cubicBezTo>
                    <a:pt x="872" y="243438"/>
                    <a:pt x="809" y="242422"/>
                    <a:pt x="682" y="241406"/>
                  </a:cubicBezTo>
                  <a:cubicBezTo>
                    <a:pt x="-5859" y="182922"/>
                    <a:pt x="35353" y="129519"/>
                    <a:pt x="93963" y="121327"/>
                  </a:cubicBezTo>
                  <a:lnTo>
                    <a:pt x="696197" y="37126"/>
                  </a:lnTo>
                  <a:lnTo>
                    <a:pt x="867203" y="13250"/>
                  </a:lnTo>
                  <a:lnTo>
                    <a:pt x="954452" y="1058"/>
                  </a:lnTo>
                  <a:cubicBezTo>
                    <a:pt x="993568" y="-4403"/>
                    <a:pt x="1030779" y="11663"/>
                    <a:pt x="1054084" y="40174"/>
                  </a:cubicBezTo>
                  <a:cubicBezTo>
                    <a:pt x="1066275" y="55097"/>
                    <a:pt x="1074721" y="73512"/>
                    <a:pt x="1077578" y="94022"/>
                  </a:cubicBezTo>
                  <a:lnTo>
                    <a:pt x="1130791" y="474705"/>
                  </a:lnTo>
                  <a:cubicBezTo>
                    <a:pt x="1137649" y="524108"/>
                    <a:pt x="1110281" y="570336"/>
                    <a:pt x="1066846" y="589513"/>
                  </a:cubicBezTo>
                  <a:close/>
                </a:path>
              </a:pathLst>
            </a:custGeom>
            <a:solidFill>
              <a:srgbClr val="fe6b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pic>
          <p:nvPicPr>
            <p:cNvPr id="1095" name="Graphic 199" descr=""/>
            <p:cNvPicPr/>
            <p:nvPr/>
          </p:nvPicPr>
          <p:blipFill>
            <a:blip r:embed="rId1"/>
            <a:stretch/>
          </p:blipFill>
          <p:spPr>
            <a:xfrm>
              <a:off x="9607320" y="2919960"/>
              <a:ext cx="341280" cy="17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6" name="Freeform 301"/>
            <p:cNvSpPr/>
            <p:nvPr/>
          </p:nvSpPr>
          <p:spPr>
            <a:xfrm>
              <a:off x="8987760" y="3120840"/>
              <a:ext cx="279360" cy="257040"/>
            </a:xfrm>
            <a:custGeom>
              <a:avLst/>
              <a:gdLst/>
              <a:ahLst/>
              <a:rect l="l" t="t" r="r" b="b"/>
              <a:pathLst>
                <a:path w="300910" h="276828">
                  <a:moveTo>
                    <a:pt x="300910" y="201192"/>
                  </a:moveTo>
                  <a:cubicBezTo>
                    <a:pt x="299704" y="231736"/>
                    <a:pt x="258492" y="253262"/>
                    <a:pt x="244078" y="259930"/>
                  </a:cubicBezTo>
                  <a:cubicBezTo>
                    <a:pt x="240966" y="261390"/>
                    <a:pt x="239125" y="262089"/>
                    <a:pt x="239125" y="262089"/>
                  </a:cubicBezTo>
                  <a:cubicBezTo>
                    <a:pt x="196644" y="278027"/>
                    <a:pt x="147748" y="283933"/>
                    <a:pt x="106473" y="265010"/>
                  </a:cubicBezTo>
                  <a:cubicBezTo>
                    <a:pt x="82534" y="254024"/>
                    <a:pt x="62722" y="235482"/>
                    <a:pt x="46784" y="214591"/>
                  </a:cubicBezTo>
                  <a:cubicBezTo>
                    <a:pt x="30845" y="193636"/>
                    <a:pt x="18462" y="170331"/>
                    <a:pt x="6080" y="147090"/>
                  </a:cubicBezTo>
                  <a:cubicBezTo>
                    <a:pt x="3985" y="143090"/>
                    <a:pt x="1762" y="138899"/>
                    <a:pt x="746" y="134454"/>
                  </a:cubicBezTo>
                  <a:cubicBezTo>
                    <a:pt x="365" y="133120"/>
                    <a:pt x="174" y="131787"/>
                    <a:pt x="48" y="130453"/>
                  </a:cubicBezTo>
                  <a:cubicBezTo>
                    <a:pt x="-397" y="124548"/>
                    <a:pt x="2270" y="117944"/>
                    <a:pt x="7795" y="115658"/>
                  </a:cubicBezTo>
                  <a:cubicBezTo>
                    <a:pt x="15224" y="112610"/>
                    <a:pt x="23098" y="118388"/>
                    <a:pt x="29067" y="123786"/>
                  </a:cubicBezTo>
                  <a:cubicBezTo>
                    <a:pt x="26590" y="107085"/>
                    <a:pt x="23797" y="78066"/>
                    <a:pt x="25130" y="61175"/>
                  </a:cubicBezTo>
                  <a:cubicBezTo>
                    <a:pt x="26463" y="44347"/>
                    <a:pt x="31988" y="27393"/>
                    <a:pt x="43609" y="15137"/>
                  </a:cubicBezTo>
                  <a:cubicBezTo>
                    <a:pt x="46910" y="11708"/>
                    <a:pt x="50721" y="8724"/>
                    <a:pt x="54848" y="6311"/>
                  </a:cubicBezTo>
                  <a:lnTo>
                    <a:pt x="54911" y="6311"/>
                  </a:lnTo>
                  <a:lnTo>
                    <a:pt x="54911" y="6247"/>
                  </a:lnTo>
                  <a:cubicBezTo>
                    <a:pt x="65516" y="278"/>
                    <a:pt x="78216" y="-1944"/>
                    <a:pt x="89710" y="1929"/>
                  </a:cubicBezTo>
                  <a:cubicBezTo>
                    <a:pt x="104632" y="7009"/>
                    <a:pt x="114538" y="20789"/>
                    <a:pt x="123936" y="33489"/>
                  </a:cubicBezTo>
                  <a:cubicBezTo>
                    <a:pt x="172006" y="98513"/>
                    <a:pt x="231505" y="155028"/>
                    <a:pt x="298878" y="199795"/>
                  </a:cubicBezTo>
                  <a:cubicBezTo>
                    <a:pt x="299577" y="200240"/>
                    <a:pt x="300212" y="200684"/>
                    <a:pt x="300910" y="20119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097" name="Freeform 302"/>
            <p:cNvSpPr/>
            <p:nvPr/>
          </p:nvSpPr>
          <p:spPr>
            <a:xfrm>
              <a:off x="9214560" y="3278880"/>
              <a:ext cx="248040" cy="85680"/>
            </a:xfrm>
            <a:custGeom>
              <a:avLst/>
              <a:gdLst/>
              <a:ahLst/>
              <a:rect l="l" t="t" r="r" b="b"/>
              <a:pathLst>
                <a:path w="267081" h="92226">
                  <a:moveTo>
                    <a:pt x="267081" y="0"/>
                  </a:moveTo>
                  <a:cubicBezTo>
                    <a:pt x="221488" y="68135"/>
                    <a:pt x="136906" y="87185"/>
                    <a:pt x="75120" y="91249"/>
                  </a:cubicBezTo>
                  <a:lnTo>
                    <a:pt x="75057" y="91249"/>
                  </a:lnTo>
                  <a:cubicBezTo>
                    <a:pt x="32004" y="94107"/>
                    <a:pt x="0" y="89789"/>
                    <a:pt x="0" y="89789"/>
                  </a:cubicBezTo>
                  <a:cubicBezTo>
                    <a:pt x="14478" y="83185"/>
                    <a:pt x="55626" y="61659"/>
                    <a:pt x="56832" y="31052"/>
                  </a:cubicBezTo>
                  <a:cubicBezTo>
                    <a:pt x="56134" y="30543"/>
                    <a:pt x="55435" y="30163"/>
                    <a:pt x="54737" y="29654"/>
                  </a:cubicBezTo>
                  <a:lnTo>
                    <a:pt x="118364" y="20765"/>
                  </a:lnTo>
                  <a:lnTo>
                    <a:pt x="267081" y="0"/>
                  </a:lnTo>
                  <a:close/>
                </a:path>
              </a:pathLst>
            </a:custGeom>
            <a:solidFill>
              <a:srgbClr val="f8a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098" name="Freeform 303"/>
            <p:cNvSpPr/>
            <p:nvPr/>
          </p:nvSpPr>
          <p:spPr>
            <a:xfrm>
              <a:off x="9531360" y="3278160"/>
              <a:ext cx="237600" cy="319680"/>
            </a:xfrm>
            <a:custGeom>
              <a:avLst/>
              <a:gdLst/>
              <a:ahLst/>
              <a:rect l="l" t="t" r="r" b="b"/>
              <a:pathLst>
                <a:path w="255803" h="344202">
                  <a:moveTo>
                    <a:pt x="232115" y="344097"/>
                  </a:moveTo>
                  <a:cubicBezTo>
                    <a:pt x="226590" y="344224"/>
                    <a:pt x="221066" y="344224"/>
                    <a:pt x="215605" y="344161"/>
                  </a:cubicBezTo>
                  <a:cubicBezTo>
                    <a:pt x="190776" y="343907"/>
                    <a:pt x="166201" y="341747"/>
                    <a:pt x="142136" y="335906"/>
                  </a:cubicBezTo>
                  <a:cubicBezTo>
                    <a:pt x="121498" y="330889"/>
                    <a:pt x="101495" y="322634"/>
                    <a:pt x="83588" y="311458"/>
                  </a:cubicBezTo>
                  <a:cubicBezTo>
                    <a:pt x="58124" y="295583"/>
                    <a:pt x="36916" y="273866"/>
                    <a:pt x="23581" y="246752"/>
                  </a:cubicBezTo>
                  <a:cubicBezTo>
                    <a:pt x="7642" y="214430"/>
                    <a:pt x="-486" y="178235"/>
                    <a:pt x="22" y="142167"/>
                  </a:cubicBezTo>
                  <a:cubicBezTo>
                    <a:pt x="212" y="128769"/>
                    <a:pt x="2054" y="114354"/>
                    <a:pt x="10944" y="104258"/>
                  </a:cubicBezTo>
                  <a:cubicBezTo>
                    <a:pt x="23581" y="89970"/>
                    <a:pt x="55838" y="90541"/>
                    <a:pt x="61808" y="72444"/>
                  </a:cubicBezTo>
                  <a:cubicBezTo>
                    <a:pt x="67967" y="53965"/>
                    <a:pt x="74063" y="35487"/>
                    <a:pt x="80159" y="17009"/>
                  </a:cubicBezTo>
                  <a:cubicBezTo>
                    <a:pt x="82064" y="11357"/>
                    <a:pt x="84286" y="5134"/>
                    <a:pt x="89367" y="2022"/>
                  </a:cubicBezTo>
                  <a:cubicBezTo>
                    <a:pt x="96923" y="-2676"/>
                    <a:pt x="107083" y="1515"/>
                    <a:pt x="113750" y="7420"/>
                  </a:cubicBezTo>
                  <a:cubicBezTo>
                    <a:pt x="117180" y="10468"/>
                    <a:pt x="120291" y="13960"/>
                    <a:pt x="123593" y="17199"/>
                  </a:cubicBezTo>
                  <a:lnTo>
                    <a:pt x="123593" y="17263"/>
                  </a:lnTo>
                  <a:cubicBezTo>
                    <a:pt x="126705" y="20310"/>
                    <a:pt x="130070" y="23041"/>
                    <a:pt x="134007" y="24819"/>
                  </a:cubicBezTo>
                  <a:cubicBezTo>
                    <a:pt x="141818" y="68507"/>
                    <a:pt x="154454" y="111560"/>
                    <a:pt x="172806" y="152009"/>
                  </a:cubicBezTo>
                  <a:cubicBezTo>
                    <a:pt x="197951" y="156391"/>
                    <a:pt x="221256" y="158677"/>
                    <a:pt x="246402" y="163059"/>
                  </a:cubicBezTo>
                  <a:cubicBezTo>
                    <a:pt x="262912" y="221796"/>
                    <a:pt x="257387" y="288662"/>
                    <a:pt x="232115" y="34409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099" name="Freeform 304"/>
            <p:cNvSpPr/>
            <p:nvPr/>
          </p:nvSpPr>
          <p:spPr>
            <a:xfrm>
              <a:off x="9787680" y="2550600"/>
              <a:ext cx="727920" cy="1105200"/>
            </a:xfrm>
            <a:custGeom>
              <a:avLst/>
              <a:gdLst/>
              <a:ahLst/>
              <a:rect l="l" t="t" r="r" b="b"/>
              <a:pathLst>
                <a:path w="783491" h="1189202">
                  <a:moveTo>
                    <a:pt x="751460" y="626593"/>
                  </a:moveTo>
                  <a:cubicBezTo>
                    <a:pt x="748094" y="636753"/>
                    <a:pt x="744411" y="647103"/>
                    <a:pt x="740411" y="657517"/>
                  </a:cubicBezTo>
                  <a:cubicBezTo>
                    <a:pt x="665925" y="851383"/>
                    <a:pt x="509905" y="981050"/>
                    <a:pt x="366776" y="1063790"/>
                  </a:cubicBezTo>
                  <a:cubicBezTo>
                    <a:pt x="208662" y="1155167"/>
                    <a:pt x="66104" y="1189203"/>
                    <a:pt x="66104" y="1189203"/>
                  </a:cubicBezTo>
                  <a:lnTo>
                    <a:pt x="49086" y="1122845"/>
                  </a:lnTo>
                  <a:lnTo>
                    <a:pt x="4763" y="949998"/>
                  </a:lnTo>
                  <a:lnTo>
                    <a:pt x="0" y="931393"/>
                  </a:lnTo>
                  <a:cubicBezTo>
                    <a:pt x="0" y="931393"/>
                    <a:pt x="140272" y="933869"/>
                    <a:pt x="288417" y="820077"/>
                  </a:cubicBezTo>
                  <a:cubicBezTo>
                    <a:pt x="322962" y="793534"/>
                    <a:pt x="358013" y="760578"/>
                    <a:pt x="391732" y="719811"/>
                  </a:cubicBezTo>
                  <a:cubicBezTo>
                    <a:pt x="570040" y="504546"/>
                    <a:pt x="370205" y="249530"/>
                    <a:pt x="370205" y="249530"/>
                  </a:cubicBezTo>
                  <a:cubicBezTo>
                    <a:pt x="370205" y="249530"/>
                    <a:pt x="304102" y="141897"/>
                    <a:pt x="377317" y="43663"/>
                  </a:cubicBezTo>
                  <a:cubicBezTo>
                    <a:pt x="402654" y="9754"/>
                    <a:pt x="434149" y="-724"/>
                    <a:pt x="464630" y="38"/>
                  </a:cubicBezTo>
                  <a:cubicBezTo>
                    <a:pt x="522288" y="1562"/>
                    <a:pt x="576073" y="43663"/>
                    <a:pt x="576073" y="43663"/>
                  </a:cubicBezTo>
                  <a:cubicBezTo>
                    <a:pt x="576073" y="43663"/>
                    <a:pt x="880936" y="239179"/>
                    <a:pt x="751460" y="62659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00" name="Freeform 305"/>
            <p:cNvSpPr/>
            <p:nvPr/>
          </p:nvSpPr>
          <p:spPr>
            <a:xfrm>
              <a:off x="9747000" y="3429720"/>
              <a:ext cx="85680" cy="168120"/>
            </a:xfrm>
            <a:custGeom>
              <a:avLst/>
              <a:gdLst/>
              <a:ahLst/>
              <a:rect l="l" t="t" r="r" b="b"/>
              <a:pathLst>
                <a:path w="92456" h="181038">
                  <a:moveTo>
                    <a:pt x="0" y="181038"/>
                  </a:moveTo>
                  <a:cubicBezTo>
                    <a:pt x="25273" y="125603"/>
                    <a:pt x="30797" y="58738"/>
                    <a:pt x="14224" y="0"/>
                  </a:cubicBezTo>
                  <a:lnTo>
                    <a:pt x="48133" y="4318"/>
                  </a:lnTo>
                  <a:lnTo>
                    <a:pt x="92456" y="177165"/>
                  </a:lnTo>
                  <a:lnTo>
                    <a:pt x="0" y="181038"/>
                  </a:lnTo>
                  <a:close/>
                </a:path>
              </a:pathLst>
            </a:custGeom>
            <a:solidFill>
              <a:srgbClr val="f8a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01" name="Freeform 306"/>
            <p:cNvSpPr/>
            <p:nvPr/>
          </p:nvSpPr>
          <p:spPr>
            <a:xfrm>
              <a:off x="9929520" y="2421720"/>
              <a:ext cx="208800" cy="224640"/>
            </a:xfrm>
            <a:custGeom>
              <a:avLst/>
              <a:gdLst/>
              <a:ahLst/>
              <a:rect l="l" t="t" r="r" b="b"/>
              <a:pathLst>
                <a:path w="224790" h="241807">
                  <a:moveTo>
                    <a:pt x="224790" y="102997"/>
                  </a:moveTo>
                  <a:cubicBezTo>
                    <a:pt x="224790" y="102997"/>
                    <a:pt x="189802" y="204978"/>
                    <a:pt x="62293" y="241808"/>
                  </a:cubicBezTo>
                  <a:cubicBezTo>
                    <a:pt x="62293" y="241808"/>
                    <a:pt x="33083" y="177610"/>
                    <a:pt x="0" y="153035"/>
                  </a:cubicBezTo>
                  <a:cubicBezTo>
                    <a:pt x="0" y="153035"/>
                    <a:pt x="79502" y="119888"/>
                    <a:pt x="118999" y="61214"/>
                  </a:cubicBezTo>
                  <a:cubicBezTo>
                    <a:pt x="131190" y="43117"/>
                    <a:pt x="139573" y="22670"/>
                    <a:pt x="140653" y="0"/>
                  </a:cubicBezTo>
                  <a:cubicBezTo>
                    <a:pt x="140779" y="64"/>
                    <a:pt x="185103" y="3873"/>
                    <a:pt x="224790" y="102997"/>
                  </a:cubicBezTo>
                  <a:close/>
                </a:path>
              </a:pathLst>
            </a:custGeom>
            <a:solidFill>
              <a:srgbClr val="8fd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02" name="Freeform 307"/>
            <p:cNvSpPr/>
            <p:nvPr/>
          </p:nvSpPr>
          <p:spPr>
            <a:xfrm>
              <a:off x="9631800" y="3200760"/>
              <a:ext cx="423720" cy="232920"/>
            </a:xfrm>
            <a:custGeom>
              <a:avLst/>
              <a:gdLst/>
              <a:ahLst/>
              <a:rect l="l" t="t" r="r" b="b"/>
              <a:pathLst>
                <a:path w="455929" h="250698">
                  <a:moveTo>
                    <a:pt x="167513" y="232093"/>
                  </a:moveTo>
                  <a:lnTo>
                    <a:pt x="172276" y="250698"/>
                  </a:lnTo>
                  <a:lnTo>
                    <a:pt x="138366" y="246380"/>
                  </a:lnTo>
                  <a:cubicBezTo>
                    <a:pt x="113220" y="241999"/>
                    <a:pt x="89915" y="239712"/>
                    <a:pt x="64770" y="235331"/>
                  </a:cubicBezTo>
                  <a:cubicBezTo>
                    <a:pt x="46418" y="194881"/>
                    <a:pt x="33782" y="151892"/>
                    <a:pt x="25971" y="108140"/>
                  </a:cubicBezTo>
                  <a:cubicBezTo>
                    <a:pt x="21971" y="106362"/>
                    <a:pt x="18669" y="103568"/>
                    <a:pt x="15557" y="100584"/>
                  </a:cubicBezTo>
                  <a:lnTo>
                    <a:pt x="15557" y="100520"/>
                  </a:lnTo>
                  <a:cubicBezTo>
                    <a:pt x="6159" y="74422"/>
                    <a:pt x="0" y="58801"/>
                    <a:pt x="0" y="58801"/>
                  </a:cubicBezTo>
                  <a:lnTo>
                    <a:pt x="361569" y="8255"/>
                  </a:lnTo>
                  <a:cubicBezTo>
                    <a:pt x="371792" y="6795"/>
                    <a:pt x="381571" y="4001"/>
                    <a:pt x="390525" y="0"/>
                  </a:cubicBezTo>
                  <a:cubicBezTo>
                    <a:pt x="415925" y="38227"/>
                    <a:pt x="437578" y="79375"/>
                    <a:pt x="455930" y="120777"/>
                  </a:cubicBezTo>
                  <a:cubicBezTo>
                    <a:pt x="307784" y="234569"/>
                    <a:pt x="167513" y="232093"/>
                    <a:pt x="167513" y="232093"/>
                  </a:cubicBezTo>
                  <a:close/>
                </a:path>
              </a:pathLst>
            </a:custGeom>
            <a:solidFill>
              <a:srgbClr val="d14b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03" name="Freeform 308"/>
            <p:cNvSpPr/>
            <p:nvPr/>
          </p:nvSpPr>
          <p:spPr>
            <a:xfrm>
              <a:off x="9982440" y="2517480"/>
              <a:ext cx="237600" cy="795240"/>
            </a:xfrm>
            <a:custGeom>
              <a:avLst/>
              <a:gdLst/>
              <a:ahLst/>
              <a:rect l="l" t="t" r="r" b="b"/>
              <a:pathLst>
                <a:path w="255851" h="855726">
                  <a:moveTo>
                    <a:pt x="181824" y="755460"/>
                  </a:moveTo>
                  <a:cubicBezTo>
                    <a:pt x="148041" y="796227"/>
                    <a:pt x="113053" y="829183"/>
                    <a:pt x="78509" y="855726"/>
                  </a:cubicBezTo>
                  <a:cubicBezTo>
                    <a:pt x="60157" y="814324"/>
                    <a:pt x="38504" y="773240"/>
                    <a:pt x="13104" y="734949"/>
                  </a:cubicBezTo>
                  <a:cubicBezTo>
                    <a:pt x="56538" y="715836"/>
                    <a:pt x="83906" y="669544"/>
                    <a:pt x="76985" y="620141"/>
                  </a:cubicBezTo>
                  <a:lnTo>
                    <a:pt x="23772" y="239459"/>
                  </a:lnTo>
                  <a:cubicBezTo>
                    <a:pt x="20915" y="218948"/>
                    <a:pt x="12469" y="200533"/>
                    <a:pt x="277" y="185611"/>
                  </a:cubicBezTo>
                  <a:cubicBezTo>
                    <a:pt x="-1437" y="145098"/>
                    <a:pt x="5357" y="138811"/>
                    <a:pt x="5357" y="138811"/>
                  </a:cubicBezTo>
                  <a:cubicBezTo>
                    <a:pt x="132865" y="101981"/>
                    <a:pt x="167854" y="0"/>
                    <a:pt x="167854" y="0"/>
                  </a:cubicBezTo>
                  <a:cubicBezTo>
                    <a:pt x="167854" y="0"/>
                    <a:pt x="207478" y="9144"/>
                    <a:pt x="254722" y="35687"/>
                  </a:cubicBezTo>
                  <a:cubicBezTo>
                    <a:pt x="224241" y="34862"/>
                    <a:pt x="192746" y="45403"/>
                    <a:pt x="167409" y="79312"/>
                  </a:cubicBezTo>
                  <a:cubicBezTo>
                    <a:pt x="94193" y="177546"/>
                    <a:pt x="160297" y="285179"/>
                    <a:pt x="160297" y="285179"/>
                  </a:cubicBezTo>
                  <a:cubicBezTo>
                    <a:pt x="160297" y="285179"/>
                    <a:pt x="360131" y="540131"/>
                    <a:pt x="181824" y="75546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04" name="Freeform 309"/>
            <p:cNvSpPr/>
            <p:nvPr/>
          </p:nvSpPr>
          <p:spPr>
            <a:xfrm>
              <a:off x="9441720" y="2292480"/>
              <a:ext cx="720" cy="2520"/>
            </a:xfrm>
            <a:custGeom>
              <a:avLst/>
              <a:gdLst/>
              <a:ahLst/>
              <a:rect l="l" t="t" r="r" b="b"/>
              <a:pathLst>
                <a:path w="1016" h="2857">
                  <a:moveTo>
                    <a:pt x="1016" y="2857"/>
                  </a:moveTo>
                  <a:cubicBezTo>
                    <a:pt x="318" y="1016"/>
                    <a:pt x="0" y="0"/>
                    <a:pt x="0" y="0"/>
                  </a:cubicBezTo>
                </a:path>
              </a:pathLst>
            </a:custGeom>
            <a:solidFill>
              <a:srgbClr val="f3d3b3"/>
            </a:solidFill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05" name="Freeform 310"/>
            <p:cNvSpPr/>
            <p:nvPr/>
          </p:nvSpPr>
          <p:spPr>
            <a:xfrm>
              <a:off x="9650160" y="2586960"/>
              <a:ext cx="158760" cy="100080"/>
            </a:xfrm>
            <a:custGeom>
              <a:avLst/>
              <a:gdLst/>
              <a:ahLst/>
              <a:rect l="l" t="t" r="r" b="b"/>
              <a:pathLst>
                <a:path w="171005" h="107886">
                  <a:moveTo>
                    <a:pt x="171005" y="84011"/>
                  </a:moveTo>
                  <a:lnTo>
                    <a:pt x="0" y="107886"/>
                  </a:lnTo>
                  <a:cubicBezTo>
                    <a:pt x="28003" y="65786"/>
                    <a:pt x="137033" y="0"/>
                    <a:pt x="137033" y="0"/>
                  </a:cubicBezTo>
                  <a:lnTo>
                    <a:pt x="171005" y="840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06" name="Freeform 311"/>
            <p:cNvSpPr/>
            <p:nvPr/>
          </p:nvSpPr>
          <p:spPr>
            <a:xfrm>
              <a:off x="9466200" y="2349720"/>
              <a:ext cx="85320" cy="144720"/>
            </a:xfrm>
            <a:custGeom>
              <a:avLst/>
              <a:gdLst/>
              <a:ahLst/>
              <a:rect l="l" t="t" r="r" b="b"/>
              <a:pathLst>
                <a:path w="91884" h="155765">
                  <a:moveTo>
                    <a:pt x="91884" y="128080"/>
                  </a:moveTo>
                  <a:lnTo>
                    <a:pt x="30226" y="155766"/>
                  </a:lnTo>
                  <a:lnTo>
                    <a:pt x="0" y="0"/>
                  </a:lnTo>
                  <a:cubicBezTo>
                    <a:pt x="19304" y="38418"/>
                    <a:pt x="49530" y="88011"/>
                    <a:pt x="91884" y="128080"/>
                  </a:cubicBezTo>
                  <a:close/>
                </a:path>
              </a:pathLst>
            </a:custGeom>
            <a:solidFill>
              <a:srgbClr val="d16b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07" name="Freeform 312"/>
            <p:cNvSpPr/>
            <p:nvPr/>
          </p:nvSpPr>
          <p:spPr>
            <a:xfrm>
              <a:off x="9255960" y="1769400"/>
              <a:ext cx="725040" cy="568800"/>
            </a:xfrm>
            <a:custGeom>
              <a:avLst/>
              <a:gdLst/>
              <a:ahLst/>
              <a:rect l="l" t="t" r="r" b="b"/>
              <a:pathLst>
                <a:path w="780325" h="612142">
                  <a:moveTo>
                    <a:pt x="745672" y="612142"/>
                  </a:moveTo>
                  <a:lnTo>
                    <a:pt x="714367" y="583440"/>
                  </a:lnTo>
                  <a:cubicBezTo>
                    <a:pt x="714367" y="583440"/>
                    <a:pt x="787201" y="443677"/>
                    <a:pt x="698492" y="409704"/>
                  </a:cubicBezTo>
                  <a:cubicBezTo>
                    <a:pt x="609719" y="375668"/>
                    <a:pt x="624832" y="477713"/>
                    <a:pt x="624832" y="477713"/>
                  </a:cubicBezTo>
                  <a:cubicBezTo>
                    <a:pt x="624832" y="477713"/>
                    <a:pt x="460494" y="551373"/>
                    <a:pt x="350956" y="449392"/>
                  </a:cubicBezTo>
                  <a:cubicBezTo>
                    <a:pt x="350956" y="449392"/>
                    <a:pt x="332033" y="490222"/>
                    <a:pt x="260278" y="485841"/>
                  </a:cubicBezTo>
                  <a:cubicBezTo>
                    <a:pt x="260278" y="485841"/>
                    <a:pt x="243959" y="538609"/>
                    <a:pt x="200842" y="565597"/>
                  </a:cubicBezTo>
                  <a:cubicBezTo>
                    <a:pt x="164964" y="588076"/>
                    <a:pt x="110672" y="592648"/>
                    <a:pt x="31742" y="534355"/>
                  </a:cubicBezTo>
                  <a:cubicBezTo>
                    <a:pt x="31742" y="534355"/>
                    <a:pt x="-75954" y="424817"/>
                    <a:pt x="105401" y="349252"/>
                  </a:cubicBezTo>
                  <a:cubicBezTo>
                    <a:pt x="105401" y="349252"/>
                    <a:pt x="20375" y="188724"/>
                    <a:pt x="218749" y="52707"/>
                  </a:cubicBezTo>
                  <a:cubicBezTo>
                    <a:pt x="417060" y="-83246"/>
                    <a:pt x="550663" y="86743"/>
                    <a:pt x="550663" y="86743"/>
                  </a:cubicBezTo>
                  <a:cubicBezTo>
                    <a:pt x="550663" y="86743"/>
                    <a:pt x="698428" y="-5840"/>
                    <a:pt x="756975" y="156593"/>
                  </a:cubicBezTo>
                  <a:cubicBezTo>
                    <a:pt x="813236" y="312549"/>
                    <a:pt x="750816" y="590235"/>
                    <a:pt x="745672" y="612142"/>
                  </a:cubicBezTo>
                  <a:close/>
                </a:path>
              </a:pathLst>
            </a:custGeom>
            <a:solidFill>
              <a:srgbClr val="803d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08" name="Freeform 313"/>
            <p:cNvSpPr/>
            <p:nvPr/>
          </p:nvSpPr>
          <p:spPr>
            <a:xfrm>
              <a:off x="9442440" y="2143800"/>
              <a:ext cx="597600" cy="545760"/>
            </a:xfrm>
            <a:custGeom>
              <a:avLst/>
              <a:gdLst/>
              <a:ahLst/>
              <a:rect l="l" t="t" r="r" b="b"/>
              <a:pathLst>
                <a:path w="643191" h="587339">
                  <a:moveTo>
                    <a:pt x="643192" y="359883"/>
                  </a:moveTo>
                  <a:lnTo>
                    <a:pt x="643192" y="359883"/>
                  </a:lnTo>
                  <a:lnTo>
                    <a:pt x="621729" y="327434"/>
                  </a:lnTo>
                  <a:lnTo>
                    <a:pt x="602679" y="298669"/>
                  </a:lnTo>
                  <a:lnTo>
                    <a:pt x="571182" y="251044"/>
                  </a:lnTo>
                  <a:lnTo>
                    <a:pt x="544513" y="210785"/>
                  </a:lnTo>
                  <a:cubicBezTo>
                    <a:pt x="544513" y="210785"/>
                    <a:pt x="544640" y="210277"/>
                    <a:pt x="544830" y="209388"/>
                  </a:cubicBezTo>
                  <a:lnTo>
                    <a:pt x="513524" y="180686"/>
                  </a:lnTo>
                  <a:cubicBezTo>
                    <a:pt x="513524" y="180686"/>
                    <a:pt x="586359" y="40922"/>
                    <a:pt x="497649" y="6950"/>
                  </a:cubicBezTo>
                  <a:cubicBezTo>
                    <a:pt x="408877" y="-27086"/>
                    <a:pt x="423990" y="74958"/>
                    <a:pt x="423990" y="74958"/>
                  </a:cubicBezTo>
                  <a:cubicBezTo>
                    <a:pt x="423990" y="74958"/>
                    <a:pt x="259652" y="148618"/>
                    <a:pt x="150114" y="46637"/>
                  </a:cubicBezTo>
                  <a:cubicBezTo>
                    <a:pt x="150114" y="46637"/>
                    <a:pt x="131191" y="87468"/>
                    <a:pt x="59436" y="83086"/>
                  </a:cubicBezTo>
                  <a:cubicBezTo>
                    <a:pt x="59436" y="83086"/>
                    <a:pt x="43117" y="135855"/>
                    <a:pt x="0" y="162842"/>
                  </a:cubicBezTo>
                  <a:cubicBezTo>
                    <a:pt x="2731" y="170526"/>
                    <a:pt x="11049" y="192814"/>
                    <a:pt x="25400" y="221389"/>
                  </a:cubicBezTo>
                  <a:cubicBezTo>
                    <a:pt x="44768" y="259807"/>
                    <a:pt x="74994" y="309400"/>
                    <a:pt x="117348" y="349469"/>
                  </a:cubicBezTo>
                  <a:cubicBezTo>
                    <a:pt x="124778" y="356517"/>
                    <a:pt x="132588" y="363248"/>
                    <a:pt x="140716" y="369598"/>
                  </a:cubicBezTo>
                  <a:lnTo>
                    <a:pt x="140780" y="369535"/>
                  </a:lnTo>
                  <a:cubicBezTo>
                    <a:pt x="140780" y="369535"/>
                    <a:pt x="265684" y="286477"/>
                    <a:pt x="291973" y="205260"/>
                  </a:cubicBezTo>
                  <a:lnTo>
                    <a:pt x="433451" y="333721"/>
                  </a:lnTo>
                  <a:cubicBezTo>
                    <a:pt x="433451" y="333721"/>
                    <a:pt x="410401" y="383759"/>
                    <a:pt x="373952" y="401729"/>
                  </a:cubicBezTo>
                  <a:cubicBezTo>
                    <a:pt x="373952" y="401729"/>
                    <a:pt x="348297" y="411254"/>
                    <a:pt x="335597" y="414112"/>
                  </a:cubicBezTo>
                  <a:cubicBezTo>
                    <a:pt x="335470" y="414175"/>
                    <a:pt x="335344" y="414175"/>
                    <a:pt x="335344" y="414175"/>
                  </a:cubicBezTo>
                  <a:lnTo>
                    <a:pt x="344742" y="437353"/>
                  </a:lnTo>
                  <a:lnTo>
                    <a:pt x="360553" y="476405"/>
                  </a:lnTo>
                  <a:lnTo>
                    <a:pt x="394526" y="560416"/>
                  </a:lnTo>
                  <a:lnTo>
                    <a:pt x="481774" y="548224"/>
                  </a:lnTo>
                  <a:cubicBezTo>
                    <a:pt x="520891" y="542763"/>
                    <a:pt x="558102" y="558828"/>
                    <a:pt x="581406" y="587340"/>
                  </a:cubicBezTo>
                  <a:cubicBezTo>
                    <a:pt x="579692" y="546827"/>
                    <a:pt x="586486" y="540540"/>
                    <a:pt x="586486" y="540540"/>
                  </a:cubicBezTo>
                  <a:cubicBezTo>
                    <a:pt x="586486" y="540540"/>
                    <a:pt x="557276" y="476342"/>
                    <a:pt x="524193" y="451767"/>
                  </a:cubicBezTo>
                  <a:cubicBezTo>
                    <a:pt x="524193" y="451704"/>
                    <a:pt x="603694" y="418557"/>
                    <a:pt x="643192" y="359883"/>
                  </a:cubicBezTo>
                  <a:close/>
                  <a:moveTo>
                    <a:pt x="156718" y="231676"/>
                  </a:moveTo>
                  <a:cubicBezTo>
                    <a:pt x="150749" y="235867"/>
                    <a:pt x="142494" y="234407"/>
                    <a:pt x="138303" y="228374"/>
                  </a:cubicBezTo>
                  <a:lnTo>
                    <a:pt x="117666" y="199037"/>
                  </a:lnTo>
                  <a:cubicBezTo>
                    <a:pt x="113474" y="193068"/>
                    <a:pt x="114935" y="184813"/>
                    <a:pt x="120904" y="180622"/>
                  </a:cubicBezTo>
                  <a:cubicBezTo>
                    <a:pt x="123254" y="179035"/>
                    <a:pt x="125857" y="178209"/>
                    <a:pt x="128460" y="178209"/>
                  </a:cubicBezTo>
                  <a:cubicBezTo>
                    <a:pt x="132652" y="178209"/>
                    <a:pt x="136716" y="180178"/>
                    <a:pt x="139319" y="183797"/>
                  </a:cubicBezTo>
                  <a:lnTo>
                    <a:pt x="159893" y="213198"/>
                  </a:lnTo>
                  <a:cubicBezTo>
                    <a:pt x="164147" y="219230"/>
                    <a:pt x="162687" y="227485"/>
                    <a:pt x="156718" y="231676"/>
                  </a:cubicBezTo>
                  <a:close/>
                </a:path>
              </a:pathLst>
            </a:custGeom>
            <a:solidFill>
              <a:srgbClr val="f8a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09" name="Freeform 314"/>
            <p:cNvSpPr/>
            <p:nvPr/>
          </p:nvSpPr>
          <p:spPr>
            <a:xfrm>
              <a:off x="9573480" y="2206800"/>
              <a:ext cx="349200" cy="327240"/>
            </a:xfrm>
            <a:custGeom>
              <a:avLst/>
              <a:gdLst/>
              <a:ahLst/>
              <a:rect l="l" t="t" r="r" b="b"/>
              <a:pathLst>
                <a:path w="375792" h="352396">
                  <a:moveTo>
                    <a:pt x="375793" y="115507"/>
                  </a:moveTo>
                  <a:lnTo>
                    <a:pt x="372872" y="112839"/>
                  </a:lnTo>
                  <a:lnTo>
                    <a:pt x="289623" y="263017"/>
                  </a:lnTo>
                  <a:lnTo>
                    <a:pt x="156337" y="142049"/>
                  </a:lnTo>
                  <a:lnTo>
                    <a:pt x="283273" y="7176"/>
                  </a:lnTo>
                  <a:lnTo>
                    <a:pt x="282511" y="0"/>
                  </a:lnTo>
                  <a:lnTo>
                    <a:pt x="152400" y="138493"/>
                  </a:lnTo>
                  <a:lnTo>
                    <a:pt x="151257" y="137414"/>
                  </a:lnTo>
                  <a:cubicBezTo>
                    <a:pt x="124968" y="218630"/>
                    <a:pt x="64" y="301689"/>
                    <a:pt x="64" y="301689"/>
                  </a:cubicBezTo>
                  <a:lnTo>
                    <a:pt x="0" y="301752"/>
                  </a:lnTo>
                  <a:cubicBezTo>
                    <a:pt x="50228" y="340677"/>
                    <a:pt x="114617" y="364173"/>
                    <a:pt x="194564" y="346329"/>
                  </a:cubicBezTo>
                  <a:cubicBezTo>
                    <a:pt x="207201" y="343535"/>
                    <a:pt x="220090" y="339725"/>
                    <a:pt x="233490" y="334708"/>
                  </a:cubicBezTo>
                  <a:lnTo>
                    <a:pt x="233172" y="333883"/>
                  </a:lnTo>
                  <a:cubicBezTo>
                    <a:pt x="265430" y="318008"/>
                    <a:pt x="287147" y="277114"/>
                    <a:pt x="291719" y="267843"/>
                  </a:cubicBezTo>
                  <a:lnTo>
                    <a:pt x="292671" y="268351"/>
                  </a:lnTo>
                  <a:lnTo>
                    <a:pt x="375793" y="1155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10" name="Freeform 315"/>
            <p:cNvSpPr/>
            <p:nvPr/>
          </p:nvSpPr>
          <p:spPr>
            <a:xfrm>
              <a:off x="9549720" y="2309760"/>
              <a:ext cx="43560" cy="51840"/>
            </a:xfrm>
            <a:custGeom>
              <a:avLst/>
              <a:gdLst/>
              <a:ahLst/>
              <a:rect l="l" t="t" r="r" b="b"/>
              <a:pathLst>
                <a:path w="47061" h="55856">
                  <a:moveTo>
                    <a:pt x="41446" y="53467"/>
                  </a:moveTo>
                  <a:cubicBezTo>
                    <a:pt x="35476" y="57658"/>
                    <a:pt x="27222" y="56197"/>
                    <a:pt x="23030" y="50165"/>
                  </a:cubicBezTo>
                  <a:lnTo>
                    <a:pt x="2393" y="20828"/>
                  </a:lnTo>
                  <a:cubicBezTo>
                    <a:pt x="-1798" y="14859"/>
                    <a:pt x="-338" y="6604"/>
                    <a:pt x="5632" y="2413"/>
                  </a:cubicBezTo>
                  <a:cubicBezTo>
                    <a:pt x="7981" y="825"/>
                    <a:pt x="10584" y="0"/>
                    <a:pt x="13188" y="0"/>
                  </a:cubicBezTo>
                  <a:cubicBezTo>
                    <a:pt x="17379" y="0"/>
                    <a:pt x="21443" y="1968"/>
                    <a:pt x="24047" y="5588"/>
                  </a:cubicBezTo>
                  <a:lnTo>
                    <a:pt x="44621" y="34988"/>
                  </a:lnTo>
                  <a:cubicBezTo>
                    <a:pt x="48875" y="41021"/>
                    <a:pt x="47414" y="49276"/>
                    <a:pt x="41446" y="53467"/>
                  </a:cubicBez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11" name="Freeform 316"/>
            <p:cNvSpPr/>
            <p:nvPr/>
          </p:nvSpPr>
          <p:spPr>
            <a:xfrm>
              <a:off x="9731880" y="3539520"/>
              <a:ext cx="406440" cy="222840"/>
            </a:xfrm>
            <a:custGeom>
              <a:avLst/>
              <a:gdLst/>
              <a:ahLst/>
              <a:rect l="l" t="t" r="r" b="b"/>
              <a:pathLst>
                <a:path w="437335" h="239914">
                  <a:moveTo>
                    <a:pt x="418846" y="109791"/>
                  </a:moveTo>
                  <a:cubicBezTo>
                    <a:pt x="411988" y="117856"/>
                    <a:pt x="403352" y="124587"/>
                    <a:pt x="393382" y="129413"/>
                  </a:cubicBezTo>
                  <a:cubicBezTo>
                    <a:pt x="368046" y="141478"/>
                    <a:pt x="335470" y="156591"/>
                    <a:pt x="299910" y="171641"/>
                  </a:cubicBezTo>
                  <a:cubicBezTo>
                    <a:pt x="212407" y="208788"/>
                    <a:pt x="107124" y="245999"/>
                    <a:pt x="49467" y="239078"/>
                  </a:cubicBezTo>
                  <a:cubicBezTo>
                    <a:pt x="20130" y="235648"/>
                    <a:pt x="3111" y="220726"/>
                    <a:pt x="7048" y="188659"/>
                  </a:cubicBezTo>
                  <a:cubicBezTo>
                    <a:pt x="11303" y="154241"/>
                    <a:pt x="7874" y="110363"/>
                    <a:pt x="0" y="62992"/>
                  </a:cubicBezTo>
                  <a:cubicBezTo>
                    <a:pt x="5524" y="63119"/>
                    <a:pt x="11049" y="63055"/>
                    <a:pt x="16510" y="62928"/>
                  </a:cubicBezTo>
                  <a:lnTo>
                    <a:pt x="109030" y="59055"/>
                  </a:lnTo>
                  <a:lnTo>
                    <a:pt x="126047" y="125413"/>
                  </a:lnTo>
                  <a:cubicBezTo>
                    <a:pt x="126047" y="125413"/>
                    <a:pt x="268605" y="91313"/>
                    <a:pt x="426720" y="0"/>
                  </a:cubicBezTo>
                  <a:cubicBezTo>
                    <a:pt x="430403" y="16828"/>
                    <a:pt x="433515" y="32195"/>
                    <a:pt x="435991" y="45593"/>
                  </a:cubicBezTo>
                  <a:cubicBezTo>
                    <a:pt x="440436" y="69024"/>
                    <a:pt x="433642" y="92456"/>
                    <a:pt x="418846" y="109791"/>
                  </a:cubicBezTo>
                  <a:close/>
                </a:path>
              </a:pathLst>
            </a:custGeom>
            <a:solidFill>
              <a:srgbClr val="d14b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12" name="Freeform 317"/>
            <p:cNvSpPr/>
            <p:nvPr/>
          </p:nvSpPr>
          <p:spPr>
            <a:xfrm>
              <a:off x="10047240" y="3133080"/>
              <a:ext cx="756360" cy="954360"/>
            </a:xfrm>
            <a:custGeom>
              <a:avLst/>
              <a:gdLst/>
              <a:ahLst/>
              <a:rect l="l" t="t" r="r" b="b"/>
              <a:pathLst>
                <a:path w="814070" h="1026721">
                  <a:moveTo>
                    <a:pt x="475997" y="20320"/>
                  </a:moveTo>
                  <a:cubicBezTo>
                    <a:pt x="450533" y="274320"/>
                    <a:pt x="96457" y="482727"/>
                    <a:pt x="96457" y="482727"/>
                  </a:cubicBezTo>
                  <a:cubicBezTo>
                    <a:pt x="100838" y="506222"/>
                    <a:pt x="94044" y="529653"/>
                    <a:pt x="79311" y="546989"/>
                  </a:cubicBezTo>
                  <a:cubicBezTo>
                    <a:pt x="79375" y="549148"/>
                    <a:pt x="80010" y="583628"/>
                    <a:pt x="78422" y="633222"/>
                  </a:cubicBezTo>
                  <a:cubicBezTo>
                    <a:pt x="74803" y="746252"/>
                    <a:pt x="59754" y="937895"/>
                    <a:pt x="0" y="1005459"/>
                  </a:cubicBezTo>
                  <a:cubicBezTo>
                    <a:pt x="0" y="1005459"/>
                    <a:pt x="224155" y="1050925"/>
                    <a:pt x="451803" y="1008888"/>
                  </a:cubicBezTo>
                  <a:cubicBezTo>
                    <a:pt x="586677" y="984059"/>
                    <a:pt x="722757" y="928560"/>
                    <a:pt x="814070" y="814705"/>
                  </a:cubicBezTo>
                  <a:cubicBezTo>
                    <a:pt x="814007" y="814769"/>
                    <a:pt x="583438" y="544576"/>
                    <a:pt x="475997" y="20320"/>
                  </a:cubicBezTo>
                  <a:close/>
                  <a:moveTo>
                    <a:pt x="508509" y="865759"/>
                  </a:moveTo>
                  <a:cubicBezTo>
                    <a:pt x="484378" y="885317"/>
                    <a:pt x="424942" y="902208"/>
                    <a:pt x="393954" y="903732"/>
                  </a:cubicBezTo>
                  <a:cubicBezTo>
                    <a:pt x="366903" y="905065"/>
                    <a:pt x="337439" y="905701"/>
                    <a:pt x="315659" y="889571"/>
                  </a:cubicBezTo>
                  <a:cubicBezTo>
                    <a:pt x="290513" y="870966"/>
                    <a:pt x="284163" y="836613"/>
                    <a:pt x="279781" y="805561"/>
                  </a:cubicBezTo>
                  <a:cubicBezTo>
                    <a:pt x="274003" y="764921"/>
                    <a:pt x="267462" y="722376"/>
                    <a:pt x="261112" y="680212"/>
                  </a:cubicBezTo>
                  <a:cubicBezTo>
                    <a:pt x="256984" y="652844"/>
                    <a:pt x="252984" y="625729"/>
                    <a:pt x="249238" y="599377"/>
                  </a:cubicBezTo>
                  <a:cubicBezTo>
                    <a:pt x="343726" y="592328"/>
                    <a:pt x="441452" y="585470"/>
                    <a:pt x="517906" y="529400"/>
                  </a:cubicBezTo>
                  <a:cubicBezTo>
                    <a:pt x="521589" y="558228"/>
                    <a:pt x="525399" y="582676"/>
                    <a:pt x="529146" y="605091"/>
                  </a:cubicBezTo>
                  <a:cubicBezTo>
                    <a:pt x="538226" y="660527"/>
                    <a:pt x="546100" y="703326"/>
                    <a:pt x="547370" y="768286"/>
                  </a:cubicBezTo>
                  <a:cubicBezTo>
                    <a:pt x="548069" y="804291"/>
                    <a:pt x="536384" y="843089"/>
                    <a:pt x="508509" y="865759"/>
                  </a:cubicBezTo>
                  <a:close/>
                  <a:moveTo>
                    <a:pt x="471869" y="0"/>
                  </a:moveTo>
                  <a:lnTo>
                    <a:pt x="475997" y="20320"/>
                  </a:lnTo>
                  <a:cubicBezTo>
                    <a:pt x="474599" y="13589"/>
                    <a:pt x="473266" y="6858"/>
                    <a:pt x="471869" y="0"/>
                  </a:cubicBezTo>
                  <a:lnTo>
                    <a:pt x="47186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13" name="Freeform 318"/>
            <p:cNvSpPr/>
            <p:nvPr/>
          </p:nvSpPr>
          <p:spPr>
            <a:xfrm>
              <a:off x="10121040" y="3641400"/>
              <a:ext cx="5760" cy="360"/>
            </a:xfrm>
            <a:custGeom>
              <a:avLst/>
              <a:gdLst/>
              <a:ahLst/>
              <a:rect l="l" t="t" r="r" b="b"/>
              <a:pathLst>
                <a:path w="6350" h="126">
                  <a:moveTo>
                    <a:pt x="0" y="127"/>
                  </a:moveTo>
                  <a:cubicBezTo>
                    <a:pt x="0" y="64"/>
                    <a:pt x="0" y="0"/>
                    <a:pt x="0" y="0"/>
                  </a:cubicBezTo>
                </a:path>
              </a:pathLst>
            </a:custGeom>
            <a:solidFill>
              <a:srgbClr val="f3d3b3"/>
            </a:solidFill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14" name="Freeform 319"/>
            <p:cNvSpPr/>
            <p:nvPr/>
          </p:nvSpPr>
          <p:spPr>
            <a:xfrm>
              <a:off x="10279080" y="3625200"/>
              <a:ext cx="259920" cy="141120"/>
            </a:xfrm>
            <a:custGeom>
              <a:avLst/>
              <a:gdLst/>
              <a:ahLst/>
              <a:rect l="l" t="t" r="r" b="b"/>
              <a:pathLst>
                <a:path w="279908" h="152167">
                  <a:moveTo>
                    <a:pt x="279909" y="75692"/>
                  </a:moveTo>
                  <a:cubicBezTo>
                    <a:pt x="203391" y="131572"/>
                    <a:pt x="106235" y="158750"/>
                    <a:pt x="11874" y="150813"/>
                  </a:cubicBezTo>
                  <a:cubicBezTo>
                    <a:pt x="7747" y="123444"/>
                    <a:pt x="3746" y="96329"/>
                    <a:pt x="0" y="69977"/>
                  </a:cubicBezTo>
                  <a:cubicBezTo>
                    <a:pt x="94488" y="62928"/>
                    <a:pt x="192215" y="56070"/>
                    <a:pt x="268669" y="0"/>
                  </a:cubicBezTo>
                  <a:cubicBezTo>
                    <a:pt x="272352" y="28829"/>
                    <a:pt x="276225" y="53276"/>
                    <a:pt x="279909" y="75692"/>
                  </a:cubicBezTo>
                  <a:close/>
                </a:path>
              </a:pathLst>
            </a:custGeom>
            <a:solidFill>
              <a:srgbClr val="e2e3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15" name="Freeform 320"/>
            <p:cNvSpPr/>
            <p:nvPr/>
          </p:nvSpPr>
          <p:spPr>
            <a:xfrm>
              <a:off x="10289880" y="3695400"/>
              <a:ext cx="266040" cy="277920"/>
            </a:xfrm>
            <a:custGeom>
              <a:avLst/>
              <a:gdLst/>
              <a:ahLst/>
              <a:rect l="l" t="t" r="r" b="b"/>
              <a:pathLst>
                <a:path w="286287" h="299258">
                  <a:moveTo>
                    <a:pt x="286259" y="163259"/>
                  </a:moveTo>
                  <a:cubicBezTo>
                    <a:pt x="286957" y="199136"/>
                    <a:pt x="275272" y="237998"/>
                    <a:pt x="247397" y="260667"/>
                  </a:cubicBezTo>
                  <a:cubicBezTo>
                    <a:pt x="223266" y="280226"/>
                    <a:pt x="163830" y="297116"/>
                    <a:pt x="132842" y="298640"/>
                  </a:cubicBezTo>
                  <a:cubicBezTo>
                    <a:pt x="105791" y="299974"/>
                    <a:pt x="76327" y="300609"/>
                    <a:pt x="54547" y="284480"/>
                  </a:cubicBezTo>
                  <a:cubicBezTo>
                    <a:pt x="29401" y="265874"/>
                    <a:pt x="23051" y="231521"/>
                    <a:pt x="18669" y="200470"/>
                  </a:cubicBezTo>
                  <a:cubicBezTo>
                    <a:pt x="12891" y="159829"/>
                    <a:pt x="6350" y="117284"/>
                    <a:pt x="0" y="75121"/>
                  </a:cubicBezTo>
                  <a:cubicBezTo>
                    <a:pt x="94361" y="83058"/>
                    <a:pt x="191516" y="55816"/>
                    <a:pt x="268034" y="0"/>
                  </a:cubicBezTo>
                  <a:cubicBezTo>
                    <a:pt x="277114" y="55435"/>
                    <a:pt x="284988" y="98298"/>
                    <a:pt x="286259" y="163259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16" name="Freeform 321"/>
            <p:cNvSpPr/>
            <p:nvPr/>
          </p:nvSpPr>
          <p:spPr>
            <a:xfrm>
              <a:off x="10010520" y="3641400"/>
              <a:ext cx="110520" cy="80280"/>
            </a:xfrm>
            <a:custGeom>
              <a:avLst/>
              <a:gdLst/>
              <a:ahLst/>
              <a:rect l="l" t="t" r="r" b="b"/>
              <a:pathLst>
                <a:path w="119167" h="86546">
                  <a:moveTo>
                    <a:pt x="118110" y="86233"/>
                  </a:moveTo>
                  <a:cubicBezTo>
                    <a:pt x="83122" y="88329"/>
                    <a:pt x="48451" y="79502"/>
                    <a:pt x="25781" y="71946"/>
                  </a:cubicBezTo>
                  <a:cubicBezTo>
                    <a:pt x="9906" y="66612"/>
                    <a:pt x="0" y="61849"/>
                    <a:pt x="0" y="61849"/>
                  </a:cubicBezTo>
                  <a:cubicBezTo>
                    <a:pt x="35560" y="46799"/>
                    <a:pt x="68135" y="31687"/>
                    <a:pt x="93473" y="19622"/>
                  </a:cubicBezTo>
                  <a:cubicBezTo>
                    <a:pt x="103505" y="14796"/>
                    <a:pt x="112078" y="8065"/>
                    <a:pt x="118935" y="0"/>
                  </a:cubicBezTo>
                  <a:cubicBezTo>
                    <a:pt x="119063" y="2159"/>
                    <a:pt x="119697" y="36640"/>
                    <a:pt x="118110" y="86233"/>
                  </a:cubicBezTo>
                  <a:close/>
                </a:path>
              </a:pathLst>
            </a:custGeom>
            <a:solidFill>
              <a:srgbClr val="337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17" name="Freeform 322"/>
            <p:cNvSpPr/>
            <p:nvPr/>
          </p:nvSpPr>
          <p:spPr>
            <a:xfrm>
              <a:off x="10120320" y="3721680"/>
              <a:ext cx="360" cy="5760"/>
            </a:xfrm>
            <a:custGeom>
              <a:avLst/>
              <a:gdLst/>
              <a:ahLst/>
              <a:rect l="l" t="t" r="r" b="b"/>
              <a:pathLst>
                <a:path w="63" h="6350">
                  <a:moveTo>
                    <a:pt x="63" y="0"/>
                  </a:move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18" name="Freeform 323"/>
            <p:cNvSpPr/>
            <p:nvPr/>
          </p:nvSpPr>
          <p:spPr>
            <a:xfrm>
              <a:off x="9707400" y="3708360"/>
              <a:ext cx="759600" cy="1786680"/>
            </a:xfrm>
            <a:custGeom>
              <a:avLst/>
              <a:gdLst/>
              <a:ahLst/>
              <a:rect l="l" t="t" r="r" b="b"/>
              <a:pathLst>
                <a:path w="817665" h="1922081">
                  <a:moveTo>
                    <a:pt x="615164" y="1871091"/>
                  </a:moveTo>
                  <a:lnTo>
                    <a:pt x="534265" y="1909445"/>
                  </a:lnTo>
                  <a:lnTo>
                    <a:pt x="507531" y="1922082"/>
                  </a:lnTo>
                  <a:cubicBezTo>
                    <a:pt x="133580" y="1584706"/>
                    <a:pt x="7850" y="1242314"/>
                    <a:pt x="357" y="942022"/>
                  </a:cubicBezTo>
                  <a:cubicBezTo>
                    <a:pt x="-12978" y="405003"/>
                    <a:pt x="351702" y="2286"/>
                    <a:pt x="351702" y="2286"/>
                  </a:cubicBezTo>
                  <a:lnTo>
                    <a:pt x="351956" y="0"/>
                  </a:lnTo>
                  <a:cubicBezTo>
                    <a:pt x="374562" y="7557"/>
                    <a:pt x="409297" y="16383"/>
                    <a:pt x="444285" y="14288"/>
                  </a:cubicBezTo>
                  <a:cubicBezTo>
                    <a:pt x="440666" y="127317"/>
                    <a:pt x="425616" y="318960"/>
                    <a:pt x="365863" y="386524"/>
                  </a:cubicBezTo>
                  <a:cubicBezTo>
                    <a:pt x="365863" y="386524"/>
                    <a:pt x="590018" y="431991"/>
                    <a:pt x="817665" y="389954"/>
                  </a:cubicBezTo>
                  <a:cubicBezTo>
                    <a:pt x="760833" y="533210"/>
                    <a:pt x="705842" y="613220"/>
                    <a:pt x="463653" y="962152"/>
                  </a:cubicBezTo>
                  <a:cubicBezTo>
                    <a:pt x="221464" y="1311148"/>
                    <a:pt x="615164" y="1871091"/>
                    <a:pt x="615164" y="1871091"/>
                  </a:cubicBezTo>
                  <a:close/>
                </a:path>
              </a:pathLst>
            </a:custGeom>
            <a:solidFill>
              <a:srgbClr val="8fd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19" name="Freeform 324"/>
            <p:cNvSpPr/>
            <p:nvPr/>
          </p:nvSpPr>
          <p:spPr>
            <a:xfrm>
              <a:off x="9273600" y="3699000"/>
              <a:ext cx="760680" cy="1727640"/>
            </a:xfrm>
            <a:custGeom>
              <a:avLst/>
              <a:gdLst/>
              <a:ahLst/>
              <a:rect l="l" t="t" r="r" b="b"/>
              <a:pathLst>
                <a:path w="818494" h="1858454">
                  <a:moveTo>
                    <a:pt x="818177" y="12319"/>
                  </a:moveTo>
                  <a:cubicBezTo>
                    <a:pt x="818177" y="12319"/>
                    <a:pt x="453433" y="415099"/>
                    <a:pt x="466832" y="952055"/>
                  </a:cubicBezTo>
                  <a:cubicBezTo>
                    <a:pt x="250550" y="1229868"/>
                    <a:pt x="195813" y="1858454"/>
                    <a:pt x="195813" y="1858454"/>
                  </a:cubicBezTo>
                  <a:lnTo>
                    <a:pt x="64241" y="1858454"/>
                  </a:lnTo>
                  <a:cubicBezTo>
                    <a:pt x="-141372" y="967740"/>
                    <a:pt x="194416" y="433388"/>
                    <a:pt x="400284" y="202692"/>
                  </a:cubicBezTo>
                  <a:cubicBezTo>
                    <a:pt x="481246" y="111950"/>
                    <a:pt x="542143" y="68263"/>
                    <a:pt x="542143" y="68263"/>
                  </a:cubicBezTo>
                  <a:lnTo>
                    <a:pt x="542270" y="67437"/>
                  </a:lnTo>
                  <a:cubicBezTo>
                    <a:pt x="599927" y="74295"/>
                    <a:pt x="705210" y="37147"/>
                    <a:pt x="792713" y="0"/>
                  </a:cubicBezTo>
                  <a:cubicBezTo>
                    <a:pt x="792713" y="0"/>
                    <a:pt x="802620" y="4699"/>
                    <a:pt x="818495" y="10096"/>
                  </a:cubicBezTo>
                  <a:lnTo>
                    <a:pt x="818177" y="12319"/>
                  </a:lnTo>
                  <a:close/>
                </a:path>
              </a:pathLst>
            </a:custGeom>
            <a:solidFill>
              <a:srgbClr val="50b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20" name="Freeform 325"/>
            <p:cNvSpPr/>
            <p:nvPr/>
          </p:nvSpPr>
          <p:spPr>
            <a:xfrm>
              <a:off x="9707760" y="4583880"/>
              <a:ext cx="360" cy="36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64" y="0"/>
                  </a:moveTo>
                  <a:lnTo>
                    <a:pt x="0" y="63"/>
                  </a:lnTo>
                </a:path>
              </a:pathLst>
            </a:custGeom>
            <a:noFill/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21" name="Freeform 326"/>
            <p:cNvSpPr/>
            <p:nvPr/>
          </p:nvSpPr>
          <p:spPr>
            <a:xfrm>
              <a:off x="9378360" y="5426640"/>
              <a:ext cx="77040" cy="84600"/>
            </a:xfrm>
            <a:custGeom>
              <a:avLst/>
              <a:gdLst/>
              <a:ahLst/>
              <a:rect l="l" t="t" r="r" b="b"/>
              <a:pathLst>
                <a:path w="83057" h="91334">
                  <a:moveTo>
                    <a:pt x="83058" y="0"/>
                  </a:moveTo>
                  <a:lnTo>
                    <a:pt x="83058" y="73723"/>
                  </a:lnTo>
                  <a:cubicBezTo>
                    <a:pt x="83058" y="73723"/>
                    <a:pt x="39624" y="113347"/>
                    <a:pt x="7556" y="73723"/>
                  </a:cubicBezTo>
                  <a:lnTo>
                    <a:pt x="5588" y="54673"/>
                  </a:lnTo>
                  <a:lnTo>
                    <a:pt x="0" y="63"/>
                  </a:lnTo>
                  <a:lnTo>
                    <a:pt x="83058" y="63"/>
                  </a:lnTo>
                  <a:lnTo>
                    <a:pt x="83058" y="0"/>
                  </a:ln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22" name="Freeform 327"/>
            <p:cNvSpPr/>
            <p:nvPr/>
          </p:nvSpPr>
          <p:spPr>
            <a:xfrm>
              <a:off x="9101160" y="5477400"/>
              <a:ext cx="397080" cy="154440"/>
            </a:xfrm>
            <a:custGeom>
              <a:avLst/>
              <a:gdLst/>
              <a:ahLst/>
              <a:rect l="l" t="t" r="r" b="b"/>
              <a:pathLst>
                <a:path w="427460" h="166433">
                  <a:moveTo>
                    <a:pt x="426847" y="166434"/>
                  </a:moveTo>
                  <a:lnTo>
                    <a:pt x="319151" y="166434"/>
                  </a:lnTo>
                  <a:lnTo>
                    <a:pt x="298386" y="126746"/>
                  </a:lnTo>
                  <a:lnTo>
                    <a:pt x="273876" y="166434"/>
                  </a:lnTo>
                  <a:lnTo>
                    <a:pt x="0" y="166434"/>
                  </a:lnTo>
                  <a:lnTo>
                    <a:pt x="0" y="120460"/>
                  </a:lnTo>
                  <a:cubicBezTo>
                    <a:pt x="154877" y="114236"/>
                    <a:pt x="304038" y="0"/>
                    <a:pt x="304038" y="0"/>
                  </a:cubicBezTo>
                  <a:lnTo>
                    <a:pt x="306006" y="19050"/>
                  </a:lnTo>
                  <a:cubicBezTo>
                    <a:pt x="338074" y="58674"/>
                    <a:pt x="381508" y="19050"/>
                    <a:pt x="381508" y="19050"/>
                  </a:cubicBezTo>
                  <a:cubicBezTo>
                    <a:pt x="436245" y="19114"/>
                    <a:pt x="426847" y="166434"/>
                    <a:pt x="426847" y="166434"/>
                  </a:cubicBezTo>
                  <a:close/>
                </a:path>
              </a:pathLst>
            </a:custGeom>
            <a:solidFill>
              <a:srgbClr val="0000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23" name="Freeform 328"/>
            <p:cNvSpPr/>
            <p:nvPr/>
          </p:nvSpPr>
          <p:spPr>
            <a:xfrm>
              <a:off x="10203840" y="5447880"/>
              <a:ext cx="122400" cy="99720"/>
            </a:xfrm>
            <a:custGeom>
              <a:avLst/>
              <a:gdLst/>
              <a:ahLst/>
              <a:rect l="l" t="t" r="r" b="b"/>
              <a:pathLst>
                <a:path w="131953" h="107632">
                  <a:moveTo>
                    <a:pt x="131953" y="58484"/>
                  </a:moveTo>
                  <a:cubicBezTo>
                    <a:pt x="131953" y="58484"/>
                    <a:pt x="122492" y="105728"/>
                    <a:pt x="71501" y="107633"/>
                  </a:cubicBezTo>
                  <a:lnTo>
                    <a:pt x="0" y="38354"/>
                  </a:lnTo>
                  <a:lnTo>
                    <a:pt x="80899" y="0"/>
                  </a:lnTo>
                  <a:cubicBezTo>
                    <a:pt x="82804" y="7493"/>
                    <a:pt x="131953" y="58484"/>
                    <a:pt x="131953" y="58484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24" name="Freeform 329"/>
            <p:cNvSpPr/>
            <p:nvPr/>
          </p:nvSpPr>
          <p:spPr>
            <a:xfrm>
              <a:off x="10140480" y="5496840"/>
              <a:ext cx="305280" cy="240480"/>
            </a:xfrm>
            <a:custGeom>
              <a:avLst/>
              <a:gdLst/>
              <a:ahLst/>
              <a:rect l="l" t="t" r="r" b="b"/>
              <a:pathLst>
                <a:path w="328676" h="258695">
                  <a:moveTo>
                    <a:pt x="287083" y="115122"/>
                  </a:moveTo>
                  <a:lnTo>
                    <a:pt x="241808" y="99437"/>
                  </a:lnTo>
                  <a:lnTo>
                    <a:pt x="256921" y="145411"/>
                  </a:lnTo>
                  <a:lnTo>
                    <a:pt x="181356" y="258695"/>
                  </a:lnTo>
                  <a:lnTo>
                    <a:pt x="0" y="258695"/>
                  </a:lnTo>
                  <a:lnTo>
                    <a:pt x="0" y="213356"/>
                  </a:lnTo>
                  <a:cubicBezTo>
                    <a:pt x="54801" y="220912"/>
                    <a:pt x="109601" y="188845"/>
                    <a:pt x="109601" y="188845"/>
                  </a:cubicBezTo>
                  <a:cubicBezTo>
                    <a:pt x="109601" y="188845"/>
                    <a:pt x="141732" y="64131"/>
                    <a:pt x="139827" y="54733"/>
                  </a:cubicBezTo>
                  <a:cubicBezTo>
                    <a:pt x="190881" y="52828"/>
                    <a:pt x="200279" y="5584"/>
                    <a:pt x="200279" y="5584"/>
                  </a:cubicBezTo>
                  <a:cubicBezTo>
                    <a:pt x="253174" y="-22102"/>
                    <a:pt x="328676" y="62162"/>
                    <a:pt x="328676" y="62162"/>
                  </a:cubicBezTo>
                  <a:lnTo>
                    <a:pt x="287083" y="115122"/>
                  </a:lnTo>
                  <a:close/>
                </a:path>
              </a:pathLst>
            </a:custGeom>
            <a:solidFill>
              <a:srgbClr val="0000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25" name="Freeform 330"/>
            <p:cNvSpPr/>
            <p:nvPr/>
          </p:nvSpPr>
          <p:spPr>
            <a:xfrm>
              <a:off x="9484920" y="3567600"/>
              <a:ext cx="292680" cy="320040"/>
            </a:xfrm>
            <a:custGeom>
              <a:avLst/>
              <a:gdLst/>
              <a:ahLst/>
              <a:rect l="l" t="t" r="r" b="b"/>
              <a:pathLst>
                <a:path w="315023" h="344376">
                  <a:moveTo>
                    <a:pt x="315023" y="208852"/>
                  </a:moveTo>
                  <a:lnTo>
                    <a:pt x="314896" y="209677"/>
                  </a:lnTo>
                  <a:cubicBezTo>
                    <a:pt x="314896" y="209677"/>
                    <a:pt x="254000" y="253365"/>
                    <a:pt x="173038" y="344107"/>
                  </a:cubicBezTo>
                  <a:cubicBezTo>
                    <a:pt x="115633" y="350012"/>
                    <a:pt x="0" y="256921"/>
                    <a:pt x="0" y="256921"/>
                  </a:cubicBezTo>
                  <a:cubicBezTo>
                    <a:pt x="77470" y="211582"/>
                    <a:pt x="132397" y="4445"/>
                    <a:pt x="133540" y="0"/>
                  </a:cubicBezTo>
                  <a:cubicBezTo>
                    <a:pt x="151447" y="11176"/>
                    <a:pt x="171450" y="19367"/>
                    <a:pt x="192088" y="24447"/>
                  </a:cubicBezTo>
                  <a:cubicBezTo>
                    <a:pt x="216217" y="30290"/>
                    <a:pt x="240792" y="32448"/>
                    <a:pt x="265557" y="32702"/>
                  </a:cubicBezTo>
                  <a:cubicBezTo>
                    <a:pt x="273431" y="80137"/>
                    <a:pt x="276860" y="124015"/>
                    <a:pt x="272605" y="158369"/>
                  </a:cubicBezTo>
                  <a:cubicBezTo>
                    <a:pt x="268668" y="190500"/>
                    <a:pt x="285686" y="205422"/>
                    <a:pt x="315023" y="208852"/>
                  </a:cubicBezTo>
                  <a:close/>
                </a:path>
              </a:pathLst>
            </a:custGeom>
            <a:solidFill>
              <a:srgbClr val="e2e3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26" name="Freeform 331"/>
            <p:cNvSpPr/>
            <p:nvPr/>
          </p:nvSpPr>
          <p:spPr>
            <a:xfrm>
              <a:off x="9609120" y="3567600"/>
              <a:ext cx="5760" cy="360"/>
            </a:xfrm>
            <a:custGeom>
              <a:avLst/>
              <a:gdLst/>
              <a:ahLst/>
              <a:rect l="l" t="t" r="r" b="b"/>
              <a:pathLst>
                <a:path w="6350" h="47">
                  <a:moveTo>
                    <a:pt x="0" y="48"/>
                  </a:moveTo>
                  <a:cubicBezTo>
                    <a:pt x="0" y="-16"/>
                    <a:pt x="0" y="-16"/>
                    <a:pt x="0" y="48"/>
                  </a:cubicBezTo>
                </a:path>
              </a:pathLst>
            </a:custGeom>
            <a:solidFill>
              <a:srgbClr val="f3d3b3"/>
            </a:solidFill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27" name="Freeform 332"/>
            <p:cNvSpPr/>
            <p:nvPr/>
          </p:nvSpPr>
          <p:spPr>
            <a:xfrm>
              <a:off x="10002600" y="2418120"/>
              <a:ext cx="57600" cy="60120"/>
            </a:xfrm>
            <a:custGeom>
              <a:avLst/>
              <a:gdLst/>
              <a:ahLst/>
              <a:rect l="l" t="t" r="r" b="b"/>
              <a:pathLst>
                <a:path w="62165" h="64911">
                  <a:moveTo>
                    <a:pt x="62166" y="3697"/>
                  </a:moveTo>
                  <a:cubicBezTo>
                    <a:pt x="61023" y="26367"/>
                    <a:pt x="52705" y="46814"/>
                    <a:pt x="40513" y="64911"/>
                  </a:cubicBezTo>
                  <a:lnTo>
                    <a:pt x="40449" y="64848"/>
                  </a:lnTo>
                  <a:lnTo>
                    <a:pt x="0" y="3697"/>
                  </a:lnTo>
                  <a:cubicBezTo>
                    <a:pt x="31623" y="-4621"/>
                    <a:pt x="62166" y="3697"/>
                    <a:pt x="62166" y="3697"/>
                  </a:cubicBezTo>
                  <a:close/>
                </a:path>
              </a:pathLst>
            </a:custGeom>
            <a:solidFill>
              <a:srgbClr val="337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28" name="Freeform 333"/>
            <p:cNvSpPr/>
            <p:nvPr/>
          </p:nvSpPr>
          <p:spPr>
            <a:xfrm>
              <a:off x="9754200" y="2377440"/>
              <a:ext cx="266040" cy="174960"/>
            </a:xfrm>
            <a:custGeom>
              <a:avLst/>
              <a:gdLst/>
              <a:ahLst/>
              <a:rect l="l" t="t" r="r" b="b"/>
              <a:pathLst>
                <a:path w="286384" h="188212">
                  <a:moveTo>
                    <a:pt x="0" y="163068"/>
                  </a:moveTo>
                  <a:cubicBezTo>
                    <a:pt x="0" y="163068"/>
                    <a:pt x="88392" y="148971"/>
                    <a:pt x="178244" y="66675"/>
                  </a:cubicBezTo>
                  <a:cubicBezTo>
                    <a:pt x="178244" y="66675"/>
                    <a:pt x="220027" y="30734"/>
                    <a:pt x="235902" y="0"/>
                  </a:cubicBezTo>
                  <a:lnTo>
                    <a:pt x="286385" y="76390"/>
                  </a:lnTo>
                  <a:cubicBezTo>
                    <a:pt x="286385" y="76390"/>
                    <a:pt x="187578" y="205549"/>
                    <a:pt x="9398" y="186245"/>
                  </a:cubicBezTo>
                  <a:lnTo>
                    <a:pt x="0" y="163068"/>
                  </a:lnTo>
                  <a:close/>
                </a:path>
              </a:pathLst>
            </a:custGeom>
            <a:solidFill>
              <a:srgbClr val="d16b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29" name="Freeform 334"/>
            <p:cNvSpPr/>
            <p:nvPr/>
          </p:nvSpPr>
          <p:spPr>
            <a:xfrm>
              <a:off x="8154000" y="3052440"/>
              <a:ext cx="164160" cy="236520"/>
            </a:xfrm>
            <a:custGeom>
              <a:avLst/>
              <a:gdLst/>
              <a:ahLst/>
              <a:rect l="l" t="t" r="r" b="b"/>
              <a:pathLst>
                <a:path w="176844" h="254575">
                  <a:moveTo>
                    <a:pt x="20205" y="89893"/>
                  </a:moveTo>
                  <a:cubicBezTo>
                    <a:pt x="25031" y="103482"/>
                    <a:pt x="30175" y="117643"/>
                    <a:pt x="28587" y="131994"/>
                  </a:cubicBezTo>
                  <a:cubicBezTo>
                    <a:pt x="25285" y="160823"/>
                    <a:pt x="-4750" y="184318"/>
                    <a:pt x="647" y="212829"/>
                  </a:cubicBezTo>
                  <a:cubicBezTo>
                    <a:pt x="3442" y="227498"/>
                    <a:pt x="15697" y="238991"/>
                    <a:pt x="29413" y="244960"/>
                  </a:cubicBezTo>
                  <a:cubicBezTo>
                    <a:pt x="43129" y="250929"/>
                    <a:pt x="58369" y="252263"/>
                    <a:pt x="73228" y="253533"/>
                  </a:cubicBezTo>
                  <a:cubicBezTo>
                    <a:pt x="86690" y="254676"/>
                    <a:pt x="100533" y="255755"/>
                    <a:pt x="113360" y="251691"/>
                  </a:cubicBezTo>
                  <a:cubicBezTo>
                    <a:pt x="126187" y="247627"/>
                    <a:pt x="137998" y="237023"/>
                    <a:pt x="139205" y="223624"/>
                  </a:cubicBezTo>
                  <a:cubicBezTo>
                    <a:pt x="140411" y="210099"/>
                    <a:pt x="131140" y="195684"/>
                    <a:pt x="137363" y="183556"/>
                  </a:cubicBezTo>
                  <a:cubicBezTo>
                    <a:pt x="145555" y="167744"/>
                    <a:pt x="174637" y="168252"/>
                    <a:pt x="176733" y="150599"/>
                  </a:cubicBezTo>
                  <a:cubicBezTo>
                    <a:pt x="178955" y="131740"/>
                    <a:pt x="147269" y="127104"/>
                    <a:pt x="141491" y="109007"/>
                  </a:cubicBezTo>
                  <a:cubicBezTo>
                    <a:pt x="137554" y="96688"/>
                    <a:pt x="147332" y="84750"/>
                    <a:pt x="152540" y="72939"/>
                  </a:cubicBezTo>
                  <a:cubicBezTo>
                    <a:pt x="160858" y="54016"/>
                    <a:pt x="156032" y="30203"/>
                    <a:pt x="142189" y="15154"/>
                  </a:cubicBezTo>
                  <a:cubicBezTo>
                    <a:pt x="121869" y="-7008"/>
                    <a:pt x="97104" y="41"/>
                    <a:pt x="71450" y="5883"/>
                  </a:cubicBezTo>
                  <a:cubicBezTo>
                    <a:pt x="24967" y="16424"/>
                    <a:pt x="1600" y="37061"/>
                    <a:pt x="20205" y="89893"/>
                  </a:cubicBezTo>
                  <a:close/>
                </a:path>
              </a:pathLst>
            </a:custGeom>
            <a:solidFill>
              <a:srgbClr val="f4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30" name="Freeform 335"/>
            <p:cNvSpPr/>
            <p:nvPr/>
          </p:nvSpPr>
          <p:spPr>
            <a:xfrm>
              <a:off x="10128240" y="3132720"/>
              <a:ext cx="361080" cy="448560"/>
            </a:xfrm>
            <a:custGeom>
              <a:avLst/>
              <a:gdLst/>
              <a:ahLst/>
              <a:rect l="l" t="t" r="r" b="b"/>
              <a:pathLst>
                <a:path w="388811" h="482790">
                  <a:moveTo>
                    <a:pt x="388811" y="20383"/>
                  </a:moveTo>
                  <a:cubicBezTo>
                    <a:pt x="363348" y="274384"/>
                    <a:pt x="9272" y="482790"/>
                    <a:pt x="9272" y="482790"/>
                  </a:cubicBezTo>
                  <a:cubicBezTo>
                    <a:pt x="6795" y="469392"/>
                    <a:pt x="3683" y="454089"/>
                    <a:pt x="0" y="437197"/>
                  </a:cubicBezTo>
                  <a:cubicBezTo>
                    <a:pt x="143129" y="354457"/>
                    <a:pt x="299148" y="224790"/>
                    <a:pt x="373635" y="30924"/>
                  </a:cubicBezTo>
                  <a:cubicBezTo>
                    <a:pt x="377635" y="20510"/>
                    <a:pt x="381318" y="10160"/>
                    <a:pt x="384684" y="0"/>
                  </a:cubicBezTo>
                  <a:lnTo>
                    <a:pt x="388811" y="20383"/>
                  </a:lnTo>
                  <a:close/>
                </a:path>
              </a:pathLst>
            </a:custGeom>
            <a:solidFill>
              <a:srgbClr val="918e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31" name="Freeform 336"/>
            <p:cNvSpPr/>
            <p:nvPr/>
          </p:nvSpPr>
          <p:spPr>
            <a:xfrm>
              <a:off x="10128240" y="3539520"/>
              <a:ext cx="8280" cy="42120"/>
            </a:xfrm>
            <a:custGeom>
              <a:avLst/>
              <a:gdLst/>
              <a:ahLst/>
              <a:rect l="l" t="t" r="r" b="b"/>
              <a:pathLst>
                <a:path w="9271" h="45592">
                  <a:moveTo>
                    <a:pt x="9272" y="-19943"/>
                  </a:moveTo>
                  <a:lnTo>
                    <a:pt x="0" y="0"/>
                  </a:lnTo>
                  <a:cubicBezTo>
                    <a:pt x="3683" y="16891"/>
                    <a:pt x="6731" y="32195"/>
                    <a:pt x="9272" y="-1994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32" name="Freeform 337"/>
            <p:cNvSpPr/>
            <p:nvPr/>
          </p:nvSpPr>
          <p:spPr>
            <a:xfrm>
              <a:off x="9284400" y="3278880"/>
              <a:ext cx="178200" cy="84600"/>
            </a:xfrm>
            <a:custGeom>
              <a:avLst/>
              <a:gdLst/>
              <a:ahLst/>
              <a:rect l="l" t="t" r="r" b="b"/>
              <a:pathLst>
                <a:path w="191961" h="91249">
                  <a:moveTo>
                    <a:pt x="191961" y="0"/>
                  </a:moveTo>
                  <a:cubicBezTo>
                    <a:pt x="146368" y="68135"/>
                    <a:pt x="61786" y="87185"/>
                    <a:pt x="0" y="91249"/>
                  </a:cubicBezTo>
                  <a:cubicBezTo>
                    <a:pt x="1270" y="90488"/>
                    <a:pt x="41911" y="67310"/>
                    <a:pt x="43307" y="20765"/>
                  </a:cubicBezTo>
                  <a:lnTo>
                    <a:pt x="1919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33" name="Freeform 338"/>
            <p:cNvSpPr/>
            <p:nvPr/>
          </p:nvSpPr>
          <p:spPr>
            <a:xfrm>
              <a:off x="8610840" y="3922560"/>
              <a:ext cx="133920" cy="641160"/>
            </a:xfrm>
            <a:custGeom>
              <a:avLst/>
              <a:gdLst/>
              <a:ahLst/>
              <a:rect l="l" t="t" r="r" b="b"/>
              <a:pathLst>
                <a:path w="144405" h="690053">
                  <a:moveTo>
                    <a:pt x="141740" y="686245"/>
                  </a:moveTo>
                  <a:cubicBezTo>
                    <a:pt x="129103" y="689864"/>
                    <a:pt x="115896" y="691007"/>
                    <a:pt x="102434" y="689229"/>
                  </a:cubicBezTo>
                  <a:cubicBezTo>
                    <a:pt x="45537" y="681546"/>
                    <a:pt x="6484" y="623189"/>
                    <a:pt x="960" y="566039"/>
                  </a:cubicBezTo>
                  <a:cubicBezTo>
                    <a:pt x="-4628" y="508889"/>
                    <a:pt x="15184" y="452692"/>
                    <a:pt x="34425" y="398526"/>
                  </a:cubicBezTo>
                  <a:cubicBezTo>
                    <a:pt x="53538" y="344361"/>
                    <a:pt x="72588" y="287719"/>
                    <a:pt x="65413" y="230759"/>
                  </a:cubicBezTo>
                  <a:cubicBezTo>
                    <a:pt x="59952" y="187389"/>
                    <a:pt x="39378" y="145796"/>
                    <a:pt x="42553" y="102235"/>
                  </a:cubicBezTo>
                  <a:cubicBezTo>
                    <a:pt x="42553" y="59309"/>
                    <a:pt x="79065" y="19495"/>
                    <a:pt x="115896" y="2667"/>
                  </a:cubicBezTo>
                  <a:cubicBezTo>
                    <a:pt x="117991" y="1715"/>
                    <a:pt x="119959" y="826"/>
                    <a:pt x="121928" y="0"/>
                  </a:cubicBezTo>
                  <a:cubicBezTo>
                    <a:pt x="111450" y="215011"/>
                    <a:pt x="140978" y="371666"/>
                    <a:pt x="140978" y="371666"/>
                  </a:cubicBezTo>
                  <a:cubicBezTo>
                    <a:pt x="140978" y="371666"/>
                    <a:pt x="148153" y="503174"/>
                    <a:pt x="141740" y="686245"/>
                  </a:cubicBezTo>
                  <a:close/>
                </a:path>
              </a:pathLst>
            </a:custGeom>
            <a:solidFill>
              <a:srgbClr val="f4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34" name="Freeform 339"/>
            <p:cNvSpPr/>
            <p:nvPr/>
          </p:nvSpPr>
          <p:spPr>
            <a:xfrm>
              <a:off x="8492760" y="4812120"/>
              <a:ext cx="152280" cy="163440"/>
            </a:xfrm>
            <a:custGeom>
              <a:avLst/>
              <a:gdLst/>
              <a:ahLst/>
              <a:rect l="l" t="t" r="r" b="b"/>
              <a:pathLst>
                <a:path w="163965" h="176111">
                  <a:moveTo>
                    <a:pt x="565" y="112796"/>
                  </a:moveTo>
                  <a:cubicBezTo>
                    <a:pt x="5137" y="146134"/>
                    <a:pt x="35934" y="173058"/>
                    <a:pt x="69399" y="175852"/>
                  </a:cubicBezTo>
                  <a:cubicBezTo>
                    <a:pt x="102927" y="178646"/>
                    <a:pt x="136455" y="158643"/>
                    <a:pt x="152458" y="129052"/>
                  </a:cubicBezTo>
                  <a:cubicBezTo>
                    <a:pt x="168396" y="99461"/>
                    <a:pt x="167316" y="62059"/>
                    <a:pt x="152076" y="32024"/>
                  </a:cubicBezTo>
                  <a:cubicBezTo>
                    <a:pt x="144266" y="16721"/>
                    <a:pt x="131312" y="2115"/>
                    <a:pt x="114230" y="211"/>
                  </a:cubicBezTo>
                  <a:cubicBezTo>
                    <a:pt x="102420" y="-1123"/>
                    <a:pt x="90545" y="4021"/>
                    <a:pt x="81337" y="11577"/>
                  </a:cubicBezTo>
                  <a:cubicBezTo>
                    <a:pt x="72574" y="18753"/>
                    <a:pt x="67050" y="29928"/>
                    <a:pt x="57397" y="35961"/>
                  </a:cubicBezTo>
                  <a:cubicBezTo>
                    <a:pt x="48572" y="41486"/>
                    <a:pt x="37840" y="42565"/>
                    <a:pt x="29077" y="48788"/>
                  </a:cubicBezTo>
                  <a:cubicBezTo>
                    <a:pt x="9138" y="62885"/>
                    <a:pt x="-2800" y="88476"/>
                    <a:pt x="565" y="112796"/>
                  </a:cubicBezTo>
                  <a:close/>
                </a:path>
              </a:pathLst>
            </a:custGeom>
            <a:solidFill>
              <a:srgbClr val="f4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35" name="Freeform 340"/>
            <p:cNvSpPr/>
            <p:nvPr/>
          </p:nvSpPr>
          <p:spPr>
            <a:xfrm>
              <a:off x="8227800" y="3067920"/>
              <a:ext cx="567720" cy="120240"/>
            </a:xfrm>
            <a:custGeom>
              <a:avLst/>
              <a:gdLst/>
              <a:ahLst/>
              <a:rect l="l" t="t" r="r" b="b"/>
              <a:pathLst>
                <a:path w="611080" h="129559">
                  <a:moveTo>
                    <a:pt x="611081" y="46736"/>
                  </a:moveTo>
                  <a:lnTo>
                    <a:pt x="19324" y="129413"/>
                  </a:lnTo>
                  <a:cubicBezTo>
                    <a:pt x="11196" y="130556"/>
                    <a:pt x="3703" y="124905"/>
                    <a:pt x="2560" y="116777"/>
                  </a:cubicBezTo>
                  <a:lnTo>
                    <a:pt x="147" y="99441"/>
                  </a:lnTo>
                  <a:cubicBezTo>
                    <a:pt x="-996" y="91313"/>
                    <a:pt x="4656" y="83820"/>
                    <a:pt x="12783" y="82677"/>
                  </a:cubicBezTo>
                  <a:lnTo>
                    <a:pt x="604540" y="0"/>
                  </a:lnTo>
                  <a:lnTo>
                    <a:pt x="611081" y="46736"/>
                  </a:lnTo>
                  <a:close/>
                </a:path>
              </a:pathLst>
            </a:custGeom>
            <a:solidFill>
              <a:srgbClr val="918e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36" name="Freeform 341"/>
            <p:cNvSpPr/>
            <p:nvPr/>
          </p:nvSpPr>
          <p:spPr>
            <a:xfrm>
              <a:off x="10182960" y="1934280"/>
              <a:ext cx="287280" cy="287280"/>
            </a:xfrm>
            <a:custGeom>
              <a:avLst/>
              <a:gdLst/>
              <a:ahLst/>
              <a:rect l="l" t="t" r="r" b="b"/>
              <a:pathLst>
                <a:path w="309117" h="309054">
                  <a:moveTo>
                    <a:pt x="10287" y="109030"/>
                  </a:moveTo>
                  <a:lnTo>
                    <a:pt x="98361" y="109030"/>
                  </a:lnTo>
                  <a:cubicBezTo>
                    <a:pt x="104013" y="109030"/>
                    <a:pt x="108585" y="104458"/>
                    <a:pt x="108585" y="98806"/>
                  </a:cubicBezTo>
                  <a:lnTo>
                    <a:pt x="108585" y="10224"/>
                  </a:lnTo>
                  <a:cubicBezTo>
                    <a:pt x="108585" y="4572"/>
                    <a:pt x="113157" y="0"/>
                    <a:pt x="118808" y="0"/>
                  </a:cubicBezTo>
                  <a:lnTo>
                    <a:pt x="189864" y="0"/>
                  </a:lnTo>
                  <a:cubicBezTo>
                    <a:pt x="195516" y="0"/>
                    <a:pt x="200089" y="4572"/>
                    <a:pt x="200089" y="10224"/>
                  </a:cubicBezTo>
                  <a:lnTo>
                    <a:pt x="200089" y="98806"/>
                  </a:lnTo>
                  <a:cubicBezTo>
                    <a:pt x="200089" y="104458"/>
                    <a:pt x="204660" y="109030"/>
                    <a:pt x="210312" y="109030"/>
                  </a:cubicBezTo>
                  <a:lnTo>
                    <a:pt x="298894" y="109030"/>
                  </a:lnTo>
                  <a:cubicBezTo>
                    <a:pt x="304546" y="109030"/>
                    <a:pt x="309118" y="113602"/>
                    <a:pt x="309118" y="119253"/>
                  </a:cubicBezTo>
                  <a:lnTo>
                    <a:pt x="309118" y="190310"/>
                  </a:lnTo>
                  <a:cubicBezTo>
                    <a:pt x="309118" y="195961"/>
                    <a:pt x="304546" y="200533"/>
                    <a:pt x="298894" y="200533"/>
                  </a:cubicBezTo>
                  <a:lnTo>
                    <a:pt x="210312" y="200533"/>
                  </a:lnTo>
                  <a:cubicBezTo>
                    <a:pt x="204660" y="200533"/>
                    <a:pt x="200089" y="205105"/>
                    <a:pt x="200089" y="210757"/>
                  </a:cubicBezTo>
                  <a:lnTo>
                    <a:pt x="200089" y="298831"/>
                  </a:lnTo>
                  <a:cubicBezTo>
                    <a:pt x="200089" y="304483"/>
                    <a:pt x="195516" y="309055"/>
                    <a:pt x="189864" y="309055"/>
                  </a:cubicBezTo>
                  <a:lnTo>
                    <a:pt x="118745" y="309055"/>
                  </a:lnTo>
                  <a:cubicBezTo>
                    <a:pt x="113093" y="309055"/>
                    <a:pt x="108521" y="304483"/>
                    <a:pt x="108521" y="298831"/>
                  </a:cubicBezTo>
                  <a:lnTo>
                    <a:pt x="108521" y="210757"/>
                  </a:lnTo>
                  <a:cubicBezTo>
                    <a:pt x="108521" y="205105"/>
                    <a:pt x="103949" y="200533"/>
                    <a:pt x="98298" y="200533"/>
                  </a:cubicBezTo>
                  <a:lnTo>
                    <a:pt x="10223" y="200533"/>
                  </a:lnTo>
                  <a:cubicBezTo>
                    <a:pt x="4572" y="200533"/>
                    <a:pt x="0" y="195961"/>
                    <a:pt x="0" y="190310"/>
                  </a:cubicBezTo>
                  <a:lnTo>
                    <a:pt x="0" y="119253"/>
                  </a:lnTo>
                  <a:cubicBezTo>
                    <a:pt x="64" y="113602"/>
                    <a:pt x="4635" y="109030"/>
                    <a:pt x="10287" y="109030"/>
                  </a:cubicBezTo>
                  <a:close/>
                </a:path>
              </a:pathLst>
            </a:custGeom>
            <a:solidFill>
              <a:srgbClr val="dce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37" name="Freeform 342"/>
            <p:cNvSpPr/>
            <p:nvPr/>
          </p:nvSpPr>
          <p:spPr>
            <a:xfrm>
              <a:off x="10412640" y="1321920"/>
              <a:ext cx="558000" cy="558000"/>
            </a:xfrm>
            <a:custGeom>
              <a:avLst/>
              <a:gdLst/>
              <a:ahLst/>
              <a:rect l="l" t="t" r="r" b="b"/>
              <a:pathLst>
                <a:path w="600519" h="600519">
                  <a:moveTo>
                    <a:pt x="19812" y="211899"/>
                  </a:moveTo>
                  <a:lnTo>
                    <a:pt x="191009" y="211899"/>
                  </a:lnTo>
                  <a:cubicBezTo>
                    <a:pt x="201930" y="211899"/>
                    <a:pt x="210820" y="203010"/>
                    <a:pt x="210820" y="192088"/>
                  </a:cubicBezTo>
                  <a:lnTo>
                    <a:pt x="210820" y="19812"/>
                  </a:lnTo>
                  <a:cubicBezTo>
                    <a:pt x="210820" y="8826"/>
                    <a:pt x="219710" y="0"/>
                    <a:pt x="230632" y="0"/>
                  </a:cubicBezTo>
                  <a:lnTo>
                    <a:pt x="368809" y="0"/>
                  </a:lnTo>
                  <a:cubicBezTo>
                    <a:pt x="379794" y="0"/>
                    <a:pt x="388620" y="8890"/>
                    <a:pt x="388620" y="19812"/>
                  </a:cubicBezTo>
                  <a:lnTo>
                    <a:pt x="388620" y="192088"/>
                  </a:lnTo>
                  <a:cubicBezTo>
                    <a:pt x="388620" y="203073"/>
                    <a:pt x="397510" y="211899"/>
                    <a:pt x="408432" y="211899"/>
                  </a:cubicBezTo>
                  <a:lnTo>
                    <a:pt x="580708" y="211899"/>
                  </a:lnTo>
                  <a:cubicBezTo>
                    <a:pt x="591693" y="211899"/>
                    <a:pt x="600520" y="220789"/>
                    <a:pt x="600520" y="231711"/>
                  </a:cubicBezTo>
                  <a:lnTo>
                    <a:pt x="600520" y="369888"/>
                  </a:lnTo>
                  <a:cubicBezTo>
                    <a:pt x="600520" y="380873"/>
                    <a:pt x="591630" y="389699"/>
                    <a:pt x="580708" y="389699"/>
                  </a:cubicBezTo>
                  <a:lnTo>
                    <a:pt x="408432" y="389699"/>
                  </a:lnTo>
                  <a:cubicBezTo>
                    <a:pt x="397446" y="389699"/>
                    <a:pt x="388620" y="398589"/>
                    <a:pt x="388620" y="409511"/>
                  </a:cubicBezTo>
                  <a:lnTo>
                    <a:pt x="388620" y="580707"/>
                  </a:lnTo>
                  <a:cubicBezTo>
                    <a:pt x="388620" y="591693"/>
                    <a:pt x="379730" y="600520"/>
                    <a:pt x="368809" y="600520"/>
                  </a:cubicBezTo>
                  <a:lnTo>
                    <a:pt x="230632" y="600520"/>
                  </a:lnTo>
                  <a:cubicBezTo>
                    <a:pt x="219710" y="600520"/>
                    <a:pt x="210820" y="591629"/>
                    <a:pt x="210820" y="580707"/>
                  </a:cubicBezTo>
                  <a:lnTo>
                    <a:pt x="210820" y="409511"/>
                  </a:lnTo>
                  <a:cubicBezTo>
                    <a:pt x="210820" y="398526"/>
                    <a:pt x="201930" y="389699"/>
                    <a:pt x="191009" y="389699"/>
                  </a:cubicBezTo>
                  <a:lnTo>
                    <a:pt x="19812" y="389699"/>
                  </a:lnTo>
                  <a:cubicBezTo>
                    <a:pt x="8827" y="389699"/>
                    <a:pt x="0" y="380810"/>
                    <a:pt x="0" y="369888"/>
                  </a:cubicBezTo>
                  <a:lnTo>
                    <a:pt x="0" y="231711"/>
                  </a:lnTo>
                  <a:cubicBezTo>
                    <a:pt x="0" y="220789"/>
                    <a:pt x="8890" y="211899"/>
                    <a:pt x="19812" y="211899"/>
                  </a:cubicBezTo>
                  <a:close/>
                </a:path>
              </a:pathLst>
            </a:custGeom>
            <a:solidFill>
              <a:srgbClr val="dce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138" name="Rounded Rectangle 354"/>
          <p:cNvSpPr/>
          <p:nvPr/>
        </p:nvSpPr>
        <p:spPr>
          <a:xfrm>
            <a:off x="1871640" y="4684680"/>
            <a:ext cx="3146400" cy="581040"/>
          </a:xfrm>
          <a:prstGeom prst="roundRect">
            <a:avLst>
              <a:gd name="adj" fmla="val 11866"/>
            </a:avLst>
          </a:prstGeom>
          <a:solidFill>
            <a:srgbClr val="262626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39" name="Rounded Rectangle 355"/>
          <p:cNvSpPr/>
          <p:nvPr/>
        </p:nvSpPr>
        <p:spPr>
          <a:xfrm>
            <a:off x="1168560" y="4684680"/>
            <a:ext cx="566640" cy="581040"/>
          </a:xfrm>
          <a:custGeom>
            <a:avLst/>
            <a:gdLst>
              <a:gd name="textAreaLeft" fmla="*/ 19440 w 566640"/>
              <a:gd name="textAreaRight" fmla="*/ 547200 w 566640"/>
              <a:gd name="textAreaTop" fmla="*/ 19440 h 581040"/>
              <a:gd name="textAreaBottom" fmla="*/ 561600 h 581040"/>
            </a:gdLst>
            <a:ahLst/>
            <a:rect l="textAreaLeft" t="textAreaTop" r="textAreaRight" b="textAreaBottom"/>
            <a:pathLst>
              <a:path w="21600" h="22149">
                <a:moveTo>
                  <a:pt x="2563" y="0"/>
                </a:moveTo>
                <a:arcTo wR="2563" hR="2563" stAng="16200000" swAng="-5400000"/>
                <a:lnTo>
                  <a:pt x="0" y="19586"/>
                </a:lnTo>
                <a:arcTo wR="2563" hR="2563" stAng="10800000" swAng="-5400000"/>
                <a:lnTo>
                  <a:pt x="19037" y="22149"/>
                </a:lnTo>
                <a:arcTo wR="2563" hR="2563" stAng="5400000" swAng="-5400000"/>
                <a:lnTo>
                  <a:pt x="21600" y="2563"/>
                </a:lnTo>
                <a:arcTo wR="2563" hR="2563" stAng="0" swAng="-5400000"/>
                <a:close/>
              </a:path>
            </a:pathLst>
          </a:custGeom>
          <a:solidFill>
            <a:srgbClr val="8fd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40" name="TextBox 356"/>
          <p:cNvSpPr/>
          <p:nvPr/>
        </p:nvSpPr>
        <p:spPr>
          <a:xfrm>
            <a:off x="2068560" y="4823280"/>
            <a:ext cx="274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Open Sans"/>
              </a:rPr>
              <a:t>This Dentist Is The Best In Town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41" name="TextBox 357"/>
          <p:cNvSpPr/>
          <p:nvPr/>
        </p:nvSpPr>
        <p:spPr>
          <a:xfrm>
            <a:off x="1084320" y="3822120"/>
            <a:ext cx="4172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shuddered all over, and edged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142" name="Graphic 1"/>
          <p:cNvGrpSpPr/>
          <p:nvPr/>
        </p:nvGrpSpPr>
        <p:grpSpPr>
          <a:xfrm>
            <a:off x="1287360" y="4822920"/>
            <a:ext cx="322200" cy="322200"/>
            <a:chOff x="1287360" y="4822920"/>
            <a:chExt cx="322200" cy="322200"/>
          </a:xfrm>
        </p:grpSpPr>
        <p:sp>
          <p:nvSpPr>
            <p:cNvPr id="1143" name="Freeform: Shape 671"/>
            <p:cNvSpPr/>
            <p:nvPr/>
          </p:nvSpPr>
          <p:spPr>
            <a:xfrm>
              <a:off x="1293120" y="4828320"/>
              <a:ext cx="313560" cy="313560"/>
            </a:xfrm>
            <a:custGeom>
              <a:avLst/>
              <a:gdLst/>
              <a:ahLst/>
              <a:rect l="l" t="t" r="r" b="b"/>
              <a:pathLst>
                <a:path w="647183" h="647391">
                  <a:moveTo>
                    <a:pt x="512876" y="347236"/>
                  </a:moveTo>
                  <a:cubicBezTo>
                    <a:pt x="528349" y="347236"/>
                    <a:pt x="543191" y="349446"/>
                    <a:pt x="557559" y="353551"/>
                  </a:cubicBezTo>
                  <a:cubicBezTo>
                    <a:pt x="565611" y="339499"/>
                    <a:pt x="575874" y="326710"/>
                    <a:pt x="588031" y="315658"/>
                  </a:cubicBezTo>
                  <a:cubicBezTo>
                    <a:pt x="630504" y="276975"/>
                    <a:pt x="654503" y="218240"/>
                    <a:pt x="645187" y="154453"/>
                  </a:cubicBezTo>
                  <a:cubicBezTo>
                    <a:pt x="633977" y="76456"/>
                    <a:pt x="571137" y="13616"/>
                    <a:pt x="493298" y="2090"/>
                  </a:cubicBezTo>
                  <a:cubicBezTo>
                    <a:pt x="443721" y="-5331"/>
                    <a:pt x="397301" y="7458"/>
                    <a:pt x="360829" y="33352"/>
                  </a:cubicBezTo>
                  <a:cubicBezTo>
                    <a:pt x="338408" y="49299"/>
                    <a:pt x="308725" y="49299"/>
                    <a:pt x="286305" y="33352"/>
                  </a:cubicBezTo>
                  <a:cubicBezTo>
                    <a:pt x="249832" y="7458"/>
                    <a:pt x="203413" y="-5331"/>
                    <a:pt x="153836" y="2090"/>
                  </a:cubicBezTo>
                  <a:cubicBezTo>
                    <a:pt x="75996" y="13616"/>
                    <a:pt x="13156" y="76614"/>
                    <a:pt x="1946" y="154453"/>
                  </a:cubicBezTo>
                  <a:cubicBezTo>
                    <a:pt x="-7211" y="218240"/>
                    <a:pt x="16630" y="276975"/>
                    <a:pt x="59102" y="315658"/>
                  </a:cubicBezTo>
                  <a:cubicBezTo>
                    <a:pt x="91785" y="345499"/>
                    <a:pt x="110416" y="387656"/>
                    <a:pt x="110416" y="432022"/>
                  </a:cubicBezTo>
                  <a:lnTo>
                    <a:pt x="110416" y="521072"/>
                  </a:lnTo>
                  <a:cubicBezTo>
                    <a:pt x="110416" y="591333"/>
                    <a:pt x="167730" y="648173"/>
                    <a:pt x="238149" y="647383"/>
                  </a:cubicBezTo>
                  <a:cubicBezTo>
                    <a:pt x="255043" y="647226"/>
                    <a:pt x="268306" y="632700"/>
                    <a:pt x="268306" y="615806"/>
                  </a:cubicBezTo>
                  <a:cubicBezTo>
                    <a:pt x="268306" y="615806"/>
                    <a:pt x="268306" y="378972"/>
                    <a:pt x="323567" y="378972"/>
                  </a:cubicBezTo>
                  <a:cubicBezTo>
                    <a:pt x="342513" y="378972"/>
                    <a:pt x="354829" y="406602"/>
                    <a:pt x="363039" y="443075"/>
                  </a:cubicBezTo>
                  <a:cubicBezTo>
                    <a:pt x="389407" y="386392"/>
                    <a:pt x="446563" y="347236"/>
                    <a:pt x="512876" y="347236"/>
                  </a:cubicBezTo>
                  <a:close/>
                </a:path>
              </a:pathLst>
            </a:custGeom>
            <a:solidFill>
              <a:srgbClr val="f1fa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44" name="Freeform: Shape 672"/>
            <p:cNvSpPr/>
            <p:nvPr/>
          </p:nvSpPr>
          <p:spPr>
            <a:xfrm>
              <a:off x="1476360" y="5011920"/>
              <a:ext cx="129960" cy="129960"/>
            </a:xfrm>
            <a:custGeom>
              <a:avLst/>
              <a:gdLst/>
              <a:ahLst/>
              <a:rect l="l" t="t" r="r" b="b"/>
              <a:pathLst>
                <a:path w="268411" h="268411">
                  <a:moveTo>
                    <a:pt x="268412" y="134206"/>
                  </a:moveTo>
                  <a:cubicBezTo>
                    <a:pt x="268412" y="208326"/>
                    <a:pt x="208326" y="268412"/>
                    <a:pt x="134206" y="268412"/>
                  </a:cubicBezTo>
                  <a:cubicBezTo>
                    <a:pt x="60086" y="268412"/>
                    <a:pt x="0" y="208326"/>
                    <a:pt x="0" y="134206"/>
                  </a:cubicBezTo>
                  <a:cubicBezTo>
                    <a:pt x="0" y="60086"/>
                    <a:pt x="60086" y="0"/>
                    <a:pt x="134206" y="0"/>
                  </a:cubicBezTo>
                  <a:cubicBezTo>
                    <a:pt x="208326" y="0"/>
                    <a:pt x="268412" y="60086"/>
                    <a:pt x="268412" y="134206"/>
                  </a:cubicBezTo>
                  <a:close/>
                </a:path>
              </a:pathLst>
            </a:custGeom>
            <a:solidFill>
              <a:srgbClr val="06d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pic>
          <p:nvPicPr>
            <p:cNvPr id="1145" name="Graphic 1" descr=""/>
            <p:cNvPicPr/>
            <p:nvPr/>
          </p:nvPicPr>
          <p:blipFill>
            <a:blip r:embed="rId2"/>
            <a:stretch/>
          </p:blipFill>
          <p:spPr>
            <a:xfrm>
              <a:off x="1287360" y="4822920"/>
              <a:ext cx="322200" cy="322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10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10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10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10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10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10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6" name="Graphic 6"/>
          <p:cNvGrpSpPr/>
          <p:nvPr/>
        </p:nvGrpSpPr>
        <p:grpSpPr>
          <a:xfrm>
            <a:off x="871560" y="1415880"/>
            <a:ext cx="5824440" cy="4026240"/>
            <a:chOff x="871560" y="1415880"/>
            <a:chExt cx="5824440" cy="4026240"/>
          </a:xfrm>
        </p:grpSpPr>
        <p:sp>
          <p:nvSpPr>
            <p:cNvPr id="1147" name="Freeform 8"/>
            <p:cNvSpPr/>
            <p:nvPr/>
          </p:nvSpPr>
          <p:spPr>
            <a:xfrm>
              <a:off x="919800" y="5181120"/>
              <a:ext cx="5776200" cy="261000"/>
            </a:xfrm>
            <a:custGeom>
              <a:avLst/>
              <a:gdLst/>
              <a:ahLst/>
              <a:rect l="l" t="t" r="r" b="b"/>
              <a:pathLst>
                <a:path w="7423531" h="335788">
                  <a:moveTo>
                    <a:pt x="7423531" y="167894"/>
                  </a:moveTo>
                  <a:cubicBezTo>
                    <a:pt x="7423531" y="260619"/>
                    <a:pt x="5761717" y="335788"/>
                    <a:pt x="3711765" y="335788"/>
                  </a:cubicBezTo>
                  <a:cubicBezTo>
                    <a:pt x="1661814" y="335788"/>
                    <a:pt x="0" y="260619"/>
                    <a:pt x="0" y="167894"/>
                  </a:cubicBezTo>
                  <a:cubicBezTo>
                    <a:pt x="0" y="75169"/>
                    <a:pt x="1661814" y="0"/>
                    <a:pt x="3711765" y="0"/>
                  </a:cubicBezTo>
                  <a:cubicBezTo>
                    <a:pt x="5761717" y="0"/>
                    <a:pt x="7423531" y="75169"/>
                    <a:pt x="7423531" y="167894"/>
                  </a:cubicBezTo>
                  <a:close/>
                </a:path>
              </a:pathLst>
            </a:custGeom>
            <a:solidFill>
              <a:srgbClr val="bfd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48" name="Freeform 9"/>
            <p:cNvSpPr/>
            <p:nvPr/>
          </p:nvSpPr>
          <p:spPr>
            <a:xfrm>
              <a:off x="4466160" y="1580760"/>
              <a:ext cx="926280" cy="926280"/>
            </a:xfrm>
            <a:custGeom>
              <a:avLst/>
              <a:gdLst/>
              <a:ahLst/>
              <a:rect l="l" t="t" r="r" b="b"/>
              <a:pathLst>
                <a:path w="1190625" h="1190625">
                  <a:moveTo>
                    <a:pt x="1190625" y="595313"/>
                  </a:moveTo>
                  <a:cubicBezTo>
                    <a:pt x="1190625" y="924094"/>
                    <a:pt x="924095" y="1190625"/>
                    <a:pt x="595313" y="1190625"/>
                  </a:cubicBezTo>
                  <a:cubicBezTo>
                    <a:pt x="266530" y="1190625"/>
                    <a:pt x="0" y="924094"/>
                    <a:pt x="0" y="595312"/>
                  </a:cubicBezTo>
                  <a:cubicBezTo>
                    <a:pt x="0" y="266530"/>
                    <a:pt x="266530" y="0"/>
                    <a:pt x="595313" y="0"/>
                  </a:cubicBezTo>
                  <a:cubicBezTo>
                    <a:pt x="924095" y="0"/>
                    <a:pt x="1190625" y="266530"/>
                    <a:pt x="1190625" y="595313"/>
                  </a:cubicBezTo>
                  <a:close/>
                </a:path>
              </a:pathLst>
            </a:custGeom>
            <a:solidFill>
              <a:srgbClr val="dce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49" name="Freeform 10"/>
            <p:cNvSpPr/>
            <p:nvPr/>
          </p:nvSpPr>
          <p:spPr>
            <a:xfrm>
              <a:off x="5614200" y="2719080"/>
              <a:ext cx="280800" cy="280800"/>
            </a:xfrm>
            <a:custGeom>
              <a:avLst/>
              <a:gdLst/>
              <a:ahLst/>
              <a:rect l="l" t="t" r="r" b="b"/>
              <a:pathLst>
                <a:path w="360934" h="360934">
                  <a:moveTo>
                    <a:pt x="360934" y="180467"/>
                  </a:moveTo>
                  <a:cubicBezTo>
                    <a:pt x="360934" y="280136"/>
                    <a:pt x="280136" y="360934"/>
                    <a:pt x="180467" y="360934"/>
                  </a:cubicBezTo>
                  <a:cubicBezTo>
                    <a:pt x="80797" y="360934"/>
                    <a:pt x="-1" y="280136"/>
                    <a:pt x="-1" y="180467"/>
                  </a:cubicBezTo>
                  <a:cubicBezTo>
                    <a:pt x="-1" y="80798"/>
                    <a:pt x="80797" y="0"/>
                    <a:pt x="180467" y="0"/>
                  </a:cubicBezTo>
                  <a:cubicBezTo>
                    <a:pt x="280136" y="0"/>
                    <a:pt x="360934" y="80798"/>
                    <a:pt x="360934" y="180467"/>
                  </a:cubicBezTo>
                  <a:close/>
                </a:path>
              </a:pathLst>
            </a:custGeom>
            <a:solidFill>
              <a:srgbClr val="dce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50" name="Freeform 11"/>
            <p:cNvSpPr/>
            <p:nvPr/>
          </p:nvSpPr>
          <p:spPr>
            <a:xfrm>
              <a:off x="947520" y="4025880"/>
              <a:ext cx="140400" cy="140400"/>
            </a:xfrm>
            <a:custGeom>
              <a:avLst/>
              <a:gdLst/>
              <a:ahLst/>
              <a:rect l="l" t="t" r="r" b="b"/>
              <a:pathLst>
                <a:path w="180467" h="180467">
                  <a:moveTo>
                    <a:pt x="180467" y="90234"/>
                  </a:moveTo>
                  <a:cubicBezTo>
                    <a:pt x="180467" y="140068"/>
                    <a:pt x="140068" y="180467"/>
                    <a:pt x="90233" y="180467"/>
                  </a:cubicBezTo>
                  <a:cubicBezTo>
                    <a:pt x="40399" y="180467"/>
                    <a:pt x="0" y="140068"/>
                    <a:pt x="0" y="90234"/>
                  </a:cubicBezTo>
                  <a:cubicBezTo>
                    <a:pt x="0" y="40399"/>
                    <a:pt x="40399" y="0"/>
                    <a:pt x="90233" y="0"/>
                  </a:cubicBezTo>
                  <a:cubicBezTo>
                    <a:pt x="140068" y="0"/>
                    <a:pt x="180467" y="40399"/>
                    <a:pt x="180467" y="90234"/>
                  </a:cubicBezTo>
                  <a:close/>
                </a:path>
              </a:pathLst>
            </a:custGeom>
            <a:solidFill>
              <a:srgbClr val="dce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51" name="Freeform 12"/>
            <p:cNvSpPr/>
            <p:nvPr/>
          </p:nvSpPr>
          <p:spPr>
            <a:xfrm>
              <a:off x="1087920" y="3563640"/>
              <a:ext cx="47880" cy="47880"/>
            </a:xfrm>
            <a:custGeom>
              <a:avLst/>
              <a:gdLst/>
              <a:ahLst/>
              <a:rect l="l" t="t" r="r" b="b"/>
              <a:pathLst>
                <a:path w="61722" h="61722">
                  <a:moveTo>
                    <a:pt x="-3814" y="30861"/>
                  </a:moveTo>
                  <a:cubicBezTo>
                    <a:pt x="-3814" y="-17631"/>
                    <a:pt x="-17631" y="-3814"/>
                    <a:pt x="30861" y="-3814"/>
                  </a:cubicBezTo>
                  <a:cubicBezTo>
                    <a:pt x="13817" y="-3814"/>
                    <a:pt x="0" y="-17631"/>
                    <a:pt x="0" y="30861"/>
                  </a:cubicBezTo>
                  <a:cubicBezTo>
                    <a:pt x="0" y="13817"/>
                    <a:pt x="13817" y="0"/>
                    <a:pt x="30861" y="0"/>
                  </a:cubicBezTo>
                  <a:cubicBezTo>
                    <a:pt x="-17631" y="0"/>
                    <a:pt x="-3814" y="13817"/>
                    <a:pt x="-3814" y="30861"/>
                  </a:cubicBezTo>
                  <a:close/>
                </a:path>
              </a:pathLst>
            </a:custGeom>
            <a:solidFill>
              <a:srgbClr val="dce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52" name="Freeform 13"/>
            <p:cNvSpPr/>
            <p:nvPr/>
          </p:nvSpPr>
          <p:spPr>
            <a:xfrm>
              <a:off x="871560" y="1415880"/>
              <a:ext cx="5811840" cy="3876480"/>
            </a:xfrm>
            <a:custGeom>
              <a:avLst/>
              <a:gdLst/>
              <a:ahLst/>
              <a:rect l="l" t="t" r="r" b="b"/>
              <a:pathLst>
                <a:path w="7468994" h="4981713">
                  <a:moveTo>
                    <a:pt x="7447267" y="4981714"/>
                  </a:moveTo>
                  <a:lnTo>
                    <a:pt x="125082" y="4981714"/>
                  </a:lnTo>
                  <a:cubicBezTo>
                    <a:pt x="-71450" y="4683391"/>
                    <a:pt x="-32525" y="4247781"/>
                    <a:pt x="214681" y="3981462"/>
                  </a:cubicBezTo>
                  <a:cubicBezTo>
                    <a:pt x="380162" y="3803217"/>
                    <a:pt x="622414" y="3690695"/>
                    <a:pt x="778688" y="3505847"/>
                  </a:cubicBezTo>
                  <a:cubicBezTo>
                    <a:pt x="977633" y="3270516"/>
                    <a:pt x="1007605" y="2953079"/>
                    <a:pt x="979220" y="2658757"/>
                  </a:cubicBezTo>
                  <a:cubicBezTo>
                    <a:pt x="950836" y="2364434"/>
                    <a:pt x="872096" y="2072906"/>
                    <a:pt x="883399" y="1777631"/>
                  </a:cubicBezTo>
                  <a:cubicBezTo>
                    <a:pt x="894702" y="1482356"/>
                    <a:pt x="1017130" y="1168221"/>
                    <a:pt x="1296086" y="1011440"/>
                  </a:cubicBezTo>
                  <a:cubicBezTo>
                    <a:pt x="1607490" y="836370"/>
                    <a:pt x="2018144" y="902283"/>
                    <a:pt x="2361171" y="784173"/>
                  </a:cubicBezTo>
                  <a:cubicBezTo>
                    <a:pt x="2665463" y="679462"/>
                    <a:pt x="2884157" y="443115"/>
                    <a:pt x="3134791" y="256171"/>
                  </a:cubicBezTo>
                  <a:cubicBezTo>
                    <a:pt x="3385426" y="69227"/>
                    <a:pt x="3733152" y="-76125"/>
                    <a:pt x="4030459" y="43573"/>
                  </a:cubicBezTo>
                  <a:cubicBezTo>
                    <a:pt x="4284777" y="145998"/>
                    <a:pt x="4410507" y="411809"/>
                    <a:pt x="4428922" y="661428"/>
                  </a:cubicBezTo>
                  <a:cubicBezTo>
                    <a:pt x="4447337" y="911046"/>
                    <a:pt x="4382821" y="1159331"/>
                    <a:pt x="4370883" y="1409331"/>
                  </a:cubicBezTo>
                  <a:cubicBezTo>
                    <a:pt x="4358945" y="1659330"/>
                    <a:pt x="4411903" y="1931872"/>
                    <a:pt x="4616247" y="2102052"/>
                  </a:cubicBezTo>
                  <a:cubicBezTo>
                    <a:pt x="4811764" y="2264930"/>
                    <a:pt x="5099418" y="2297124"/>
                    <a:pt x="5366118" y="2299410"/>
                  </a:cubicBezTo>
                  <a:cubicBezTo>
                    <a:pt x="5632818" y="2301633"/>
                    <a:pt x="5909297" y="2283472"/>
                    <a:pt x="6156757" y="2372943"/>
                  </a:cubicBezTo>
                  <a:cubicBezTo>
                    <a:pt x="6546520" y="2513786"/>
                    <a:pt x="6778041" y="2937522"/>
                    <a:pt x="6663614" y="3300424"/>
                  </a:cubicBezTo>
                  <a:cubicBezTo>
                    <a:pt x="6588429" y="3538930"/>
                    <a:pt x="6384722" y="3774579"/>
                    <a:pt x="6478257" y="4007878"/>
                  </a:cubicBezTo>
                  <a:cubicBezTo>
                    <a:pt x="6533566" y="4145800"/>
                    <a:pt x="6680886" y="4235843"/>
                    <a:pt x="6827952" y="4299597"/>
                  </a:cubicBezTo>
                  <a:cubicBezTo>
                    <a:pt x="6975018" y="4363351"/>
                    <a:pt x="7134022" y="4412627"/>
                    <a:pt x="7255624" y="4510480"/>
                  </a:cubicBezTo>
                  <a:cubicBezTo>
                    <a:pt x="7377164" y="4608334"/>
                    <a:pt x="7525309" y="4852873"/>
                    <a:pt x="7447267" y="4981714"/>
                  </a:cubicBezTo>
                  <a:close/>
                </a:path>
              </a:pathLst>
            </a:custGeom>
            <a:solidFill>
              <a:srgbClr val="dce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53" name="Freeform 14"/>
            <p:cNvSpPr/>
            <p:nvPr/>
          </p:nvSpPr>
          <p:spPr>
            <a:xfrm>
              <a:off x="2459160" y="1701360"/>
              <a:ext cx="540720" cy="459720"/>
            </a:xfrm>
            <a:custGeom>
              <a:avLst/>
              <a:gdLst/>
              <a:ahLst/>
              <a:rect l="l" t="t" r="r" b="b"/>
              <a:pathLst>
                <a:path w="695003" h="590855">
                  <a:moveTo>
                    <a:pt x="671870" y="429205"/>
                  </a:moveTo>
                  <a:cubicBezTo>
                    <a:pt x="654218" y="447366"/>
                    <a:pt x="625833" y="455494"/>
                    <a:pt x="602148" y="446477"/>
                  </a:cubicBezTo>
                  <a:cubicBezTo>
                    <a:pt x="597893" y="444826"/>
                    <a:pt x="593893" y="442667"/>
                    <a:pt x="590146" y="440000"/>
                  </a:cubicBezTo>
                  <a:cubicBezTo>
                    <a:pt x="573255" y="427872"/>
                    <a:pt x="563222" y="405964"/>
                    <a:pt x="568112" y="385771"/>
                  </a:cubicBezTo>
                  <a:cubicBezTo>
                    <a:pt x="521249" y="400821"/>
                    <a:pt x="467401" y="378215"/>
                    <a:pt x="436667" y="339670"/>
                  </a:cubicBezTo>
                  <a:cubicBezTo>
                    <a:pt x="431650" y="357831"/>
                    <a:pt x="421236" y="374532"/>
                    <a:pt x="407838" y="389200"/>
                  </a:cubicBezTo>
                  <a:cubicBezTo>
                    <a:pt x="406314" y="390851"/>
                    <a:pt x="404663" y="392566"/>
                    <a:pt x="403139" y="394153"/>
                  </a:cubicBezTo>
                  <a:cubicBezTo>
                    <a:pt x="402631" y="394661"/>
                    <a:pt x="402123" y="395169"/>
                    <a:pt x="401551" y="395677"/>
                  </a:cubicBezTo>
                  <a:cubicBezTo>
                    <a:pt x="400472" y="396757"/>
                    <a:pt x="399392" y="397836"/>
                    <a:pt x="398249" y="398852"/>
                  </a:cubicBezTo>
                  <a:cubicBezTo>
                    <a:pt x="389994" y="406599"/>
                    <a:pt x="380850" y="413648"/>
                    <a:pt x="371389" y="419934"/>
                  </a:cubicBezTo>
                  <a:cubicBezTo>
                    <a:pt x="369293" y="421331"/>
                    <a:pt x="367198" y="422601"/>
                    <a:pt x="365102" y="423871"/>
                  </a:cubicBezTo>
                  <a:cubicBezTo>
                    <a:pt x="355958" y="429459"/>
                    <a:pt x="346624" y="434285"/>
                    <a:pt x="337289" y="438222"/>
                  </a:cubicBezTo>
                  <a:lnTo>
                    <a:pt x="337226" y="438222"/>
                  </a:lnTo>
                  <a:cubicBezTo>
                    <a:pt x="337099" y="438286"/>
                    <a:pt x="337099" y="438286"/>
                    <a:pt x="336972" y="438349"/>
                  </a:cubicBezTo>
                  <a:cubicBezTo>
                    <a:pt x="318049" y="446414"/>
                    <a:pt x="297475" y="450414"/>
                    <a:pt x="276901" y="450414"/>
                  </a:cubicBezTo>
                  <a:cubicBezTo>
                    <a:pt x="274996" y="450414"/>
                    <a:pt x="273154" y="450351"/>
                    <a:pt x="271249" y="450287"/>
                  </a:cubicBezTo>
                  <a:cubicBezTo>
                    <a:pt x="269027" y="450160"/>
                    <a:pt x="266804" y="450097"/>
                    <a:pt x="264518" y="449906"/>
                  </a:cubicBezTo>
                  <a:cubicBezTo>
                    <a:pt x="262486" y="449779"/>
                    <a:pt x="260391" y="449525"/>
                    <a:pt x="258359" y="449271"/>
                  </a:cubicBezTo>
                  <a:cubicBezTo>
                    <a:pt x="256517" y="449081"/>
                    <a:pt x="254676" y="448827"/>
                    <a:pt x="252898" y="448573"/>
                  </a:cubicBezTo>
                  <a:cubicBezTo>
                    <a:pt x="252707" y="448509"/>
                    <a:pt x="252517" y="448509"/>
                    <a:pt x="252263" y="448446"/>
                  </a:cubicBezTo>
                  <a:lnTo>
                    <a:pt x="252199" y="448446"/>
                  </a:lnTo>
                  <a:cubicBezTo>
                    <a:pt x="252072" y="448446"/>
                    <a:pt x="252072" y="448382"/>
                    <a:pt x="251945" y="448382"/>
                  </a:cubicBezTo>
                  <a:cubicBezTo>
                    <a:pt x="250103" y="448065"/>
                    <a:pt x="248262" y="447747"/>
                    <a:pt x="246421" y="447430"/>
                  </a:cubicBezTo>
                  <a:cubicBezTo>
                    <a:pt x="244071" y="446985"/>
                    <a:pt x="241722" y="446477"/>
                    <a:pt x="239436" y="445906"/>
                  </a:cubicBezTo>
                  <a:cubicBezTo>
                    <a:pt x="237277" y="445398"/>
                    <a:pt x="235245" y="444826"/>
                    <a:pt x="233086" y="444255"/>
                  </a:cubicBezTo>
                  <a:cubicBezTo>
                    <a:pt x="230990" y="443620"/>
                    <a:pt x="228895" y="443048"/>
                    <a:pt x="226863" y="442350"/>
                  </a:cubicBezTo>
                  <a:cubicBezTo>
                    <a:pt x="225212" y="441842"/>
                    <a:pt x="223624" y="441207"/>
                    <a:pt x="222037" y="440635"/>
                  </a:cubicBezTo>
                  <a:cubicBezTo>
                    <a:pt x="219941" y="439937"/>
                    <a:pt x="217909" y="439111"/>
                    <a:pt x="215877" y="438222"/>
                  </a:cubicBezTo>
                  <a:cubicBezTo>
                    <a:pt x="214734" y="437714"/>
                    <a:pt x="213528" y="437206"/>
                    <a:pt x="212384" y="436635"/>
                  </a:cubicBezTo>
                  <a:cubicBezTo>
                    <a:pt x="211051" y="436063"/>
                    <a:pt x="209718" y="435492"/>
                    <a:pt x="208448" y="434793"/>
                  </a:cubicBezTo>
                  <a:cubicBezTo>
                    <a:pt x="206543" y="433904"/>
                    <a:pt x="204765" y="432952"/>
                    <a:pt x="202923" y="431936"/>
                  </a:cubicBezTo>
                  <a:cubicBezTo>
                    <a:pt x="203558" y="428507"/>
                    <a:pt x="203812" y="424887"/>
                    <a:pt x="203812" y="421204"/>
                  </a:cubicBezTo>
                  <a:cubicBezTo>
                    <a:pt x="203812" y="418156"/>
                    <a:pt x="203622" y="415108"/>
                    <a:pt x="203177" y="411997"/>
                  </a:cubicBezTo>
                  <a:cubicBezTo>
                    <a:pt x="203177" y="411870"/>
                    <a:pt x="203114" y="411743"/>
                    <a:pt x="203114" y="411616"/>
                  </a:cubicBezTo>
                  <a:cubicBezTo>
                    <a:pt x="202923" y="409711"/>
                    <a:pt x="202606" y="407806"/>
                    <a:pt x="202225" y="405901"/>
                  </a:cubicBezTo>
                  <a:lnTo>
                    <a:pt x="202161" y="405901"/>
                  </a:lnTo>
                  <a:cubicBezTo>
                    <a:pt x="201971" y="404821"/>
                    <a:pt x="201717" y="403742"/>
                    <a:pt x="201463" y="402662"/>
                  </a:cubicBezTo>
                  <a:cubicBezTo>
                    <a:pt x="201145" y="401329"/>
                    <a:pt x="200828" y="399995"/>
                    <a:pt x="200447" y="398725"/>
                  </a:cubicBezTo>
                  <a:cubicBezTo>
                    <a:pt x="200256" y="397963"/>
                    <a:pt x="200066" y="397265"/>
                    <a:pt x="199812" y="396566"/>
                  </a:cubicBezTo>
                  <a:cubicBezTo>
                    <a:pt x="198986" y="393899"/>
                    <a:pt x="198097" y="391296"/>
                    <a:pt x="197081" y="388819"/>
                  </a:cubicBezTo>
                  <a:cubicBezTo>
                    <a:pt x="196573" y="387676"/>
                    <a:pt x="196065" y="386406"/>
                    <a:pt x="195494" y="385327"/>
                  </a:cubicBezTo>
                  <a:cubicBezTo>
                    <a:pt x="195113" y="384438"/>
                    <a:pt x="194732" y="383612"/>
                    <a:pt x="194287" y="382787"/>
                  </a:cubicBezTo>
                  <a:cubicBezTo>
                    <a:pt x="194160" y="382596"/>
                    <a:pt x="194097" y="382406"/>
                    <a:pt x="193970" y="382152"/>
                  </a:cubicBezTo>
                  <a:cubicBezTo>
                    <a:pt x="193525" y="381263"/>
                    <a:pt x="193081" y="380374"/>
                    <a:pt x="192573" y="379485"/>
                  </a:cubicBezTo>
                  <a:cubicBezTo>
                    <a:pt x="192255" y="378850"/>
                    <a:pt x="191938" y="378278"/>
                    <a:pt x="191557" y="377707"/>
                  </a:cubicBezTo>
                  <a:cubicBezTo>
                    <a:pt x="190922" y="376564"/>
                    <a:pt x="190223" y="375548"/>
                    <a:pt x="189525" y="374468"/>
                  </a:cubicBezTo>
                  <a:cubicBezTo>
                    <a:pt x="179047" y="358784"/>
                    <a:pt x="159045" y="348941"/>
                    <a:pt x="140820" y="353767"/>
                  </a:cubicBezTo>
                  <a:cubicBezTo>
                    <a:pt x="122405" y="358657"/>
                    <a:pt x="109959" y="377072"/>
                    <a:pt x="106721" y="395868"/>
                  </a:cubicBezTo>
                  <a:cubicBezTo>
                    <a:pt x="103546" y="414727"/>
                    <a:pt x="107864" y="433968"/>
                    <a:pt x="112944" y="452383"/>
                  </a:cubicBezTo>
                  <a:cubicBezTo>
                    <a:pt x="118405" y="472068"/>
                    <a:pt x="124755" y="491562"/>
                    <a:pt x="132057" y="510676"/>
                  </a:cubicBezTo>
                  <a:cubicBezTo>
                    <a:pt x="127866" y="532583"/>
                    <a:pt x="123040" y="554618"/>
                    <a:pt x="108308" y="571446"/>
                  </a:cubicBezTo>
                  <a:cubicBezTo>
                    <a:pt x="99355" y="581669"/>
                    <a:pt x="87925" y="589225"/>
                    <a:pt x="76304" y="590622"/>
                  </a:cubicBezTo>
                  <a:cubicBezTo>
                    <a:pt x="68811" y="591512"/>
                    <a:pt x="61255" y="589924"/>
                    <a:pt x="54206" y="584781"/>
                  </a:cubicBezTo>
                  <a:cubicBezTo>
                    <a:pt x="54206" y="584781"/>
                    <a:pt x="-78001" y="182825"/>
                    <a:pt x="70526" y="88591"/>
                  </a:cubicBezTo>
                  <a:cubicBezTo>
                    <a:pt x="70526" y="88591"/>
                    <a:pt x="171935" y="21662"/>
                    <a:pt x="238928" y="88591"/>
                  </a:cubicBezTo>
                  <a:cubicBezTo>
                    <a:pt x="238928" y="88591"/>
                    <a:pt x="340337" y="-68952"/>
                    <a:pt x="483403" y="36140"/>
                  </a:cubicBezTo>
                  <a:cubicBezTo>
                    <a:pt x="626405" y="141169"/>
                    <a:pt x="588432" y="260676"/>
                    <a:pt x="588432" y="260676"/>
                  </a:cubicBezTo>
                  <a:cubicBezTo>
                    <a:pt x="615292" y="260676"/>
                    <a:pt x="637263" y="272297"/>
                    <a:pt x="657837" y="289632"/>
                  </a:cubicBezTo>
                  <a:cubicBezTo>
                    <a:pt x="678411" y="306904"/>
                    <a:pt x="691873" y="332431"/>
                    <a:pt x="694540" y="359101"/>
                  </a:cubicBezTo>
                  <a:cubicBezTo>
                    <a:pt x="697017" y="384247"/>
                    <a:pt x="689587" y="410981"/>
                    <a:pt x="671870" y="429205"/>
                  </a:cubicBezTo>
                  <a:close/>
                </a:path>
              </a:pathLst>
            </a:custGeom>
            <a:solidFill>
              <a:srgbClr val="803d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54" name="Freeform 15"/>
            <p:cNvSpPr/>
            <p:nvPr/>
          </p:nvSpPr>
          <p:spPr>
            <a:xfrm>
              <a:off x="2518560" y="1965240"/>
              <a:ext cx="399600" cy="281160"/>
            </a:xfrm>
            <a:custGeom>
              <a:avLst/>
              <a:gdLst/>
              <a:ahLst/>
              <a:rect l="l" t="t" r="r" b="b"/>
              <a:pathLst>
                <a:path w="513905" h="361759">
                  <a:moveTo>
                    <a:pt x="513905" y="100393"/>
                  </a:moveTo>
                  <a:cubicBezTo>
                    <a:pt x="501586" y="140652"/>
                    <a:pt x="490601" y="180721"/>
                    <a:pt x="479234" y="220790"/>
                  </a:cubicBezTo>
                  <a:cubicBezTo>
                    <a:pt x="469519" y="255079"/>
                    <a:pt x="459549" y="289433"/>
                    <a:pt x="448373" y="323977"/>
                  </a:cubicBezTo>
                  <a:cubicBezTo>
                    <a:pt x="431419" y="317500"/>
                    <a:pt x="423291" y="312420"/>
                    <a:pt x="406336" y="305816"/>
                  </a:cubicBezTo>
                  <a:cubicBezTo>
                    <a:pt x="403034" y="308737"/>
                    <a:pt x="399669" y="311531"/>
                    <a:pt x="396240" y="314262"/>
                  </a:cubicBezTo>
                  <a:lnTo>
                    <a:pt x="292417" y="196215"/>
                  </a:lnTo>
                  <a:lnTo>
                    <a:pt x="131889" y="251206"/>
                  </a:lnTo>
                  <a:lnTo>
                    <a:pt x="148018" y="361696"/>
                  </a:lnTo>
                  <a:lnTo>
                    <a:pt x="148018" y="361759"/>
                  </a:lnTo>
                  <a:cubicBezTo>
                    <a:pt x="146050" y="361125"/>
                    <a:pt x="144081" y="360490"/>
                    <a:pt x="142049" y="359791"/>
                  </a:cubicBezTo>
                  <a:cubicBezTo>
                    <a:pt x="139954" y="359156"/>
                    <a:pt x="137922" y="358394"/>
                    <a:pt x="135890" y="357632"/>
                  </a:cubicBezTo>
                  <a:cubicBezTo>
                    <a:pt x="133858" y="356934"/>
                    <a:pt x="131826" y="356172"/>
                    <a:pt x="129794" y="355346"/>
                  </a:cubicBezTo>
                  <a:cubicBezTo>
                    <a:pt x="127762" y="354584"/>
                    <a:pt x="125793" y="353759"/>
                    <a:pt x="123825" y="352933"/>
                  </a:cubicBezTo>
                  <a:cubicBezTo>
                    <a:pt x="108204" y="346456"/>
                    <a:pt x="93218" y="338455"/>
                    <a:pt x="78994" y="329184"/>
                  </a:cubicBezTo>
                  <a:cubicBezTo>
                    <a:pt x="77343" y="328105"/>
                    <a:pt x="75755" y="327025"/>
                    <a:pt x="74104" y="325946"/>
                  </a:cubicBezTo>
                  <a:cubicBezTo>
                    <a:pt x="72453" y="324803"/>
                    <a:pt x="70866" y="323723"/>
                    <a:pt x="69278" y="322516"/>
                  </a:cubicBezTo>
                  <a:cubicBezTo>
                    <a:pt x="67881" y="321628"/>
                    <a:pt x="66611" y="320612"/>
                    <a:pt x="65278" y="319596"/>
                  </a:cubicBezTo>
                  <a:cubicBezTo>
                    <a:pt x="52388" y="310007"/>
                    <a:pt x="40322" y="299403"/>
                    <a:pt x="29337" y="287719"/>
                  </a:cubicBezTo>
                  <a:cubicBezTo>
                    <a:pt x="27940" y="286322"/>
                    <a:pt x="26606" y="284861"/>
                    <a:pt x="25336" y="283400"/>
                  </a:cubicBezTo>
                  <a:cubicBezTo>
                    <a:pt x="24193" y="282194"/>
                    <a:pt x="23114" y="280987"/>
                    <a:pt x="21971" y="279718"/>
                  </a:cubicBezTo>
                  <a:cubicBezTo>
                    <a:pt x="14033" y="270637"/>
                    <a:pt x="6667" y="261049"/>
                    <a:pt x="0" y="250952"/>
                  </a:cubicBezTo>
                  <a:cubicBezTo>
                    <a:pt x="11620" y="249555"/>
                    <a:pt x="23050" y="241999"/>
                    <a:pt x="32004" y="231775"/>
                  </a:cubicBezTo>
                  <a:cubicBezTo>
                    <a:pt x="46736" y="214948"/>
                    <a:pt x="51625" y="192913"/>
                    <a:pt x="55753" y="171005"/>
                  </a:cubicBezTo>
                  <a:cubicBezTo>
                    <a:pt x="48514" y="151892"/>
                    <a:pt x="42100" y="132461"/>
                    <a:pt x="36639" y="112713"/>
                  </a:cubicBezTo>
                  <a:cubicBezTo>
                    <a:pt x="31496" y="94298"/>
                    <a:pt x="27178" y="75057"/>
                    <a:pt x="30416" y="56198"/>
                  </a:cubicBezTo>
                  <a:cubicBezTo>
                    <a:pt x="33591" y="37401"/>
                    <a:pt x="46038" y="18987"/>
                    <a:pt x="64516" y="14097"/>
                  </a:cubicBezTo>
                  <a:cubicBezTo>
                    <a:pt x="82740" y="9271"/>
                    <a:pt x="102743" y="19113"/>
                    <a:pt x="113220" y="34798"/>
                  </a:cubicBezTo>
                  <a:cubicBezTo>
                    <a:pt x="113919" y="35877"/>
                    <a:pt x="114617" y="36957"/>
                    <a:pt x="115252" y="38037"/>
                  </a:cubicBezTo>
                  <a:cubicBezTo>
                    <a:pt x="115633" y="38608"/>
                    <a:pt x="115951" y="39179"/>
                    <a:pt x="116268" y="39815"/>
                  </a:cubicBezTo>
                  <a:cubicBezTo>
                    <a:pt x="116776" y="40704"/>
                    <a:pt x="117221" y="41529"/>
                    <a:pt x="117665" y="42482"/>
                  </a:cubicBezTo>
                  <a:cubicBezTo>
                    <a:pt x="117792" y="42672"/>
                    <a:pt x="117856" y="42863"/>
                    <a:pt x="117983" y="43116"/>
                  </a:cubicBezTo>
                  <a:cubicBezTo>
                    <a:pt x="118427" y="43942"/>
                    <a:pt x="118872" y="44768"/>
                    <a:pt x="119189" y="45657"/>
                  </a:cubicBezTo>
                  <a:cubicBezTo>
                    <a:pt x="119761" y="46799"/>
                    <a:pt x="120269" y="47943"/>
                    <a:pt x="120777" y="49149"/>
                  </a:cubicBezTo>
                  <a:cubicBezTo>
                    <a:pt x="121793" y="51626"/>
                    <a:pt x="122682" y="54293"/>
                    <a:pt x="123507" y="56896"/>
                  </a:cubicBezTo>
                  <a:cubicBezTo>
                    <a:pt x="123761" y="57594"/>
                    <a:pt x="123952" y="58293"/>
                    <a:pt x="124142" y="59055"/>
                  </a:cubicBezTo>
                  <a:cubicBezTo>
                    <a:pt x="124523" y="60325"/>
                    <a:pt x="124841" y="61659"/>
                    <a:pt x="125158" y="62992"/>
                  </a:cubicBezTo>
                  <a:cubicBezTo>
                    <a:pt x="125413" y="64071"/>
                    <a:pt x="125666" y="65151"/>
                    <a:pt x="125857" y="66230"/>
                  </a:cubicBezTo>
                  <a:lnTo>
                    <a:pt x="125920" y="66230"/>
                  </a:lnTo>
                  <a:cubicBezTo>
                    <a:pt x="126301" y="68135"/>
                    <a:pt x="126555" y="70040"/>
                    <a:pt x="126809" y="71946"/>
                  </a:cubicBezTo>
                  <a:cubicBezTo>
                    <a:pt x="126809" y="72073"/>
                    <a:pt x="126873" y="72199"/>
                    <a:pt x="126873" y="72327"/>
                  </a:cubicBezTo>
                  <a:cubicBezTo>
                    <a:pt x="127254" y="75374"/>
                    <a:pt x="127508" y="78549"/>
                    <a:pt x="127508" y="81534"/>
                  </a:cubicBezTo>
                  <a:cubicBezTo>
                    <a:pt x="127508" y="85217"/>
                    <a:pt x="127190" y="88773"/>
                    <a:pt x="126619" y="92265"/>
                  </a:cubicBezTo>
                  <a:cubicBezTo>
                    <a:pt x="128460" y="93218"/>
                    <a:pt x="130302" y="94171"/>
                    <a:pt x="132143" y="95123"/>
                  </a:cubicBezTo>
                  <a:cubicBezTo>
                    <a:pt x="133477" y="95758"/>
                    <a:pt x="134810" y="96393"/>
                    <a:pt x="136080" y="96965"/>
                  </a:cubicBezTo>
                  <a:cubicBezTo>
                    <a:pt x="137223" y="97536"/>
                    <a:pt x="138430" y="98044"/>
                    <a:pt x="139573" y="98552"/>
                  </a:cubicBezTo>
                  <a:cubicBezTo>
                    <a:pt x="141605" y="99441"/>
                    <a:pt x="143637" y="100203"/>
                    <a:pt x="145732" y="100965"/>
                  </a:cubicBezTo>
                  <a:cubicBezTo>
                    <a:pt x="147320" y="101600"/>
                    <a:pt x="148907" y="102171"/>
                    <a:pt x="150558" y="102679"/>
                  </a:cubicBezTo>
                  <a:cubicBezTo>
                    <a:pt x="152590" y="103378"/>
                    <a:pt x="154686" y="104013"/>
                    <a:pt x="156781" y="104585"/>
                  </a:cubicBezTo>
                  <a:cubicBezTo>
                    <a:pt x="158877" y="105219"/>
                    <a:pt x="160972" y="105727"/>
                    <a:pt x="163131" y="106235"/>
                  </a:cubicBezTo>
                  <a:cubicBezTo>
                    <a:pt x="165481" y="106807"/>
                    <a:pt x="167830" y="107315"/>
                    <a:pt x="170116" y="107760"/>
                  </a:cubicBezTo>
                  <a:cubicBezTo>
                    <a:pt x="171958" y="108140"/>
                    <a:pt x="173799" y="108458"/>
                    <a:pt x="175641" y="108712"/>
                  </a:cubicBezTo>
                  <a:cubicBezTo>
                    <a:pt x="175768" y="108712"/>
                    <a:pt x="175768" y="108776"/>
                    <a:pt x="175895" y="108776"/>
                  </a:cubicBezTo>
                  <a:lnTo>
                    <a:pt x="175958" y="108776"/>
                  </a:lnTo>
                  <a:cubicBezTo>
                    <a:pt x="176149" y="108839"/>
                    <a:pt x="176339" y="108839"/>
                    <a:pt x="176593" y="108902"/>
                  </a:cubicBezTo>
                  <a:cubicBezTo>
                    <a:pt x="178435" y="109157"/>
                    <a:pt x="180276" y="109410"/>
                    <a:pt x="182054" y="109601"/>
                  </a:cubicBezTo>
                  <a:cubicBezTo>
                    <a:pt x="184086" y="109855"/>
                    <a:pt x="186182" y="110046"/>
                    <a:pt x="188214" y="110236"/>
                  </a:cubicBezTo>
                  <a:cubicBezTo>
                    <a:pt x="190436" y="110427"/>
                    <a:pt x="192659" y="110554"/>
                    <a:pt x="194945" y="110617"/>
                  </a:cubicBezTo>
                  <a:cubicBezTo>
                    <a:pt x="196850" y="110680"/>
                    <a:pt x="198691" y="110744"/>
                    <a:pt x="200596" y="110744"/>
                  </a:cubicBezTo>
                  <a:cubicBezTo>
                    <a:pt x="221170" y="110744"/>
                    <a:pt x="241744" y="106807"/>
                    <a:pt x="260667" y="98679"/>
                  </a:cubicBezTo>
                  <a:cubicBezTo>
                    <a:pt x="260794" y="98615"/>
                    <a:pt x="260794" y="98615"/>
                    <a:pt x="260921" y="98552"/>
                  </a:cubicBezTo>
                  <a:lnTo>
                    <a:pt x="260985" y="98552"/>
                  </a:lnTo>
                  <a:cubicBezTo>
                    <a:pt x="270256" y="94615"/>
                    <a:pt x="279654" y="89789"/>
                    <a:pt x="288798" y="84201"/>
                  </a:cubicBezTo>
                  <a:cubicBezTo>
                    <a:pt x="290894" y="82931"/>
                    <a:pt x="292989" y="81598"/>
                    <a:pt x="295084" y="80264"/>
                  </a:cubicBezTo>
                  <a:cubicBezTo>
                    <a:pt x="304609" y="73977"/>
                    <a:pt x="313690" y="66929"/>
                    <a:pt x="321945" y="59182"/>
                  </a:cubicBezTo>
                  <a:cubicBezTo>
                    <a:pt x="323088" y="58102"/>
                    <a:pt x="324167" y="57023"/>
                    <a:pt x="325247" y="56007"/>
                  </a:cubicBezTo>
                  <a:cubicBezTo>
                    <a:pt x="325819" y="55499"/>
                    <a:pt x="326326" y="54991"/>
                    <a:pt x="326834" y="54483"/>
                  </a:cubicBezTo>
                  <a:cubicBezTo>
                    <a:pt x="328485" y="52832"/>
                    <a:pt x="330009" y="51181"/>
                    <a:pt x="331533" y="49530"/>
                  </a:cubicBezTo>
                  <a:cubicBezTo>
                    <a:pt x="344869" y="34862"/>
                    <a:pt x="355282" y="18161"/>
                    <a:pt x="360363" y="0"/>
                  </a:cubicBezTo>
                  <a:cubicBezTo>
                    <a:pt x="391033" y="38544"/>
                    <a:pt x="444881" y="61151"/>
                    <a:pt x="491807" y="46101"/>
                  </a:cubicBezTo>
                  <a:cubicBezTo>
                    <a:pt x="486981" y="66357"/>
                    <a:pt x="497014" y="88265"/>
                    <a:pt x="513905" y="100393"/>
                  </a:cubicBezTo>
                  <a:close/>
                </a:path>
              </a:pathLst>
            </a:custGeom>
            <a:solidFill>
              <a:srgbClr val="f8a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55" name="Freeform 16"/>
            <p:cNvSpPr/>
            <p:nvPr/>
          </p:nvSpPr>
          <p:spPr>
            <a:xfrm>
              <a:off x="2789280" y="2049480"/>
              <a:ext cx="104400" cy="92520"/>
            </a:xfrm>
            <a:custGeom>
              <a:avLst/>
              <a:gdLst/>
              <a:ahLst/>
              <a:rect l="l" t="t" r="r" b="b"/>
              <a:pathLst>
                <a:path w="134409" h="119259">
                  <a:moveTo>
                    <a:pt x="97558" y="118703"/>
                  </a:moveTo>
                  <a:lnTo>
                    <a:pt x="10880" y="94827"/>
                  </a:lnTo>
                  <a:cubicBezTo>
                    <a:pt x="3006" y="92668"/>
                    <a:pt x="-1629" y="84477"/>
                    <a:pt x="530" y="76603"/>
                  </a:cubicBezTo>
                  <a:lnTo>
                    <a:pt x="18627" y="10880"/>
                  </a:lnTo>
                  <a:cubicBezTo>
                    <a:pt x="20786" y="3006"/>
                    <a:pt x="28978" y="-1629"/>
                    <a:pt x="36852" y="530"/>
                  </a:cubicBezTo>
                  <a:lnTo>
                    <a:pt x="123529" y="24406"/>
                  </a:lnTo>
                  <a:cubicBezTo>
                    <a:pt x="131403" y="26565"/>
                    <a:pt x="136039" y="34756"/>
                    <a:pt x="133880" y="42630"/>
                  </a:cubicBezTo>
                  <a:lnTo>
                    <a:pt x="115782" y="108353"/>
                  </a:lnTo>
                  <a:cubicBezTo>
                    <a:pt x="113560" y="116290"/>
                    <a:pt x="105432" y="120926"/>
                    <a:pt x="97558" y="118703"/>
                  </a:cubicBez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1616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pic>
          <p:nvPicPr>
            <p:cNvPr id="1156" name="Graphic 6" descr=""/>
            <p:cNvPicPr/>
            <p:nvPr/>
          </p:nvPicPr>
          <p:blipFill>
            <a:blip r:embed="rId1"/>
            <a:stretch/>
          </p:blipFill>
          <p:spPr>
            <a:xfrm>
              <a:off x="2615400" y="2011680"/>
              <a:ext cx="188640" cy="5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7" name="Freeform 20"/>
            <p:cNvSpPr/>
            <p:nvPr/>
          </p:nvSpPr>
          <p:spPr>
            <a:xfrm>
              <a:off x="2560680" y="2022840"/>
              <a:ext cx="266040" cy="233280"/>
            </a:xfrm>
            <a:custGeom>
              <a:avLst/>
              <a:gdLst/>
              <a:ahLst/>
              <a:rect l="l" t="t" r="r" b="b"/>
              <a:pathLst>
                <a:path w="342201" h="299799">
                  <a:moveTo>
                    <a:pt x="238443" y="122428"/>
                  </a:moveTo>
                  <a:lnTo>
                    <a:pt x="237363" y="122809"/>
                  </a:lnTo>
                  <a:lnTo>
                    <a:pt x="73597" y="0"/>
                  </a:lnTo>
                  <a:lnTo>
                    <a:pt x="70549" y="4064"/>
                  </a:lnTo>
                  <a:lnTo>
                    <a:pt x="231521" y="124841"/>
                  </a:lnTo>
                  <a:lnTo>
                    <a:pt x="82487" y="175895"/>
                  </a:lnTo>
                  <a:lnTo>
                    <a:pt x="3683" y="95568"/>
                  </a:lnTo>
                  <a:lnTo>
                    <a:pt x="0" y="99060"/>
                  </a:lnTo>
                  <a:lnTo>
                    <a:pt x="78042" y="178625"/>
                  </a:lnTo>
                  <a:lnTo>
                    <a:pt x="93980" y="287972"/>
                  </a:lnTo>
                  <a:lnTo>
                    <a:pt x="93980" y="288036"/>
                  </a:lnTo>
                  <a:cubicBezTo>
                    <a:pt x="94298" y="288100"/>
                    <a:pt x="94615" y="288163"/>
                    <a:pt x="94869" y="288290"/>
                  </a:cubicBezTo>
                  <a:cubicBezTo>
                    <a:pt x="97727" y="289179"/>
                    <a:pt x="100521" y="289941"/>
                    <a:pt x="103378" y="290703"/>
                  </a:cubicBezTo>
                  <a:cubicBezTo>
                    <a:pt x="103442" y="290766"/>
                    <a:pt x="103505" y="290766"/>
                    <a:pt x="103568" y="290830"/>
                  </a:cubicBezTo>
                  <a:cubicBezTo>
                    <a:pt x="106743" y="291656"/>
                    <a:pt x="109855" y="292481"/>
                    <a:pt x="113030" y="293180"/>
                  </a:cubicBezTo>
                  <a:cubicBezTo>
                    <a:pt x="116777" y="294069"/>
                    <a:pt x="120587" y="294831"/>
                    <a:pt x="124397" y="295593"/>
                  </a:cubicBezTo>
                  <a:cubicBezTo>
                    <a:pt x="200406" y="309435"/>
                    <a:pt x="281813" y="288607"/>
                    <a:pt x="342202" y="240602"/>
                  </a:cubicBezTo>
                  <a:lnTo>
                    <a:pt x="238443" y="1224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58" name="Freeform 21"/>
            <p:cNvSpPr/>
            <p:nvPr/>
          </p:nvSpPr>
          <p:spPr>
            <a:xfrm>
              <a:off x="2469960" y="2156040"/>
              <a:ext cx="178560" cy="173880"/>
            </a:xfrm>
            <a:custGeom>
              <a:avLst/>
              <a:gdLst/>
              <a:ahLst/>
              <a:rect l="l" t="t" r="r" b="b"/>
              <a:pathLst>
                <a:path w="229552" h="223901">
                  <a:moveTo>
                    <a:pt x="229553" y="121730"/>
                  </a:moveTo>
                  <a:lnTo>
                    <a:pt x="229553" y="121730"/>
                  </a:lnTo>
                  <a:lnTo>
                    <a:pt x="222314" y="142685"/>
                  </a:lnTo>
                  <a:lnTo>
                    <a:pt x="194373" y="223901"/>
                  </a:lnTo>
                  <a:cubicBezTo>
                    <a:pt x="51943" y="191262"/>
                    <a:pt x="0" y="66993"/>
                    <a:pt x="0" y="66993"/>
                  </a:cubicBezTo>
                  <a:lnTo>
                    <a:pt x="7239" y="54991"/>
                  </a:lnTo>
                  <a:lnTo>
                    <a:pt x="40449" y="0"/>
                  </a:lnTo>
                  <a:cubicBezTo>
                    <a:pt x="47498" y="5143"/>
                    <a:pt x="55054" y="6731"/>
                    <a:pt x="62547" y="5842"/>
                  </a:cubicBezTo>
                  <a:cubicBezTo>
                    <a:pt x="69215" y="15875"/>
                    <a:pt x="76581" y="25527"/>
                    <a:pt x="84518" y="34608"/>
                  </a:cubicBezTo>
                  <a:cubicBezTo>
                    <a:pt x="85661" y="35877"/>
                    <a:pt x="86678" y="37084"/>
                    <a:pt x="87884" y="38290"/>
                  </a:cubicBezTo>
                  <a:cubicBezTo>
                    <a:pt x="89154" y="39751"/>
                    <a:pt x="90551" y="41212"/>
                    <a:pt x="91884" y="42609"/>
                  </a:cubicBezTo>
                  <a:cubicBezTo>
                    <a:pt x="102870" y="54229"/>
                    <a:pt x="114872" y="64834"/>
                    <a:pt x="127826" y="74486"/>
                  </a:cubicBezTo>
                  <a:cubicBezTo>
                    <a:pt x="129159" y="75438"/>
                    <a:pt x="130492" y="76454"/>
                    <a:pt x="131826" y="77407"/>
                  </a:cubicBezTo>
                  <a:cubicBezTo>
                    <a:pt x="133414" y="78549"/>
                    <a:pt x="135001" y="79693"/>
                    <a:pt x="136652" y="80836"/>
                  </a:cubicBezTo>
                  <a:cubicBezTo>
                    <a:pt x="138303" y="81979"/>
                    <a:pt x="139890" y="82995"/>
                    <a:pt x="141541" y="84074"/>
                  </a:cubicBezTo>
                  <a:cubicBezTo>
                    <a:pt x="155702" y="93345"/>
                    <a:pt x="170688" y="101346"/>
                    <a:pt x="186372" y="107823"/>
                  </a:cubicBezTo>
                  <a:cubicBezTo>
                    <a:pt x="188341" y="108712"/>
                    <a:pt x="190309" y="109474"/>
                    <a:pt x="192341" y="110236"/>
                  </a:cubicBezTo>
                  <a:cubicBezTo>
                    <a:pt x="194373" y="111062"/>
                    <a:pt x="196405" y="111824"/>
                    <a:pt x="198438" y="112522"/>
                  </a:cubicBezTo>
                  <a:cubicBezTo>
                    <a:pt x="200470" y="113284"/>
                    <a:pt x="202502" y="113983"/>
                    <a:pt x="204597" y="114681"/>
                  </a:cubicBezTo>
                  <a:cubicBezTo>
                    <a:pt x="206565" y="115380"/>
                    <a:pt x="208534" y="116015"/>
                    <a:pt x="210566" y="116649"/>
                  </a:cubicBezTo>
                  <a:cubicBezTo>
                    <a:pt x="210884" y="116713"/>
                    <a:pt x="211201" y="116777"/>
                    <a:pt x="211455" y="116904"/>
                  </a:cubicBezTo>
                  <a:cubicBezTo>
                    <a:pt x="214313" y="117793"/>
                    <a:pt x="217107" y="118555"/>
                    <a:pt x="219964" y="119317"/>
                  </a:cubicBezTo>
                  <a:cubicBezTo>
                    <a:pt x="220028" y="119380"/>
                    <a:pt x="220091" y="119380"/>
                    <a:pt x="220154" y="119443"/>
                  </a:cubicBezTo>
                  <a:cubicBezTo>
                    <a:pt x="223266" y="120206"/>
                    <a:pt x="226441" y="121031"/>
                    <a:pt x="229553" y="121730"/>
                  </a:cubicBezTo>
                  <a:close/>
                </a:path>
              </a:pathLst>
            </a:custGeom>
            <a:solidFill>
              <a:srgbClr val="f6a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59" name="Freeform 22"/>
            <p:cNvSpPr/>
            <p:nvPr/>
          </p:nvSpPr>
          <p:spPr>
            <a:xfrm>
              <a:off x="2410920" y="2193120"/>
              <a:ext cx="237600" cy="208440"/>
            </a:xfrm>
            <a:custGeom>
              <a:avLst/>
              <a:gdLst/>
              <a:ahLst/>
              <a:rect l="l" t="t" r="r" b="b"/>
              <a:pathLst>
                <a:path w="305562" h="268033">
                  <a:moveTo>
                    <a:pt x="305562" y="185928"/>
                  </a:moveTo>
                  <a:lnTo>
                    <a:pt x="246253" y="268033"/>
                  </a:lnTo>
                  <a:cubicBezTo>
                    <a:pt x="61532" y="217361"/>
                    <a:pt x="0" y="54356"/>
                    <a:pt x="0" y="54356"/>
                  </a:cubicBezTo>
                  <a:lnTo>
                    <a:pt x="54293" y="0"/>
                  </a:lnTo>
                  <a:lnTo>
                    <a:pt x="76010" y="19367"/>
                  </a:lnTo>
                  <a:cubicBezTo>
                    <a:pt x="76010" y="19367"/>
                    <a:pt x="127953" y="143701"/>
                    <a:pt x="270383" y="176276"/>
                  </a:cubicBezTo>
                  <a:lnTo>
                    <a:pt x="270129" y="177419"/>
                  </a:lnTo>
                  <a:lnTo>
                    <a:pt x="305562" y="185928"/>
                  </a:lnTo>
                  <a:close/>
                </a:path>
              </a:pathLst>
            </a:custGeom>
            <a:solidFill>
              <a:srgbClr val="8fd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60" name="Freeform 23"/>
            <p:cNvSpPr/>
            <p:nvPr/>
          </p:nvSpPr>
          <p:spPr>
            <a:xfrm>
              <a:off x="2727360" y="2529720"/>
              <a:ext cx="202320" cy="296280"/>
            </a:xfrm>
            <a:custGeom>
              <a:avLst/>
              <a:gdLst/>
              <a:ahLst/>
              <a:rect l="l" t="t" r="r" b="b"/>
              <a:pathLst>
                <a:path w="260326" h="380970">
                  <a:moveTo>
                    <a:pt x="260313" y="11210"/>
                  </a:moveTo>
                  <a:cubicBezTo>
                    <a:pt x="257646" y="62582"/>
                    <a:pt x="247042" y="113953"/>
                    <a:pt x="230468" y="162848"/>
                  </a:cubicBezTo>
                  <a:cubicBezTo>
                    <a:pt x="226722" y="173897"/>
                    <a:pt x="222721" y="184819"/>
                    <a:pt x="218339" y="195614"/>
                  </a:cubicBezTo>
                  <a:cubicBezTo>
                    <a:pt x="218212" y="198154"/>
                    <a:pt x="218022" y="200631"/>
                    <a:pt x="217768" y="203171"/>
                  </a:cubicBezTo>
                  <a:cubicBezTo>
                    <a:pt x="217641" y="205457"/>
                    <a:pt x="217387" y="207679"/>
                    <a:pt x="217069" y="209902"/>
                  </a:cubicBezTo>
                  <a:cubicBezTo>
                    <a:pt x="216879" y="211807"/>
                    <a:pt x="216625" y="213648"/>
                    <a:pt x="216307" y="215490"/>
                  </a:cubicBezTo>
                  <a:cubicBezTo>
                    <a:pt x="216181" y="216633"/>
                    <a:pt x="215926" y="217776"/>
                    <a:pt x="215800" y="218919"/>
                  </a:cubicBezTo>
                  <a:cubicBezTo>
                    <a:pt x="215609" y="220252"/>
                    <a:pt x="215355" y="221522"/>
                    <a:pt x="215101" y="222792"/>
                  </a:cubicBezTo>
                  <a:cubicBezTo>
                    <a:pt x="213768" y="230031"/>
                    <a:pt x="212053" y="237270"/>
                    <a:pt x="209894" y="244382"/>
                  </a:cubicBezTo>
                  <a:cubicBezTo>
                    <a:pt x="209450" y="246097"/>
                    <a:pt x="208878" y="247811"/>
                    <a:pt x="208306" y="249462"/>
                  </a:cubicBezTo>
                  <a:cubicBezTo>
                    <a:pt x="208306" y="249589"/>
                    <a:pt x="208243" y="249716"/>
                    <a:pt x="208180" y="249843"/>
                  </a:cubicBezTo>
                  <a:cubicBezTo>
                    <a:pt x="207544" y="251812"/>
                    <a:pt x="206846" y="253780"/>
                    <a:pt x="206148" y="255812"/>
                  </a:cubicBezTo>
                  <a:cubicBezTo>
                    <a:pt x="203862" y="262480"/>
                    <a:pt x="201194" y="268957"/>
                    <a:pt x="198210" y="275434"/>
                  </a:cubicBezTo>
                  <a:cubicBezTo>
                    <a:pt x="197766" y="276450"/>
                    <a:pt x="197257" y="277529"/>
                    <a:pt x="196750" y="278545"/>
                  </a:cubicBezTo>
                  <a:cubicBezTo>
                    <a:pt x="195734" y="280704"/>
                    <a:pt x="194654" y="282800"/>
                    <a:pt x="193575" y="284959"/>
                  </a:cubicBezTo>
                  <a:cubicBezTo>
                    <a:pt x="192431" y="287118"/>
                    <a:pt x="191352" y="289213"/>
                    <a:pt x="190145" y="291309"/>
                  </a:cubicBezTo>
                  <a:cubicBezTo>
                    <a:pt x="189256" y="292960"/>
                    <a:pt x="188241" y="294611"/>
                    <a:pt x="187288" y="296262"/>
                  </a:cubicBezTo>
                  <a:cubicBezTo>
                    <a:pt x="186907" y="296960"/>
                    <a:pt x="186462" y="297659"/>
                    <a:pt x="186018" y="298421"/>
                  </a:cubicBezTo>
                  <a:cubicBezTo>
                    <a:pt x="185129" y="300008"/>
                    <a:pt x="184113" y="301596"/>
                    <a:pt x="183097" y="303120"/>
                  </a:cubicBezTo>
                  <a:cubicBezTo>
                    <a:pt x="182906" y="303501"/>
                    <a:pt x="182716" y="303818"/>
                    <a:pt x="182399" y="304263"/>
                  </a:cubicBezTo>
                  <a:cubicBezTo>
                    <a:pt x="181256" y="306104"/>
                    <a:pt x="179986" y="307946"/>
                    <a:pt x="178716" y="309724"/>
                  </a:cubicBezTo>
                  <a:cubicBezTo>
                    <a:pt x="177636" y="311375"/>
                    <a:pt x="176556" y="312899"/>
                    <a:pt x="175350" y="314486"/>
                  </a:cubicBezTo>
                  <a:cubicBezTo>
                    <a:pt x="173699" y="316772"/>
                    <a:pt x="171985" y="319058"/>
                    <a:pt x="170206" y="321281"/>
                  </a:cubicBezTo>
                  <a:cubicBezTo>
                    <a:pt x="168429" y="323567"/>
                    <a:pt x="166524" y="325853"/>
                    <a:pt x="164682" y="328075"/>
                  </a:cubicBezTo>
                  <a:cubicBezTo>
                    <a:pt x="163475" y="329472"/>
                    <a:pt x="162269" y="330933"/>
                    <a:pt x="160999" y="332330"/>
                  </a:cubicBezTo>
                  <a:cubicBezTo>
                    <a:pt x="159412" y="334108"/>
                    <a:pt x="157824" y="335886"/>
                    <a:pt x="156110" y="337600"/>
                  </a:cubicBezTo>
                  <a:cubicBezTo>
                    <a:pt x="154459" y="339315"/>
                    <a:pt x="152807" y="341029"/>
                    <a:pt x="151093" y="342744"/>
                  </a:cubicBezTo>
                  <a:cubicBezTo>
                    <a:pt x="149632" y="344204"/>
                    <a:pt x="148109" y="345665"/>
                    <a:pt x="146585" y="347125"/>
                  </a:cubicBezTo>
                  <a:cubicBezTo>
                    <a:pt x="143791" y="349792"/>
                    <a:pt x="140869" y="352332"/>
                    <a:pt x="137949" y="354809"/>
                  </a:cubicBezTo>
                  <a:cubicBezTo>
                    <a:pt x="137885" y="354872"/>
                    <a:pt x="137885" y="354872"/>
                    <a:pt x="137822" y="354936"/>
                  </a:cubicBezTo>
                  <a:cubicBezTo>
                    <a:pt x="134837" y="357412"/>
                    <a:pt x="131853" y="359889"/>
                    <a:pt x="128741" y="362175"/>
                  </a:cubicBezTo>
                  <a:cubicBezTo>
                    <a:pt x="128678" y="362175"/>
                    <a:pt x="128614" y="362238"/>
                    <a:pt x="128614" y="362238"/>
                  </a:cubicBezTo>
                  <a:cubicBezTo>
                    <a:pt x="126963" y="363445"/>
                    <a:pt x="125439" y="364651"/>
                    <a:pt x="123788" y="365731"/>
                  </a:cubicBezTo>
                  <a:cubicBezTo>
                    <a:pt x="115914" y="371319"/>
                    <a:pt x="107659" y="376399"/>
                    <a:pt x="99087" y="380844"/>
                  </a:cubicBezTo>
                  <a:lnTo>
                    <a:pt x="99023" y="380971"/>
                  </a:lnTo>
                  <a:cubicBezTo>
                    <a:pt x="97562" y="380971"/>
                    <a:pt x="42063" y="305850"/>
                    <a:pt x="8155" y="279053"/>
                  </a:cubicBezTo>
                  <a:cubicBezTo>
                    <a:pt x="6757" y="273465"/>
                    <a:pt x="5487" y="267750"/>
                    <a:pt x="4472" y="262099"/>
                  </a:cubicBezTo>
                  <a:cubicBezTo>
                    <a:pt x="-482" y="235492"/>
                    <a:pt x="-1307" y="208124"/>
                    <a:pt x="1931" y="181263"/>
                  </a:cubicBezTo>
                  <a:cubicBezTo>
                    <a:pt x="2884" y="173516"/>
                    <a:pt x="4218" y="165642"/>
                    <a:pt x="7774" y="158784"/>
                  </a:cubicBezTo>
                  <a:cubicBezTo>
                    <a:pt x="11266" y="151799"/>
                    <a:pt x="17362" y="145830"/>
                    <a:pt x="24918" y="144052"/>
                  </a:cubicBezTo>
                  <a:cubicBezTo>
                    <a:pt x="31395" y="142592"/>
                    <a:pt x="38000" y="140814"/>
                    <a:pt x="44604" y="138655"/>
                  </a:cubicBezTo>
                  <a:cubicBezTo>
                    <a:pt x="82576" y="126653"/>
                    <a:pt x="120550" y="104809"/>
                    <a:pt x="139790" y="71599"/>
                  </a:cubicBezTo>
                  <a:cubicBezTo>
                    <a:pt x="145124" y="62455"/>
                    <a:pt x="151982" y="51215"/>
                    <a:pt x="162523" y="51914"/>
                  </a:cubicBezTo>
                  <a:cubicBezTo>
                    <a:pt x="169191" y="52358"/>
                    <a:pt x="174398" y="57883"/>
                    <a:pt x="176620" y="64233"/>
                  </a:cubicBezTo>
                  <a:cubicBezTo>
                    <a:pt x="177001" y="65312"/>
                    <a:pt x="177255" y="66392"/>
                    <a:pt x="177445" y="67408"/>
                  </a:cubicBezTo>
                  <a:cubicBezTo>
                    <a:pt x="178843" y="75028"/>
                    <a:pt x="176747" y="82775"/>
                    <a:pt x="174715" y="90331"/>
                  </a:cubicBezTo>
                  <a:cubicBezTo>
                    <a:pt x="184557" y="75409"/>
                    <a:pt x="195416" y="61248"/>
                    <a:pt x="206529" y="47342"/>
                  </a:cubicBezTo>
                  <a:cubicBezTo>
                    <a:pt x="218022" y="32991"/>
                    <a:pt x="229769" y="18767"/>
                    <a:pt x="240945" y="4225"/>
                  </a:cubicBezTo>
                  <a:cubicBezTo>
                    <a:pt x="247423" y="-4093"/>
                    <a:pt x="260821" y="733"/>
                    <a:pt x="260313" y="11210"/>
                  </a:cubicBezTo>
                  <a:close/>
                </a:path>
              </a:pathLst>
            </a:custGeom>
            <a:solidFill>
              <a:srgbClr val="8fd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61" name="Freeform 24"/>
            <p:cNvSpPr/>
            <p:nvPr/>
          </p:nvSpPr>
          <p:spPr>
            <a:xfrm>
              <a:off x="2023200" y="2235600"/>
              <a:ext cx="639360" cy="1695600"/>
            </a:xfrm>
            <a:custGeom>
              <a:avLst/>
              <a:gdLst/>
              <a:ahLst/>
              <a:rect l="l" t="t" r="r" b="b"/>
              <a:pathLst>
                <a:path w="821944" h="2179134">
                  <a:moveTo>
                    <a:pt x="821944" y="2125155"/>
                  </a:moveTo>
                  <a:cubicBezTo>
                    <a:pt x="791527" y="2134172"/>
                    <a:pt x="760794" y="2142046"/>
                    <a:pt x="729805" y="2148840"/>
                  </a:cubicBezTo>
                  <a:cubicBezTo>
                    <a:pt x="546481" y="2188845"/>
                    <a:pt x="355028" y="2188972"/>
                    <a:pt x="171259" y="2150745"/>
                  </a:cubicBezTo>
                  <a:cubicBezTo>
                    <a:pt x="113220" y="2138680"/>
                    <a:pt x="56007" y="2122678"/>
                    <a:pt x="0" y="2102993"/>
                  </a:cubicBezTo>
                  <a:cubicBezTo>
                    <a:pt x="27432" y="1666748"/>
                    <a:pt x="54864" y="1230566"/>
                    <a:pt x="82296" y="794385"/>
                  </a:cubicBezTo>
                  <a:cubicBezTo>
                    <a:pt x="92202" y="637223"/>
                    <a:pt x="102743" y="477076"/>
                    <a:pt x="160401" y="330644"/>
                  </a:cubicBezTo>
                  <a:cubicBezTo>
                    <a:pt x="218122" y="184150"/>
                    <a:pt x="345948" y="40323"/>
                    <a:pt x="498157" y="0"/>
                  </a:cubicBezTo>
                  <a:cubicBezTo>
                    <a:pt x="498157" y="0"/>
                    <a:pt x="559752" y="162941"/>
                    <a:pt x="744410" y="213677"/>
                  </a:cubicBezTo>
                  <a:cubicBezTo>
                    <a:pt x="745553" y="238506"/>
                    <a:pt x="746570" y="263207"/>
                    <a:pt x="747585" y="287782"/>
                  </a:cubicBezTo>
                  <a:cubicBezTo>
                    <a:pt x="753046" y="429133"/>
                    <a:pt x="755650" y="567500"/>
                    <a:pt x="760158" y="707835"/>
                  </a:cubicBezTo>
                  <a:lnTo>
                    <a:pt x="713994" y="728789"/>
                  </a:lnTo>
                  <a:cubicBezTo>
                    <a:pt x="693039" y="734060"/>
                    <a:pt x="676783" y="751713"/>
                    <a:pt x="668719" y="771779"/>
                  </a:cubicBezTo>
                  <a:cubicBezTo>
                    <a:pt x="660717" y="791782"/>
                    <a:pt x="660082" y="814070"/>
                    <a:pt x="661988" y="835597"/>
                  </a:cubicBezTo>
                  <a:cubicBezTo>
                    <a:pt x="663892" y="857948"/>
                    <a:pt x="668464" y="879666"/>
                    <a:pt x="674878" y="901001"/>
                  </a:cubicBezTo>
                  <a:cubicBezTo>
                    <a:pt x="644144" y="906018"/>
                    <a:pt x="612902" y="902335"/>
                    <a:pt x="585660" y="886714"/>
                  </a:cubicBezTo>
                  <a:cubicBezTo>
                    <a:pt x="546100" y="863981"/>
                    <a:pt x="522288" y="821309"/>
                    <a:pt x="506730" y="778447"/>
                  </a:cubicBezTo>
                  <a:cubicBezTo>
                    <a:pt x="477901" y="699008"/>
                    <a:pt x="470979" y="611695"/>
                    <a:pt x="486982" y="528701"/>
                  </a:cubicBezTo>
                  <a:cubicBezTo>
                    <a:pt x="496760" y="477774"/>
                    <a:pt x="514985" y="428752"/>
                    <a:pt x="524446" y="377761"/>
                  </a:cubicBezTo>
                  <a:cubicBezTo>
                    <a:pt x="533845" y="326771"/>
                    <a:pt x="533781" y="271526"/>
                    <a:pt x="508826" y="226060"/>
                  </a:cubicBezTo>
                  <a:cubicBezTo>
                    <a:pt x="483933" y="180594"/>
                    <a:pt x="411544" y="149733"/>
                    <a:pt x="361886" y="164655"/>
                  </a:cubicBezTo>
                  <a:cubicBezTo>
                    <a:pt x="284924" y="207201"/>
                    <a:pt x="229997" y="283019"/>
                    <a:pt x="199961" y="365633"/>
                  </a:cubicBezTo>
                  <a:cubicBezTo>
                    <a:pt x="169863" y="448246"/>
                    <a:pt x="162687" y="537527"/>
                    <a:pt x="164274" y="625411"/>
                  </a:cubicBezTo>
                  <a:cubicBezTo>
                    <a:pt x="166243" y="739902"/>
                    <a:pt x="183388" y="856551"/>
                    <a:pt x="236029" y="958215"/>
                  </a:cubicBezTo>
                  <a:cubicBezTo>
                    <a:pt x="288671" y="1059879"/>
                    <a:pt x="380936" y="1145223"/>
                    <a:pt x="492887" y="1169226"/>
                  </a:cubicBezTo>
                  <a:cubicBezTo>
                    <a:pt x="590614" y="1190181"/>
                    <a:pt x="693991" y="1162177"/>
                    <a:pt x="777176" y="1105853"/>
                  </a:cubicBezTo>
                  <a:cubicBezTo>
                    <a:pt x="792226" y="1445451"/>
                    <a:pt x="806196" y="1785937"/>
                    <a:pt x="821944" y="212515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62" name="Freeform 25"/>
            <p:cNvSpPr/>
            <p:nvPr/>
          </p:nvSpPr>
          <p:spPr>
            <a:xfrm>
              <a:off x="2335680" y="3520440"/>
              <a:ext cx="235440" cy="57960"/>
            </a:xfrm>
            <a:custGeom>
              <a:avLst/>
              <a:gdLst/>
              <a:ahLst/>
              <a:rect l="l" t="t" r="r" b="b"/>
              <a:pathLst>
                <a:path w="302836" h="74661">
                  <a:moveTo>
                    <a:pt x="302836" y="445"/>
                  </a:moveTo>
                  <a:lnTo>
                    <a:pt x="302836" y="61595"/>
                  </a:lnTo>
                  <a:cubicBezTo>
                    <a:pt x="175265" y="90996"/>
                    <a:pt x="4386" y="61595"/>
                    <a:pt x="4386" y="61595"/>
                  </a:cubicBezTo>
                  <a:cubicBezTo>
                    <a:pt x="259" y="41593"/>
                    <a:pt x="-1074" y="20320"/>
                    <a:pt x="894" y="0"/>
                  </a:cubicBezTo>
                  <a:cubicBezTo>
                    <a:pt x="100653" y="16320"/>
                    <a:pt x="203015" y="16510"/>
                    <a:pt x="302836" y="445"/>
                  </a:cubicBezTo>
                  <a:close/>
                </a:path>
              </a:pathLst>
            </a:custGeom>
            <a:solidFill>
              <a:srgbClr val="e2e3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63" name="Freeform 26"/>
            <p:cNvSpPr/>
            <p:nvPr/>
          </p:nvSpPr>
          <p:spPr>
            <a:xfrm>
              <a:off x="2337120" y="3568320"/>
              <a:ext cx="237600" cy="244080"/>
            </a:xfrm>
            <a:custGeom>
              <a:avLst/>
              <a:gdLst/>
              <a:ahLst/>
              <a:rect l="l" t="t" r="r" b="b"/>
              <a:pathLst>
                <a:path w="305581" h="313717">
                  <a:moveTo>
                    <a:pt x="260056" y="308356"/>
                  </a:moveTo>
                  <a:cubicBezTo>
                    <a:pt x="222084" y="317373"/>
                    <a:pt x="126071" y="313817"/>
                    <a:pt x="54570" y="306515"/>
                  </a:cubicBezTo>
                  <a:cubicBezTo>
                    <a:pt x="-16931" y="299276"/>
                    <a:pt x="2373" y="0"/>
                    <a:pt x="2373" y="0"/>
                  </a:cubicBezTo>
                  <a:cubicBezTo>
                    <a:pt x="2373" y="0"/>
                    <a:pt x="173252" y="29401"/>
                    <a:pt x="300823" y="0"/>
                  </a:cubicBezTo>
                  <a:cubicBezTo>
                    <a:pt x="314476" y="80073"/>
                    <a:pt x="298093" y="299339"/>
                    <a:pt x="260056" y="308356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64" name="Freeform 27"/>
            <p:cNvSpPr/>
            <p:nvPr/>
          </p:nvSpPr>
          <p:spPr>
            <a:xfrm>
              <a:off x="2156400" y="3907800"/>
              <a:ext cx="434880" cy="1263240"/>
            </a:xfrm>
            <a:custGeom>
              <a:avLst/>
              <a:gdLst/>
              <a:ahLst/>
              <a:rect l="l" t="t" r="r" b="b"/>
              <a:pathLst>
                <a:path w="558990" h="1623525">
                  <a:moveTo>
                    <a:pt x="558991" y="1778"/>
                  </a:moveTo>
                  <a:lnTo>
                    <a:pt x="548259" y="76009"/>
                  </a:lnTo>
                  <a:lnTo>
                    <a:pt x="328422" y="1598295"/>
                  </a:lnTo>
                  <a:cubicBezTo>
                    <a:pt x="313563" y="1605852"/>
                    <a:pt x="299339" y="1611440"/>
                    <a:pt x="285750" y="1615377"/>
                  </a:cubicBezTo>
                  <a:cubicBezTo>
                    <a:pt x="236030" y="1629918"/>
                    <a:pt x="194945" y="1622679"/>
                    <a:pt x="166243" y="1611694"/>
                  </a:cubicBezTo>
                  <a:cubicBezTo>
                    <a:pt x="137097" y="1600581"/>
                    <a:pt x="120650" y="1585659"/>
                    <a:pt x="120650" y="1585659"/>
                  </a:cubicBezTo>
                  <a:cubicBezTo>
                    <a:pt x="131445" y="1476947"/>
                    <a:pt x="124524" y="1287653"/>
                    <a:pt x="109601" y="1077023"/>
                  </a:cubicBezTo>
                  <a:lnTo>
                    <a:pt x="109601" y="1076960"/>
                  </a:lnTo>
                  <a:cubicBezTo>
                    <a:pt x="94234" y="859282"/>
                    <a:pt x="70358" y="618680"/>
                    <a:pt x="48768" y="420434"/>
                  </a:cubicBezTo>
                  <a:lnTo>
                    <a:pt x="48768" y="420370"/>
                  </a:lnTo>
                  <a:cubicBezTo>
                    <a:pt x="44133" y="377317"/>
                    <a:pt x="39561" y="336296"/>
                    <a:pt x="35179" y="297942"/>
                  </a:cubicBezTo>
                  <a:cubicBezTo>
                    <a:pt x="15558" y="124079"/>
                    <a:pt x="381" y="4763"/>
                    <a:pt x="0" y="1905"/>
                  </a:cubicBezTo>
                  <a:cubicBezTo>
                    <a:pt x="183769" y="40132"/>
                    <a:pt x="375222" y="40005"/>
                    <a:pt x="558546" y="0"/>
                  </a:cubicBezTo>
                  <a:lnTo>
                    <a:pt x="558991" y="1778"/>
                  </a:lnTo>
                  <a:close/>
                </a:path>
              </a:pathLst>
            </a:custGeom>
            <a:solidFill>
              <a:srgbClr val="8fd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65" name="Freeform 28"/>
            <p:cNvSpPr/>
            <p:nvPr/>
          </p:nvSpPr>
          <p:spPr>
            <a:xfrm>
              <a:off x="2156400" y="3909240"/>
              <a:ext cx="4680" cy="360"/>
            </a:xfrm>
            <a:custGeom>
              <a:avLst/>
              <a:gdLst/>
              <a:ahLst/>
              <a:rect l="l" t="t" r="r" b="b"/>
              <a:pathLst>
                <a:path w="6350" h="47">
                  <a:moveTo>
                    <a:pt x="0" y="48"/>
                  </a:moveTo>
                  <a:cubicBezTo>
                    <a:pt x="0" y="-16"/>
                    <a:pt x="0" y="-16"/>
                    <a:pt x="0" y="48"/>
                  </a:cubicBezTo>
                </a:path>
              </a:pathLst>
            </a:custGeom>
            <a:solidFill>
              <a:srgbClr val="f6a5a6"/>
            </a:solidFill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66" name="Freeform 29"/>
            <p:cNvSpPr/>
            <p:nvPr/>
          </p:nvSpPr>
          <p:spPr>
            <a:xfrm>
              <a:off x="1981440" y="4234680"/>
              <a:ext cx="259920" cy="816480"/>
            </a:xfrm>
            <a:custGeom>
              <a:avLst/>
              <a:gdLst/>
              <a:ahLst/>
              <a:rect l="l" t="t" r="r" b="b"/>
              <a:pathLst>
                <a:path w="334327" h="1049654">
                  <a:moveTo>
                    <a:pt x="334327" y="656590"/>
                  </a:moveTo>
                  <a:lnTo>
                    <a:pt x="334327" y="656590"/>
                  </a:lnTo>
                  <a:cubicBezTo>
                    <a:pt x="308229" y="745172"/>
                    <a:pt x="153924" y="1049655"/>
                    <a:pt x="153924" y="1049655"/>
                  </a:cubicBezTo>
                  <a:cubicBezTo>
                    <a:pt x="142621" y="1048829"/>
                    <a:pt x="131254" y="1046289"/>
                    <a:pt x="120015" y="1042670"/>
                  </a:cubicBezTo>
                  <a:cubicBezTo>
                    <a:pt x="81534" y="1030224"/>
                    <a:pt x="45212" y="1004379"/>
                    <a:pt x="22733" y="986155"/>
                  </a:cubicBezTo>
                  <a:cubicBezTo>
                    <a:pt x="8636" y="974725"/>
                    <a:pt x="0" y="966343"/>
                    <a:pt x="0" y="966343"/>
                  </a:cubicBezTo>
                  <a:cubicBezTo>
                    <a:pt x="61087" y="887222"/>
                    <a:pt x="270192" y="13652"/>
                    <a:pt x="273431" y="0"/>
                  </a:cubicBezTo>
                  <a:cubicBezTo>
                    <a:pt x="295084" y="198310"/>
                    <a:pt x="318960" y="438912"/>
                    <a:pt x="334327" y="656590"/>
                  </a:cubicBezTo>
                  <a:close/>
                </a:path>
              </a:pathLst>
            </a:custGeom>
            <a:solidFill>
              <a:srgbClr val="50b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67" name="Freeform 30"/>
            <p:cNvSpPr/>
            <p:nvPr/>
          </p:nvSpPr>
          <p:spPr>
            <a:xfrm>
              <a:off x="2194560" y="4234680"/>
              <a:ext cx="360" cy="360"/>
            </a:xfrm>
            <a:custGeom>
              <a:avLst/>
              <a:gdLst/>
              <a:ahLst/>
              <a:rect l="l" t="t" r="r" b="b"/>
              <a:pathLst>
                <a:path w="63" h="127">
                  <a:moveTo>
                    <a:pt x="64" y="0"/>
                  </a:moveTo>
                  <a:cubicBezTo>
                    <a:pt x="64" y="0"/>
                    <a:pt x="64" y="64"/>
                    <a:pt x="0" y="127"/>
                  </a:cubicBezTo>
                </a:path>
              </a:pathLst>
            </a:custGeom>
            <a:solidFill>
              <a:srgbClr val="f6a5a6"/>
            </a:solidFill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68" name="Freeform 31"/>
            <p:cNvSpPr/>
            <p:nvPr/>
          </p:nvSpPr>
          <p:spPr>
            <a:xfrm>
              <a:off x="1952640" y="5002200"/>
              <a:ext cx="122040" cy="133200"/>
            </a:xfrm>
            <a:custGeom>
              <a:avLst/>
              <a:gdLst/>
              <a:ahLst/>
              <a:rect l="l" t="t" r="r" b="b"/>
              <a:pathLst>
                <a:path w="157098" h="171196">
                  <a:moveTo>
                    <a:pt x="157099" y="56515"/>
                  </a:moveTo>
                  <a:lnTo>
                    <a:pt x="77851" y="171196"/>
                  </a:lnTo>
                  <a:lnTo>
                    <a:pt x="0" y="113221"/>
                  </a:lnTo>
                  <a:lnTo>
                    <a:pt x="59817" y="0"/>
                  </a:lnTo>
                  <a:cubicBezTo>
                    <a:pt x="82233" y="18224"/>
                    <a:pt x="118618" y="44069"/>
                    <a:pt x="157099" y="56515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69" name="Freeform 32"/>
            <p:cNvSpPr/>
            <p:nvPr/>
          </p:nvSpPr>
          <p:spPr>
            <a:xfrm>
              <a:off x="1848240" y="5076360"/>
              <a:ext cx="269280" cy="243000"/>
            </a:xfrm>
            <a:custGeom>
              <a:avLst/>
              <a:gdLst/>
              <a:ahLst/>
              <a:rect l="l" t="t" r="r" b="b"/>
              <a:pathLst>
                <a:path w="346201" h="312638">
                  <a:moveTo>
                    <a:pt x="330581" y="312004"/>
                  </a:moveTo>
                  <a:lnTo>
                    <a:pt x="131572" y="312639"/>
                  </a:lnTo>
                  <a:cubicBezTo>
                    <a:pt x="108585" y="257330"/>
                    <a:pt x="90043" y="199736"/>
                    <a:pt x="66992" y="144364"/>
                  </a:cubicBezTo>
                  <a:cubicBezTo>
                    <a:pt x="59880" y="150904"/>
                    <a:pt x="51435" y="156175"/>
                    <a:pt x="41783" y="157064"/>
                  </a:cubicBezTo>
                  <a:cubicBezTo>
                    <a:pt x="22987" y="146459"/>
                    <a:pt x="10668" y="131092"/>
                    <a:pt x="0" y="112296"/>
                  </a:cubicBezTo>
                  <a:cubicBezTo>
                    <a:pt x="14160" y="83150"/>
                    <a:pt x="32067" y="55781"/>
                    <a:pt x="53022" y="31143"/>
                  </a:cubicBezTo>
                  <a:cubicBezTo>
                    <a:pt x="63754" y="18570"/>
                    <a:pt x="76009" y="6251"/>
                    <a:pt x="91758" y="1616"/>
                  </a:cubicBezTo>
                  <a:cubicBezTo>
                    <a:pt x="107633" y="-3020"/>
                    <a:pt x="128143" y="2314"/>
                    <a:pt x="134048" y="17681"/>
                  </a:cubicBezTo>
                  <a:lnTo>
                    <a:pt x="211899" y="75657"/>
                  </a:lnTo>
                  <a:lnTo>
                    <a:pt x="211265" y="77371"/>
                  </a:lnTo>
                  <a:cubicBezTo>
                    <a:pt x="215265" y="124044"/>
                    <a:pt x="204851" y="172875"/>
                    <a:pt x="210503" y="219357"/>
                  </a:cubicBezTo>
                  <a:cubicBezTo>
                    <a:pt x="212217" y="233454"/>
                    <a:pt x="223329" y="244884"/>
                    <a:pt x="236029" y="251044"/>
                  </a:cubicBezTo>
                  <a:cubicBezTo>
                    <a:pt x="248857" y="257203"/>
                    <a:pt x="263144" y="258854"/>
                    <a:pt x="277241" y="260505"/>
                  </a:cubicBezTo>
                  <a:cubicBezTo>
                    <a:pt x="297815" y="262855"/>
                    <a:pt x="323469" y="267998"/>
                    <a:pt x="344043" y="270284"/>
                  </a:cubicBezTo>
                  <a:cubicBezTo>
                    <a:pt x="348805" y="285334"/>
                    <a:pt x="346265" y="312004"/>
                    <a:pt x="330581" y="312004"/>
                  </a:cubicBezTo>
                  <a:close/>
                </a:path>
              </a:pathLst>
            </a:custGeom>
            <a:solidFill>
              <a:srgbClr val="0000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70" name="Freeform 33"/>
            <p:cNvSpPr/>
            <p:nvPr/>
          </p:nvSpPr>
          <p:spPr>
            <a:xfrm>
              <a:off x="2286000" y="5161680"/>
              <a:ext cx="92880" cy="99000"/>
            </a:xfrm>
            <a:custGeom>
              <a:avLst/>
              <a:gdLst/>
              <a:ahLst/>
              <a:rect l="l" t="t" r="r" b="b"/>
              <a:pathLst>
                <a:path w="119443" h="127508">
                  <a:moveTo>
                    <a:pt x="119443" y="3683"/>
                  </a:moveTo>
                  <a:lnTo>
                    <a:pt x="93091" y="127508"/>
                  </a:lnTo>
                  <a:lnTo>
                    <a:pt x="5017" y="127508"/>
                  </a:lnTo>
                  <a:cubicBezTo>
                    <a:pt x="5017" y="127508"/>
                    <a:pt x="1207" y="445"/>
                    <a:pt x="0" y="0"/>
                  </a:cubicBezTo>
                  <a:cubicBezTo>
                    <a:pt x="28639" y="10985"/>
                    <a:pt x="69660" y="18224"/>
                    <a:pt x="119443" y="3683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71" name="Freeform 34"/>
            <p:cNvSpPr/>
            <p:nvPr/>
          </p:nvSpPr>
          <p:spPr>
            <a:xfrm>
              <a:off x="2248560" y="5261040"/>
              <a:ext cx="295920" cy="137160"/>
            </a:xfrm>
            <a:custGeom>
              <a:avLst/>
              <a:gdLst/>
              <a:ahLst/>
              <a:rect l="l" t="t" r="r" b="b"/>
              <a:pathLst>
                <a:path w="380318" h="176275">
                  <a:moveTo>
                    <a:pt x="380047" y="167259"/>
                  </a:moveTo>
                  <a:lnTo>
                    <a:pt x="378968" y="176276"/>
                  </a:lnTo>
                  <a:lnTo>
                    <a:pt x="133985" y="176276"/>
                  </a:lnTo>
                  <a:lnTo>
                    <a:pt x="80835" y="136398"/>
                  </a:lnTo>
                  <a:lnTo>
                    <a:pt x="74803" y="176276"/>
                  </a:lnTo>
                  <a:lnTo>
                    <a:pt x="0" y="176276"/>
                  </a:lnTo>
                  <a:cubicBezTo>
                    <a:pt x="0" y="0"/>
                    <a:pt x="53149" y="0"/>
                    <a:pt x="53149" y="0"/>
                  </a:cubicBezTo>
                  <a:lnTo>
                    <a:pt x="141224" y="0"/>
                  </a:lnTo>
                  <a:cubicBezTo>
                    <a:pt x="174053" y="44640"/>
                    <a:pt x="295529" y="98234"/>
                    <a:pt x="353187" y="121857"/>
                  </a:cubicBezTo>
                  <a:cubicBezTo>
                    <a:pt x="371284" y="129222"/>
                    <a:pt x="382207" y="147764"/>
                    <a:pt x="380047" y="167259"/>
                  </a:cubicBezTo>
                  <a:close/>
                </a:path>
              </a:pathLst>
            </a:custGeom>
            <a:solidFill>
              <a:srgbClr val="0000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72" name="Freeform 35"/>
            <p:cNvSpPr/>
            <p:nvPr/>
          </p:nvSpPr>
          <p:spPr>
            <a:xfrm>
              <a:off x="2724480" y="2746800"/>
              <a:ext cx="79920" cy="95400"/>
            </a:xfrm>
            <a:custGeom>
              <a:avLst/>
              <a:gdLst/>
              <a:ahLst/>
              <a:rect l="l" t="t" r="r" b="b"/>
              <a:pathLst>
                <a:path w="102870" h="122808">
                  <a:moveTo>
                    <a:pt x="102870" y="101854"/>
                  </a:moveTo>
                  <a:lnTo>
                    <a:pt x="94043" y="122809"/>
                  </a:lnTo>
                  <a:lnTo>
                    <a:pt x="0" y="23622"/>
                  </a:lnTo>
                  <a:lnTo>
                    <a:pt x="12002" y="0"/>
                  </a:lnTo>
                  <a:cubicBezTo>
                    <a:pt x="45910" y="26733"/>
                    <a:pt x="101409" y="101854"/>
                    <a:pt x="102870" y="101854"/>
                  </a:cubicBezTo>
                  <a:close/>
                </a:path>
              </a:pathLst>
            </a:custGeom>
            <a:solidFill>
              <a:srgbClr val="f6a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73" name="Freeform 36"/>
            <p:cNvSpPr/>
            <p:nvPr/>
          </p:nvSpPr>
          <p:spPr>
            <a:xfrm>
              <a:off x="2630880" y="3018960"/>
              <a:ext cx="226080" cy="293760"/>
            </a:xfrm>
            <a:custGeom>
              <a:avLst/>
              <a:gdLst/>
              <a:ahLst/>
              <a:rect l="l" t="t" r="r" b="b"/>
              <a:pathLst>
                <a:path w="290620" h="377770">
                  <a:moveTo>
                    <a:pt x="274003" y="364427"/>
                  </a:moveTo>
                  <a:cubicBezTo>
                    <a:pt x="265049" y="372809"/>
                    <a:pt x="253048" y="378016"/>
                    <a:pt x="239078" y="377762"/>
                  </a:cubicBezTo>
                  <a:lnTo>
                    <a:pt x="238189" y="377762"/>
                  </a:lnTo>
                  <a:cubicBezTo>
                    <a:pt x="210122" y="376936"/>
                    <a:pt x="183960" y="362331"/>
                    <a:pt x="163703" y="342900"/>
                  </a:cubicBezTo>
                  <a:cubicBezTo>
                    <a:pt x="143447" y="323469"/>
                    <a:pt x="128270" y="299593"/>
                    <a:pt x="113284" y="275844"/>
                  </a:cubicBezTo>
                  <a:cubicBezTo>
                    <a:pt x="75565" y="216027"/>
                    <a:pt x="37783" y="156147"/>
                    <a:pt x="0" y="96393"/>
                  </a:cubicBezTo>
                  <a:cubicBezTo>
                    <a:pt x="12319" y="87884"/>
                    <a:pt x="24257" y="78677"/>
                    <a:pt x="35560" y="68961"/>
                  </a:cubicBezTo>
                  <a:cubicBezTo>
                    <a:pt x="59817" y="48070"/>
                    <a:pt x="81852" y="24892"/>
                    <a:pt x="101727" y="0"/>
                  </a:cubicBezTo>
                  <a:cubicBezTo>
                    <a:pt x="101664" y="90170"/>
                    <a:pt x="171196" y="114681"/>
                    <a:pt x="171196" y="114681"/>
                  </a:cubicBezTo>
                  <a:lnTo>
                    <a:pt x="283083" y="299466"/>
                  </a:lnTo>
                  <a:cubicBezTo>
                    <a:pt x="296672" y="321818"/>
                    <a:pt x="290830" y="348679"/>
                    <a:pt x="274003" y="364427"/>
                  </a:cubicBezTo>
                  <a:close/>
                </a:path>
              </a:pathLst>
            </a:custGeom>
            <a:solidFill>
              <a:srgbClr val="8fd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74" name="Freeform 37"/>
            <p:cNvSpPr/>
            <p:nvPr/>
          </p:nvSpPr>
          <p:spPr>
            <a:xfrm>
              <a:off x="2768400" y="2765520"/>
              <a:ext cx="405720" cy="388440"/>
            </a:xfrm>
            <a:custGeom>
              <a:avLst/>
              <a:gdLst/>
              <a:ahLst/>
              <a:rect l="l" t="t" r="r" b="b"/>
              <a:pathLst>
                <a:path w="521792" h="499504">
                  <a:moveTo>
                    <a:pt x="521792" y="405765"/>
                  </a:moveTo>
                  <a:cubicBezTo>
                    <a:pt x="512776" y="439674"/>
                    <a:pt x="484201" y="463550"/>
                    <a:pt x="452323" y="478155"/>
                  </a:cubicBezTo>
                  <a:cubicBezTo>
                    <a:pt x="444894" y="481584"/>
                    <a:pt x="437274" y="484378"/>
                    <a:pt x="429590" y="486728"/>
                  </a:cubicBezTo>
                  <a:cubicBezTo>
                    <a:pt x="403873" y="494538"/>
                    <a:pt x="376631" y="497332"/>
                    <a:pt x="349644" y="498666"/>
                  </a:cubicBezTo>
                  <a:cubicBezTo>
                    <a:pt x="304622" y="500888"/>
                    <a:pt x="258839" y="499301"/>
                    <a:pt x="215659" y="486474"/>
                  </a:cubicBezTo>
                  <a:cubicBezTo>
                    <a:pt x="196291" y="480759"/>
                    <a:pt x="177432" y="472567"/>
                    <a:pt x="160287" y="461899"/>
                  </a:cubicBezTo>
                  <a:cubicBezTo>
                    <a:pt x="139078" y="448818"/>
                    <a:pt x="120409" y="431927"/>
                    <a:pt x="106502" y="411290"/>
                  </a:cubicBezTo>
                  <a:cubicBezTo>
                    <a:pt x="84722" y="417386"/>
                    <a:pt x="57353" y="419608"/>
                    <a:pt x="37795" y="408369"/>
                  </a:cubicBezTo>
                  <a:cubicBezTo>
                    <a:pt x="18110" y="397066"/>
                    <a:pt x="3632" y="376809"/>
                    <a:pt x="584" y="354394"/>
                  </a:cubicBezTo>
                  <a:cubicBezTo>
                    <a:pt x="-2464" y="331915"/>
                    <a:pt x="6553" y="307975"/>
                    <a:pt x="24333" y="294005"/>
                  </a:cubicBezTo>
                  <a:cubicBezTo>
                    <a:pt x="52146" y="307912"/>
                    <a:pt x="79070" y="332296"/>
                    <a:pt x="96088" y="358267"/>
                  </a:cubicBezTo>
                  <a:cubicBezTo>
                    <a:pt x="96977" y="358521"/>
                    <a:pt x="97612" y="357124"/>
                    <a:pt x="96914" y="356616"/>
                  </a:cubicBezTo>
                  <a:cubicBezTo>
                    <a:pt x="113551" y="336931"/>
                    <a:pt x="124282" y="313055"/>
                    <a:pt x="124028" y="287211"/>
                  </a:cubicBezTo>
                  <a:cubicBezTo>
                    <a:pt x="123711" y="261430"/>
                    <a:pt x="113805" y="235776"/>
                    <a:pt x="96723" y="216472"/>
                  </a:cubicBezTo>
                  <a:cubicBezTo>
                    <a:pt x="121234" y="192151"/>
                    <a:pt x="132220" y="150622"/>
                    <a:pt x="120218" y="118301"/>
                  </a:cubicBezTo>
                  <a:cubicBezTo>
                    <a:pt x="191338" y="112586"/>
                    <a:pt x="263474" y="62929"/>
                    <a:pt x="297193" y="0"/>
                  </a:cubicBezTo>
                  <a:cubicBezTo>
                    <a:pt x="306401" y="13208"/>
                    <a:pt x="315481" y="26543"/>
                    <a:pt x="324307" y="39942"/>
                  </a:cubicBezTo>
                  <a:cubicBezTo>
                    <a:pt x="383807" y="129223"/>
                    <a:pt x="436829" y="222758"/>
                    <a:pt x="482930" y="319532"/>
                  </a:cubicBezTo>
                  <a:cubicBezTo>
                    <a:pt x="496456" y="347917"/>
                    <a:pt x="509410" y="376746"/>
                    <a:pt x="521792" y="405765"/>
                  </a:cubicBezTo>
                  <a:close/>
                </a:path>
              </a:pathLst>
            </a:custGeom>
            <a:solidFill>
              <a:srgbClr val="f6a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75" name="Freeform 38"/>
            <p:cNvSpPr/>
            <p:nvPr/>
          </p:nvSpPr>
          <p:spPr>
            <a:xfrm>
              <a:off x="2151000" y="2360880"/>
              <a:ext cx="649440" cy="789840"/>
            </a:xfrm>
            <a:custGeom>
              <a:avLst/>
              <a:gdLst/>
              <a:ahLst/>
              <a:rect l="l" t="t" r="r" b="b"/>
              <a:pathLst>
                <a:path w="834785" h="1015287">
                  <a:moveTo>
                    <a:pt x="834785" y="622707"/>
                  </a:moveTo>
                  <a:cubicBezTo>
                    <a:pt x="808496" y="702717"/>
                    <a:pt x="770841" y="780505"/>
                    <a:pt x="718517" y="846100"/>
                  </a:cubicBezTo>
                  <a:cubicBezTo>
                    <a:pt x="698641" y="870992"/>
                    <a:pt x="676670" y="894170"/>
                    <a:pt x="652350" y="915061"/>
                  </a:cubicBezTo>
                  <a:cubicBezTo>
                    <a:pt x="641047" y="924777"/>
                    <a:pt x="629109" y="933985"/>
                    <a:pt x="616790" y="942494"/>
                  </a:cubicBezTo>
                  <a:cubicBezTo>
                    <a:pt x="615393" y="940335"/>
                    <a:pt x="614123" y="938175"/>
                    <a:pt x="612726" y="936016"/>
                  </a:cubicBezTo>
                  <a:cubicBezTo>
                    <a:pt x="612853" y="938938"/>
                    <a:pt x="613044" y="941985"/>
                    <a:pt x="613107" y="944970"/>
                  </a:cubicBezTo>
                  <a:cubicBezTo>
                    <a:pt x="529922" y="1001294"/>
                    <a:pt x="426544" y="1029298"/>
                    <a:pt x="328817" y="1008343"/>
                  </a:cubicBezTo>
                  <a:cubicBezTo>
                    <a:pt x="216867" y="984340"/>
                    <a:pt x="124601" y="898996"/>
                    <a:pt x="71960" y="797332"/>
                  </a:cubicBezTo>
                  <a:cubicBezTo>
                    <a:pt x="39829" y="735229"/>
                    <a:pt x="20842" y="667538"/>
                    <a:pt x="10619" y="598133"/>
                  </a:cubicBezTo>
                  <a:cubicBezTo>
                    <a:pt x="10619" y="598069"/>
                    <a:pt x="10619" y="598069"/>
                    <a:pt x="10619" y="598069"/>
                  </a:cubicBezTo>
                  <a:cubicBezTo>
                    <a:pt x="4078" y="553937"/>
                    <a:pt x="1030" y="509042"/>
                    <a:pt x="205" y="464529"/>
                  </a:cubicBezTo>
                  <a:cubicBezTo>
                    <a:pt x="-1383" y="376645"/>
                    <a:pt x="5857" y="287364"/>
                    <a:pt x="35892" y="204750"/>
                  </a:cubicBezTo>
                  <a:cubicBezTo>
                    <a:pt x="65991" y="122137"/>
                    <a:pt x="120855" y="46318"/>
                    <a:pt x="197817" y="3773"/>
                  </a:cubicBezTo>
                  <a:cubicBezTo>
                    <a:pt x="247474" y="-11086"/>
                    <a:pt x="319864" y="19711"/>
                    <a:pt x="344756" y="65177"/>
                  </a:cubicBezTo>
                  <a:cubicBezTo>
                    <a:pt x="369711" y="110644"/>
                    <a:pt x="369775" y="165888"/>
                    <a:pt x="360377" y="216879"/>
                  </a:cubicBezTo>
                  <a:cubicBezTo>
                    <a:pt x="350915" y="267806"/>
                    <a:pt x="332754" y="316828"/>
                    <a:pt x="322912" y="367819"/>
                  </a:cubicBezTo>
                  <a:cubicBezTo>
                    <a:pt x="306910" y="450750"/>
                    <a:pt x="313832" y="538125"/>
                    <a:pt x="342660" y="617564"/>
                  </a:cubicBezTo>
                  <a:cubicBezTo>
                    <a:pt x="358218" y="660426"/>
                    <a:pt x="382030" y="703098"/>
                    <a:pt x="421591" y="725832"/>
                  </a:cubicBezTo>
                  <a:cubicBezTo>
                    <a:pt x="448833" y="741453"/>
                    <a:pt x="480074" y="745135"/>
                    <a:pt x="510808" y="740119"/>
                  </a:cubicBezTo>
                  <a:cubicBezTo>
                    <a:pt x="543511" y="734785"/>
                    <a:pt x="575705" y="719418"/>
                    <a:pt x="601867" y="698019"/>
                  </a:cubicBezTo>
                  <a:cubicBezTo>
                    <a:pt x="606884" y="693954"/>
                    <a:pt x="611646" y="689636"/>
                    <a:pt x="616219" y="685191"/>
                  </a:cubicBezTo>
                  <a:cubicBezTo>
                    <a:pt x="617171" y="684239"/>
                    <a:pt x="618123" y="683286"/>
                    <a:pt x="619139" y="682270"/>
                  </a:cubicBezTo>
                  <a:cubicBezTo>
                    <a:pt x="667717" y="632296"/>
                    <a:pt x="693180" y="564541"/>
                    <a:pt x="717310" y="498946"/>
                  </a:cubicBezTo>
                  <a:lnTo>
                    <a:pt x="737186" y="519901"/>
                  </a:lnTo>
                  <a:lnTo>
                    <a:pt x="831229" y="619088"/>
                  </a:lnTo>
                  <a:lnTo>
                    <a:pt x="834785" y="6227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76" name="Freeform 39"/>
            <p:cNvSpPr/>
            <p:nvPr/>
          </p:nvSpPr>
          <p:spPr>
            <a:xfrm>
              <a:off x="2710080" y="2656440"/>
              <a:ext cx="297000" cy="477000"/>
            </a:xfrm>
            <a:custGeom>
              <a:avLst/>
              <a:gdLst/>
              <a:ahLst/>
              <a:rect l="l" t="t" r="r" b="b"/>
              <a:pathLst>
                <a:path w="382073" h="613063">
                  <a:moveTo>
                    <a:pt x="371983" y="140421"/>
                  </a:moveTo>
                  <a:cubicBezTo>
                    <a:pt x="338265" y="203349"/>
                    <a:pt x="266129" y="253070"/>
                    <a:pt x="195009" y="258721"/>
                  </a:cubicBezTo>
                  <a:cubicBezTo>
                    <a:pt x="207010" y="291106"/>
                    <a:pt x="195961" y="332571"/>
                    <a:pt x="171514" y="356892"/>
                  </a:cubicBezTo>
                  <a:cubicBezTo>
                    <a:pt x="188659" y="376196"/>
                    <a:pt x="198565" y="401787"/>
                    <a:pt x="198818" y="427631"/>
                  </a:cubicBezTo>
                  <a:cubicBezTo>
                    <a:pt x="199073" y="453412"/>
                    <a:pt x="188341" y="477288"/>
                    <a:pt x="171704" y="497037"/>
                  </a:cubicBezTo>
                  <a:cubicBezTo>
                    <a:pt x="172403" y="497545"/>
                    <a:pt x="171767" y="498942"/>
                    <a:pt x="170879" y="498688"/>
                  </a:cubicBezTo>
                  <a:cubicBezTo>
                    <a:pt x="153860" y="472716"/>
                    <a:pt x="126936" y="448332"/>
                    <a:pt x="99123" y="434426"/>
                  </a:cubicBezTo>
                  <a:cubicBezTo>
                    <a:pt x="81280" y="448396"/>
                    <a:pt x="72327" y="472399"/>
                    <a:pt x="75374" y="494814"/>
                  </a:cubicBezTo>
                  <a:cubicBezTo>
                    <a:pt x="78423" y="517293"/>
                    <a:pt x="92964" y="537550"/>
                    <a:pt x="112585" y="548789"/>
                  </a:cubicBezTo>
                  <a:cubicBezTo>
                    <a:pt x="132207" y="560029"/>
                    <a:pt x="159512" y="557806"/>
                    <a:pt x="181292" y="551710"/>
                  </a:cubicBezTo>
                  <a:cubicBezTo>
                    <a:pt x="195199" y="572348"/>
                    <a:pt x="213932" y="589175"/>
                    <a:pt x="235077" y="602320"/>
                  </a:cubicBezTo>
                  <a:lnTo>
                    <a:pt x="234505" y="603209"/>
                  </a:lnTo>
                  <a:cubicBezTo>
                    <a:pt x="221869" y="612924"/>
                    <a:pt x="204534" y="614766"/>
                    <a:pt x="188849" y="611718"/>
                  </a:cubicBezTo>
                  <a:cubicBezTo>
                    <a:pt x="173228" y="608733"/>
                    <a:pt x="161290" y="597748"/>
                    <a:pt x="147066" y="590509"/>
                  </a:cubicBezTo>
                  <a:cubicBezTo>
                    <a:pt x="122174" y="602066"/>
                    <a:pt x="90805" y="598065"/>
                    <a:pt x="69469" y="580920"/>
                  </a:cubicBezTo>
                  <a:cubicBezTo>
                    <a:pt x="69469" y="580920"/>
                    <a:pt x="0" y="556409"/>
                    <a:pt x="0" y="466239"/>
                  </a:cubicBezTo>
                  <a:cubicBezTo>
                    <a:pt x="52324" y="400644"/>
                    <a:pt x="89979" y="322856"/>
                    <a:pt x="116268" y="242846"/>
                  </a:cubicBezTo>
                  <a:lnTo>
                    <a:pt x="112776" y="239163"/>
                  </a:lnTo>
                  <a:lnTo>
                    <a:pt x="121603" y="218208"/>
                  </a:lnTo>
                  <a:lnTo>
                    <a:pt x="121666" y="218081"/>
                  </a:lnTo>
                  <a:cubicBezTo>
                    <a:pt x="130239" y="213636"/>
                    <a:pt x="138493" y="208556"/>
                    <a:pt x="146367" y="202968"/>
                  </a:cubicBezTo>
                  <a:cubicBezTo>
                    <a:pt x="148018" y="201825"/>
                    <a:pt x="149542" y="200682"/>
                    <a:pt x="151193" y="199476"/>
                  </a:cubicBezTo>
                  <a:cubicBezTo>
                    <a:pt x="151193" y="199476"/>
                    <a:pt x="151257" y="199412"/>
                    <a:pt x="151321" y="199412"/>
                  </a:cubicBezTo>
                  <a:cubicBezTo>
                    <a:pt x="154432" y="197063"/>
                    <a:pt x="157417" y="194649"/>
                    <a:pt x="160401" y="192173"/>
                  </a:cubicBezTo>
                  <a:cubicBezTo>
                    <a:pt x="160465" y="192110"/>
                    <a:pt x="160465" y="192110"/>
                    <a:pt x="160528" y="192046"/>
                  </a:cubicBezTo>
                  <a:cubicBezTo>
                    <a:pt x="163449" y="189570"/>
                    <a:pt x="166370" y="187030"/>
                    <a:pt x="169164" y="184363"/>
                  </a:cubicBezTo>
                  <a:cubicBezTo>
                    <a:pt x="170688" y="182966"/>
                    <a:pt x="172212" y="181442"/>
                    <a:pt x="173673" y="179981"/>
                  </a:cubicBezTo>
                  <a:cubicBezTo>
                    <a:pt x="175387" y="178330"/>
                    <a:pt x="177102" y="176552"/>
                    <a:pt x="178689" y="174838"/>
                  </a:cubicBezTo>
                  <a:cubicBezTo>
                    <a:pt x="180340" y="173123"/>
                    <a:pt x="181991" y="171345"/>
                    <a:pt x="183579" y="169567"/>
                  </a:cubicBezTo>
                  <a:cubicBezTo>
                    <a:pt x="184848" y="168170"/>
                    <a:pt x="186055" y="166710"/>
                    <a:pt x="187261" y="165313"/>
                  </a:cubicBezTo>
                  <a:cubicBezTo>
                    <a:pt x="189167" y="163090"/>
                    <a:pt x="191008" y="160804"/>
                    <a:pt x="192786" y="158518"/>
                  </a:cubicBezTo>
                  <a:cubicBezTo>
                    <a:pt x="194564" y="156296"/>
                    <a:pt x="196215" y="154010"/>
                    <a:pt x="197929" y="151724"/>
                  </a:cubicBezTo>
                  <a:cubicBezTo>
                    <a:pt x="199073" y="150136"/>
                    <a:pt x="200216" y="148549"/>
                    <a:pt x="201295" y="146961"/>
                  </a:cubicBezTo>
                  <a:cubicBezTo>
                    <a:pt x="202629" y="145120"/>
                    <a:pt x="203835" y="143278"/>
                    <a:pt x="204978" y="141500"/>
                  </a:cubicBezTo>
                  <a:cubicBezTo>
                    <a:pt x="205296" y="141119"/>
                    <a:pt x="205486" y="140738"/>
                    <a:pt x="205677" y="140357"/>
                  </a:cubicBezTo>
                  <a:cubicBezTo>
                    <a:pt x="206756" y="138833"/>
                    <a:pt x="207709" y="137246"/>
                    <a:pt x="208598" y="135658"/>
                  </a:cubicBezTo>
                  <a:cubicBezTo>
                    <a:pt x="209042" y="134960"/>
                    <a:pt x="209486" y="134261"/>
                    <a:pt x="209867" y="133499"/>
                  </a:cubicBezTo>
                  <a:cubicBezTo>
                    <a:pt x="210884" y="131848"/>
                    <a:pt x="211773" y="130261"/>
                    <a:pt x="212725" y="128546"/>
                  </a:cubicBezTo>
                  <a:cubicBezTo>
                    <a:pt x="213932" y="126451"/>
                    <a:pt x="215074" y="124355"/>
                    <a:pt x="216154" y="122196"/>
                  </a:cubicBezTo>
                  <a:cubicBezTo>
                    <a:pt x="217297" y="120037"/>
                    <a:pt x="218313" y="117942"/>
                    <a:pt x="219329" y="115783"/>
                  </a:cubicBezTo>
                  <a:cubicBezTo>
                    <a:pt x="219837" y="114767"/>
                    <a:pt x="220345" y="113687"/>
                    <a:pt x="220790" y="112671"/>
                  </a:cubicBezTo>
                  <a:cubicBezTo>
                    <a:pt x="223774" y="106194"/>
                    <a:pt x="226441" y="99717"/>
                    <a:pt x="228727" y="93049"/>
                  </a:cubicBezTo>
                  <a:cubicBezTo>
                    <a:pt x="229489" y="91145"/>
                    <a:pt x="230124" y="89113"/>
                    <a:pt x="230759" y="87081"/>
                  </a:cubicBezTo>
                  <a:cubicBezTo>
                    <a:pt x="230823" y="86954"/>
                    <a:pt x="230886" y="86827"/>
                    <a:pt x="230886" y="86699"/>
                  </a:cubicBezTo>
                  <a:cubicBezTo>
                    <a:pt x="231521" y="85049"/>
                    <a:pt x="232029" y="83334"/>
                    <a:pt x="232473" y="81620"/>
                  </a:cubicBezTo>
                  <a:cubicBezTo>
                    <a:pt x="234633" y="74508"/>
                    <a:pt x="236347" y="67268"/>
                    <a:pt x="237680" y="60030"/>
                  </a:cubicBezTo>
                  <a:cubicBezTo>
                    <a:pt x="237935" y="58760"/>
                    <a:pt x="238189" y="57490"/>
                    <a:pt x="238379" y="56156"/>
                  </a:cubicBezTo>
                  <a:cubicBezTo>
                    <a:pt x="238506" y="55013"/>
                    <a:pt x="238760" y="53870"/>
                    <a:pt x="238887" y="52727"/>
                  </a:cubicBezTo>
                  <a:cubicBezTo>
                    <a:pt x="239204" y="50886"/>
                    <a:pt x="239459" y="49044"/>
                    <a:pt x="239649" y="47139"/>
                  </a:cubicBezTo>
                  <a:cubicBezTo>
                    <a:pt x="239967" y="44917"/>
                    <a:pt x="240221" y="42694"/>
                    <a:pt x="240348" y="40408"/>
                  </a:cubicBezTo>
                  <a:cubicBezTo>
                    <a:pt x="240602" y="37868"/>
                    <a:pt x="240729" y="35392"/>
                    <a:pt x="240919" y="32852"/>
                  </a:cubicBezTo>
                  <a:cubicBezTo>
                    <a:pt x="245301" y="22057"/>
                    <a:pt x="249301" y="11135"/>
                    <a:pt x="253048" y="86"/>
                  </a:cubicBezTo>
                  <a:cubicBezTo>
                    <a:pt x="293878" y="-1438"/>
                    <a:pt x="335026" y="17485"/>
                    <a:pt x="360426" y="49489"/>
                  </a:cubicBezTo>
                  <a:cubicBezTo>
                    <a:pt x="370777" y="62570"/>
                    <a:pt x="378778" y="77873"/>
                    <a:pt x="381000" y="94383"/>
                  </a:cubicBezTo>
                  <a:cubicBezTo>
                    <a:pt x="383222" y="110957"/>
                    <a:pt x="382778" y="127784"/>
                    <a:pt x="371983" y="140421"/>
                  </a:cubicBez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77" name="Freeform 40"/>
            <p:cNvSpPr/>
            <p:nvPr/>
          </p:nvSpPr>
          <p:spPr>
            <a:xfrm>
              <a:off x="3004200" y="2913120"/>
              <a:ext cx="66960" cy="63360"/>
            </a:xfrm>
            <a:custGeom>
              <a:avLst/>
              <a:gdLst/>
              <a:ahLst/>
              <a:rect l="l" t="t" r="r" b="b"/>
              <a:pathLst>
                <a:path w="86106" h="81660">
                  <a:moveTo>
                    <a:pt x="60833" y="81661"/>
                  </a:moveTo>
                  <a:cubicBezTo>
                    <a:pt x="68580" y="77533"/>
                    <a:pt x="78360" y="73977"/>
                    <a:pt x="86106" y="69786"/>
                  </a:cubicBezTo>
                  <a:cubicBezTo>
                    <a:pt x="64516" y="39243"/>
                    <a:pt x="34354" y="14795"/>
                    <a:pt x="0" y="0"/>
                  </a:cubicBezTo>
                  <a:lnTo>
                    <a:pt x="60833" y="81661"/>
                  </a:lnTo>
                  <a:close/>
                </a:path>
              </a:pathLst>
            </a:custGeom>
            <a:solidFill>
              <a:srgbClr val="d16b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78" name="Freeform 41"/>
            <p:cNvSpPr/>
            <p:nvPr/>
          </p:nvSpPr>
          <p:spPr>
            <a:xfrm rot="20560800">
              <a:off x="3064680" y="3005640"/>
              <a:ext cx="57960" cy="84960"/>
            </a:xfrm>
            <a:custGeom>
              <a:avLst/>
              <a:gdLst/>
              <a:ahLst/>
              <a:rect l="l" t="t" r="r" b="b"/>
              <a:pathLst>
                <a:path w="74798" h="109594">
                  <a:moveTo>
                    <a:pt x="74798" y="54797"/>
                  </a:moveTo>
                  <a:cubicBezTo>
                    <a:pt x="74798" y="85061"/>
                    <a:pt x="58054" y="109595"/>
                    <a:pt x="37399" y="109595"/>
                  </a:cubicBezTo>
                  <a:cubicBezTo>
                    <a:pt x="16744" y="109595"/>
                    <a:pt x="-1" y="85061"/>
                    <a:pt x="-1" y="54797"/>
                  </a:cubicBezTo>
                  <a:cubicBezTo>
                    <a:pt x="-1" y="24534"/>
                    <a:pt x="16744" y="0"/>
                    <a:pt x="37399" y="0"/>
                  </a:cubicBezTo>
                  <a:cubicBezTo>
                    <a:pt x="58054" y="0"/>
                    <a:pt x="74798" y="24533"/>
                    <a:pt x="74798" y="54797"/>
                  </a:cubicBezTo>
                  <a:close/>
                </a:path>
              </a:pathLst>
            </a:custGeom>
            <a:solidFill>
              <a:srgbClr val="d16b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79" name="Freeform 42"/>
            <p:cNvSpPr/>
            <p:nvPr/>
          </p:nvSpPr>
          <p:spPr>
            <a:xfrm>
              <a:off x="2933640" y="2933280"/>
              <a:ext cx="13680" cy="18000"/>
            </a:xfrm>
            <a:custGeom>
              <a:avLst/>
              <a:gdLst/>
              <a:ahLst/>
              <a:rect l="l" t="t" r="r" b="b"/>
              <a:pathLst>
                <a:path w="17906" h="23177">
                  <a:moveTo>
                    <a:pt x="0" y="0"/>
                  </a:moveTo>
                  <a:cubicBezTo>
                    <a:pt x="5969" y="7747"/>
                    <a:pt x="11938" y="15430"/>
                    <a:pt x="17907" y="23177"/>
                  </a:cubicBezTo>
                </a:path>
              </a:pathLst>
            </a:custGeom>
            <a:solidFill>
              <a:srgbClr val="f6a5a6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80" name="Freeform 43"/>
            <p:cNvSpPr/>
            <p:nvPr/>
          </p:nvSpPr>
          <p:spPr>
            <a:xfrm>
              <a:off x="3027240" y="2882160"/>
              <a:ext cx="12240" cy="15480"/>
            </a:xfrm>
            <a:custGeom>
              <a:avLst/>
              <a:gdLst/>
              <a:ahLst/>
              <a:rect l="l" t="t" r="r" b="b"/>
              <a:pathLst>
                <a:path w="15811" h="20002">
                  <a:moveTo>
                    <a:pt x="0" y="0"/>
                  </a:moveTo>
                  <a:cubicBezTo>
                    <a:pt x="5271" y="6667"/>
                    <a:pt x="10541" y="13335"/>
                    <a:pt x="15811" y="20002"/>
                  </a:cubicBezTo>
                </a:path>
              </a:pathLst>
            </a:custGeom>
            <a:solidFill>
              <a:srgbClr val="f6a5a6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81" name="Freeform 44"/>
            <p:cNvSpPr/>
            <p:nvPr/>
          </p:nvSpPr>
          <p:spPr>
            <a:xfrm>
              <a:off x="2895480" y="2887920"/>
              <a:ext cx="25920" cy="42480"/>
            </a:xfrm>
            <a:custGeom>
              <a:avLst/>
              <a:gdLst/>
              <a:ahLst/>
              <a:rect l="l" t="t" r="r" b="b"/>
              <a:pathLst>
                <a:path w="33351" h="54991">
                  <a:moveTo>
                    <a:pt x="14" y="54991"/>
                  </a:moveTo>
                  <a:cubicBezTo>
                    <a:pt x="-494" y="32385"/>
                    <a:pt x="13031" y="9970"/>
                    <a:pt x="33351" y="0"/>
                  </a:cubicBezTo>
                </a:path>
              </a:pathLst>
            </a:custGeom>
            <a:solidFill>
              <a:srgbClr val="f6a5a6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82" name="Freeform 45"/>
            <p:cNvSpPr/>
            <p:nvPr/>
          </p:nvSpPr>
          <p:spPr>
            <a:xfrm>
              <a:off x="3001680" y="2844360"/>
              <a:ext cx="38160" cy="11520"/>
            </a:xfrm>
            <a:custGeom>
              <a:avLst/>
              <a:gdLst/>
              <a:ahLst/>
              <a:rect l="l" t="t" r="r" b="b"/>
              <a:pathLst>
                <a:path w="49466" h="15049">
                  <a:moveTo>
                    <a:pt x="0" y="1651"/>
                  </a:moveTo>
                  <a:cubicBezTo>
                    <a:pt x="17273" y="-2985"/>
                    <a:pt x="36894" y="2349"/>
                    <a:pt x="49467" y="15049"/>
                  </a:cubicBezTo>
                </a:path>
              </a:pathLst>
            </a:custGeom>
            <a:solidFill>
              <a:srgbClr val="f6a5a6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83" name="Freeform 46"/>
            <p:cNvSpPr/>
            <p:nvPr/>
          </p:nvSpPr>
          <p:spPr>
            <a:xfrm>
              <a:off x="2578680" y="2733480"/>
              <a:ext cx="154800" cy="157680"/>
            </a:xfrm>
            <a:custGeom>
              <a:avLst/>
              <a:gdLst/>
              <a:ahLst/>
              <a:rect l="l" t="t" r="r" b="b"/>
              <a:pathLst>
                <a:path w="199263" h="203009">
                  <a:moveTo>
                    <a:pt x="199263" y="17018"/>
                  </a:moveTo>
                  <a:lnTo>
                    <a:pt x="187261" y="40640"/>
                  </a:lnTo>
                  <a:lnTo>
                    <a:pt x="167386" y="19685"/>
                  </a:lnTo>
                  <a:cubicBezTo>
                    <a:pt x="143256" y="85344"/>
                    <a:pt x="117729" y="153035"/>
                    <a:pt x="69215" y="203010"/>
                  </a:cubicBezTo>
                  <a:lnTo>
                    <a:pt x="49911" y="171132"/>
                  </a:lnTo>
                  <a:lnTo>
                    <a:pt x="0" y="88710"/>
                  </a:lnTo>
                  <a:lnTo>
                    <a:pt x="46164" y="67754"/>
                  </a:lnTo>
                  <a:lnTo>
                    <a:pt x="195516" y="0"/>
                  </a:lnTo>
                  <a:cubicBezTo>
                    <a:pt x="196596" y="5715"/>
                    <a:pt x="197866" y="11430"/>
                    <a:pt x="199263" y="17018"/>
                  </a:cubicBezTo>
                  <a:close/>
                </a:path>
              </a:pathLst>
            </a:custGeom>
            <a:solidFill>
              <a:srgbClr val="50b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84" name="Freeform 47"/>
            <p:cNvSpPr/>
            <p:nvPr/>
          </p:nvSpPr>
          <p:spPr>
            <a:xfrm>
              <a:off x="2892240" y="3124800"/>
              <a:ext cx="251280" cy="149760"/>
            </a:xfrm>
            <a:custGeom>
              <a:avLst/>
              <a:gdLst/>
              <a:ahLst/>
              <a:rect l="l" t="t" r="r" b="b"/>
              <a:pathLst>
                <a:path w="323267" h="192525">
                  <a:moveTo>
                    <a:pt x="315404" y="159957"/>
                  </a:moveTo>
                  <a:cubicBezTo>
                    <a:pt x="305372" y="174498"/>
                    <a:pt x="287211" y="180721"/>
                    <a:pt x="270065" y="184658"/>
                  </a:cubicBezTo>
                  <a:cubicBezTo>
                    <a:pt x="239459" y="191643"/>
                    <a:pt x="207963" y="193929"/>
                    <a:pt x="176721" y="191707"/>
                  </a:cubicBezTo>
                  <a:cubicBezTo>
                    <a:pt x="176721" y="191707"/>
                    <a:pt x="176657" y="191643"/>
                    <a:pt x="176593" y="191643"/>
                  </a:cubicBezTo>
                  <a:cubicBezTo>
                    <a:pt x="164211" y="190817"/>
                    <a:pt x="151828" y="189230"/>
                    <a:pt x="139637" y="186880"/>
                  </a:cubicBezTo>
                  <a:lnTo>
                    <a:pt x="86487" y="116078"/>
                  </a:lnTo>
                  <a:lnTo>
                    <a:pt x="0" y="889"/>
                  </a:lnTo>
                  <a:lnTo>
                    <a:pt x="572" y="0"/>
                  </a:lnTo>
                  <a:cubicBezTo>
                    <a:pt x="17717" y="10668"/>
                    <a:pt x="36576" y="18860"/>
                    <a:pt x="55943" y="24574"/>
                  </a:cubicBezTo>
                  <a:cubicBezTo>
                    <a:pt x="99187" y="37402"/>
                    <a:pt x="144971" y="38989"/>
                    <a:pt x="189928" y="36767"/>
                  </a:cubicBezTo>
                  <a:cubicBezTo>
                    <a:pt x="216916" y="35433"/>
                    <a:pt x="244158" y="32639"/>
                    <a:pt x="269875" y="24829"/>
                  </a:cubicBezTo>
                  <a:lnTo>
                    <a:pt x="300609" y="69152"/>
                  </a:lnTo>
                  <a:cubicBezTo>
                    <a:pt x="305689" y="77152"/>
                    <a:pt x="310388" y="86677"/>
                    <a:pt x="314262" y="96266"/>
                  </a:cubicBezTo>
                  <a:cubicBezTo>
                    <a:pt x="316865" y="102489"/>
                    <a:pt x="318961" y="108839"/>
                    <a:pt x="320675" y="114745"/>
                  </a:cubicBezTo>
                  <a:cubicBezTo>
                    <a:pt x="324993" y="129858"/>
                    <a:pt x="324358" y="147066"/>
                    <a:pt x="315404" y="159957"/>
                  </a:cubicBezTo>
                  <a:close/>
                </a:path>
              </a:pathLst>
            </a:custGeom>
            <a:solidFill>
              <a:srgbClr val="f6a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85" name="Freeform 48"/>
            <p:cNvSpPr/>
            <p:nvPr/>
          </p:nvSpPr>
          <p:spPr>
            <a:xfrm>
              <a:off x="2939400" y="3270240"/>
              <a:ext cx="766800" cy="698400"/>
            </a:xfrm>
            <a:custGeom>
              <a:avLst/>
              <a:gdLst/>
              <a:ahLst/>
              <a:rect l="l" t="t" r="r" b="b"/>
              <a:pathLst>
                <a:path w="985671" h="897925">
                  <a:moveTo>
                    <a:pt x="985671" y="819086"/>
                  </a:moveTo>
                  <a:cubicBezTo>
                    <a:pt x="974940" y="824675"/>
                    <a:pt x="964335" y="829882"/>
                    <a:pt x="953794" y="834834"/>
                  </a:cubicBezTo>
                  <a:cubicBezTo>
                    <a:pt x="893278" y="863155"/>
                    <a:pt x="835875" y="881126"/>
                    <a:pt x="781455" y="890333"/>
                  </a:cubicBezTo>
                  <a:cubicBezTo>
                    <a:pt x="755674" y="894715"/>
                    <a:pt x="730591" y="897064"/>
                    <a:pt x="706144" y="897763"/>
                  </a:cubicBezTo>
                  <a:cubicBezTo>
                    <a:pt x="671283" y="898652"/>
                    <a:pt x="637691" y="895858"/>
                    <a:pt x="605433" y="890016"/>
                  </a:cubicBezTo>
                  <a:cubicBezTo>
                    <a:pt x="605370" y="890016"/>
                    <a:pt x="605370" y="890016"/>
                    <a:pt x="605306" y="890016"/>
                  </a:cubicBezTo>
                  <a:cubicBezTo>
                    <a:pt x="511009" y="872934"/>
                    <a:pt x="427887" y="829437"/>
                    <a:pt x="355053" y="772287"/>
                  </a:cubicBezTo>
                  <a:cubicBezTo>
                    <a:pt x="229577" y="673862"/>
                    <a:pt x="134644" y="535369"/>
                    <a:pt x="65810" y="422656"/>
                  </a:cubicBezTo>
                  <a:cubicBezTo>
                    <a:pt x="7391" y="327025"/>
                    <a:pt x="-5247" y="243586"/>
                    <a:pt x="1739" y="176721"/>
                  </a:cubicBezTo>
                  <a:cubicBezTo>
                    <a:pt x="8724" y="109664"/>
                    <a:pt x="35521" y="59245"/>
                    <a:pt x="55714" y="29782"/>
                  </a:cubicBezTo>
                  <a:cubicBezTo>
                    <a:pt x="69049" y="10350"/>
                    <a:pt x="79463" y="0"/>
                    <a:pt x="79463" y="0"/>
                  </a:cubicBezTo>
                  <a:cubicBezTo>
                    <a:pt x="92036" y="0"/>
                    <a:pt x="104354" y="1651"/>
                    <a:pt x="116420" y="4763"/>
                  </a:cubicBezTo>
                  <a:cubicBezTo>
                    <a:pt x="116483" y="4763"/>
                    <a:pt x="116547" y="4826"/>
                    <a:pt x="116547" y="4826"/>
                  </a:cubicBezTo>
                  <a:cubicBezTo>
                    <a:pt x="190270" y="23876"/>
                    <a:pt x="253897" y="96139"/>
                    <a:pt x="288886" y="164274"/>
                  </a:cubicBezTo>
                  <a:cubicBezTo>
                    <a:pt x="336320" y="256858"/>
                    <a:pt x="337844" y="366077"/>
                    <a:pt x="372769" y="464058"/>
                  </a:cubicBezTo>
                  <a:cubicBezTo>
                    <a:pt x="412140" y="574675"/>
                    <a:pt x="495578" y="668909"/>
                    <a:pt x="600671" y="721423"/>
                  </a:cubicBezTo>
                  <a:cubicBezTo>
                    <a:pt x="705700" y="773875"/>
                    <a:pt x="837462" y="784923"/>
                    <a:pt x="949540" y="749998"/>
                  </a:cubicBezTo>
                  <a:lnTo>
                    <a:pt x="984401" y="816420"/>
                  </a:lnTo>
                  <a:lnTo>
                    <a:pt x="985671" y="819086"/>
                  </a:lnTo>
                  <a:close/>
                </a:path>
              </a:pathLst>
            </a:custGeom>
            <a:solidFill>
              <a:srgbClr val="fe6b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86" name="Freeform 49"/>
            <p:cNvSpPr/>
            <p:nvPr/>
          </p:nvSpPr>
          <p:spPr>
            <a:xfrm>
              <a:off x="3678120" y="3782160"/>
              <a:ext cx="199440" cy="123840"/>
            </a:xfrm>
            <a:custGeom>
              <a:avLst/>
              <a:gdLst/>
              <a:ahLst/>
              <a:rect l="l" t="t" r="r" b="b"/>
              <a:pathLst>
                <a:path w="256355" h="159149">
                  <a:moveTo>
                    <a:pt x="242315" y="112455"/>
                  </a:moveTo>
                  <a:lnTo>
                    <a:pt x="242315" y="112455"/>
                  </a:lnTo>
                  <a:cubicBezTo>
                    <a:pt x="235267" y="119441"/>
                    <a:pt x="226695" y="125092"/>
                    <a:pt x="219202" y="127759"/>
                  </a:cubicBezTo>
                  <a:cubicBezTo>
                    <a:pt x="191897" y="137284"/>
                    <a:pt x="162178" y="118043"/>
                    <a:pt x="133477" y="121727"/>
                  </a:cubicBezTo>
                  <a:cubicBezTo>
                    <a:pt x="113602" y="124203"/>
                    <a:pt x="96965" y="137157"/>
                    <a:pt x="79565" y="147127"/>
                  </a:cubicBezTo>
                  <a:cubicBezTo>
                    <a:pt x="65977" y="154873"/>
                    <a:pt x="49720" y="160906"/>
                    <a:pt x="34861" y="158684"/>
                  </a:cubicBezTo>
                  <a:lnTo>
                    <a:pt x="0" y="92262"/>
                  </a:lnTo>
                  <a:cubicBezTo>
                    <a:pt x="8318" y="70165"/>
                    <a:pt x="16954" y="46288"/>
                    <a:pt x="32131" y="28191"/>
                  </a:cubicBezTo>
                  <a:cubicBezTo>
                    <a:pt x="47307" y="10093"/>
                    <a:pt x="70612" y="-2924"/>
                    <a:pt x="93980" y="568"/>
                  </a:cubicBezTo>
                  <a:cubicBezTo>
                    <a:pt x="91630" y="5204"/>
                    <a:pt x="89344" y="9840"/>
                    <a:pt x="87058" y="14538"/>
                  </a:cubicBezTo>
                  <a:cubicBezTo>
                    <a:pt x="100647" y="9078"/>
                    <a:pt x="114300" y="6665"/>
                    <a:pt x="128143" y="6601"/>
                  </a:cubicBezTo>
                  <a:cubicBezTo>
                    <a:pt x="145288" y="6537"/>
                    <a:pt x="162623" y="10157"/>
                    <a:pt x="179768" y="15999"/>
                  </a:cubicBezTo>
                  <a:cubicBezTo>
                    <a:pt x="210693" y="26603"/>
                    <a:pt x="237553" y="48638"/>
                    <a:pt x="254000" y="76959"/>
                  </a:cubicBezTo>
                  <a:cubicBezTo>
                    <a:pt x="260286" y="87691"/>
                    <a:pt x="253174" y="101660"/>
                    <a:pt x="242315" y="112455"/>
                  </a:cubicBezTo>
                  <a:close/>
                </a:path>
              </a:pathLst>
            </a:custGeom>
            <a:solidFill>
              <a:srgbClr val="f6a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87" name="Freeform 50"/>
            <p:cNvSpPr/>
            <p:nvPr/>
          </p:nvSpPr>
          <p:spPr>
            <a:xfrm>
              <a:off x="3029760" y="3198240"/>
              <a:ext cx="747720" cy="671400"/>
            </a:xfrm>
            <a:custGeom>
              <a:avLst/>
              <a:gdLst/>
              <a:ahLst/>
              <a:rect l="l" t="t" r="r" b="b"/>
              <a:pathLst>
                <a:path w="961072" h="862904">
                  <a:moveTo>
                    <a:pt x="920052" y="765006"/>
                  </a:moveTo>
                  <a:cubicBezTo>
                    <a:pt x="922338" y="760308"/>
                    <a:pt x="924623" y="755672"/>
                    <a:pt x="926973" y="751036"/>
                  </a:cubicBezTo>
                  <a:cubicBezTo>
                    <a:pt x="903605" y="747608"/>
                    <a:pt x="880301" y="760561"/>
                    <a:pt x="865124" y="778659"/>
                  </a:cubicBezTo>
                  <a:cubicBezTo>
                    <a:pt x="849947" y="796756"/>
                    <a:pt x="841311" y="820633"/>
                    <a:pt x="832993" y="842730"/>
                  </a:cubicBezTo>
                  <a:cubicBezTo>
                    <a:pt x="720916" y="877655"/>
                    <a:pt x="589153" y="866670"/>
                    <a:pt x="484124" y="814155"/>
                  </a:cubicBezTo>
                  <a:cubicBezTo>
                    <a:pt x="379095" y="761704"/>
                    <a:pt x="295593" y="667471"/>
                    <a:pt x="256222" y="556790"/>
                  </a:cubicBezTo>
                  <a:cubicBezTo>
                    <a:pt x="221297" y="458809"/>
                    <a:pt x="219773" y="349590"/>
                    <a:pt x="172339" y="257006"/>
                  </a:cubicBezTo>
                  <a:cubicBezTo>
                    <a:pt x="137414" y="188871"/>
                    <a:pt x="73723" y="116608"/>
                    <a:pt x="0" y="97558"/>
                  </a:cubicBezTo>
                  <a:cubicBezTo>
                    <a:pt x="31242" y="99780"/>
                    <a:pt x="62802" y="97431"/>
                    <a:pt x="93345" y="90509"/>
                  </a:cubicBezTo>
                  <a:cubicBezTo>
                    <a:pt x="110490" y="86572"/>
                    <a:pt x="128715" y="80349"/>
                    <a:pt x="138684" y="65808"/>
                  </a:cubicBezTo>
                  <a:cubicBezTo>
                    <a:pt x="147638" y="52917"/>
                    <a:pt x="148209" y="35709"/>
                    <a:pt x="144018" y="20659"/>
                  </a:cubicBezTo>
                  <a:cubicBezTo>
                    <a:pt x="142367" y="14690"/>
                    <a:pt x="140208" y="8404"/>
                    <a:pt x="137605" y="2181"/>
                  </a:cubicBezTo>
                  <a:cubicBezTo>
                    <a:pt x="137605" y="2181"/>
                    <a:pt x="369380" y="-37316"/>
                    <a:pt x="581216" y="219859"/>
                  </a:cubicBezTo>
                  <a:cubicBezTo>
                    <a:pt x="678625" y="338096"/>
                    <a:pt x="766826" y="461222"/>
                    <a:pt x="833565" y="559647"/>
                  </a:cubicBezTo>
                  <a:cubicBezTo>
                    <a:pt x="884745" y="635149"/>
                    <a:pt x="923417" y="696172"/>
                    <a:pt x="944182" y="729446"/>
                  </a:cubicBezTo>
                  <a:lnTo>
                    <a:pt x="944182" y="729510"/>
                  </a:lnTo>
                  <a:cubicBezTo>
                    <a:pt x="955231" y="747163"/>
                    <a:pt x="961072" y="757069"/>
                    <a:pt x="961072" y="757069"/>
                  </a:cubicBezTo>
                  <a:cubicBezTo>
                    <a:pt x="947293" y="757133"/>
                    <a:pt x="933641" y="759546"/>
                    <a:pt x="920052" y="76500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88" name="Freeform 51"/>
            <p:cNvSpPr/>
            <p:nvPr/>
          </p:nvSpPr>
          <p:spPr>
            <a:xfrm>
              <a:off x="3678480" y="3633840"/>
              <a:ext cx="208440" cy="145440"/>
            </a:xfrm>
            <a:custGeom>
              <a:avLst/>
              <a:gdLst/>
              <a:ahLst/>
              <a:rect l="l" t="t" r="r" b="b"/>
              <a:pathLst>
                <a:path w="268038" h="187338">
                  <a:moveTo>
                    <a:pt x="260731" y="138493"/>
                  </a:moveTo>
                  <a:cubicBezTo>
                    <a:pt x="258445" y="147892"/>
                    <a:pt x="256159" y="157290"/>
                    <a:pt x="253873" y="166688"/>
                  </a:cubicBezTo>
                  <a:cubicBezTo>
                    <a:pt x="253746" y="167068"/>
                    <a:pt x="253682" y="167449"/>
                    <a:pt x="253555" y="167830"/>
                  </a:cubicBezTo>
                  <a:cubicBezTo>
                    <a:pt x="252031" y="174054"/>
                    <a:pt x="250507" y="180404"/>
                    <a:pt x="248983" y="186627"/>
                  </a:cubicBezTo>
                  <a:cubicBezTo>
                    <a:pt x="202311" y="189484"/>
                    <a:pt x="155194" y="183705"/>
                    <a:pt x="110617" y="169863"/>
                  </a:cubicBezTo>
                  <a:lnTo>
                    <a:pt x="110617" y="169799"/>
                  </a:lnTo>
                  <a:cubicBezTo>
                    <a:pt x="89916" y="136461"/>
                    <a:pt x="51244" y="75438"/>
                    <a:pt x="0" y="0"/>
                  </a:cubicBezTo>
                  <a:cubicBezTo>
                    <a:pt x="81153" y="47435"/>
                    <a:pt x="173482" y="75692"/>
                    <a:pt x="267335" y="81217"/>
                  </a:cubicBezTo>
                  <a:cubicBezTo>
                    <a:pt x="267526" y="82677"/>
                    <a:pt x="267716" y="84138"/>
                    <a:pt x="267779" y="85661"/>
                  </a:cubicBezTo>
                  <a:cubicBezTo>
                    <a:pt x="269177" y="102679"/>
                    <a:pt x="264668" y="122301"/>
                    <a:pt x="260731" y="138493"/>
                  </a:cubicBezTo>
                  <a:close/>
                </a:path>
              </a:pathLst>
            </a:custGeom>
            <a:solidFill>
              <a:srgbClr val="d14b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89" name="Freeform 52"/>
            <p:cNvSpPr/>
            <p:nvPr/>
          </p:nvSpPr>
          <p:spPr>
            <a:xfrm>
              <a:off x="3875760" y="3690720"/>
              <a:ext cx="175320" cy="111600"/>
            </a:xfrm>
            <a:custGeom>
              <a:avLst/>
              <a:gdLst/>
              <a:ahLst/>
              <a:rect l="l" t="t" r="r" b="b"/>
              <a:pathLst>
                <a:path w="225698" h="143702">
                  <a:moveTo>
                    <a:pt x="225679" y="112572"/>
                  </a:moveTo>
                  <a:cubicBezTo>
                    <a:pt x="225298" y="121589"/>
                    <a:pt x="220028" y="130924"/>
                    <a:pt x="211455" y="133591"/>
                  </a:cubicBezTo>
                  <a:cubicBezTo>
                    <a:pt x="202819" y="136258"/>
                    <a:pt x="199199" y="129908"/>
                    <a:pt x="192786" y="120573"/>
                  </a:cubicBezTo>
                  <a:cubicBezTo>
                    <a:pt x="161925" y="103047"/>
                    <a:pt x="126111" y="94347"/>
                    <a:pt x="90615" y="95872"/>
                  </a:cubicBezTo>
                  <a:cubicBezTo>
                    <a:pt x="89536" y="95935"/>
                    <a:pt x="88456" y="95999"/>
                    <a:pt x="87376" y="96062"/>
                  </a:cubicBezTo>
                  <a:cubicBezTo>
                    <a:pt x="85472" y="101269"/>
                    <a:pt x="88647" y="107937"/>
                    <a:pt x="93345" y="111556"/>
                  </a:cubicBezTo>
                  <a:cubicBezTo>
                    <a:pt x="98806" y="115747"/>
                    <a:pt x="105855" y="117525"/>
                    <a:pt x="111506" y="121589"/>
                  </a:cubicBezTo>
                  <a:cubicBezTo>
                    <a:pt x="117158" y="125590"/>
                    <a:pt x="121159" y="133718"/>
                    <a:pt x="117222" y="139369"/>
                  </a:cubicBezTo>
                  <a:cubicBezTo>
                    <a:pt x="113030" y="145402"/>
                    <a:pt x="103886" y="144005"/>
                    <a:pt x="96774" y="141909"/>
                  </a:cubicBezTo>
                  <a:cubicBezTo>
                    <a:pt x="86361" y="138861"/>
                    <a:pt x="76073" y="135750"/>
                    <a:pt x="65660" y="132702"/>
                  </a:cubicBezTo>
                  <a:cubicBezTo>
                    <a:pt x="64389" y="132321"/>
                    <a:pt x="63056" y="131940"/>
                    <a:pt x="61785" y="131559"/>
                  </a:cubicBezTo>
                  <a:cubicBezTo>
                    <a:pt x="46673" y="127114"/>
                    <a:pt x="31369" y="122478"/>
                    <a:pt x="18352" y="113652"/>
                  </a:cubicBezTo>
                  <a:cubicBezTo>
                    <a:pt x="10985" y="108635"/>
                    <a:pt x="4445" y="102031"/>
                    <a:pt x="0" y="94411"/>
                  </a:cubicBezTo>
                  <a:cubicBezTo>
                    <a:pt x="127" y="94030"/>
                    <a:pt x="191" y="93649"/>
                    <a:pt x="318" y="93268"/>
                  </a:cubicBezTo>
                  <a:cubicBezTo>
                    <a:pt x="2604" y="83870"/>
                    <a:pt x="4890" y="74472"/>
                    <a:pt x="7176" y="65074"/>
                  </a:cubicBezTo>
                  <a:cubicBezTo>
                    <a:pt x="11113" y="48882"/>
                    <a:pt x="15622" y="29197"/>
                    <a:pt x="14224" y="12178"/>
                  </a:cubicBezTo>
                  <a:cubicBezTo>
                    <a:pt x="30544" y="5447"/>
                    <a:pt x="48006" y="1447"/>
                    <a:pt x="65660" y="368"/>
                  </a:cubicBezTo>
                  <a:cubicBezTo>
                    <a:pt x="85472" y="-966"/>
                    <a:pt x="105473" y="1320"/>
                    <a:pt x="124461" y="7353"/>
                  </a:cubicBezTo>
                  <a:cubicBezTo>
                    <a:pt x="146114" y="14274"/>
                    <a:pt x="166180" y="25958"/>
                    <a:pt x="183007" y="41135"/>
                  </a:cubicBezTo>
                  <a:cubicBezTo>
                    <a:pt x="197422" y="54025"/>
                    <a:pt x="209550" y="69519"/>
                    <a:pt x="218440" y="86728"/>
                  </a:cubicBezTo>
                  <a:cubicBezTo>
                    <a:pt x="220853" y="91490"/>
                    <a:pt x="223139" y="96507"/>
                    <a:pt x="224410" y="101714"/>
                  </a:cubicBezTo>
                  <a:cubicBezTo>
                    <a:pt x="225298" y="105333"/>
                    <a:pt x="225806" y="108889"/>
                    <a:pt x="225679" y="112572"/>
                  </a:cubicBezTo>
                  <a:close/>
                </a:path>
              </a:pathLst>
            </a:custGeom>
            <a:solidFill>
              <a:srgbClr val="f6a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90" name="Freeform 53"/>
            <p:cNvSpPr/>
            <p:nvPr/>
          </p:nvSpPr>
          <p:spPr>
            <a:xfrm>
              <a:off x="2905920" y="3215160"/>
              <a:ext cx="94680" cy="100080"/>
            </a:xfrm>
            <a:custGeom>
              <a:avLst/>
              <a:gdLst/>
              <a:ahLst/>
              <a:rect l="l" t="t" r="r" b="b"/>
              <a:pathLst>
                <a:path w="122110" h="128651">
                  <a:moveTo>
                    <a:pt x="122111" y="70802"/>
                  </a:moveTo>
                  <a:cubicBezTo>
                    <a:pt x="122111" y="70802"/>
                    <a:pt x="111697" y="81089"/>
                    <a:pt x="98362" y="100584"/>
                  </a:cubicBezTo>
                  <a:lnTo>
                    <a:pt x="47625" y="128651"/>
                  </a:lnTo>
                  <a:lnTo>
                    <a:pt x="0" y="52070"/>
                  </a:lnTo>
                  <a:lnTo>
                    <a:pt x="68961" y="0"/>
                  </a:lnTo>
                  <a:lnTo>
                    <a:pt x="122111" y="70802"/>
                  </a:lnTo>
                  <a:close/>
                </a:path>
              </a:pathLst>
            </a:custGeom>
            <a:solidFill>
              <a:srgbClr val="e2e3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91" name="Freeform 54"/>
            <p:cNvSpPr/>
            <p:nvPr/>
          </p:nvSpPr>
          <p:spPr>
            <a:xfrm>
              <a:off x="2764080" y="3108240"/>
              <a:ext cx="195480" cy="194040"/>
            </a:xfrm>
            <a:custGeom>
              <a:avLst/>
              <a:gdLst/>
              <a:ahLst/>
              <a:rect l="l" t="t" r="r" b="b"/>
              <a:pathLst>
                <a:path w="251523" h="249745">
                  <a:moveTo>
                    <a:pt x="251524" y="137414"/>
                  </a:moveTo>
                  <a:lnTo>
                    <a:pt x="182563" y="189484"/>
                  </a:lnTo>
                  <a:lnTo>
                    <a:pt x="102807" y="249745"/>
                  </a:lnTo>
                  <a:cubicBezTo>
                    <a:pt x="119698" y="233997"/>
                    <a:pt x="125476" y="207200"/>
                    <a:pt x="111887" y="184785"/>
                  </a:cubicBezTo>
                  <a:lnTo>
                    <a:pt x="0" y="0"/>
                  </a:lnTo>
                  <a:cubicBezTo>
                    <a:pt x="21336" y="17145"/>
                    <a:pt x="52705" y="21209"/>
                    <a:pt x="77597" y="9588"/>
                  </a:cubicBezTo>
                  <a:cubicBezTo>
                    <a:pt x="91885" y="16827"/>
                    <a:pt x="103759" y="27749"/>
                    <a:pt x="119380" y="30797"/>
                  </a:cubicBezTo>
                  <a:cubicBezTo>
                    <a:pt x="135065" y="33782"/>
                    <a:pt x="152400" y="31940"/>
                    <a:pt x="165036" y="22288"/>
                  </a:cubicBezTo>
                  <a:lnTo>
                    <a:pt x="251524" y="137414"/>
                  </a:lnTo>
                  <a:close/>
                </a:path>
              </a:pathLst>
            </a:custGeom>
            <a:solidFill>
              <a:srgbClr val="50b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92" name="Freeform 55"/>
            <p:cNvSpPr/>
            <p:nvPr/>
          </p:nvSpPr>
          <p:spPr>
            <a:xfrm>
              <a:off x="3281040" y="3947760"/>
              <a:ext cx="570600" cy="155880"/>
            </a:xfrm>
            <a:custGeom>
              <a:avLst/>
              <a:gdLst/>
              <a:ahLst/>
              <a:rect l="l" t="t" r="r" b="b"/>
              <a:pathLst>
                <a:path w="733420" h="200731">
                  <a:moveTo>
                    <a:pt x="733420" y="93227"/>
                  </a:moveTo>
                  <a:lnTo>
                    <a:pt x="316416" y="155012"/>
                  </a:lnTo>
                  <a:cubicBezTo>
                    <a:pt x="316416" y="155012"/>
                    <a:pt x="316226" y="155075"/>
                    <a:pt x="315844" y="155139"/>
                  </a:cubicBezTo>
                  <a:cubicBezTo>
                    <a:pt x="315718" y="155202"/>
                    <a:pt x="315464" y="155202"/>
                    <a:pt x="315209" y="155266"/>
                  </a:cubicBezTo>
                  <a:cubicBezTo>
                    <a:pt x="314956" y="155329"/>
                    <a:pt x="314702" y="155393"/>
                    <a:pt x="314320" y="155393"/>
                  </a:cubicBezTo>
                  <a:lnTo>
                    <a:pt x="7933" y="200732"/>
                  </a:lnTo>
                  <a:cubicBezTo>
                    <a:pt x="7933" y="200732"/>
                    <a:pt x="-7561" y="172983"/>
                    <a:pt x="4758" y="139327"/>
                  </a:cubicBezTo>
                  <a:cubicBezTo>
                    <a:pt x="4758" y="139327"/>
                    <a:pt x="4758" y="139200"/>
                    <a:pt x="4821" y="139010"/>
                  </a:cubicBezTo>
                  <a:cubicBezTo>
                    <a:pt x="5520" y="137105"/>
                    <a:pt x="6345" y="135073"/>
                    <a:pt x="7298" y="133041"/>
                  </a:cubicBezTo>
                  <a:cubicBezTo>
                    <a:pt x="7743" y="132025"/>
                    <a:pt x="8251" y="131072"/>
                    <a:pt x="8758" y="130056"/>
                  </a:cubicBezTo>
                  <a:cubicBezTo>
                    <a:pt x="9203" y="129104"/>
                    <a:pt x="9711" y="128152"/>
                    <a:pt x="10282" y="127199"/>
                  </a:cubicBezTo>
                  <a:cubicBezTo>
                    <a:pt x="10664" y="126500"/>
                    <a:pt x="11108" y="125738"/>
                    <a:pt x="11489" y="125040"/>
                  </a:cubicBezTo>
                  <a:cubicBezTo>
                    <a:pt x="11553" y="125040"/>
                    <a:pt x="11553" y="124977"/>
                    <a:pt x="11553" y="124977"/>
                  </a:cubicBezTo>
                  <a:lnTo>
                    <a:pt x="11553" y="124913"/>
                  </a:lnTo>
                  <a:cubicBezTo>
                    <a:pt x="12759" y="122881"/>
                    <a:pt x="14093" y="120849"/>
                    <a:pt x="15553" y="118817"/>
                  </a:cubicBezTo>
                  <a:cubicBezTo>
                    <a:pt x="16506" y="117420"/>
                    <a:pt x="17585" y="116086"/>
                    <a:pt x="18665" y="114626"/>
                  </a:cubicBezTo>
                  <a:cubicBezTo>
                    <a:pt x="19744" y="113229"/>
                    <a:pt x="20887" y="111896"/>
                    <a:pt x="22094" y="110498"/>
                  </a:cubicBezTo>
                  <a:cubicBezTo>
                    <a:pt x="22157" y="110371"/>
                    <a:pt x="22220" y="110308"/>
                    <a:pt x="22347" y="110181"/>
                  </a:cubicBezTo>
                  <a:cubicBezTo>
                    <a:pt x="23491" y="108911"/>
                    <a:pt x="24697" y="107641"/>
                    <a:pt x="25904" y="106371"/>
                  </a:cubicBezTo>
                  <a:cubicBezTo>
                    <a:pt x="28825" y="103323"/>
                    <a:pt x="32000" y="100402"/>
                    <a:pt x="35492" y="97354"/>
                  </a:cubicBezTo>
                  <a:cubicBezTo>
                    <a:pt x="36826" y="96211"/>
                    <a:pt x="38159" y="95131"/>
                    <a:pt x="39619" y="94052"/>
                  </a:cubicBezTo>
                  <a:cubicBezTo>
                    <a:pt x="39746" y="93925"/>
                    <a:pt x="39810" y="93798"/>
                    <a:pt x="40001" y="93734"/>
                  </a:cubicBezTo>
                  <a:cubicBezTo>
                    <a:pt x="40763" y="93099"/>
                    <a:pt x="41525" y="92591"/>
                    <a:pt x="42287" y="91956"/>
                  </a:cubicBezTo>
                  <a:cubicBezTo>
                    <a:pt x="43112" y="91385"/>
                    <a:pt x="43938" y="90750"/>
                    <a:pt x="44763" y="90115"/>
                  </a:cubicBezTo>
                  <a:cubicBezTo>
                    <a:pt x="44890" y="89988"/>
                    <a:pt x="44954" y="89988"/>
                    <a:pt x="45017" y="89988"/>
                  </a:cubicBezTo>
                  <a:cubicBezTo>
                    <a:pt x="45906" y="89290"/>
                    <a:pt x="46922" y="88591"/>
                    <a:pt x="47875" y="87956"/>
                  </a:cubicBezTo>
                  <a:cubicBezTo>
                    <a:pt x="48827" y="87321"/>
                    <a:pt x="49780" y="86622"/>
                    <a:pt x="50795" y="85987"/>
                  </a:cubicBezTo>
                  <a:cubicBezTo>
                    <a:pt x="51812" y="85352"/>
                    <a:pt x="52891" y="84654"/>
                    <a:pt x="53970" y="84019"/>
                  </a:cubicBezTo>
                  <a:cubicBezTo>
                    <a:pt x="54987" y="83384"/>
                    <a:pt x="56003" y="82685"/>
                    <a:pt x="57145" y="82050"/>
                  </a:cubicBezTo>
                  <a:cubicBezTo>
                    <a:pt x="58225" y="81415"/>
                    <a:pt x="59305" y="80717"/>
                    <a:pt x="60511" y="80082"/>
                  </a:cubicBezTo>
                  <a:cubicBezTo>
                    <a:pt x="61781" y="79320"/>
                    <a:pt x="63115" y="78621"/>
                    <a:pt x="64448" y="77859"/>
                  </a:cubicBezTo>
                  <a:cubicBezTo>
                    <a:pt x="66607" y="76653"/>
                    <a:pt x="68830" y="75446"/>
                    <a:pt x="71116" y="74303"/>
                  </a:cubicBezTo>
                  <a:cubicBezTo>
                    <a:pt x="71243" y="74240"/>
                    <a:pt x="71306" y="74177"/>
                    <a:pt x="71433" y="74177"/>
                  </a:cubicBezTo>
                  <a:cubicBezTo>
                    <a:pt x="73402" y="73224"/>
                    <a:pt x="75497" y="72208"/>
                    <a:pt x="77656" y="71128"/>
                  </a:cubicBezTo>
                  <a:cubicBezTo>
                    <a:pt x="78037" y="71002"/>
                    <a:pt x="78481" y="70747"/>
                    <a:pt x="78863" y="70557"/>
                  </a:cubicBezTo>
                  <a:cubicBezTo>
                    <a:pt x="78863" y="70557"/>
                    <a:pt x="78863" y="70557"/>
                    <a:pt x="78926" y="70557"/>
                  </a:cubicBezTo>
                  <a:cubicBezTo>
                    <a:pt x="80259" y="69922"/>
                    <a:pt x="81593" y="69287"/>
                    <a:pt x="82990" y="68652"/>
                  </a:cubicBezTo>
                  <a:cubicBezTo>
                    <a:pt x="84768" y="67890"/>
                    <a:pt x="86546" y="67065"/>
                    <a:pt x="88388" y="66302"/>
                  </a:cubicBezTo>
                  <a:cubicBezTo>
                    <a:pt x="90166" y="65540"/>
                    <a:pt x="92070" y="64778"/>
                    <a:pt x="93912" y="64016"/>
                  </a:cubicBezTo>
                  <a:cubicBezTo>
                    <a:pt x="96833" y="62873"/>
                    <a:pt x="99818" y="61667"/>
                    <a:pt x="102866" y="60587"/>
                  </a:cubicBezTo>
                  <a:cubicBezTo>
                    <a:pt x="105787" y="59508"/>
                    <a:pt x="108834" y="58428"/>
                    <a:pt x="112009" y="57349"/>
                  </a:cubicBezTo>
                  <a:cubicBezTo>
                    <a:pt x="114105" y="56650"/>
                    <a:pt x="116264" y="55952"/>
                    <a:pt x="118487" y="55190"/>
                  </a:cubicBezTo>
                  <a:cubicBezTo>
                    <a:pt x="122868" y="53793"/>
                    <a:pt x="127440" y="52396"/>
                    <a:pt x="132139" y="50999"/>
                  </a:cubicBezTo>
                  <a:cubicBezTo>
                    <a:pt x="136140" y="49856"/>
                    <a:pt x="140331" y="48713"/>
                    <a:pt x="144648" y="47570"/>
                  </a:cubicBezTo>
                  <a:cubicBezTo>
                    <a:pt x="146807" y="46998"/>
                    <a:pt x="149094" y="46427"/>
                    <a:pt x="151380" y="45919"/>
                  </a:cubicBezTo>
                  <a:cubicBezTo>
                    <a:pt x="155888" y="44776"/>
                    <a:pt x="160587" y="43760"/>
                    <a:pt x="165413" y="42680"/>
                  </a:cubicBezTo>
                  <a:cubicBezTo>
                    <a:pt x="170176" y="41601"/>
                    <a:pt x="175192" y="40585"/>
                    <a:pt x="180272" y="39569"/>
                  </a:cubicBezTo>
                  <a:cubicBezTo>
                    <a:pt x="186241" y="38426"/>
                    <a:pt x="192337" y="37219"/>
                    <a:pt x="198687" y="36140"/>
                  </a:cubicBezTo>
                  <a:cubicBezTo>
                    <a:pt x="205926" y="34934"/>
                    <a:pt x="213546" y="33727"/>
                    <a:pt x="221356" y="32647"/>
                  </a:cubicBezTo>
                  <a:cubicBezTo>
                    <a:pt x="223643" y="32266"/>
                    <a:pt x="225992" y="32012"/>
                    <a:pt x="228342" y="31695"/>
                  </a:cubicBezTo>
                  <a:cubicBezTo>
                    <a:pt x="240089" y="30044"/>
                    <a:pt x="252344" y="28647"/>
                    <a:pt x="265298" y="27377"/>
                  </a:cubicBezTo>
                  <a:cubicBezTo>
                    <a:pt x="265870" y="27313"/>
                    <a:pt x="266442" y="27250"/>
                    <a:pt x="266950" y="27250"/>
                  </a:cubicBezTo>
                  <a:cubicBezTo>
                    <a:pt x="291397" y="26615"/>
                    <a:pt x="316480" y="24202"/>
                    <a:pt x="342260" y="19821"/>
                  </a:cubicBezTo>
                  <a:cubicBezTo>
                    <a:pt x="518156" y="2675"/>
                    <a:pt x="547619" y="580"/>
                    <a:pt x="549652" y="897"/>
                  </a:cubicBezTo>
                  <a:lnTo>
                    <a:pt x="549652" y="961"/>
                  </a:lnTo>
                  <a:cubicBezTo>
                    <a:pt x="549652" y="961"/>
                    <a:pt x="549652" y="1024"/>
                    <a:pt x="549588" y="1024"/>
                  </a:cubicBezTo>
                  <a:cubicBezTo>
                    <a:pt x="549525" y="1024"/>
                    <a:pt x="549525" y="1088"/>
                    <a:pt x="549461" y="1088"/>
                  </a:cubicBezTo>
                  <a:cubicBezTo>
                    <a:pt x="549334" y="1088"/>
                    <a:pt x="549144" y="1152"/>
                    <a:pt x="548890" y="1215"/>
                  </a:cubicBezTo>
                  <a:cubicBezTo>
                    <a:pt x="548763" y="1278"/>
                    <a:pt x="548635" y="1278"/>
                    <a:pt x="548508" y="1278"/>
                  </a:cubicBezTo>
                  <a:cubicBezTo>
                    <a:pt x="548381" y="1278"/>
                    <a:pt x="548381" y="1342"/>
                    <a:pt x="548255" y="1342"/>
                  </a:cubicBezTo>
                  <a:cubicBezTo>
                    <a:pt x="548191" y="1342"/>
                    <a:pt x="548128" y="1342"/>
                    <a:pt x="548128" y="1405"/>
                  </a:cubicBezTo>
                  <a:cubicBezTo>
                    <a:pt x="548001" y="1405"/>
                    <a:pt x="547937" y="1405"/>
                    <a:pt x="547810" y="1469"/>
                  </a:cubicBezTo>
                  <a:lnTo>
                    <a:pt x="548001" y="1469"/>
                  </a:lnTo>
                  <a:cubicBezTo>
                    <a:pt x="548128" y="1405"/>
                    <a:pt x="548128" y="1405"/>
                    <a:pt x="548255" y="1405"/>
                  </a:cubicBezTo>
                  <a:lnTo>
                    <a:pt x="548318" y="1405"/>
                  </a:lnTo>
                  <a:cubicBezTo>
                    <a:pt x="548890" y="1342"/>
                    <a:pt x="549588" y="1278"/>
                    <a:pt x="550414" y="1215"/>
                  </a:cubicBezTo>
                  <a:cubicBezTo>
                    <a:pt x="550794" y="1152"/>
                    <a:pt x="551239" y="1088"/>
                    <a:pt x="551683" y="1088"/>
                  </a:cubicBezTo>
                  <a:cubicBezTo>
                    <a:pt x="551874" y="1088"/>
                    <a:pt x="552065" y="1024"/>
                    <a:pt x="552319" y="1024"/>
                  </a:cubicBezTo>
                  <a:cubicBezTo>
                    <a:pt x="553081" y="961"/>
                    <a:pt x="553969" y="897"/>
                    <a:pt x="554795" y="834"/>
                  </a:cubicBezTo>
                  <a:cubicBezTo>
                    <a:pt x="581275" y="-1325"/>
                    <a:pt x="664206" y="-3230"/>
                    <a:pt x="709608" y="49094"/>
                  </a:cubicBezTo>
                  <a:cubicBezTo>
                    <a:pt x="711069" y="50745"/>
                    <a:pt x="712529" y="52523"/>
                    <a:pt x="713863" y="54301"/>
                  </a:cubicBezTo>
                  <a:cubicBezTo>
                    <a:pt x="722054" y="64969"/>
                    <a:pt x="728848" y="77859"/>
                    <a:pt x="733420" y="93227"/>
                  </a:cubicBezTo>
                  <a:close/>
                </a:path>
              </a:pathLst>
            </a:custGeom>
            <a:solidFill>
              <a:srgbClr val="8fd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93" name="Freeform 56"/>
            <p:cNvSpPr/>
            <p:nvPr/>
          </p:nvSpPr>
          <p:spPr>
            <a:xfrm>
              <a:off x="3547440" y="3912120"/>
              <a:ext cx="344880" cy="108000"/>
            </a:xfrm>
            <a:custGeom>
              <a:avLst/>
              <a:gdLst/>
              <a:ahLst/>
              <a:rect l="l" t="t" r="r" b="b"/>
              <a:pathLst>
                <a:path w="443230" h="138841">
                  <a:moveTo>
                    <a:pt x="443230" y="97820"/>
                  </a:moveTo>
                  <a:lnTo>
                    <a:pt x="391287" y="138842"/>
                  </a:lnTo>
                  <a:cubicBezTo>
                    <a:pt x="386715" y="123474"/>
                    <a:pt x="379921" y="110520"/>
                    <a:pt x="371602" y="99789"/>
                  </a:cubicBezTo>
                  <a:cubicBezTo>
                    <a:pt x="370205" y="97948"/>
                    <a:pt x="368809" y="96233"/>
                    <a:pt x="367348" y="94582"/>
                  </a:cubicBezTo>
                  <a:cubicBezTo>
                    <a:pt x="321945" y="42258"/>
                    <a:pt x="238951" y="44163"/>
                    <a:pt x="212535" y="46322"/>
                  </a:cubicBezTo>
                  <a:cubicBezTo>
                    <a:pt x="211646" y="46386"/>
                    <a:pt x="210820" y="46449"/>
                    <a:pt x="210059" y="46512"/>
                  </a:cubicBezTo>
                  <a:cubicBezTo>
                    <a:pt x="209868" y="46512"/>
                    <a:pt x="209677" y="46576"/>
                    <a:pt x="209423" y="46576"/>
                  </a:cubicBezTo>
                  <a:cubicBezTo>
                    <a:pt x="208979" y="46639"/>
                    <a:pt x="208535" y="46703"/>
                    <a:pt x="208153" y="46703"/>
                  </a:cubicBezTo>
                  <a:cubicBezTo>
                    <a:pt x="207328" y="46767"/>
                    <a:pt x="206629" y="46830"/>
                    <a:pt x="206058" y="46893"/>
                  </a:cubicBezTo>
                  <a:lnTo>
                    <a:pt x="205867" y="46893"/>
                  </a:lnTo>
                  <a:cubicBezTo>
                    <a:pt x="205931" y="46830"/>
                    <a:pt x="205994" y="46830"/>
                    <a:pt x="205994" y="46830"/>
                  </a:cubicBezTo>
                  <a:cubicBezTo>
                    <a:pt x="206122" y="46830"/>
                    <a:pt x="206122" y="46767"/>
                    <a:pt x="206248" y="46767"/>
                  </a:cubicBezTo>
                  <a:cubicBezTo>
                    <a:pt x="206375" y="46767"/>
                    <a:pt x="206502" y="46767"/>
                    <a:pt x="206629" y="46703"/>
                  </a:cubicBezTo>
                  <a:cubicBezTo>
                    <a:pt x="206884" y="46639"/>
                    <a:pt x="207011" y="46576"/>
                    <a:pt x="207201" y="46576"/>
                  </a:cubicBezTo>
                  <a:cubicBezTo>
                    <a:pt x="207264" y="46576"/>
                    <a:pt x="207264" y="46512"/>
                    <a:pt x="207328" y="46512"/>
                  </a:cubicBezTo>
                  <a:cubicBezTo>
                    <a:pt x="207391" y="46512"/>
                    <a:pt x="207391" y="46449"/>
                    <a:pt x="207391" y="46449"/>
                  </a:cubicBezTo>
                  <a:cubicBezTo>
                    <a:pt x="207455" y="46449"/>
                    <a:pt x="207455" y="46449"/>
                    <a:pt x="207455" y="46449"/>
                  </a:cubicBezTo>
                  <a:lnTo>
                    <a:pt x="207455" y="46386"/>
                  </a:lnTo>
                  <a:lnTo>
                    <a:pt x="207391" y="46386"/>
                  </a:lnTo>
                  <a:cubicBezTo>
                    <a:pt x="205360" y="46068"/>
                    <a:pt x="175895" y="48163"/>
                    <a:pt x="0" y="65308"/>
                  </a:cubicBezTo>
                  <a:cubicBezTo>
                    <a:pt x="54483" y="56101"/>
                    <a:pt x="111887" y="38194"/>
                    <a:pt x="172339" y="9810"/>
                  </a:cubicBezTo>
                  <a:cubicBezTo>
                    <a:pt x="410782" y="-36800"/>
                    <a:pt x="443230" y="97820"/>
                    <a:pt x="443230" y="97820"/>
                  </a:cubicBezTo>
                  <a:close/>
                </a:path>
              </a:pathLst>
            </a:custGeom>
            <a:solidFill>
              <a:srgbClr val="50b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94" name="Freeform 57"/>
            <p:cNvSpPr/>
            <p:nvPr/>
          </p:nvSpPr>
          <p:spPr>
            <a:xfrm>
              <a:off x="3285000" y="3962880"/>
              <a:ext cx="203760" cy="92880"/>
            </a:xfrm>
            <a:custGeom>
              <a:avLst/>
              <a:gdLst/>
              <a:ahLst/>
              <a:rect l="l" t="t" r="r" b="b"/>
              <a:pathLst>
                <a:path w="261873" h="119443">
                  <a:moveTo>
                    <a:pt x="261874" y="7620"/>
                  </a:moveTo>
                  <a:cubicBezTo>
                    <a:pt x="261303" y="7684"/>
                    <a:pt x="260731" y="7747"/>
                    <a:pt x="260223" y="7747"/>
                  </a:cubicBezTo>
                  <a:cubicBezTo>
                    <a:pt x="247269" y="9017"/>
                    <a:pt x="234950" y="10414"/>
                    <a:pt x="223266" y="12065"/>
                  </a:cubicBezTo>
                  <a:cubicBezTo>
                    <a:pt x="220917" y="12383"/>
                    <a:pt x="218567" y="12700"/>
                    <a:pt x="216281" y="13017"/>
                  </a:cubicBezTo>
                  <a:cubicBezTo>
                    <a:pt x="208471" y="14097"/>
                    <a:pt x="200914" y="15304"/>
                    <a:pt x="193611" y="16510"/>
                  </a:cubicBezTo>
                  <a:cubicBezTo>
                    <a:pt x="187261" y="17590"/>
                    <a:pt x="181102" y="18733"/>
                    <a:pt x="175196" y="19939"/>
                  </a:cubicBezTo>
                  <a:cubicBezTo>
                    <a:pt x="134493" y="27940"/>
                    <a:pt x="102743" y="37910"/>
                    <a:pt x="78042" y="49022"/>
                  </a:cubicBezTo>
                  <a:cubicBezTo>
                    <a:pt x="76645" y="49657"/>
                    <a:pt x="75311" y="50229"/>
                    <a:pt x="73978" y="50927"/>
                  </a:cubicBezTo>
                  <a:cubicBezTo>
                    <a:pt x="73914" y="50927"/>
                    <a:pt x="73914" y="50927"/>
                    <a:pt x="73914" y="50927"/>
                  </a:cubicBezTo>
                  <a:cubicBezTo>
                    <a:pt x="68771" y="53340"/>
                    <a:pt x="64008" y="55753"/>
                    <a:pt x="59563" y="58229"/>
                  </a:cubicBezTo>
                  <a:cubicBezTo>
                    <a:pt x="58166" y="58991"/>
                    <a:pt x="56897" y="59690"/>
                    <a:pt x="55626" y="60452"/>
                  </a:cubicBezTo>
                  <a:cubicBezTo>
                    <a:pt x="52197" y="62357"/>
                    <a:pt x="49022" y="64389"/>
                    <a:pt x="45974" y="66421"/>
                  </a:cubicBezTo>
                  <a:cubicBezTo>
                    <a:pt x="44958" y="67056"/>
                    <a:pt x="44006" y="67754"/>
                    <a:pt x="43053" y="68390"/>
                  </a:cubicBezTo>
                  <a:cubicBezTo>
                    <a:pt x="42101" y="69024"/>
                    <a:pt x="41148" y="69723"/>
                    <a:pt x="40196" y="70422"/>
                  </a:cubicBezTo>
                  <a:cubicBezTo>
                    <a:pt x="40132" y="70422"/>
                    <a:pt x="40069" y="70485"/>
                    <a:pt x="39942" y="70548"/>
                  </a:cubicBezTo>
                  <a:cubicBezTo>
                    <a:pt x="38291" y="71691"/>
                    <a:pt x="36703" y="72961"/>
                    <a:pt x="35179" y="74168"/>
                  </a:cubicBezTo>
                  <a:cubicBezTo>
                    <a:pt x="35052" y="74232"/>
                    <a:pt x="34925" y="74295"/>
                    <a:pt x="34798" y="74485"/>
                  </a:cubicBezTo>
                  <a:cubicBezTo>
                    <a:pt x="33401" y="75565"/>
                    <a:pt x="32004" y="76645"/>
                    <a:pt x="30671" y="77788"/>
                  </a:cubicBezTo>
                  <a:cubicBezTo>
                    <a:pt x="27178" y="80772"/>
                    <a:pt x="23940" y="83757"/>
                    <a:pt x="21082" y="86804"/>
                  </a:cubicBezTo>
                  <a:cubicBezTo>
                    <a:pt x="19876" y="88074"/>
                    <a:pt x="18669" y="89345"/>
                    <a:pt x="17526" y="90615"/>
                  </a:cubicBezTo>
                  <a:cubicBezTo>
                    <a:pt x="16193" y="92075"/>
                    <a:pt x="14986" y="93535"/>
                    <a:pt x="13843" y="95060"/>
                  </a:cubicBezTo>
                  <a:cubicBezTo>
                    <a:pt x="12700" y="96457"/>
                    <a:pt x="11684" y="97854"/>
                    <a:pt x="10732" y="99251"/>
                  </a:cubicBezTo>
                  <a:cubicBezTo>
                    <a:pt x="9272" y="101283"/>
                    <a:pt x="7938" y="103315"/>
                    <a:pt x="6731" y="105347"/>
                  </a:cubicBezTo>
                  <a:lnTo>
                    <a:pt x="6731" y="105410"/>
                  </a:lnTo>
                  <a:cubicBezTo>
                    <a:pt x="3873" y="110172"/>
                    <a:pt x="1651" y="114872"/>
                    <a:pt x="0" y="119443"/>
                  </a:cubicBezTo>
                  <a:cubicBezTo>
                    <a:pt x="191" y="118301"/>
                    <a:pt x="1016" y="113792"/>
                    <a:pt x="3239" y="107188"/>
                  </a:cubicBezTo>
                  <a:cubicBezTo>
                    <a:pt x="9716" y="87884"/>
                    <a:pt x="28322" y="50229"/>
                    <a:pt x="78677" y="24321"/>
                  </a:cubicBezTo>
                  <a:cubicBezTo>
                    <a:pt x="99949" y="13335"/>
                    <a:pt x="127000" y="4445"/>
                    <a:pt x="161163" y="0"/>
                  </a:cubicBezTo>
                  <a:cubicBezTo>
                    <a:pt x="161227" y="0"/>
                    <a:pt x="161227" y="0"/>
                    <a:pt x="161290" y="0"/>
                  </a:cubicBezTo>
                  <a:cubicBezTo>
                    <a:pt x="193422" y="5715"/>
                    <a:pt x="227013" y="8509"/>
                    <a:pt x="261874" y="7620"/>
                  </a:cubicBezTo>
                  <a:close/>
                </a:path>
              </a:pathLst>
            </a:custGeom>
            <a:solidFill>
              <a:srgbClr val="50b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95" name="Freeform 58"/>
            <p:cNvSpPr/>
            <p:nvPr/>
          </p:nvSpPr>
          <p:spPr>
            <a:xfrm>
              <a:off x="3527280" y="3869640"/>
              <a:ext cx="1636560" cy="802080"/>
            </a:xfrm>
            <a:custGeom>
              <a:avLst/>
              <a:gdLst/>
              <a:ahLst/>
              <a:rect l="l" t="t" r="r" b="b"/>
              <a:pathLst>
                <a:path w="2103417" h="1031049">
                  <a:moveTo>
                    <a:pt x="2038794" y="1019175"/>
                  </a:moveTo>
                  <a:cubicBezTo>
                    <a:pt x="2033841" y="1021016"/>
                    <a:pt x="2028825" y="1022604"/>
                    <a:pt x="2023808" y="1024065"/>
                  </a:cubicBezTo>
                  <a:lnTo>
                    <a:pt x="2023745" y="1024128"/>
                  </a:lnTo>
                  <a:cubicBezTo>
                    <a:pt x="2012188" y="1027494"/>
                    <a:pt x="2000631" y="1029843"/>
                    <a:pt x="1990154" y="1031050"/>
                  </a:cubicBezTo>
                  <a:cubicBezTo>
                    <a:pt x="1980502" y="1021144"/>
                    <a:pt x="1970532" y="1011619"/>
                    <a:pt x="1960372" y="1002411"/>
                  </a:cubicBezTo>
                  <a:cubicBezTo>
                    <a:pt x="1887283" y="936117"/>
                    <a:pt x="1800987" y="885190"/>
                    <a:pt x="1715643" y="835089"/>
                  </a:cubicBezTo>
                  <a:cubicBezTo>
                    <a:pt x="1621536" y="779844"/>
                    <a:pt x="1527556" y="724535"/>
                    <a:pt x="1433513" y="669290"/>
                  </a:cubicBezTo>
                  <a:cubicBezTo>
                    <a:pt x="1258633" y="566484"/>
                    <a:pt x="1072388" y="457327"/>
                    <a:pt x="869505" y="455866"/>
                  </a:cubicBezTo>
                  <a:cubicBezTo>
                    <a:pt x="718756" y="454723"/>
                    <a:pt x="567245" y="453517"/>
                    <a:pt x="418655" y="428117"/>
                  </a:cubicBezTo>
                  <a:cubicBezTo>
                    <a:pt x="270066" y="402717"/>
                    <a:pt x="116522" y="350838"/>
                    <a:pt x="0" y="255270"/>
                  </a:cubicBezTo>
                  <a:lnTo>
                    <a:pt x="417004" y="193484"/>
                  </a:lnTo>
                  <a:lnTo>
                    <a:pt x="468947" y="152464"/>
                  </a:lnTo>
                  <a:cubicBezTo>
                    <a:pt x="468947" y="152464"/>
                    <a:pt x="436563" y="17843"/>
                    <a:pt x="198056" y="64643"/>
                  </a:cubicBezTo>
                  <a:cubicBezTo>
                    <a:pt x="208597" y="59690"/>
                    <a:pt x="219266" y="54483"/>
                    <a:pt x="229933" y="48895"/>
                  </a:cubicBezTo>
                  <a:lnTo>
                    <a:pt x="228536" y="46228"/>
                  </a:lnTo>
                  <a:cubicBezTo>
                    <a:pt x="243395" y="48387"/>
                    <a:pt x="259652" y="42418"/>
                    <a:pt x="273241" y="34671"/>
                  </a:cubicBezTo>
                  <a:cubicBezTo>
                    <a:pt x="290640" y="24702"/>
                    <a:pt x="307277" y="11747"/>
                    <a:pt x="327152" y="9271"/>
                  </a:cubicBezTo>
                  <a:cubicBezTo>
                    <a:pt x="355917" y="5588"/>
                    <a:pt x="385572" y="24892"/>
                    <a:pt x="412877" y="15303"/>
                  </a:cubicBezTo>
                  <a:cubicBezTo>
                    <a:pt x="420370" y="12636"/>
                    <a:pt x="428942" y="7048"/>
                    <a:pt x="435928" y="0"/>
                  </a:cubicBezTo>
                  <a:lnTo>
                    <a:pt x="435991" y="0"/>
                  </a:lnTo>
                  <a:cubicBezTo>
                    <a:pt x="435991" y="0"/>
                    <a:pt x="436499" y="0"/>
                    <a:pt x="437452" y="0"/>
                  </a:cubicBezTo>
                  <a:cubicBezTo>
                    <a:pt x="437959" y="64"/>
                    <a:pt x="438594" y="64"/>
                    <a:pt x="439356" y="64"/>
                  </a:cubicBezTo>
                  <a:cubicBezTo>
                    <a:pt x="440690" y="127"/>
                    <a:pt x="442404" y="191"/>
                    <a:pt x="444436" y="191"/>
                  </a:cubicBezTo>
                  <a:cubicBezTo>
                    <a:pt x="447675" y="317"/>
                    <a:pt x="451929" y="445"/>
                    <a:pt x="457009" y="572"/>
                  </a:cubicBezTo>
                  <a:cubicBezTo>
                    <a:pt x="460946" y="698"/>
                    <a:pt x="465391" y="953"/>
                    <a:pt x="470344" y="1207"/>
                  </a:cubicBezTo>
                  <a:cubicBezTo>
                    <a:pt x="475488" y="1460"/>
                    <a:pt x="481140" y="1715"/>
                    <a:pt x="487235" y="2096"/>
                  </a:cubicBezTo>
                  <a:lnTo>
                    <a:pt x="487490" y="2096"/>
                  </a:lnTo>
                  <a:cubicBezTo>
                    <a:pt x="495808" y="2794"/>
                    <a:pt x="504507" y="3747"/>
                    <a:pt x="513524" y="4763"/>
                  </a:cubicBezTo>
                  <a:cubicBezTo>
                    <a:pt x="703326" y="27178"/>
                    <a:pt x="1036638" y="125349"/>
                    <a:pt x="1302067" y="255270"/>
                  </a:cubicBezTo>
                  <a:cubicBezTo>
                    <a:pt x="1307655" y="258001"/>
                    <a:pt x="1313180" y="260731"/>
                    <a:pt x="1318704" y="263525"/>
                  </a:cubicBezTo>
                  <a:cubicBezTo>
                    <a:pt x="1583817" y="396113"/>
                    <a:pt x="1969770" y="796989"/>
                    <a:pt x="2075243" y="914845"/>
                  </a:cubicBezTo>
                  <a:cubicBezTo>
                    <a:pt x="2092706" y="934403"/>
                    <a:pt x="2102485" y="946150"/>
                    <a:pt x="2102739" y="947674"/>
                  </a:cubicBezTo>
                  <a:cubicBezTo>
                    <a:pt x="2108581" y="981266"/>
                    <a:pt x="2075815" y="1005522"/>
                    <a:pt x="2038794" y="1019175"/>
                  </a:cubicBezTo>
                  <a:close/>
                </a:path>
              </a:pathLst>
            </a:custGeom>
            <a:solidFill>
              <a:srgbClr val="fe6b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96" name="Freeform 59"/>
            <p:cNvSpPr/>
            <p:nvPr/>
          </p:nvSpPr>
          <p:spPr>
            <a:xfrm>
              <a:off x="5113800" y="4606920"/>
              <a:ext cx="102960" cy="105120"/>
            </a:xfrm>
            <a:custGeom>
              <a:avLst/>
              <a:gdLst/>
              <a:ahLst/>
              <a:rect l="l" t="t" r="r" b="b"/>
              <a:pathLst>
                <a:path w="132397" h="135318">
                  <a:moveTo>
                    <a:pt x="132397" y="69406"/>
                  </a:moveTo>
                  <a:cubicBezTo>
                    <a:pt x="132397" y="69406"/>
                    <a:pt x="131128" y="124841"/>
                    <a:pt x="64707" y="135319"/>
                  </a:cubicBezTo>
                  <a:lnTo>
                    <a:pt x="0" y="71628"/>
                  </a:lnTo>
                  <a:cubicBezTo>
                    <a:pt x="36957" y="57976"/>
                    <a:pt x="69723" y="33655"/>
                    <a:pt x="64008" y="0"/>
                  </a:cubicBezTo>
                  <a:lnTo>
                    <a:pt x="84899" y="21209"/>
                  </a:lnTo>
                  <a:lnTo>
                    <a:pt x="84963" y="21209"/>
                  </a:lnTo>
                  <a:lnTo>
                    <a:pt x="132397" y="694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97" name="Freeform 60"/>
            <p:cNvSpPr/>
            <p:nvPr/>
          </p:nvSpPr>
          <p:spPr>
            <a:xfrm>
              <a:off x="5160960" y="4564440"/>
              <a:ext cx="281880" cy="249480"/>
            </a:xfrm>
            <a:custGeom>
              <a:avLst/>
              <a:gdLst/>
              <a:ahLst/>
              <a:rect l="l" t="t" r="r" b="b"/>
              <a:pathLst>
                <a:path w="362316" h="320992">
                  <a:moveTo>
                    <a:pt x="362316" y="19050"/>
                  </a:moveTo>
                  <a:cubicBezTo>
                    <a:pt x="301357" y="185039"/>
                    <a:pt x="126351" y="320992"/>
                    <a:pt x="126351" y="320992"/>
                  </a:cubicBezTo>
                  <a:cubicBezTo>
                    <a:pt x="-23636" y="285052"/>
                    <a:pt x="-649" y="196977"/>
                    <a:pt x="4050" y="189992"/>
                  </a:cubicBezTo>
                  <a:cubicBezTo>
                    <a:pt x="70471" y="179515"/>
                    <a:pt x="71740" y="124079"/>
                    <a:pt x="71740" y="124079"/>
                  </a:cubicBezTo>
                  <a:cubicBezTo>
                    <a:pt x="107174" y="130747"/>
                    <a:pt x="145274" y="122111"/>
                    <a:pt x="181152" y="106680"/>
                  </a:cubicBezTo>
                  <a:cubicBezTo>
                    <a:pt x="264082" y="71247"/>
                    <a:pt x="335329" y="0"/>
                    <a:pt x="335329" y="0"/>
                  </a:cubicBezTo>
                  <a:lnTo>
                    <a:pt x="362316" y="19050"/>
                  </a:lnTo>
                  <a:close/>
                </a:path>
              </a:pathLst>
            </a:custGeom>
            <a:solidFill>
              <a:srgbClr val="fe6b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98" name="Freeform 61"/>
            <p:cNvSpPr/>
            <p:nvPr/>
          </p:nvSpPr>
          <p:spPr>
            <a:xfrm>
              <a:off x="3926880" y="3872520"/>
              <a:ext cx="1252800" cy="708840"/>
            </a:xfrm>
            <a:custGeom>
              <a:avLst/>
              <a:gdLst/>
              <a:ahLst/>
              <a:rect l="l" t="t" r="r" b="b"/>
              <a:pathLst>
                <a:path w="1610105" h="911161">
                  <a:moveTo>
                    <a:pt x="1610106" y="875221"/>
                  </a:moveTo>
                  <a:cubicBezTo>
                    <a:pt x="1610106" y="875221"/>
                    <a:pt x="1585214" y="899985"/>
                    <a:pt x="1561719" y="911161"/>
                  </a:cubicBezTo>
                  <a:cubicBezTo>
                    <a:pt x="1456245" y="793305"/>
                    <a:pt x="1070356" y="392430"/>
                    <a:pt x="805180" y="259842"/>
                  </a:cubicBezTo>
                  <a:cubicBezTo>
                    <a:pt x="799655" y="257111"/>
                    <a:pt x="794131" y="254381"/>
                    <a:pt x="788543" y="251587"/>
                  </a:cubicBezTo>
                  <a:cubicBezTo>
                    <a:pt x="523113" y="121666"/>
                    <a:pt x="189802" y="23495"/>
                    <a:pt x="0" y="1079"/>
                  </a:cubicBezTo>
                  <a:lnTo>
                    <a:pt x="0" y="0"/>
                  </a:lnTo>
                  <a:cubicBezTo>
                    <a:pt x="150558" y="10160"/>
                    <a:pt x="494919" y="47752"/>
                    <a:pt x="805180" y="185420"/>
                  </a:cubicBezTo>
                  <a:cubicBezTo>
                    <a:pt x="914908" y="234124"/>
                    <a:pt x="1020318" y="295339"/>
                    <a:pt x="1111377" y="372237"/>
                  </a:cubicBezTo>
                  <a:cubicBezTo>
                    <a:pt x="1182370" y="432181"/>
                    <a:pt x="1243457" y="486029"/>
                    <a:pt x="1296035" y="534098"/>
                  </a:cubicBezTo>
                  <a:cubicBezTo>
                    <a:pt x="1564005" y="779209"/>
                    <a:pt x="1610106" y="875221"/>
                    <a:pt x="1610106" y="875221"/>
                  </a:cubicBezTo>
                  <a:close/>
                </a:path>
              </a:pathLst>
            </a:custGeom>
            <a:solidFill>
              <a:srgbClr val="d14b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199" name="Freeform 62"/>
            <p:cNvSpPr/>
            <p:nvPr/>
          </p:nvSpPr>
          <p:spPr>
            <a:xfrm>
              <a:off x="5141880" y="4581360"/>
              <a:ext cx="360" cy="360"/>
            </a:xfrm>
            <a:custGeom>
              <a:avLst/>
              <a:gdLst/>
              <a:ahLst/>
              <a:rect l="l" t="t" r="r" b="b"/>
              <a:pathLst>
                <a:path w="127" h="127">
                  <a:moveTo>
                    <a:pt x="127" y="0"/>
                  </a:moveTo>
                  <a:cubicBezTo>
                    <a:pt x="64" y="64"/>
                    <a:pt x="0" y="127"/>
                    <a:pt x="0" y="127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00" name="Freeform 63"/>
            <p:cNvSpPr/>
            <p:nvPr/>
          </p:nvSpPr>
          <p:spPr>
            <a:xfrm>
              <a:off x="5142240" y="4553640"/>
              <a:ext cx="74520" cy="69840"/>
            </a:xfrm>
            <a:custGeom>
              <a:avLst/>
              <a:gdLst/>
              <a:ahLst/>
              <a:rect l="l" t="t" r="r" b="b"/>
              <a:pathLst>
                <a:path w="95884" h="89979">
                  <a:moveTo>
                    <a:pt x="95885" y="49720"/>
                  </a:moveTo>
                  <a:cubicBezTo>
                    <a:pt x="95885" y="49720"/>
                    <a:pt x="83059" y="70104"/>
                    <a:pt x="48451" y="89979"/>
                  </a:cubicBezTo>
                  <a:lnTo>
                    <a:pt x="48387" y="89979"/>
                  </a:lnTo>
                  <a:lnTo>
                    <a:pt x="27496" y="68770"/>
                  </a:lnTo>
                  <a:cubicBezTo>
                    <a:pt x="27242" y="67246"/>
                    <a:pt x="17463" y="55499"/>
                    <a:pt x="0" y="35941"/>
                  </a:cubicBezTo>
                  <a:cubicBezTo>
                    <a:pt x="23495" y="24765"/>
                    <a:pt x="48387" y="0"/>
                    <a:pt x="48387" y="0"/>
                  </a:cubicBezTo>
                  <a:lnTo>
                    <a:pt x="95885" y="497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01" name="Freeform 64"/>
            <p:cNvSpPr/>
            <p:nvPr/>
          </p:nvSpPr>
          <p:spPr>
            <a:xfrm>
              <a:off x="5179680" y="4425120"/>
              <a:ext cx="165600" cy="237600"/>
            </a:xfrm>
            <a:custGeom>
              <a:avLst/>
              <a:gdLst/>
              <a:ahLst/>
              <a:rect l="l" t="t" r="r" b="b"/>
              <a:pathLst>
                <a:path w="212994" h="305391">
                  <a:moveTo>
                    <a:pt x="156845" y="285750"/>
                  </a:moveTo>
                  <a:cubicBezTo>
                    <a:pt x="120968" y="301117"/>
                    <a:pt x="82868" y="309753"/>
                    <a:pt x="47434" y="303149"/>
                  </a:cubicBezTo>
                  <a:lnTo>
                    <a:pt x="0" y="255016"/>
                  </a:lnTo>
                  <a:cubicBezTo>
                    <a:pt x="34672" y="235141"/>
                    <a:pt x="47434" y="214757"/>
                    <a:pt x="47434" y="214757"/>
                  </a:cubicBezTo>
                  <a:cubicBezTo>
                    <a:pt x="47434" y="214757"/>
                    <a:pt x="178626" y="103632"/>
                    <a:pt x="182435" y="0"/>
                  </a:cubicBezTo>
                  <a:lnTo>
                    <a:pt x="211519" y="0"/>
                  </a:lnTo>
                  <a:cubicBezTo>
                    <a:pt x="211455" y="0"/>
                    <a:pt x="227267" y="196406"/>
                    <a:pt x="156845" y="285750"/>
                  </a:cubicBezTo>
                  <a:close/>
                </a:path>
              </a:pathLst>
            </a:custGeom>
            <a:solidFill>
              <a:srgbClr val="d14b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02" name="Freeform 65"/>
            <p:cNvSpPr/>
            <p:nvPr/>
          </p:nvSpPr>
          <p:spPr>
            <a:xfrm>
              <a:off x="3369240" y="4068360"/>
              <a:ext cx="1687680" cy="699840"/>
            </a:xfrm>
            <a:custGeom>
              <a:avLst/>
              <a:gdLst/>
              <a:ahLst/>
              <a:rect l="l" t="t" r="r" b="b"/>
              <a:pathLst>
                <a:path w="2169234" h="899725">
                  <a:moveTo>
                    <a:pt x="2149266" y="857441"/>
                  </a:moveTo>
                  <a:lnTo>
                    <a:pt x="2149075" y="857695"/>
                  </a:lnTo>
                  <a:cubicBezTo>
                    <a:pt x="2130088" y="886587"/>
                    <a:pt x="2094401" y="907225"/>
                    <a:pt x="2030203" y="897128"/>
                  </a:cubicBezTo>
                  <a:cubicBezTo>
                    <a:pt x="1877930" y="873061"/>
                    <a:pt x="1404728" y="438912"/>
                    <a:pt x="952100" y="386144"/>
                  </a:cubicBezTo>
                  <a:lnTo>
                    <a:pt x="952036" y="386144"/>
                  </a:lnTo>
                  <a:cubicBezTo>
                    <a:pt x="926890" y="383223"/>
                    <a:pt x="901872" y="381445"/>
                    <a:pt x="876916" y="381000"/>
                  </a:cubicBezTo>
                  <a:cubicBezTo>
                    <a:pt x="863200" y="380746"/>
                    <a:pt x="849674" y="380555"/>
                    <a:pt x="836403" y="380365"/>
                  </a:cubicBezTo>
                  <a:cubicBezTo>
                    <a:pt x="388220" y="373380"/>
                    <a:pt x="146222" y="384556"/>
                    <a:pt x="29000" y="220218"/>
                  </a:cubicBezTo>
                  <a:cubicBezTo>
                    <a:pt x="2076" y="182499"/>
                    <a:pt x="-4147" y="150622"/>
                    <a:pt x="2394" y="123889"/>
                  </a:cubicBezTo>
                  <a:lnTo>
                    <a:pt x="2458" y="123825"/>
                  </a:lnTo>
                  <a:cubicBezTo>
                    <a:pt x="23794" y="36640"/>
                    <a:pt x="181400" y="4191"/>
                    <a:pt x="201212" y="381"/>
                  </a:cubicBezTo>
                  <a:cubicBezTo>
                    <a:pt x="201594" y="317"/>
                    <a:pt x="201847" y="254"/>
                    <a:pt x="202101" y="254"/>
                  </a:cubicBezTo>
                  <a:cubicBezTo>
                    <a:pt x="202356" y="191"/>
                    <a:pt x="202610" y="191"/>
                    <a:pt x="202736" y="127"/>
                  </a:cubicBezTo>
                  <a:cubicBezTo>
                    <a:pt x="203118" y="64"/>
                    <a:pt x="203308" y="0"/>
                    <a:pt x="203308" y="0"/>
                  </a:cubicBezTo>
                  <a:cubicBezTo>
                    <a:pt x="319831" y="95631"/>
                    <a:pt x="473373" y="147447"/>
                    <a:pt x="621963" y="172847"/>
                  </a:cubicBezTo>
                  <a:cubicBezTo>
                    <a:pt x="770553" y="198247"/>
                    <a:pt x="922064" y="199454"/>
                    <a:pt x="1072813" y="200597"/>
                  </a:cubicBezTo>
                  <a:cubicBezTo>
                    <a:pt x="1275633" y="202057"/>
                    <a:pt x="1461878" y="311214"/>
                    <a:pt x="1636821" y="414020"/>
                  </a:cubicBezTo>
                  <a:cubicBezTo>
                    <a:pt x="1730864" y="469265"/>
                    <a:pt x="1824908" y="524573"/>
                    <a:pt x="1918951" y="579819"/>
                  </a:cubicBezTo>
                  <a:cubicBezTo>
                    <a:pt x="2004295" y="629984"/>
                    <a:pt x="2090592" y="680847"/>
                    <a:pt x="2163680" y="747141"/>
                  </a:cubicBezTo>
                  <a:cubicBezTo>
                    <a:pt x="2169014" y="752030"/>
                    <a:pt x="2177713" y="814007"/>
                    <a:pt x="2149266" y="857441"/>
                  </a:cubicBezTo>
                  <a:close/>
                </a:path>
              </a:pathLst>
            </a:custGeom>
            <a:solidFill>
              <a:srgbClr val="8fd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03" name="Freeform 66"/>
            <p:cNvSpPr/>
            <p:nvPr/>
          </p:nvSpPr>
          <p:spPr>
            <a:xfrm>
              <a:off x="2775240" y="3390120"/>
              <a:ext cx="570600" cy="670680"/>
            </a:xfrm>
            <a:custGeom>
              <a:avLst/>
              <a:gdLst/>
              <a:ahLst/>
              <a:rect l="l" t="t" r="r" b="b"/>
              <a:pathLst>
                <a:path w="733467" h="862045">
                  <a:moveTo>
                    <a:pt x="733467" y="760276"/>
                  </a:moveTo>
                  <a:cubicBezTo>
                    <a:pt x="683112" y="786184"/>
                    <a:pt x="664506" y="823839"/>
                    <a:pt x="658029" y="843143"/>
                  </a:cubicBezTo>
                  <a:cubicBezTo>
                    <a:pt x="550905" y="897753"/>
                    <a:pt x="512678" y="816664"/>
                    <a:pt x="512678" y="816664"/>
                  </a:cubicBezTo>
                  <a:cubicBezTo>
                    <a:pt x="512678" y="816664"/>
                    <a:pt x="119549" y="268913"/>
                    <a:pt x="20553" y="102289"/>
                  </a:cubicBezTo>
                  <a:cubicBezTo>
                    <a:pt x="-14690" y="42979"/>
                    <a:pt x="-529" y="15802"/>
                    <a:pt x="32300" y="5451"/>
                  </a:cubicBezTo>
                  <a:cubicBezTo>
                    <a:pt x="91736" y="-13408"/>
                    <a:pt x="212387" y="22723"/>
                    <a:pt x="212387" y="22723"/>
                  </a:cubicBezTo>
                  <a:cubicBezTo>
                    <a:pt x="205401" y="89589"/>
                    <a:pt x="218038" y="172964"/>
                    <a:pt x="276458" y="268659"/>
                  </a:cubicBezTo>
                  <a:cubicBezTo>
                    <a:pt x="345292" y="381308"/>
                    <a:pt x="440225" y="519865"/>
                    <a:pt x="565701" y="618290"/>
                  </a:cubicBezTo>
                  <a:cubicBezTo>
                    <a:pt x="657077" y="755132"/>
                    <a:pt x="733467" y="760276"/>
                    <a:pt x="733467" y="760276"/>
                  </a:cubicBezTo>
                  <a:close/>
                </a:path>
              </a:pathLst>
            </a:custGeom>
            <a:solidFill>
              <a:srgbClr val="8fd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04" name="Freeform 67"/>
            <p:cNvSpPr/>
            <p:nvPr/>
          </p:nvSpPr>
          <p:spPr>
            <a:xfrm>
              <a:off x="3215520" y="3871080"/>
              <a:ext cx="194400" cy="110520"/>
            </a:xfrm>
            <a:custGeom>
              <a:avLst/>
              <a:gdLst/>
              <a:ahLst/>
              <a:rect l="l" t="t" r="r" b="b"/>
              <a:pathLst>
                <a:path w="250252" h="142049">
                  <a:moveTo>
                    <a:pt x="250253" y="117729"/>
                  </a:moveTo>
                  <a:cubicBezTo>
                    <a:pt x="216090" y="122174"/>
                    <a:pt x="189039" y="131064"/>
                    <a:pt x="167767" y="142049"/>
                  </a:cubicBezTo>
                  <a:cubicBezTo>
                    <a:pt x="167767" y="142049"/>
                    <a:pt x="91376" y="136906"/>
                    <a:pt x="0" y="0"/>
                  </a:cubicBezTo>
                  <a:cubicBezTo>
                    <a:pt x="72834" y="57150"/>
                    <a:pt x="155956" y="100711"/>
                    <a:pt x="250253" y="117729"/>
                  </a:cubicBezTo>
                  <a:close/>
                </a:path>
              </a:pathLst>
            </a:custGeom>
            <a:solidFill>
              <a:srgbClr val="50b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05" name="Freeform 68"/>
            <p:cNvSpPr/>
            <p:nvPr/>
          </p:nvSpPr>
          <p:spPr>
            <a:xfrm>
              <a:off x="2800440" y="3293640"/>
              <a:ext cx="181800" cy="114120"/>
            </a:xfrm>
            <a:custGeom>
              <a:avLst/>
              <a:gdLst/>
              <a:ahLst/>
              <a:rect l="l" t="t" r="r" b="b"/>
              <a:pathLst>
                <a:path w="234061" h="146938">
                  <a:moveTo>
                    <a:pt x="234061" y="0"/>
                  </a:moveTo>
                  <a:cubicBezTo>
                    <a:pt x="213868" y="29464"/>
                    <a:pt x="187071" y="79883"/>
                    <a:pt x="180086" y="146939"/>
                  </a:cubicBezTo>
                  <a:cubicBezTo>
                    <a:pt x="180086" y="146939"/>
                    <a:pt x="59436" y="110808"/>
                    <a:pt x="0" y="129667"/>
                  </a:cubicBezTo>
                  <a:lnTo>
                    <a:pt x="183324" y="28130"/>
                  </a:lnTo>
                  <a:lnTo>
                    <a:pt x="234061" y="0"/>
                  </a:lnTo>
                  <a:close/>
                </a:path>
              </a:pathLst>
            </a:custGeom>
            <a:solidFill>
              <a:srgbClr val="50b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06" name="Freeform 69"/>
            <p:cNvSpPr/>
            <p:nvPr/>
          </p:nvSpPr>
          <p:spPr>
            <a:xfrm>
              <a:off x="3134880" y="4164480"/>
              <a:ext cx="884880" cy="547200"/>
            </a:xfrm>
            <a:custGeom>
              <a:avLst/>
              <a:gdLst/>
              <a:ahLst/>
              <a:rect l="l" t="t" r="r" b="b"/>
              <a:pathLst>
                <a:path w="1137613" h="703579">
                  <a:moveTo>
                    <a:pt x="330211" y="96329"/>
                  </a:moveTo>
                  <a:cubicBezTo>
                    <a:pt x="303287" y="58610"/>
                    <a:pt x="297064" y="26734"/>
                    <a:pt x="303605" y="0"/>
                  </a:cubicBezTo>
                  <a:lnTo>
                    <a:pt x="284300" y="24447"/>
                  </a:lnTo>
                  <a:lnTo>
                    <a:pt x="22744" y="355854"/>
                  </a:lnTo>
                  <a:cubicBezTo>
                    <a:pt x="-18849" y="408496"/>
                    <a:pt x="-1386" y="486092"/>
                    <a:pt x="58748" y="515810"/>
                  </a:cubicBezTo>
                  <a:lnTo>
                    <a:pt x="437780" y="703580"/>
                  </a:lnTo>
                  <a:lnTo>
                    <a:pt x="568844" y="619823"/>
                  </a:lnTo>
                  <a:lnTo>
                    <a:pt x="910220" y="401701"/>
                  </a:lnTo>
                  <a:cubicBezTo>
                    <a:pt x="910220" y="401701"/>
                    <a:pt x="910220" y="401701"/>
                    <a:pt x="910284" y="401701"/>
                  </a:cubicBezTo>
                  <a:lnTo>
                    <a:pt x="1004263" y="341694"/>
                  </a:lnTo>
                  <a:lnTo>
                    <a:pt x="1137613" y="256477"/>
                  </a:lnTo>
                  <a:cubicBezTo>
                    <a:pt x="689431" y="249428"/>
                    <a:pt x="447432" y="260667"/>
                    <a:pt x="330211" y="96329"/>
                  </a:cubicBezTo>
                  <a:close/>
                  <a:moveTo>
                    <a:pt x="311478" y="538734"/>
                  </a:moveTo>
                  <a:cubicBezTo>
                    <a:pt x="265377" y="538734"/>
                    <a:pt x="227976" y="501396"/>
                    <a:pt x="227976" y="455359"/>
                  </a:cubicBezTo>
                  <a:cubicBezTo>
                    <a:pt x="227976" y="409258"/>
                    <a:pt x="265377" y="371856"/>
                    <a:pt x="311478" y="371856"/>
                  </a:cubicBezTo>
                  <a:cubicBezTo>
                    <a:pt x="357516" y="371856"/>
                    <a:pt x="394918" y="409258"/>
                    <a:pt x="394918" y="455359"/>
                  </a:cubicBezTo>
                  <a:cubicBezTo>
                    <a:pt x="394918" y="501396"/>
                    <a:pt x="357516" y="538734"/>
                    <a:pt x="311478" y="5387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07" name="Freeform 70"/>
            <p:cNvSpPr/>
            <p:nvPr/>
          </p:nvSpPr>
          <p:spPr>
            <a:xfrm>
              <a:off x="3843000" y="4364280"/>
              <a:ext cx="266760" cy="112680"/>
            </a:xfrm>
            <a:custGeom>
              <a:avLst/>
              <a:gdLst/>
              <a:ahLst/>
              <a:rect l="l" t="t" r="r" b="b"/>
              <a:pathLst>
                <a:path w="343026" h="145224">
                  <a:moveTo>
                    <a:pt x="343026" y="5778"/>
                  </a:moveTo>
                  <a:lnTo>
                    <a:pt x="157289" y="115633"/>
                  </a:lnTo>
                  <a:lnTo>
                    <a:pt x="0" y="145224"/>
                  </a:lnTo>
                  <a:lnTo>
                    <a:pt x="227330" y="0"/>
                  </a:lnTo>
                  <a:cubicBezTo>
                    <a:pt x="240664" y="190"/>
                    <a:pt x="254126" y="381"/>
                    <a:pt x="267843" y="635"/>
                  </a:cubicBezTo>
                  <a:cubicBezTo>
                    <a:pt x="292798" y="1079"/>
                    <a:pt x="317881" y="2858"/>
                    <a:pt x="343026" y="5778"/>
                  </a:cubicBezTo>
                  <a:close/>
                </a:path>
              </a:pathLst>
            </a:custGeom>
            <a:solidFill>
              <a:srgbClr val="e2e3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08" name="Freeform 71"/>
            <p:cNvSpPr/>
            <p:nvPr/>
          </p:nvSpPr>
          <p:spPr>
            <a:xfrm>
              <a:off x="2984400" y="4477320"/>
              <a:ext cx="1926360" cy="941760"/>
            </a:xfrm>
            <a:custGeom>
              <a:avLst/>
              <a:gdLst/>
              <a:ahLst/>
              <a:rect l="l" t="t" r="r" b="b"/>
              <a:pathLst>
                <a:path w="2475928" h="1210564">
                  <a:moveTo>
                    <a:pt x="2475929" y="756221"/>
                  </a:moveTo>
                  <a:lnTo>
                    <a:pt x="2475929" y="1210564"/>
                  </a:lnTo>
                  <a:lnTo>
                    <a:pt x="40322" y="1210564"/>
                  </a:lnTo>
                  <a:cubicBezTo>
                    <a:pt x="18034" y="1210564"/>
                    <a:pt x="0" y="1192530"/>
                    <a:pt x="0" y="1170241"/>
                  </a:cubicBezTo>
                  <a:lnTo>
                    <a:pt x="0" y="1015555"/>
                  </a:lnTo>
                  <a:lnTo>
                    <a:pt x="1732470" y="1015555"/>
                  </a:lnTo>
                  <a:lnTo>
                    <a:pt x="1594294" y="926021"/>
                  </a:lnTo>
                  <a:lnTo>
                    <a:pt x="631000" y="301879"/>
                  </a:lnTo>
                  <a:lnTo>
                    <a:pt x="762064" y="218122"/>
                  </a:lnTo>
                  <a:lnTo>
                    <a:pt x="762127" y="218122"/>
                  </a:lnTo>
                  <a:lnTo>
                    <a:pt x="1103503" y="0"/>
                  </a:lnTo>
                  <a:cubicBezTo>
                    <a:pt x="1103503" y="0"/>
                    <a:pt x="1103503" y="0"/>
                    <a:pt x="1103567" y="0"/>
                  </a:cubicBezTo>
                  <a:cubicBezTo>
                    <a:pt x="1110488" y="1905"/>
                    <a:pt x="2475929" y="756221"/>
                    <a:pt x="2475929" y="7562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09" name="Freeform 72"/>
            <p:cNvSpPr/>
            <p:nvPr/>
          </p:nvSpPr>
          <p:spPr>
            <a:xfrm>
              <a:off x="2984400" y="5197680"/>
              <a:ext cx="1347840" cy="69480"/>
            </a:xfrm>
            <a:custGeom>
              <a:avLst/>
              <a:gdLst/>
              <a:ahLst/>
              <a:rect l="l" t="t" r="r" b="b"/>
              <a:pathLst>
                <a:path w="1732470" h="89534">
                  <a:moveTo>
                    <a:pt x="1732470" y="89535"/>
                  </a:moveTo>
                  <a:lnTo>
                    <a:pt x="0" y="89535"/>
                  </a:lnTo>
                  <a:lnTo>
                    <a:pt x="183832" y="6096"/>
                  </a:lnTo>
                  <a:cubicBezTo>
                    <a:pt x="192722" y="2095"/>
                    <a:pt x="202374" y="0"/>
                    <a:pt x="212154" y="0"/>
                  </a:cubicBezTo>
                  <a:lnTo>
                    <a:pt x="1594294" y="0"/>
                  </a:lnTo>
                  <a:lnTo>
                    <a:pt x="1732470" y="89535"/>
                  </a:ln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10" name="Freeform 73"/>
            <p:cNvSpPr/>
            <p:nvPr/>
          </p:nvSpPr>
          <p:spPr>
            <a:xfrm>
              <a:off x="4224960" y="5197680"/>
              <a:ext cx="360" cy="4680"/>
            </a:xfrm>
            <a:custGeom>
              <a:avLst/>
              <a:gdLst/>
              <a:ahLst/>
              <a:rect l="l" t="t" r="r" b="b"/>
              <a:pathLst>
                <a:path w="254" h="6350">
                  <a:moveTo>
                    <a:pt x="254" y="0"/>
                  </a:move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11" name="Freeform 74"/>
            <p:cNvSpPr/>
            <p:nvPr/>
          </p:nvSpPr>
          <p:spPr>
            <a:xfrm>
              <a:off x="3843000" y="4454280"/>
              <a:ext cx="1149840" cy="611280"/>
            </a:xfrm>
            <a:custGeom>
              <a:avLst/>
              <a:gdLst/>
              <a:ahLst/>
              <a:rect l="l" t="t" r="r" b="b"/>
              <a:pathLst>
                <a:path w="1477898" h="785812">
                  <a:moveTo>
                    <a:pt x="1477899" y="729107"/>
                  </a:moveTo>
                  <a:lnTo>
                    <a:pt x="1372362" y="785813"/>
                  </a:lnTo>
                  <a:cubicBezTo>
                    <a:pt x="1372362" y="785813"/>
                    <a:pt x="6921" y="31560"/>
                    <a:pt x="0" y="29591"/>
                  </a:cubicBezTo>
                  <a:lnTo>
                    <a:pt x="157289" y="0"/>
                  </a:lnTo>
                  <a:lnTo>
                    <a:pt x="1477899" y="729107"/>
                  </a:ln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12" name="Freeform 75"/>
            <p:cNvSpPr/>
            <p:nvPr/>
          </p:nvSpPr>
          <p:spPr>
            <a:xfrm>
              <a:off x="4911120" y="5021640"/>
              <a:ext cx="81720" cy="397440"/>
            </a:xfrm>
            <a:custGeom>
              <a:avLst/>
              <a:gdLst/>
              <a:ahLst/>
              <a:rect l="l" t="t" r="r" b="b"/>
              <a:pathLst>
                <a:path w="105474" h="511048">
                  <a:moveTo>
                    <a:pt x="105474" y="0"/>
                  </a:moveTo>
                  <a:lnTo>
                    <a:pt x="105474" y="399669"/>
                  </a:lnTo>
                  <a:cubicBezTo>
                    <a:pt x="105474" y="418592"/>
                    <a:pt x="96711" y="436499"/>
                    <a:pt x="81725" y="448056"/>
                  </a:cubicBezTo>
                  <a:lnTo>
                    <a:pt x="0" y="511048"/>
                  </a:lnTo>
                  <a:lnTo>
                    <a:pt x="0" y="56705"/>
                  </a:lnTo>
                  <a:lnTo>
                    <a:pt x="105474" y="0"/>
                  </a:lnTo>
                  <a:close/>
                </a:path>
              </a:pathLst>
            </a:custGeom>
            <a:solidFill>
              <a:srgbClr val="e2e3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13" name="Freeform 76"/>
            <p:cNvSpPr/>
            <p:nvPr/>
          </p:nvSpPr>
          <p:spPr>
            <a:xfrm>
              <a:off x="5041440" y="4649760"/>
              <a:ext cx="60120" cy="85680"/>
            </a:xfrm>
            <a:custGeom>
              <a:avLst/>
              <a:gdLst/>
              <a:ahLst/>
              <a:rect l="l" t="t" r="r" b="b"/>
              <a:pathLst>
                <a:path w="77723" h="110236">
                  <a:moveTo>
                    <a:pt x="0" y="110236"/>
                  </a:moveTo>
                  <a:cubicBezTo>
                    <a:pt x="28448" y="66802"/>
                    <a:pt x="19685" y="4763"/>
                    <a:pt x="14351" y="0"/>
                  </a:cubicBezTo>
                  <a:cubicBezTo>
                    <a:pt x="24511" y="9271"/>
                    <a:pt x="34481" y="18733"/>
                    <a:pt x="44132" y="28639"/>
                  </a:cubicBezTo>
                  <a:cubicBezTo>
                    <a:pt x="54610" y="27432"/>
                    <a:pt x="66104" y="25083"/>
                    <a:pt x="77724" y="21717"/>
                  </a:cubicBezTo>
                  <a:lnTo>
                    <a:pt x="0" y="110236"/>
                  </a:lnTo>
                  <a:close/>
                </a:path>
              </a:pathLst>
            </a:custGeom>
            <a:solidFill>
              <a:srgbClr val="50b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14" name="Freeform 77"/>
            <p:cNvSpPr/>
            <p:nvPr/>
          </p:nvSpPr>
          <p:spPr>
            <a:xfrm>
              <a:off x="3312000" y="4453920"/>
              <a:ext cx="129600" cy="129600"/>
            </a:xfrm>
            <a:custGeom>
              <a:avLst/>
              <a:gdLst/>
              <a:ahLst/>
              <a:rect l="l" t="t" r="r" b="b"/>
              <a:pathLst>
                <a:path w="166878" h="166877">
                  <a:moveTo>
                    <a:pt x="166878" y="83439"/>
                  </a:moveTo>
                  <a:cubicBezTo>
                    <a:pt x="166878" y="129540"/>
                    <a:pt x="129477" y="166878"/>
                    <a:pt x="83439" y="166878"/>
                  </a:cubicBezTo>
                  <a:cubicBezTo>
                    <a:pt x="37338" y="166878"/>
                    <a:pt x="0" y="129540"/>
                    <a:pt x="0" y="83439"/>
                  </a:cubicBezTo>
                  <a:cubicBezTo>
                    <a:pt x="0" y="37338"/>
                    <a:pt x="37402" y="0"/>
                    <a:pt x="83439" y="0"/>
                  </a:cubicBezTo>
                  <a:cubicBezTo>
                    <a:pt x="129477" y="-63"/>
                    <a:pt x="166878" y="37338"/>
                    <a:pt x="166878" y="83439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15" name="Freeform 78"/>
            <p:cNvSpPr/>
            <p:nvPr/>
          </p:nvSpPr>
          <p:spPr>
            <a:xfrm rot="18240600">
              <a:off x="4033080" y="4401720"/>
              <a:ext cx="7560" cy="1109160"/>
            </a:xfrm>
            <a:custGeom>
              <a:avLst/>
              <a:gdLst/>
              <a:ahLst/>
              <a:rect l="l" t="t" r="r" b="b"/>
              <a:pathLst>
                <a:path w="10160" h="1425450">
                  <a:moveTo>
                    <a:pt x="0" y="0"/>
                  </a:moveTo>
                  <a:lnTo>
                    <a:pt x="10160" y="0"/>
                  </a:lnTo>
                  <a:lnTo>
                    <a:pt x="10160" y="1425450"/>
                  </a:lnTo>
                  <a:lnTo>
                    <a:pt x="0" y="14254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2e3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16" name="Freeform 79"/>
            <p:cNvSpPr/>
            <p:nvPr/>
          </p:nvSpPr>
          <p:spPr>
            <a:xfrm>
              <a:off x="2537640" y="2802600"/>
              <a:ext cx="94680" cy="133920"/>
            </a:xfrm>
            <a:custGeom>
              <a:avLst/>
              <a:gdLst/>
              <a:ahLst/>
              <a:rect l="l" t="t" r="r" b="b"/>
              <a:pathLst>
                <a:path w="122108" h="172211">
                  <a:moveTo>
                    <a:pt x="122109" y="114364"/>
                  </a:moveTo>
                  <a:cubicBezTo>
                    <a:pt x="121157" y="115380"/>
                    <a:pt x="120204" y="116332"/>
                    <a:pt x="119188" y="117285"/>
                  </a:cubicBezTo>
                  <a:cubicBezTo>
                    <a:pt x="114679" y="121730"/>
                    <a:pt x="109917" y="126048"/>
                    <a:pt x="104837" y="130111"/>
                  </a:cubicBezTo>
                  <a:cubicBezTo>
                    <a:pt x="78612" y="151574"/>
                    <a:pt x="46481" y="166878"/>
                    <a:pt x="13778" y="172212"/>
                  </a:cubicBezTo>
                  <a:cubicBezTo>
                    <a:pt x="7301" y="150939"/>
                    <a:pt x="2792" y="129159"/>
                    <a:pt x="888" y="106807"/>
                  </a:cubicBezTo>
                  <a:cubicBezTo>
                    <a:pt x="-1018" y="85280"/>
                    <a:pt x="-319" y="62992"/>
                    <a:pt x="7619" y="42989"/>
                  </a:cubicBezTo>
                  <a:cubicBezTo>
                    <a:pt x="15620" y="22924"/>
                    <a:pt x="31939" y="5270"/>
                    <a:pt x="52894" y="0"/>
                  </a:cubicBezTo>
                  <a:lnTo>
                    <a:pt x="102805" y="82423"/>
                  </a:lnTo>
                  <a:lnTo>
                    <a:pt x="122109" y="114364"/>
                  </a:lnTo>
                  <a:close/>
                </a:path>
              </a:pathLst>
            </a:custGeom>
            <a:solidFill>
              <a:srgbClr val="8fd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17" name="Freeform 80"/>
            <p:cNvSpPr/>
            <p:nvPr/>
          </p:nvSpPr>
          <p:spPr>
            <a:xfrm>
              <a:off x="2604960" y="2459520"/>
              <a:ext cx="156960" cy="326520"/>
            </a:xfrm>
            <a:custGeom>
              <a:avLst/>
              <a:gdLst/>
              <a:ahLst/>
              <a:rect l="l" t="t" r="r" b="b"/>
              <a:pathLst>
                <a:path w="202057" h="420052">
                  <a:moveTo>
                    <a:pt x="202057" y="228854"/>
                  </a:moveTo>
                  <a:cubicBezTo>
                    <a:pt x="195453" y="231013"/>
                    <a:pt x="188849" y="232791"/>
                    <a:pt x="182372" y="234251"/>
                  </a:cubicBezTo>
                  <a:cubicBezTo>
                    <a:pt x="174815" y="236029"/>
                    <a:pt x="168720" y="241998"/>
                    <a:pt x="165227" y="248983"/>
                  </a:cubicBezTo>
                  <a:cubicBezTo>
                    <a:pt x="161671" y="255905"/>
                    <a:pt x="160338" y="263779"/>
                    <a:pt x="159385" y="271463"/>
                  </a:cubicBezTo>
                  <a:cubicBezTo>
                    <a:pt x="156146" y="298323"/>
                    <a:pt x="156972" y="325692"/>
                    <a:pt x="161925" y="352298"/>
                  </a:cubicBezTo>
                  <a:lnTo>
                    <a:pt x="12573" y="420052"/>
                  </a:lnTo>
                  <a:cubicBezTo>
                    <a:pt x="8065" y="279717"/>
                    <a:pt x="5461" y="141351"/>
                    <a:pt x="0" y="0"/>
                  </a:cubicBezTo>
                  <a:cubicBezTo>
                    <a:pt x="-64" y="0"/>
                    <a:pt x="69659" y="111696"/>
                    <a:pt x="202057" y="228854"/>
                  </a:cubicBezTo>
                  <a:close/>
                </a:path>
              </a:pathLst>
            </a:custGeom>
            <a:solidFill>
              <a:srgbClr val="e2e3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18" name="Freeform 81"/>
            <p:cNvSpPr/>
            <p:nvPr/>
          </p:nvSpPr>
          <p:spPr>
            <a:xfrm>
              <a:off x="3236400" y="2782440"/>
              <a:ext cx="158040" cy="233280"/>
            </a:xfrm>
            <a:custGeom>
              <a:avLst/>
              <a:gdLst/>
              <a:ahLst/>
              <a:rect l="l" t="t" r="r" b="b"/>
              <a:pathLst>
                <a:path w="203138" h="300109">
                  <a:moveTo>
                    <a:pt x="182402" y="230759"/>
                  </a:moveTo>
                  <a:cubicBezTo>
                    <a:pt x="164494" y="260858"/>
                    <a:pt x="131856" y="279781"/>
                    <a:pt x="98772" y="291338"/>
                  </a:cubicBezTo>
                  <a:cubicBezTo>
                    <a:pt x="85119" y="296101"/>
                    <a:pt x="70896" y="300990"/>
                    <a:pt x="56418" y="299974"/>
                  </a:cubicBezTo>
                  <a:cubicBezTo>
                    <a:pt x="53751" y="299784"/>
                    <a:pt x="51020" y="299339"/>
                    <a:pt x="48417" y="298641"/>
                  </a:cubicBezTo>
                  <a:cubicBezTo>
                    <a:pt x="39209" y="296291"/>
                    <a:pt x="30700" y="291021"/>
                    <a:pt x="25874" y="283274"/>
                  </a:cubicBezTo>
                  <a:cubicBezTo>
                    <a:pt x="24605" y="281242"/>
                    <a:pt x="23588" y="279019"/>
                    <a:pt x="22890" y="276606"/>
                  </a:cubicBezTo>
                  <a:cubicBezTo>
                    <a:pt x="21493" y="271780"/>
                    <a:pt x="21430" y="266700"/>
                    <a:pt x="21937" y="261620"/>
                  </a:cubicBezTo>
                  <a:cubicBezTo>
                    <a:pt x="22192" y="258699"/>
                    <a:pt x="22636" y="255651"/>
                    <a:pt x="23081" y="252793"/>
                  </a:cubicBezTo>
                  <a:cubicBezTo>
                    <a:pt x="27145" y="227711"/>
                    <a:pt x="31144" y="202565"/>
                    <a:pt x="35209" y="177483"/>
                  </a:cubicBezTo>
                  <a:cubicBezTo>
                    <a:pt x="39146" y="152718"/>
                    <a:pt x="45496" y="125222"/>
                    <a:pt x="64546" y="108839"/>
                  </a:cubicBezTo>
                  <a:cubicBezTo>
                    <a:pt x="49243" y="98552"/>
                    <a:pt x="33812" y="88138"/>
                    <a:pt x="21810" y="74232"/>
                  </a:cubicBezTo>
                  <a:cubicBezTo>
                    <a:pt x="3967" y="53531"/>
                    <a:pt x="-1939" y="27242"/>
                    <a:pt x="538" y="0"/>
                  </a:cubicBezTo>
                  <a:cubicBezTo>
                    <a:pt x="27652" y="11493"/>
                    <a:pt x="56862" y="18034"/>
                    <a:pt x="86263" y="19240"/>
                  </a:cubicBezTo>
                  <a:cubicBezTo>
                    <a:pt x="92931" y="19558"/>
                    <a:pt x="99598" y="19558"/>
                    <a:pt x="106202" y="19304"/>
                  </a:cubicBezTo>
                  <a:cubicBezTo>
                    <a:pt x="108234" y="19177"/>
                    <a:pt x="110266" y="19114"/>
                    <a:pt x="112361" y="18987"/>
                  </a:cubicBezTo>
                  <a:cubicBezTo>
                    <a:pt x="132427" y="17971"/>
                    <a:pt x="153573" y="16320"/>
                    <a:pt x="169956" y="27432"/>
                  </a:cubicBezTo>
                  <a:cubicBezTo>
                    <a:pt x="198912" y="47054"/>
                    <a:pt x="198404" y="94552"/>
                    <a:pt x="202087" y="129349"/>
                  </a:cubicBezTo>
                  <a:cubicBezTo>
                    <a:pt x="205707" y="164211"/>
                    <a:pt x="200182" y="200660"/>
                    <a:pt x="182402" y="230759"/>
                  </a:cubicBezTo>
                  <a:close/>
                </a:path>
              </a:pathLst>
            </a:custGeom>
            <a:solidFill>
              <a:srgbClr val="8fd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19" name="Freeform 82"/>
            <p:cNvSpPr/>
            <p:nvPr/>
          </p:nvSpPr>
          <p:spPr>
            <a:xfrm>
              <a:off x="3218400" y="2840400"/>
              <a:ext cx="68040" cy="145800"/>
            </a:xfrm>
            <a:custGeom>
              <a:avLst/>
              <a:gdLst/>
              <a:ahLst/>
              <a:rect l="l" t="t" r="r" b="b"/>
              <a:pathLst>
                <a:path w="87756" h="187452">
                  <a:moveTo>
                    <a:pt x="87757" y="34671"/>
                  </a:moveTo>
                  <a:cubicBezTo>
                    <a:pt x="68770" y="51054"/>
                    <a:pt x="62420" y="78549"/>
                    <a:pt x="58420" y="103315"/>
                  </a:cubicBezTo>
                  <a:cubicBezTo>
                    <a:pt x="54356" y="128397"/>
                    <a:pt x="50356" y="153543"/>
                    <a:pt x="46292" y="178626"/>
                  </a:cubicBezTo>
                  <a:cubicBezTo>
                    <a:pt x="45847" y="181546"/>
                    <a:pt x="45403" y="184531"/>
                    <a:pt x="45148" y="187452"/>
                  </a:cubicBezTo>
                  <a:lnTo>
                    <a:pt x="45085" y="187452"/>
                  </a:lnTo>
                  <a:lnTo>
                    <a:pt x="0" y="178943"/>
                  </a:lnTo>
                  <a:lnTo>
                    <a:pt x="23241" y="2540"/>
                  </a:lnTo>
                  <a:lnTo>
                    <a:pt x="45021" y="0"/>
                  </a:lnTo>
                  <a:cubicBezTo>
                    <a:pt x="57023" y="14034"/>
                    <a:pt x="72454" y="24448"/>
                    <a:pt x="87757" y="34671"/>
                  </a:cubicBezTo>
                  <a:close/>
                </a:path>
              </a:pathLst>
            </a:custGeom>
            <a:solidFill>
              <a:srgbClr val="d16b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20" name="Freeform 83"/>
            <p:cNvSpPr/>
            <p:nvPr/>
          </p:nvSpPr>
          <p:spPr>
            <a:xfrm>
              <a:off x="3020400" y="2796840"/>
              <a:ext cx="215640" cy="224280"/>
            </a:xfrm>
            <a:custGeom>
              <a:avLst/>
              <a:gdLst/>
              <a:ahLst/>
              <a:rect l="l" t="t" r="r" b="b"/>
              <a:pathLst>
                <a:path w="277431" h="288630">
                  <a:moveTo>
                    <a:pt x="277432" y="58738"/>
                  </a:moveTo>
                  <a:lnTo>
                    <a:pt x="254191" y="235141"/>
                  </a:lnTo>
                  <a:lnTo>
                    <a:pt x="247333" y="287338"/>
                  </a:lnTo>
                  <a:cubicBezTo>
                    <a:pt x="247333" y="287338"/>
                    <a:pt x="209423" y="293307"/>
                    <a:pt x="158686" y="279591"/>
                  </a:cubicBezTo>
                  <a:lnTo>
                    <a:pt x="158623" y="279591"/>
                  </a:lnTo>
                  <a:cubicBezTo>
                    <a:pt x="112523" y="182817"/>
                    <a:pt x="59436" y="89281"/>
                    <a:pt x="0" y="0"/>
                  </a:cubicBezTo>
                  <a:cubicBezTo>
                    <a:pt x="83439" y="31750"/>
                    <a:pt x="176023" y="53530"/>
                    <a:pt x="277432" y="58738"/>
                  </a:cubicBezTo>
                  <a:lnTo>
                    <a:pt x="277432" y="58738"/>
                  </a:lnTo>
                  <a:close/>
                </a:path>
              </a:pathLst>
            </a:custGeom>
            <a:solidFill>
              <a:srgbClr val="e2e3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21" name="Freeform 84"/>
            <p:cNvSpPr/>
            <p:nvPr/>
          </p:nvSpPr>
          <p:spPr>
            <a:xfrm>
              <a:off x="3303360" y="2708280"/>
              <a:ext cx="38160" cy="89280"/>
            </a:xfrm>
            <a:custGeom>
              <a:avLst/>
              <a:gdLst/>
              <a:ahLst/>
              <a:rect l="l" t="t" r="r" b="b"/>
              <a:pathLst>
                <a:path w="49077" h="115118">
                  <a:moveTo>
                    <a:pt x="48768" y="15494"/>
                  </a:moveTo>
                  <a:lnTo>
                    <a:pt x="26098" y="114617"/>
                  </a:lnTo>
                  <a:cubicBezTo>
                    <a:pt x="24003" y="114744"/>
                    <a:pt x="21971" y="114808"/>
                    <a:pt x="19939" y="114935"/>
                  </a:cubicBezTo>
                  <a:cubicBezTo>
                    <a:pt x="13271" y="115189"/>
                    <a:pt x="6604" y="115189"/>
                    <a:pt x="0" y="114871"/>
                  </a:cubicBezTo>
                  <a:lnTo>
                    <a:pt x="24003" y="9842"/>
                  </a:lnTo>
                  <a:cubicBezTo>
                    <a:pt x="25400" y="3937"/>
                    <a:pt x="30607" y="0"/>
                    <a:pt x="36385" y="0"/>
                  </a:cubicBezTo>
                  <a:cubicBezTo>
                    <a:pt x="37274" y="0"/>
                    <a:pt x="38291" y="127"/>
                    <a:pt x="39180" y="317"/>
                  </a:cubicBezTo>
                  <a:cubicBezTo>
                    <a:pt x="46038" y="1905"/>
                    <a:pt x="50292" y="8699"/>
                    <a:pt x="48768" y="1549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22" name="Freeform 85"/>
            <p:cNvSpPr/>
            <p:nvPr/>
          </p:nvSpPr>
          <p:spPr>
            <a:xfrm>
              <a:off x="3196800" y="3003120"/>
              <a:ext cx="79200" cy="171720"/>
            </a:xfrm>
            <a:custGeom>
              <a:avLst/>
              <a:gdLst/>
              <a:ahLst/>
              <a:rect l="l" t="t" r="r" b="b"/>
              <a:pathLst>
                <a:path w="101854" h="220980">
                  <a:moveTo>
                    <a:pt x="70167" y="122936"/>
                  </a:moveTo>
                  <a:lnTo>
                    <a:pt x="72707" y="98552"/>
                  </a:lnTo>
                  <a:lnTo>
                    <a:pt x="79883" y="100203"/>
                  </a:lnTo>
                  <a:lnTo>
                    <a:pt x="99314" y="15367"/>
                  </a:lnTo>
                  <a:cubicBezTo>
                    <a:pt x="90106" y="13018"/>
                    <a:pt x="81597" y="7747"/>
                    <a:pt x="76771" y="0"/>
                  </a:cubicBezTo>
                  <a:lnTo>
                    <a:pt x="55181" y="94488"/>
                  </a:lnTo>
                  <a:lnTo>
                    <a:pt x="61785" y="96012"/>
                  </a:lnTo>
                  <a:lnTo>
                    <a:pt x="54546" y="119253"/>
                  </a:lnTo>
                  <a:cubicBezTo>
                    <a:pt x="53340" y="119126"/>
                    <a:pt x="52133" y="119126"/>
                    <a:pt x="50927" y="119126"/>
                  </a:cubicBezTo>
                  <a:cubicBezTo>
                    <a:pt x="22796" y="119126"/>
                    <a:pt x="0" y="141923"/>
                    <a:pt x="0" y="170053"/>
                  </a:cubicBezTo>
                  <a:cubicBezTo>
                    <a:pt x="0" y="198184"/>
                    <a:pt x="22796" y="220980"/>
                    <a:pt x="50927" y="220980"/>
                  </a:cubicBezTo>
                  <a:cubicBezTo>
                    <a:pt x="79057" y="220980"/>
                    <a:pt x="101854" y="198184"/>
                    <a:pt x="101854" y="170053"/>
                  </a:cubicBezTo>
                  <a:cubicBezTo>
                    <a:pt x="101791" y="148844"/>
                    <a:pt x="88773" y="130556"/>
                    <a:pt x="70167" y="12293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23" name="Freeform 86"/>
            <p:cNvSpPr/>
            <p:nvPr/>
          </p:nvSpPr>
          <p:spPr>
            <a:xfrm>
              <a:off x="4807800" y="3353040"/>
              <a:ext cx="761400" cy="140040"/>
            </a:xfrm>
            <a:custGeom>
              <a:avLst/>
              <a:gdLst/>
              <a:ahLst/>
              <a:rect l="l" t="t" r="r" b="b"/>
              <a:pathLst>
                <a:path w="978598" h="180276">
                  <a:moveTo>
                    <a:pt x="0" y="0"/>
                  </a:moveTo>
                  <a:lnTo>
                    <a:pt x="0" y="180277"/>
                  </a:lnTo>
                  <a:lnTo>
                    <a:pt x="978598" y="180277"/>
                  </a:lnTo>
                  <a:lnTo>
                    <a:pt x="978598" y="0"/>
                  </a:lnTo>
                  <a:lnTo>
                    <a:pt x="0" y="0"/>
                  </a:lnTo>
                  <a:close/>
                  <a:moveTo>
                    <a:pt x="603948" y="157671"/>
                  </a:moveTo>
                  <a:cubicBezTo>
                    <a:pt x="594423" y="157671"/>
                    <a:pt x="586613" y="149923"/>
                    <a:pt x="586613" y="140335"/>
                  </a:cubicBezTo>
                  <a:cubicBezTo>
                    <a:pt x="586613" y="130747"/>
                    <a:pt x="594360" y="122999"/>
                    <a:pt x="603948" y="122999"/>
                  </a:cubicBezTo>
                  <a:cubicBezTo>
                    <a:pt x="613473" y="122999"/>
                    <a:pt x="621220" y="130747"/>
                    <a:pt x="621220" y="140335"/>
                  </a:cubicBezTo>
                  <a:cubicBezTo>
                    <a:pt x="621220" y="149923"/>
                    <a:pt x="613537" y="157671"/>
                    <a:pt x="603948" y="157671"/>
                  </a:cubicBezTo>
                  <a:close/>
                  <a:moveTo>
                    <a:pt x="686371" y="157671"/>
                  </a:moveTo>
                  <a:cubicBezTo>
                    <a:pt x="676846" y="157671"/>
                    <a:pt x="669036" y="149923"/>
                    <a:pt x="669036" y="140335"/>
                  </a:cubicBezTo>
                  <a:cubicBezTo>
                    <a:pt x="669036" y="130747"/>
                    <a:pt x="676783" y="122999"/>
                    <a:pt x="686371" y="122999"/>
                  </a:cubicBezTo>
                  <a:cubicBezTo>
                    <a:pt x="695896" y="122999"/>
                    <a:pt x="703643" y="130747"/>
                    <a:pt x="703643" y="140335"/>
                  </a:cubicBezTo>
                  <a:cubicBezTo>
                    <a:pt x="703643" y="149923"/>
                    <a:pt x="695896" y="157671"/>
                    <a:pt x="686371" y="157671"/>
                  </a:cubicBezTo>
                  <a:close/>
                  <a:moveTo>
                    <a:pt x="768794" y="157671"/>
                  </a:moveTo>
                  <a:cubicBezTo>
                    <a:pt x="759269" y="157671"/>
                    <a:pt x="751459" y="149923"/>
                    <a:pt x="751459" y="140335"/>
                  </a:cubicBezTo>
                  <a:cubicBezTo>
                    <a:pt x="751459" y="130747"/>
                    <a:pt x="759206" y="122999"/>
                    <a:pt x="768794" y="122999"/>
                  </a:cubicBezTo>
                  <a:cubicBezTo>
                    <a:pt x="778319" y="122999"/>
                    <a:pt x="786066" y="130747"/>
                    <a:pt x="786066" y="140335"/>
                  </a:cubicBezTo>
                  <a:cubicBezTo>
                    <a:pt x="786066" y="149923"/>
                    <a:pt x="778319" y="157671"/>
                    <a:pt x="768794" y="157671"/>
                  </a:cubicBezTo>
                  <a:close/>
                  <a:moveTo>
                    <a:pt x="851154" y="157671"/>
                  </a:moveTo>
                  <a:cubicBezTo>
                    <a:pt x="841629" y="157671"/>
                    <a:pt x="833818" y="149923"/>
                    <a:pt x="833818" y="140335"/>
                  </a:cubicBezTo>
                  <a:cubicBezTo>
                    <a:pt x="833818" y="130747"/>
                    <a:pt x="841565" y="122999"/>
                    <a:pt x="851154" y="122999"/>
                  </a:cubicBezTo>
                  <a:cubicBezTo>
                    <a:pt x="860679" y="122999"/>
                    <a:pt x="868426" y="130747"/>
                    <a:pt x="868426" y="140335"/>
                  </a:cubicBezTo>
                  <a:cubicBezTo>
                    <a:pt x="868426" y="149923"/>
                    <a:pt x="860742" y="157671"/>
                    <a:pt x="851154" y="15767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24" name="Freeform 87"/>
            <p:cNvSpPr/>
            <p:nvPr/>
          </p:nvSpPr>
          <p:spPr>
            <a:xfrm>
              <a:off x="4807800" y="3493440"/>
              <a:ext cx="761400" cy="104760"/>
            </a:xfrm>
            <a:custGeom>
              <a:avLst/>
              <a:gdLst/>
              <a:ahLst/>
              <a:rect l="l" t="t" r="r" b="b"/>
              <a:pathLst>
                <a:path w="978598" h="135064">
                  <a:moveTo>
                    <a:pt x="978598" y="0"/>
                  </a:moveTo>
                  <a:cubicBezTo>
                    <a:pt x="978598" y="40005"/>
                    <a:pt x="961200" y="75883"/>
                    <a:pt x="933576" y="100647"/>
                  </a:cubicBezTo>
                  <a:cubicBezTo>
                    <a:pt x="914146" y="118046"/>
                    <a:pt x="889571" y="129921"/>
                    <a:pt x="862457" y="133667"/>
                  </a:cubicBezTo>
                  <a:cubicBezTo>
                    <a:pt x="856234" y="134557"/>
                    <a:pt x="849947" y="135064"/>
                    <a:pt x="843534" y="135064"/>
                  </a:cubicBezTo>
                  <a:lnTo>
                    <a:pt x="135001" y="135064"/>
                  </a:lnTo>
                  <a:cubicBezTo>
                    <a:pt x="60451" y="135064"/>
                    <a:pt x="0" y="74613"/>
                    <a:pt x="0" y="64"/>
                  </a:cubicBezTo>
                  <a:lnTo>
                    <a:pt x="978598" y="64"/>
                  </a:lnTo>
                  <a:lnTo>
                    <a:pt x="978598" y="0"/>
                  </a:ln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25" name="Freeform 88"/>
            <p:cNvSpPr/>
            <p:nvPr/>
          </p:nvSpPr>
          <p:spPr>
            <a:xfrm>
              <a:off x="4311720" y="3228120"/>
              <a:ext cx="26640" cy="26640"/>
            </a:xfrm>
            <a:custGeom>
              <a:avLst/>
              <a:gdLst/>
              <a:ahLst/>
              <a:rect l="l" t="t" r="r" b="b"/>
              <a:pathLst>
                <a:path w="34544" h="34544">
                  <a:moveTo>
                    <a:pt x="-30992" y="17272"/>
                  </a:moveTo>
                  <a:cubicBezTo>
                    <a:pt x="-30992" y="26811"/>
                    <a:pt x="26811" y="-30992"/>
                    <a:pt x="17272" y="-30992"/>
                  </a:cubicBezTo>
                  <a:cubicBezTo>
                    <a:pt x="7733" y="-30992"/>
                    <a:pt x="0" y="26811"/>
                    <a:pt x="0" y="17272"/>
                  </a:cubicBezTo>
                  <a:cubicBezTo>
                    <a:pt x="0" y="7733"/>
                    <a:pt x="7733" y="0"/>
                    <a:pt x="17272" y="0"/>
                  </a:cubicBezTo>
                  <a:cubicBezTo>
                    <a:pt x="26811" y="0"/>
                    <a:pt x="-30992" y="7733"/>
                    <a:pt x="-30992" y="17272"/>
                  </a:cubicBezTo>
                  <a:close/>
                </a:path>
              </a:pathLst>
            </a:custGeom>
            <a:solidFill>
              <a:srgbClr val="f6a5a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26" name="Freeform 89"/>
            <p:cNvSpPr/>
            <p:nvPr/>
          </p:nvSpPr>
          <p:spPr>
            <a:xfrm>
              <a:off x="4249440" y="3228120"/>
              <a:ext cx="26640" cy="26640"/>
            </a:xfrm>
            <a:custGeom>
              <a:avLst/>
              <a:gdLst/>
              <a:ahLst/>
              <a:rect l="l" t="t" r="r" b="b"/>
              <a:pathLst>
                <a:path w="34544" h="34544">
                  <a:moveTo>
                    <a:pt x="-30992" y="17272"/>
                  </a:moveTo>
                  <a:cubicBezTo>
                    <a:pt x="-30992" y="26811"/>
                    <a:pt x="26811" y="-30992"/>
                    <a:pt x="17272" y="-30992"/>
                  </a:cubicBezTo>
                  <a:cubicBezTo>
                    <a:pt x="7733" y="-30992"/>
                    <a:pt x="0" y="26811"/>
                    <a:pt x="0" y="17272"/>
                  </a:cubicBezTo>
                  <a:cubicBezTo>
                    <a:pt x="0" y="7733"/>
                    <a:pt x="7733" y="0"/>
                    <a:pt x="17272" y="0"/>
                  </a:cubicBezTo>
                  <a:cubicBezTo>
                    <a:pt x="26811" y="0"/>
                    <a:pt x="-30992" y="7733"/>
                    <a:pt x="-30992" y="17272"/>
                  </a:cubicBezTo>
                  <a:close/>
                </a:path>
              </a:pathLst>
            </a:custGeom>
            <a:solidFill>
              <a:srgbClr val="f6a5a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pic>
          <p:nvPicPr>
            <p:cNvPr id="1227" name="Graphic 6" descr=""/>
            <p:cNvPicPr/>
            <p:nvPr/>
          </p:nvPicPr>
          <p:blipFill>
            <a:blip r:embed="rId2"/>
            <a:stretch/>
          </p:blipFill>
          <p:spPr>
            <a:xfrm>
              <a:off x="5266800" y="3450240"/>
              <a:ext cx="21924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8" name="Freeform 95"/>
            <p:cNvSpPr/>
            <p:nvPr/>
          </p:nvSpPr>
          <p:spPr>
            <a:xfrm>
              <a:off x="4947120" y="3731040"/>
              <a:ext cx="48960" cy="54360"/>
            </a:xfrm>
            <a:custGeom>
              <a:avLst/>
              <a:gdLst/>
              <a:ahLst/>
              <a:rect l="l" t="t" r="r" b="b"/>
              <a:pathLst>
                <a:path w="63372" h="70167">
                  <a:moveTo>
                    <a:pt x="63373" y="20447"/>
                  </a:moveTo>
                  <a:lnTo>
                    <a:pt x="63373" y="49657"/>
                  </a:lnTo>
                  <a:cubicBezTo>
                    <a:pt x="63373" y="55118"/>
                    <a:pt x="61214" y="60008"/>
                    <a:pt x="57785" y="63691"/>
                  </a:cubicBezTo>
                  <a:cubicBezTo>
                    <a:pt x="54102" y="67628"/>
                    <a:pt x="48768" y="70167"/>
                    <a:pt x="42926" y="70167"/>
                  </a:cubicBezTo>
                  <a:lnTo>
                    <a:pt x="20447" y="70167"/>
                  </a:lnTo>
                  <a:cubicBezTo>
                    <a:pt x="9144" y="70167"/>
                    <a:pt x="0" y="61023"/>
                    <a:pt x="0" y="49721"/>
                  </a:cubicBezTo>
                  <a:lnTo>
                    <a:pt x="0" y="20510"/>
                  </a:lnTo>
                  <a:cubicBezTo>
                    <a:pt x="0" y="9461"/>
                    <a:pt x="8763" y="381"/>
                    <a:pt x="19876" y="64"/>
                  </a:cubicBezTo>
                  <a:cubicBezTo>
                    <a:pt x="20066" y="0"/>
                    <a:pt x="20256" y="0"/>
                    <a:pt x="20510" y="0"/>
                  </a:cubicBezTo>
                  <a:lnTo>
                    <a:pt x="42990" y="0"/>
                  </a:lnTo>
                  <a:cubicBezTo>
                    <a:pt x="54166" y="0"/>
                    <a:pt x="63373" y="9144"/>
                    <a:pt x="63373" y="20447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29" name="Freeform 96"/>
            <p:cNvSpPr/>
            <p:nvPr/>
          </p:nvSpPr>
          <p:spPr>
            <a:xfrm>
              <a:off x="5081400" y="3731040"/>
              <a:ext cx="48960" cy="54360"/>
            </a:xfrm>
            <a:custGeom>
              <a:avLst/>
              <a:gdLst/>
              <a:ahLst/>
              <a:rect l="l" t="t" r="r" b="b"/>
              <a:pathLst>
                <a:path w="63372" h="70167">
                  <a:moveTo>
                    <a:pt x="63373" y="20447"/>
                  </a:moveTo>
                  <a:lnTo>
                    <a:pt x="63373" y="49657"/>
                  </a:lnTo>
                  <a:cubicBezTo>
                    <a:pt x="63373" y="55118"/>
                    <a:pt x="61214" y="60008"/>
                    <a:pt x="57785" y="63691"/>
                  </a:cubicBezTo>
                  <a:cubicBezTo>
                    <a:pt x="54102" y="67628"/>
                    <a:pt x="48768" y="70167"/>
                    <a:pt x="42926" y="70167"/>
                  </a:cubicBezTo>
                  <a:lnTo>
                    <a:pt x="20447" y="70167"/>
                  </a:lnTo>
                  <a:cubicBezTo>
                    <a:pt x="14541" y="70167"/>
                    <a:pt x="9271" y="67691"/>
                    <a:pt x="5588" y="63691"/>
                  </a:cubicBezTo>
                  <a:cubicBezTo>
                    <a:pt x="2159" y="60008"/>
                    <a:pt x="0" y="55182"/>
                    <a:pt x="0" y="49657"/>
                  </a:cubicBezTo>
                  <a:lnTo>
                    <a:pt x="0" y="20447"/>
                  </a:lnTo>
                  <a:cubicBezTo>
                    <a:pt x="0" y="9144"/>
                    <a:pt x="9144" y="0"/>
                    <a:pt x="20447" y="0"/>
                  </a:cubicBezTo>
                  <a:lnTo>
                    <a:pt x="42926" y="0"/>
                  </a:lnTo>
                  <a:cubicBezTo>
                    <a:pt x="54165" y="0"/>
                    <a:pt x="63373" y="9144"/>
                    <a:pt x="63373" y="20447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30" name="Freeform 97"/>
            <p:cNvSpPr/>
            <p:nvPr/>
          </p:nvSpPr>
          <p:spPr>
            <a:xfrm>
              <a:off x="5215680" y="3731040"/>
              <a:ext cx="48960" cy="54360"/>
            </a:xfrm>
            <a:custGeom>
              <a:avLst/>
              <a:gdLst/>
              <a:ahLst/>
              <a:rect l="l" t="t" r="r" b="b"/>
              <a:pathLst>
                <a:path w="63373" h="70167">
                  <a:moveTo>
                    <a:pt x="63374" y="20447"/>
                  </a:moveTo>
                  <a:lnTo>
                    <a:pt x="63374" y="49657"/>
                  </a:lnTo>
                  <a:cubicBezTo>
                    <a:pt x="63374" y="55118"/>
                    <a:pt x="61214" y="60008"/>
                    <a:pt x="57786" y="63691"/>
                  </a:cubicBezTo>
                  <a:cubicBezTo>
                    <a:pt x="54102" y="67628"/>
                    <a:pt x="48768" y="70167"/>
                    <a:pt x="42926" y="70167"/>
                  </a:cubicBezTo>
                  <a:lnTo>
                    <a:pt x="20448" y="70167"/>
                  </a:lnTo>
                  <a:cubicBezTo>
                    <a:pt x="14605" y="70167"/>
                    <a:pt x="9272" y="67691"/>
                    <a:pt x="5588" y="63691"/>
                  </a:cubicBezTo>
                  <a:cubicBezTo>
                    <a:pt x="2160" y="60008"/>
                    <a:pt x="0" y="55182"/>
                    <a:pt x="0" y="49657"/>
                  </a:cubicBezTo>
                  <a:lnTo>
                    <a:pt x="0" y="20447"/>
                  </a:lnTo>
                  <a:cubicBezTo>
                    <a:pt x="0" y="9144"/>
                    <a:pt x="9208" y="0"/>
                    <a:pt x="20448" y="0"/>
                  </a:cubicBezTo>
                  <a:lnTo>
                    <a:pt x="42926" y="0"/>
                  </a:lnTo>
                  <a:cubicBezTo>
                    <a:pt x="54229" y="0"/>
                    <a:pt x="63374" y="9144"/>
                    <a:pt x="63374" y="20447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31" name="Freeform 98"/>
            <p:cNvSpPr/>
            <p:nvPr/>
          </p:nvSpPr>
          <p:spPr>
            <a:xfrm>
              <a:off x="5349600" y="3731040"/>
              <a:ext cx="48960" cy="54360"/>
            </a:xfrm>
            <a:custGeom>
              <a:avLst/>
              <a:gdLst/>
              <a:ahLst/>
              <a:rect l="l" t="t" r="r" b="b"/>
              <a:pathLst>
                <a:path w="63372" h="70167">
                  <a:moveTo>
                    <a:pt x="63373" y="20447"/>
                  </a:moveTo>
                  <a:lnTo>
                    <a:pt x="63373" y="49657"/>
                  </a:lnTo>
                  <a:cubicBezTo>
                    <a:pt x="63373" y="55118"/>
                    <a:pt x="61214" y="60008"/>
                    <a:pt x="57785" y="63691"/>
                  </a:cubicBezTo>
                  <a:cubicBezTo>
                    <a:pt x="54102" y="67628"/>
                    <a:pt x="48768" y="70167"/>
                    <a:pt x="42926" y="70167"/>
                  </a:cubicBezTo>
                  <a:lnTo>
                    <a:pt x="20447" y="70167"/>
                  </a:lnTo>
                  <a:cubicBezTo>
                    <a:pt x="14605" y="70167"/>
                    <a:pt x="9271" y="67691"/>
                    <a:pt x="5588" y="63691"/>
                  </a:cubicBezTo>
                  <a:cubicBezTo>
                    <a:pt x="2159" y="60008"/>
                    <a:pt x="0" y="55182"/>
                    <a:pt x="0" y="49657"/>
                  </a:cubicBezTo>
                  <a:lnTo>
                    <a:pt x="0" y="20447"/>
                  </a:lnTo>
                  <a:cubicBezTo>
                    <a:pt x="0" y="9144"/>
                    <a:pt x="9208" y="0"/>
                    <a:pt x="20447" y="0"/>
                  </a:cubicBezTo>
                  <a:lnTo>
                    <a:pt x="42926" y="0"/>
                  </a:lnTo>
                  <a:cubicBezTo>
                    <a:pt x="54229" y="0"/>
                    <a:pt x="63373" y="9144"/>
                    <a:pt x="63373" y="20447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32" name="Freeform 99"/>
            <p:cNvSpPr/>
            <p:nvPr/>
          </p:nvSpPr>
          <p:spPr>
            <a:xfrm>
              <a:off x="4925160" y="3571560"/>
              <a:ext cx="608760" cy="709560"/>
            </a:xfrm>
            <a:custGeom>
              <a:avLst/>
              <a:gdLst/>
              <a:ahLst/>
              <a:rect l="l" t="t" r="r" b="b"/>
              <a:pathLst>
                <a:path w="782573" h="911986">
                  <a:moveTo>
                    <a:pt x="711708" y="33020"/>
                  </a:moveTo>
                  <a:lnTo>
                    <a:pt x="711708" y="124333"/>
                  </a:lnTo>
                  <a:cubicBezTo>
                    <a:pt x="711708" y="164592"/>
                    <a:pt x="678942" y="197358"/>
                    <a:pt x="638746" y="197358"/>
                  </a:cubicBezTo>
                  <a:lnTo>
                    <a:pt x="637095" y="197358"/>
                  </a:lnTo>
                  <a:lnTo>
                    <a:pt x="637095" y="194183"/>
                  </a:lnTo>
                  <a:cubicBezTo>
                    <a:pt x="637095" y="182880"/>
                    <a:pt x="627888" y="173736"/>
                    <a:pt x="616648" y="173736"/>
                  </a:cubicBezTo>
                  <a:lnTo>
                    <a:pt x="537972" y="173736"/>
                  </a:lnTo>
                  <a:cubicBezTo>
                    <a:pt x="526669" y="173736"/>
                    <a:pt x="517525" y="182880"/>
                    <a:pt x="517525" y="194183"/>
                  </a:cubicBezTo>
                  <a:lnTo>
                    <a:pt x="517525" y="197358"/>
                  </a:lnTo>
                  <a:lnTo>
                    <a:pt x="464629" y="197358"/>
                  </a:lnTo>
                  <a:lnTo>
                    <a:pt x="464629" y="194183"/>
                  </a:lnTo>
                  <a:cubicBezTo>
                    <a:pt x="464629" y="182880"/>
                    <a:pt x="455422" y="173736"/>
                    <a:pt x="444182" y="173736"/>
                  </a:cubicBezTo>
                  <a:lnTo>
                    <a:pt x="365506" y="173736"/>
                  </a:lnTo>
                  <a:cubicBezTo>
                    <a:pt x="354202" y="173736"/>
                    <a:pt x="345059" y="182880"/>
                    <a:pt x="345059" y="194183"/>
                  </a:cubicBezTo>
                  <a:lnTo>
                    <a:pt x="345059" y="197358"/>
                  </a:lnTo>
                  <a:lnTo>
                    <a:pt x="292100" y="197358"/>
                  </a:lnTo>
                  <a:lnTo>
                    <a:pt x="292100" y="194183"/>
                  </a:lnTo>
                  <a:cubicBezTo>
                    <a:pt x="292100" y="182880"/>
                    <a:pt x="282956" y="173736"/>
                    <a:pt x="271652" y="173736"/>
                  </a:cubicBezTo>
                  <a:lnTo>
                    <a:pt x="192976" y="173736"/>
                  </a:lnTo>
                  <a:cubicBezTo>
                    <a:pt x="181673" y="173736"/>
                    <a:pt x="172529" y="182880"/>
                    <a:pt x="172529" y="194183"/>
                  </a:cubicBezTo>
                  <a:lnTo>
                    <a:pt x="172529" y="197358"/>
                  </a:lnTo>
                  <a:lnTo>
                    <a:pt x="119570" y="197358"/>
                  </a:lnTo>
                  <a:lnTo>
                    <a:pt x="119570" y="194183"/>
                  </a:lnTo>
                  <a:cubicBezTo>
                    <a:pt x="119570" y="182880"/>
                    <a:pt x="110426" y="173736"/>
                    <a:pt x="99123" y="173736"/>
                  </a:cubicBezTo>
                  <a:lnTo>
                    <a:pt x="20447" y="173736"/>
                  </a:lnTo>
                  <a:cubicBezTo>
                    <a:pt x="9144" y="173736"/>
                    <a:pt x="0" y="182880"/>
                    <a:pt x="0" y="194183"/>
                  </a:cubicBezTo>
                  <a:lnTo>
                    <a:pt x="0" y="285496"/>
                  </a:lnTo>
                  <a:cubicBezTo>
                    <a:pt x="0" y="296799"/>
                    <a:pt x="9207" y="305943"/>
                    <a:pt x="20447" y="305943"/>
                  </a:cubicBezTo>
                  <a:lnTo>
                    <a:pt x="25400" y="305943"/>
                  </a:lnTo>
                  <a:lnTo>
                    <a:pt x="25400" y="877634"/>
                  </a:lnTo>
                  <a:cubicBezTo>
                    <a:pt x="25400" y="896620"/>
                    <a:pt x="40830" y="911987"/>
                    <a:pt x="59753" y="911987"/>
                  </a:cubicBezTo>
                  <a:cubicBezTo>
                    <a:pt x="78739" y="911987"/>
                    <a:pt x="94107" y="896557"/>
                    <a:pt x="94107" y="877634"/>
                  </a:cubicBezTo>
                  <a:lnTo>
                    <a:pt x="94107" y="305943"/>
                  </a:lnTo>
                  <a:lnTo>
                    <a:pt x="99060" y="305943"/>
                  </a:lnTo>
                  <a:cubicBezTo>
                    <a:pt x="110363" y="305943"/>
                    <a:pt x="119507" y="296799"/>
                    <a:pt x="119507" y="285496"/>
                  </a:cubicBezTo>
                  <a:lnTo>
                    <a:pt x="119507" y="268478"/>
                  </a:lnTo>
                  <a:lnTo>
                    <a:pt x="172465" y="268478"/>
                  </a:lnTo>
                  <a:lnTo>
                    <a:pt x="172465" y="285496"/>
                  </a:lnTo>
                  <a:cubicBezTo>
                    <a:pt x="172465" y="296799"/>
                    <a:pt x="181610" y="305943"/>
                    <a:pt x="192913" y="305943"/>
                  </a:cubicBezTo>
                  <a:lnTo>
                    <a:pt x="197865" y="305943"/>
                  </a:lnTo>
                  <a:lnTo>
                    <a:pt x="197865" y="877634"/>
                  </a:lnTo>
                  <a:cubicBezTo>
                    <a:pt x="197865" y="896620"/>
                    <a:pt x="213296" y="911987"/>
                    <a:pt x="232219" y="911987"/>
                  </a:cubicBezTo>
                  <a:cubicBezTo>
                    <a:pt x="251206" y="911987"/>
                    <a:pt x="266573" y="896557"/>
                    <a:pt x="266573" y="877634"/>
                  </a:cubicBezTo>
                  <a:lnTo>
                    <a:pt x="266573" y="305943"/>
                  </a:lnTo>
                  <a:lnTo>
                    <a:pt x="271526" y="305943"/>
                  </a:lnTo>
                  <a:cubicBezTo>
                    <a:pt x="282828" y="305943"/>
                    <a:pt x="291973" y="296799"/>
                    <a:pt x="291973" y="285496"/>
                  </a:cubicBezTo>
                  <a:lnTo>
                    <a:pt x="291973" y="268478"/>
                  </a:lnTo>
                  <a:lnTo>
                    <a:pt x="344932" y="268478"/>
                  </a:lnTo>
                  <a:lnTo>
                    <a:pt x="344932" y="285496"/>
                  </a:lnTo>
                  <a:cubicBezTo>
                    <a:pt x="344932" y="296799"/>
                    <a:pt x="354076" y="305943"/>
                    <a:pt x="365378" y="305943"/>
                  </a:cubicBezTo>
                  <a:lnTo>
                    <a:pt x="370332" y="305943"/>
                  </a:lnTo>
                  <a:lnTo>
                    <a:pt x="370332" y="877634"/>
                  </a:lnTo>
                  <a:cubicBezTo>
                    <a:pt x="370332" y="896620"/>
                    <a:pt x="385763" y="911987"/>
                    <a:pt x="404685" y="911987"/>
                  </a:cubicBezTo>
                  <a:cubicBezTo>
                    <a:pt x="423672" y="911987"/>
                    <a:pt x="439038" y="896557"/>
                    <a:pt x="439038" y="877634"/>
                  </a:cubicBezTo>
                  <a:lnTo>
                    <a:pt x="439038" y="305943"/>
                  </a:lnTo>
                  <a:lnTo>
                    <a:pt x="443992" y="305943"/>
                  </a:lnTo>
                  <a:cubicBezTo>
                    <a:pt x="455295" y="305943"/>
                    <a:pt x="464438" y="296799"/>
                    <a:pt x="464438" y="285496"/>
                  </a:cubicBezTo>
                  <a:lnTo>
                    <a:pt x="464438" y="268478"/>
                  </a:lnTo>
                  <a:lnTo>
                    <a:pt x="517334" y="268478"/>
                  </a:lnTo>
                  <a:lnTo>
                    <a:pt x="517334" y="285496"/>
                  </a:lnTo>
                  <a:cubicBezTo>
                    <a:pt x="517334" y="296799"/>
                    <a:pt x="526478" y="305943"/>
                    <a:pt x="537781" y="305943"/>
                  </a:cubicBezTo>
                  <a:lnTo>
                    <a:pt x="542734" y="305943"/>
                  </a:lnTo>
                  <a:lnTo>
                    <a:pt x="542734" y="877634"/>
                  </a:lnTo>
                  <a:cubicBezTo>
                    <a:pt x="542734" y="896620"/>
                    <a:pt x="558164" y="911987"/>
                    <a:pt x="577088" y="911987"/>
                  </a:cubicBezTo>
                  <a:cubicBezTo>
                    <a:pt x="596075" y="911987"/>
                    <a:pt x="611441" y="896557"/>
                    <a:pt x="611441" y="877634"/>
                  </a:cubicBezTo>
                  <a:lnTo>
                    <a:pt x="611441" y="305943"/>
                  </a:lnTo>
                  <a:lnTo>
                    <a:pt x="616394" y="305943"/>
                  </a:lnTo>
                  <a:cubicBezTo>
                    <a:pt x="627697" y="305943"/>
                    <a:pt x="636841" y="296799"/>
                    <a:pt x="636841" y="285496"/>
                  </a:cubicBezTo>
                  <a:lnTo>
                    <a:pt x="636841" y="268478"/>
                  </a:lnTo>
                  <a:lnTo>
                    <a:pt x="638492" y="268478"/>
                  </a:lnTo>
                  <a:cubicBezTo>
                    <a:pt x="717867" y="268478"/>
                    <a:pt x="782574" y="203835"/>
                    <a:pt x="782574" y="124333"/>
                  </a:cubicBezTo>
                  <a:lnTo>
                    <a:pt x="782574" y="0"/>
                  </a:lnTo>
                  <a:cubicBezTo>
                    <a:pt x="763397" y="17399"/>
                    <a:pt x="738822" y="29273"/>
                    <a:pt x="711708" y="33020"/>
                  </a:cubicBezTo>
                  <a:close/>
                  <a:moveTo>
                    <a:pt x="28194" y="225235"/>
                  </a:moveTo>
                  <a:cubicBezTo>
                    <a:pt x="28194" y="214185"/>
                    <a:pt x="36957" y="205105"/>
                    <a:pt x="48069" y="204788"/>
                  </a:cubicBezTo>
                  <a:cubicBezTo>
                    <a:pt x="48260" y="204724"/>
                    <a:pt x="48451" y="204724"/>
                    <a:pt x="48704" y="204724"/>
                  </a:cubicBezTo>
                  <a:lnTo>
                    <a:pt x="71183" y="204724"/>
                  </a:lnTo>
                  <a:cubicBezTo>
                    <a:pt x="82486" y="204724"/>
                    <a:pt x="91630" y="213932"/>
                    <a:pt x="91630" y="225171"/>
                  </a:cubicBezTo>
                  <a:lnTo>
                    <a:pt x="91630" y="254381"/>
                  </a:lnTo>
                  <a:cubicBezTo>
                    <a:pt x="91630" y="259842"/>
                    <a:pt x="89471" y="264732"/>
                    <a:pt x="86042" y="268415"/>
                  </a:cubicBezTo>
                  <a:cubicBezTo>
                    <a:pt x="82359" y="272352"/>
                    <a:pt x="77026" y="274891"/>
                    <a:pt x="71183" y="274891"/>
                  </a:cubicBezTo>
                  <a:lnTo>
                    <a:pt x="48704" y="274891"/>
                  </a:lnTo>
                  <a:cubicBezTo>
                    <a:pt x="37401" y="274891"/>
                    <a:pt x="28257" y="265748"/>
                    <a:pt x="28257" y="254445"/>
                  </a:cubicBezTo>
                  <a:lnTo>
                    <a:pt x="28257" y="225235"/>
                  </a:lnTo>
                  <a:lnTo>
                    <a:pt x="28194" y="225235"/>
                  </a:lnTo>
                  <a:close/>
                  <a:moveTo>
                    <a:pt x="84138" y="877634"/>
                  </a:moveTo>
                  <a:cubicBezTo>
                    <a:pt x="84138" y="890969"/>
                    <a:pt x="73278" y="901827"/>
                    <a:pt x="59944" y="901827"/>
                  </a:cubicBezTo>
                  <a:cubicBezTo>
                    <a:pt x="46609" y="901827"/>
                    <a:pt x="35751" y="890969"/>
                    <a:pt x="35751" y="877634"/>
                  </a:cubicBezTo>
                  <a:lnTo>
                    <a:pt x="35751" y="305943"/>
                  </a:lnTo>
                  <a:lnTo>
                    <a:pt x="84201" y="305943"/>
                  </a:lnTo>
                  <a:lnTo>
                    <a:pt x="84201" y="877634"/>
                  </a:lnTo>
                  <a:lnTo>
                    <a:pt x="84138" y="877634"/>
                  </a:lnTo>
                  <a:close/>
                  <a:moveTo>
                    <a:pt x="200660" y="225235"/>
                  </a:moveTo>
                  <a:cubicBezTo>
                    <a:pt x="200660" y="213932"/>
                    <a:pt x="209803" y="204788"/>
                    <a:pt x="221107" y="204788"/>
                  </a:cubicBezTo>
                  <a:lnTo>
                    <a:pt x="243586" y="204788"/>
                  </a:lnTo>
                  <a:cubicBezTo>
                    <a:pt x="254888" y="204788"/>
                    <a:pt x="264033" y="213995"/>
                    <a:pt x="264033" y="225235"/>
                  </a:cubicBezTo>
                  <a:lnTo>
                    <a:pt x="264033" y="254445"/>
                  </a:lnTo>
                  <a:cubicBezTo>
                    <a:pt x="264033" y="259905"/>
                    <a:pt x="261874" y="264795"/>
                    <a:pt x="258445" y="268478"/>
                  </a:cubicBezTo>
                  <a:cubicBezTo>
                    <a:pt x="254762" y="272415"/>
                    <a:pt x="249427" y="274955"/>
                    <a:pt x="243586" y="274955"/>
                  </a:cubicBezTo>
                  <a:lnTo>
                    <a:pt x="221107" y="274955"/>
                  </a:lnTo>
                  <a:cubicBezTo>
                    <a:pt x="215201" y="274955"/>
                    <a:pt x="209931" y="272479"/>
                    <a:pt x="206248" y="268478"/>
                  </a:cubicBezTo>
                  <a:cubicBezTo>
                    <a:pt x="202819" y="264795"/>
                    <a:pt x="200660" y="259969"/>
                    <a:pt x="200660" y="254445"/>
                  </a:cubicBezTo>
                  <a:lnTo>
                    <a:pt x="200660" y="225235"/>
                  </a:lnTo>
                  <a:close/>
                  <a:moveTo>
                    <a:pt x="256603" y="877634"/>
                  </a:moveTo>
                  <a:cubicBezTo>
                    <a:pt x="256603" y="890969"/>
                    <a:pt x="245745" y="901827"/>
                    <a:pt x="232410" y="901827"/>
                  </a:cubicBezTo>
                  <a:cubicBezTo>
                    <a:pt x="219075" y="901827"/>
                    <a:pt x="208216" y="890969"/>
                    <a:pt x="208216" y="877634"/>
                  </a:cubicBezTo>
                  <a:lnTo>
                    <a:pt x="208216" y="305943"/>
                  </a:lnTo>
                  <a:lnTo>
                    <a:pt x="256667" y="305943"/>
                  </a:lnTo>
                  <a:lnTo>
                    <a:pt x="256667" y="877634"/>
                  </a:lnTo>
                  <a:lnTo>
                    <a:pt x="256603" y="877634"/>
                  </a:lnTo>
                  <a:close/>
                  <a:moveTo>
                    <a:pt x="373126" y="225235"/>
                  </a:moveTo>
                  <a:cubicBezTo>
                    <a:pt x="373126" y="213932"/>
                    <a:pt x="382333" y="204788"/>
                    <a:pt x="393573" y="204788"/>
                  </a:cubicBezTo>
                  <a:lnTo>
                    <a:pt x="416051" y="204788"/>
                  </a:lnTo>
                  <a:cubicBezTo>
                    <a:pt x="427355" y="204788"/>
                    <a:pt x="436499" y="213995"/>
                    <a:pt x="436499" y="225235"/>
                  </a:cubicBezTo>
                  <a:lnTo>
                    <a:pt x="436499" y="254445"/>
                  </a:lnTo>
                  <a:cubicBezTo>
                    <a:pt x="436499" y="259905"/>
                    <a:pt x="434339" y="264795"/>
                    <a:pt x="430911" y="268478"/>
                  </a:cubicBezTo>
                  <a:cubicBezTo>
                    <a:pt x="427227" y="272415"/>
                    <a:pt x="421894" y="274955"/>
                    <a:pt x="416051" y="274955"/>
                  </a:cubicBezTo>
                  <a:lnTo>
                    <a:pt x="393573" y="274955"/>
                  </a:lnTo>
                  <a:cubicBezTo>
                    <a:pt x="387731" y="274955"/>
                    <a:pt x="382397" y="272479"/>
                    <a:pt x="378713" y="268478"/>
                  </a:cubicBezTo>
                  <a:cubicBezTo>
                    <a:pt x="375285" y="264795"/>
                    <a:pt x="373126" y="259969"/>
                    <a:pt x="373126" y="254445"/>
                  </a:cubicBezTo>
                  <a:lnTo>
                    <a:pt x="373126" y="225235"/>
                  </a:lnTo>
                  <a:close/>
                  <a:moveTo>
                    <a:pt x="429069" y="877634"/>
                  </a:moveTo>
                  <a:cubicBezTo>
                    <a:pt x="429069" y="890969"/>
                    <a:pt x="418211" y="901827"/>
                    <a:pt x="404876" y="901827"/>
                  </a:cubicBezTo>
                  <a:cubicBezTo>
                    <a:pt x="391540" y="901827"/>
                    <a:pt x="380682" y="890969"/>
                    <a:pt x="380682" y="877634"/>
                  </a:cubicBezTo>
                  <a:lnTo>
                    <a:pt x="380682" y="305943"/>
                  </a:lnTo>
                  <a:lnTo>
                    <a:pt x="429133" y="305943"/>
                  </a:lnTo>
                  <a:lnTo>
                    <a:pt x="429133" y="877634"/>
                  </a:lnTo>
                  <a:lnTo>
                    <a:pt x="429069" y="877634"/>
                  </a:lnTo>
                  <a:close/>
                  <a:moveTo>
                    <a:pt x="545592" y="225235"/>
                  </a:moveTo>
                  <a:cubicBezTo>
                    <a:pt x="545592" y="213932"/>
                    <a:pt x="554800" y="204788"/>
                    <a:pt x="566038" y="204788"/>
                  </a:cubicBezTo>
                  <a:lnTo>
                    <a:pt x="588518" y="204788"/>
                  </a:lnTo>
                  <a:cubicBezTo>
                    <a:pt x="599821" y="204788"/>
                    <a:pt x="608964" y="213995"/>
                    <a:pt x="608964" y="225235"/>
                  </a:cubicBezTo>
                  <a:lnTo>
                    <a:pt x="608964" y="254445"/>
                  </a:lnTo>
                  <a:cubicBezTo>
                    <a:pt x="608964" y="259905"/>
                    <a:pt x="606806" y="264795"/>
                    <a:pt x="603376" y="268478"/>
                  </a:cubicBezTo>
                  <a:cubicBezTo>
                    <a:pt x="599694" y="272415"/>
                    <a:pt x="594360" y="274955"/>
                    <a:pt x="588518" y="274955"/>
                  </a:cubicBezTo>
                  <a:lnTo>
                    <a:pt x="566038" y="274955"/>
                  </a:lnTo>
                  <a:cubicBezTo>
                    <a:pt x="560197" y="274955"/>
                    <a:pt x="554863" y="272479"/>
                    <a:pt x="551180" y="268478"/>
                  </a:cubicBezTo>
                  <a:cubicBezTo>
                    <a:pt x="547751" y="264795"/>
                    <a:pt x="545592" y="259969"/>
                    <a:pt x="545592" y="254445"/>
                  </a:cubicBezTo>
                  <a:lnTo>
                    <a:pt x="545592" y="225235"/>
                  </a:lnTo>
                  <a:close/>
                  <a:moveTo>
                    <a:pt x="601535" y="877634"/>
                  </a:moveTo>
                  <a:cubicBezTo>
                    <a:pt x="601535" y="890969"/>
                    <a:pt x="590676" y="901827"/>
                    <a:pt x="577342" y="901827"/>
                  </a:cubicBezTo>
                  <a:cubicBezTo>
                    <a:pt x="564007" y="901827"/>
                    <a:pt x="553148" y="890969"/>
                    <a:pt x="553148" y="877634"/>
                  </a:cubicBezTo>
                  <a:lnTo>
                    <a:pt x="553148" y="305943"/>
                  </a:lnTo>
                  <a:lnTo>
                    <a:pt x="601599" y="305943"/>
                  </a:lnTo>
                  <a:lnTo>
                    <a:pt x="601599" y="877634"/>
                  </a:lnTo>
                  <a:lnTo>
                    <a:pt x="601535" y="8776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33" name="Freeform 100"/>
            <p:cNvSpPr/>
            <p:nvPr/>
          </p:nvSpPr>
          <p:spPr>
            <a:xfrm>
              <a:off x="3926880" y="3633840"/>
              <a:ext cx="626400" cy="383040"/>
            </a:xfrm>
            <a:custGeom>
              <a:avLst/>
              <a:gdLst/>
              <a:ahLst/>
              <a:rect l="l" t="t" r="r" b="b"/>
              <a:pathLst>
                <a:path w="805179" h="492379">
                  <a:moveTo>
                    <a:pt x="805180" y="0"/>
                  </a:moveTo>
                  <a:lnTo>
                    <a:pt x="805180" y="492379"/>
                  </a:lnTo>
                  <a:cubicBezTo>
                    <a:pt x="494919" y="354711"/>
                    <a:pt x="150558" y="317119"/>
                    <a:pt x="0" y="306959"/>
                  </a:cubicBezTo>
                  <a:lnTo>
                    <a:pt x="0" y="262636"/>
                  </a:lnTo>
                  <a:lnTo>
                    <a:pt x="201040" y="246888"/>
                  </a:lnTo>
                  <a:lnTo>
                    <a:pt x="257937" y="206883"/>
                  </a:lnTo>
                  <a:cubicBezTo>
                    <a:pt x="257937" y="206883"/>
                    <a:pt x="232918" y="114173"/>
                    <a:pt x="117348" y="114681"/>
                  </a:cubicBezTo>
                  <a:cubicBezTo>
                    <a:pt x="100457" y="99504"/>
                    <a:pt x="80390" y="87821"/>
                    <a:pt x="58801" y="80899"/>
                  </a:cubicBezTo>
                  <a:cubicBezTo>
                    <a:pt x="39877" y="74867"/>
                    <a:pt x="19812" y="72580"/>
                    <a:pt x="0" y="73914"/>
                  </a:cubicBezTo>
                  <a:lnTo>
                    <a:pt x="0" y="64"/>
                  </a:lnTo>
                  <a:lnTo>
                    <a:pt x="805180" y="64"/>
                  </a:lnTo>
                  <a:lnTo>
                    <a:pt x="80518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34" name="Freeform 101"/>
            <p:cNvSpPr/>
            <p:nvPr/>
          </p:nvSpPr>
          <p:spPr>
            <a:xfrm>
              <a:off x="3764520" y="3764160"/>
              <a:ext cx="318600" cy="77760"/>
            </a:xfrm>
            <a:custGeom>
              <a:avLst/>
              <a:gdLst/>
              <a:ahLst/>
              <a:rect l="l" t="t" r="r" b="b"/>
              <a:pathLst>
                <a:path w="409637" h="99948">
                  <a:moveTo>
                    <a:pt x="409638" y="79058"/>
                  </a:moveTo>
                  <a:lnTo>
                    <a:pt x="208597" y="94805"/>
                  </a:lnTo>
                  <a:lnTo>
                    <a:pt x="142748" y="99949"/>
                  </a:lnTo>
                  <a:cubicBezTo>
                    <a:pt x="126364" y="71628"/>
                    <a:pt x="99440" y="49593"/>
                    <a:pt x="68516" y="38989"/>
                  </a:cubicBezTo>
                  <a:cubicBezTo>
                    <a:pt x="51371" y="33147"/>
                    <a:pt x="34099" y="29528"/>
                    <a:pt x="16890" y="29591"/>
                  </a:cubicBezTo>
                  <a:cubicBezTo>
                    <a:pt x="16890" y="29591"/>
                    <a:pt x="10985" y="19749"/>
                    <a:pt x="0" y="2032"/>
                  </a:cubicBezTo>
                  <a:cubicBezTo>
                    <a:pt x="44576" y="15875"/>
                    <a:pt x="91694" y="21654"/>
                    <a:pt x="138366" y="18796"/>
                  </a:cubicBezTo>
                  <a:cubicBezTo>
                    <a:pt x="139890" y="12573"/>
                    <a:pt x="141414" y="6223"/>
                    <a:pt x="142938" y="0"/>
                  </a:cubicBezTo>
                  <a:cubicBezTo>
                    <a:pt x="147383" y="7620"/>
                    <a:pt x="153924" y="14224"/>
                    <a:pt x="161289" y="19241"/>
                  </a:cubicBezTo>
                  <a:cubicBezTo>
                    <a:pt x="174307" y="28067"/>
                    <a:pt x="189611" y="32703"/>
                    <a:pt x="204724" y="37148"/>
                  </a:cubicBezTo>
                  <a:cubicBezTo>
                    <a:pt x="205994" y="37529"/>
                    <a:pt x="207327" y="37910"/>
                    <a:pt x="208597" y="38291"/>
                  </a:cubicBezTo>
                  <a:cubicBezTo>
                    <a:pt x="219011" y="41339"/>
                    <a:pt x="229298" y="44450"/>
                    <a:pt x="239713" y="47498"/>
                  </a:cubicBezTo>
                  <a:cubicBezTo>
                    <a:pt x="246761" y="49593"/>
                    <a:pt x="255905" y="50991"/>
                    <a:pt x="260159" y="44958"/>
                  </a:cubicBezTo>
                  <a:cubicBezTo>
                    <a:pt x="264096" y="39307"/>
                    <a:pt x="260096" y="31179"/>
                    <a:pt x="254444" y="27178"/>
                  </a:cubicBezTo>
                  <a:cubicBezTo>
                    <a:pt x="248793" y="23114"/>
                    <a:pt x="241808" y="21336"/>
                    <a:pt x="236283" y="17145"/>
                  </a:cubicBezTo>
                  <a:cubicBezTo>
                    <a:pt x="231584" y="13526"/>
                    <a:pt x="228346" y="6858"/>
                    <a:pt x="230314" y="1651"/>
                  </a:cubicBezTo>
                  <a:cubicBezTo>
                    <a:pt x="231394" y="1524"/>
                    <a:pt x="232473" y="1524"/>
                    <a:pt x="233552" y="1461"/>
                  </a:cubicBezTo>
                  <a:cubicBezTo>
                    <a:pt x="268986" y="-64"/>
                    <a:pt x="304800" y="8636"/>
                    <a:pt x="335724" y="26162"/>
                  </a:cubicBezTo>
                  <a:cubicBezTo>
                    <a:pt x="342201" y="35497"/>
                    <a:pt x="345757" y="41847"/>
                    <a:pt x="354393" y="39180"/>
                  </a:cubicBezTo>
                  <a:cubicBezTo>
                    <a:pt x="362965" y="36513"/>
                    <a:pt x="368236" y="27115"/>
                    <a:pt x="368617" y="18161"/>
                  </a:cubicBezTo>
                  <a:cubicBezTo>
                    <a:pt x="368744" y="14478"/>
                    <a:pt x="368236" y="10922"/>
                    <a:pt x="367347" y="7430"/>
                  </a:cubicBezTo>
                  <a:cubicBezTo>
                    <a:pt x="404304" y="48514"/>
                    <a:pt x="409638" y="79058"/>
                    <a:pt x="409638" y="79058"/>
                  </a:cubicBezTo>
                  <a:close/>
                </a:path>
              </a:pathLst>
            </a:custGeom>
            <a:solidFill>
              <a:srgbClr val="8fd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35" name="Freeform 102"/>
            <p:cNvSpPr/>
            <p:nvPr/>
          </p:nvSpPr>
          <p:spPr>
            <a:xfrm>
              <a:off x="4018320" y="3722760"/>
              <a:ext cx="109080" cy="102600"/>
            </a:xfrm>
            <a:custGeom>
              <a:avLst/>
              <a:gdLst/>
              <a:ahLst/>
              <a:rect l="l" t="t" r="r" b="b"/>
              <a:pathLst>
                <a:path w="140525" h="132209">
                  <a:moveTo>
                    <a:pt x="140526" y="92204"/>
                  </a:moveTo>
                  <a:lnTo>
                    <a:pt x="83629" y="132209"/>
                  </a:lnTo>
                  <a:cubicBezTo>
                    <a:pt x="83629" y="132209"/>
                    <a:pt x="78232" y="101666"/>
                    <a:pt x="41402" y="60581"/>
                  </a:cubicBezTo>
                  <a:cubicBezTo>
                    <a:pt x="40068" y="55374"/>
                    <a:pt x="37846" y="50358"/>
                    <a:pt x="35433" y="45595"/>
                  </a:cubicBezTo>
                  <a:cubicBezTo>
                    <a:pt x="26543" y="28387"/>
                    <a:pt x="14415" y="12893"/>
                    <a:pt x="0" y="2"/>
                  </a:cubicBezTo>
                  <a:cubicBezTo>
                    <a:pt x="115570" y="-506"/>
                    <a:pt x="140526" y="92204"/>
                    <a:pt x="140526" y="92204"/>
                  </a:cubicBezTo>
                  <a:close/>
                </a:path>
              </a:pathLst>
            </a:custGeom>
            <a:solidFill>
              <a:srgbClr val="50b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36" name="Freeform 103"/>
            <p:cNvSpPr/>
            <p:nvPr/>
          </p:nvSpPr>
          <p:spPr>
            <a:xfrm>
              <a:off x="3926880" y="1694880"/>
              <a:ext cx="1238040" cy="1938600"/>
            </a:xfrm>
            <a:custGeom>
              <a:avLst/>
              <a:gdLst/>
              <a:ahLst/>
              <a:rect l="l" t="t" r="r" b="b"/>
              <a:pathLst>
                <a:path w="1591120" h="2491717">
                  <a:moveTo>
                    <a:pt x="1543114" y="21758"/>
                  </a:moveTo>
                  <a:cubicBezTo>
                    <a:pt x="1512506" y="-213"/>
                    <a:pt x="1474470" y="-5864"/>
                    <a:pt x="1438846" y="6264"/>
                  </a:cubicBezTo>
                  <a:lnTo>
                    <a:pt x="698754" y="257026"/>
                  </a:lnTo>
                  <a:cubicBezTo>
                    <a:pt x="651891" y="272901"/>
                    <a:pt x="620395" y="316843"/>
                    <a:pt x="620395" y="366309"/>
                  </a:cubicBezTo>
                  <a:lnTo>
                    <a:pt x="620395" y="2288708"/>
                  </a:lnTo>
                  <a:lnTo>
                    <a:pt x="464820" y="2288708"/>
                  </a:lnTo>
                  <a:lnTo>
                    <a:pt x="464820" y="2198983"/>
                  </a:lnTo>
                  <a:lnTo>
                    <a:pt x="398399" y="2198983"/>
                  </a:lnTo>
                  <a:lnTo>
                    <a:pt x="398399" y="2288708"/>
                  </a:lnTo>
                  <a:lnTo>
                    <a:pt x="92773" y="2288708"/>
                  </a:lnTo>
                  <a:cubicBezTo>
                    <a:pt x="41592" y="2288708"/>
                    <a:pt x="0" y="2330237"/>
                    <a:pt x="0" y="2381418"/>
                  </a:cubicBezTo>
                  <a:lnTo>
                    <a:pt x="0" y="2491718"/>
                  </a:lnTo>
                  <a:lnTo>
                    <a:pt x="805180" y="2491718"/>
                  </a:lnTo>
                  <a:lnTo>
                    <a:pt x="805180" y="2381418"/>
                  </a:lnTo>
                  <a:cubicBezTo>
                    <a:pt x="805180" y="2345858"/>
                    <a:pt x="785051" y="2314997"/>
                    <a:pt x="755650" y="2299503"/>
                  </a:cubicBezTo>
                  <a:lnTo>
                    <a:pt x="755650" y="2045948"/>
                  </a:lnTo>
                  <a:cubicBezTo>
                    <a:pt x="755650" y="2018389"/>
                    <a:pt x="778066" y="1996037"/>
                    <a:pt x="805561" y="1996037"/>
                  </a:cubicBezTo>
                  <a:lnTo>
                    <a:pt x="1263396" y="1996037"/>
                  </a:lnTo>
                  <a:lnTo>
                    <a:pt x="1207516" y="1940157"/>
                  </a:lnTo>
                  <a:lnTo>
                    <a:pt x="805561" y="1940157"/>
                  </a:lnTo>
                  <a:cubicBezTo>
                    <a:pt x="747268" y="1940157"/>
                    <a:pt x="699770" y="1987591"/>
                    <a:pt x="699770" y="2045948"/>
                  </a:cubicBezTo>
                  <a:lnTo>
                    <a:pt x="699770" y="2288708"/>
                  </a:lnTo>
                  <a:lnTo>
                    <a:pt x="676148" y="2288708"/>
                  </a:lnTo>
                  <a:lnTo>
                    <a:pt x="676148" y="366309"/>
                  </a:lnTo>
                  <a:cubicBezTo>
                    <a:pt x="676148" y="340782"/>
                    <a:pt x="692404" y="318113"/>
                    <a:pt x="716597" y="309921"/>
                  </a:cubicBezTo>
                  <a:lnTo>
                    <a:pt x="1456627" y="59160"/>
                  </a:lnTo>
                  <a:cubicBezTo>
                    <a:pt x="1475042" y="52937"/>
                    <a:pt x="1494663" y="55858"/>
                    <a:pt x="1510411" y="67161"/>
                  </a:cubicBezTo>
                  <a:cubicBezTo>
                    <a:pt x="1526222" y="78464"/>
                    <a:pt x="1535240" y="96117"/>
                    <a:pt x="1535240" y="115548"/>
                  </a:cubicBezTo>
                  <a:lnTo>
                    <a:pt x="1535240" y="231245"/>
                  </a:lnTo>
                  <a:lnTo>
                    <a:pt x="1591119" y="231245"/>
                  </a:lnTo>
                  <a:lnTo>
                    <a:pt x="1591119" y="115548"/>
                  </a:lnTo>
                  <a:cubicBezTo>
                    <a:pt x="1591310" y="77892"/>
                    <a:pt x="1573720" y="43666"/>
                    <a:pt x="1543114" y="21758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pic>
          <p:nvPicPr>
            <p:cNvPr id="1237" name="Graphic 6" descr=""/>
            <p:cNvPicPr/>
            <p:nvPr/>
          </p:nvPicPr>
          <p:blipFill>
            <a:blip r:embed="rId3"/>
            <a:stretch/>
          </p:blipFill>
          <p:spPr>
            <a:xfrm>
              <a:off x="4389120" y="3541680"/>
              <a:ext cx="11880" cy="6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8" name="Graphic 6" descr=""/>
            <p:cNvPicPr/>
            <p:nvPr/>
          </p:nvPicPr>
          <p:blipFill>
            <a:blip r:embed="rId4"/>
            <a:stretch/>
          </p:blipFill>
          <p:spPr>
            <a:xfrm>
              <a:off x="4425480" y="3541680"/>
              <a:ext cx="11880" cy="6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9" name="Graphic 6" descr=""/>
            <p:cNvPicPr/>
            <p:nvPr/>
          </p:nvPicPr>
          <p:blipFill>
            <a:blip r:embed="rId5"/>
            <a:stretch/>
          </p:blipFill>
          <p:spPr>
            <a:xfrm>
              <a:off x="4462200" y="3541680"/>
              <a:ext cx="5760" cy="6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0" name="Freeform 113"/>
            <p:cNvSpPr/>
            <p:nvPr/>
          </p:nvSpPr>
          <p:spPr>
            <a:xfrm>
              <a:off x="3777840" y="2864160"/>
              <a:ext cx="591480" cy="541800"/>
            </a:xfrm>
            <a:custGeom>
              <a:avLst/>
              <a:gdLst/>
              <a:ahLst/>
              <a:rect l="l" t="t" r="r" b="b"/>
              <a:pathLst>
                <a:path w="760285" h="696301">
                  <a:moveTo>
                    <a:pt x="723392" y="436713"/>
                  </a:moveTo>
                  <a:lnTo>
                    <a:pt x="644398" y="436713"/>
                  </a:lnTo>
                  <a:lnTo>
                    <a:pt x="644398" y="81748"/>
                  </a:lnTo>
                  <a:cubicBezTo>
                    <a:pt x="644398" y="50760"/>
                    <a:pt x="627253" y="22820"/>
                    <a:pt x="599567" y="8850"/>
                  </a:cubicBezTo>
                  <a:cubicBezTo>
                    <a:pt x="571945" y="-5120"/>
                    <a:pt x="539242" y="-2390"/>
                    <a:pt x="514286" y="15898"/>
                  </a:cubicBezTo>
                  <a:lnTo>
                    <a:pt x="480822" y="40536"/>
                  </a:lnTo>
                  <a:lnTo>
                    <a:pt x="510921" y="81494"/>
                  </a:lnTo>
                  <a:lnTo>
                    <a:pt x="544385" y="56856"/>
                  </a:lnTo>
                  <a:cubicBezTo>
                    <a:pt x="553974" y="49807"/>
                    <a:pt x="566039" y="48791"/>
                    <a:pt x="576644" y="54189"/>
                  </a:cubicBezTo>
                  <a:cubicBezTo>
                    <a:pt x="587248" y="59586"/>
                    <a:pt x="593598" y="69873"/>
                    <a:pt x="593598" y="81748"/>
                  </a:cubicBezTo>
                  <a:lnTo>
                    <a:pt x="593598" y="436713"/>
                  </a:lnTo>
                  <a:lnTo>
                    <a:pt x="36830" y="436713"/>
                  </a:lnTo>
                  <a:cubicBezTo>
                    <a:pt x="16510" y="436713"/>
                    <a:pt x="0" y="453223"/>
                    <a:pt x="0" y="473543"/>
                  </a:cubicBezTo>
                  <a:lnTo>
                    <a:pt x="0" y="659471"/>
                  </a:lnTo>
                  <a:cubicBezTo>
                    <a:pt x="0" y="679791"/>
                    <a:pt x="16510" y="696301"/>
                    <a:pt x="36830" y="696301"/>
                  </a:cubicBezTo>
                  <a:lnTo>
                    <a:pt x="723456" y="696301"/>
                  </a:lnTo>
                  <a:cubicBezTo>
                    <a:pt x="743776" y="696301"/>
                    <a:pt x="760285" y="679791"/>
                    <a:pt x="760285" y="659471"/>
                  </a:cubicBezTo>
                  <a:lnTo>
                    <a:pt x="760285" y="473543"/>
                  </a:lnTo>
                  <a:cubicBezTo>
                    <a:pt x="760222" y="453159"/>
                    <a:pt x="743712" y="436713"/>
                    <a:pt x="723392" y="4367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pic>
          <p:nvPicPr>
            <p:cNvPr id="1241" name="Graphic 6" descr=""/>
            <p:cNvPicPr/>
            <p:nvPr/>
          </p:nvPicPr>
          <p:blipFill>
            <a:blip r:embed="rId6"/>
            <a:stretch/>
          </p:blipFill>
          <p:spPr>
            <a:xfrm>
              <a:off x="3779640" y="3346560"/>
              <a:ext cx="591120" cy="1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2" name="Freeform 117"/>
            <p:cNvSpPr/>
            <p:nvPr/>
          </p:nvSpPr>
          <p:spPr>
            <a:xfrm>
              <a:off x="3515400" y="1874520"/>
              <a:ext cx="1649160" cy="614520"/>
            </a:xfrm>
            <a:custGeom>
              <a:avLst/>
              <a:gdLst/>
              <a:ahLst/>
              <a:rect l="l" t="t" r="r" b="b"/>
              <a:pathLst>
                <a:path w="2119820" h="789749">
                  <a:moveTo>
                    <a:pt x="2119820" y="127"/>
                  </a:moveTo>
                  <a:cubicBezTo>
                    <a:pt x="2119820" y="49784"/>
                    <a:pt x="2088197" y="93726"/>
                    <a:pt x="2041207" y="109474"/>
                  </a:cubicBezTo>
                  <a:lnTo>
                    <a:pt x="1204849" y="390334"/>
                  </a:lnTo>
                  <a:lnTo>
                    <a:pt x="1148969" y="409131"/>
                  </a:lnTo>
                  <a:lnTo>
                    <a:pt x="15494" y="789749"/>
                  </a:lnTo>
                  <a:cubicBezTo>
                    <a:pt x="18224" y="784225"/>
                    <a:pt x="19748" y="777938"/>
                    <a:pt x="19748" y="771334"/>
                  </a:cubicBezTo>
                  <a:cubicBezTo>
                    <a:pt x="19748" y="756412"/>
                    <a:pt x="11811" y="743268"/>
                    <a:pt x="0" y="736028"/>
                  </a:cubicBezTo>
                  <a:lnTo>
                    <a:pt x="1148969" y="350139"/>
                  </a:lnTo>
                  <a:lnTo>
                    <a:pt x="1204849" y="331343"/>
                  </a:lnTo>
                  <a:lnTo>
                    <a:pt x="2023364" y="56451"/>
                  </a:lnTo>
                  <a:cubicBezTo>
                    <a:pt x="2047621" y="48260"/>
                    <a:pt x="2063877" y="25590"/>
                    <a:pt x="2063877" y="0"/>
                  </a:cubicBezTo>
                  <a:lnTo>
                    <a:pt x="2119820" y="0"/>
                  </a:lnTo>
                  <a:lnTo>
                    <a:pt x="2119820" y="1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43" name="Freeform 118"/>
            <p:cNvSpPr/>
            <p:nvPr/>
          </p:nvSpPr>
          <p:spPr>
            <a:xfrm>
              <a:off x="3390840" y="2340000"/>
              <a:ext cx="141120" cy="308160"/>
            </a:xfrm>
            <a:custGeom>
              <a:avLst/>
              <a:gdLst/>
              <a:ahLst/>
              <a:rect l="l" t="t" r="r" b="b"/>
              <a:pathLst>
                <a:path w="181482" h="396366">
                  <a:moveTo>
                    <a:pt x="181483" y="378396"/>
                  </a:moveTo>
                  <a:lnTo>
                    <a:pt x="128524" y="396367"/>
                  </a:lnTo>
                  <a:lnTo>
                    <a:pt x="0" y="17907"/>
                  </a:lnTo>
                  <a:lnTo>
                    <a:pt x="52895" y="0"/>
                  </a:lnTo>
                  <a:lnTo>
                    <a:pt x="104013" y="150368"/>
                  </a:lnTo>
                  <a:cubicBezTo>
                    <a:pt x="99631" y="156908"/>
                    <a:pt x="97091" y="164783"/>
                    <a:pt x="97091" y="173292"/>
                  </a:cubicBezTo>
                  <a:cubicBezTo>
                    <a:pt x="97091" y="191452"/>
                    <a:pt x="108776" y="206946"/>
                    <a:pt x="125095" y="212535"/>
                  </a:cubicBezTo>
                  <a:lnTo>
                    <a:pt x="181483" y="3783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44" name="Freeform 119"/>
            <p:cNvSpPr/>
            <p:nvPr/>
          </p:nvSpPr>
          <p:spPr>
            <a:xfrm>
              <a:off x="4723560" y="2971440"/>
              <a:ext cx="471960" cy="381600"/>
            </a:xfrm>
            <a:custGeom>
              <a:avLst/>
              <a:gdLst/>
              <a:ahLst/>
              <a:rect l="l" t="t" r="r" b="b"/>
              <a:pathLst>
                <a:path w="606726" h="490601">
                  <a:moveTo>
                    <a:pt x="606726" y="490601"/>
                  </a:moveTo>
                  <a:lnTo>
                    <a:pt x="374571" y="490601"/>
                  </a:lnTo>
                  <a:lnTo>
                    <a:pt x="239569" y="355600"/>
                  </a:lnTo>
                  <a:lnTo>
                    <a:pt x="183689" y="299720"/>
                  </a:lnTo>
                  <a:lnTo>
                    <a:pt x="24051" y="140081"/>
                  </a:lnTo>
                  <a:cubicBezTo>
                    <a:pt x="-8017" y="108014"/>
                    <a:pt x="-8017" y="56071"/>
                    <a:pt x="24051" y="24003"/>
                  </a:cubicBezTo>
                  <a:cubicBezTo>
                    <a:pt x="40116" y="7938"/>
                    <a:pt x="61071" y="0"/>
                    <a:pt x="82089" y="0"/>
                  </a:cubicBezTo>
                  <a:cubicBezTo>
                    <a:pt x="103108" y="0"/>
                    <a:pt x="124126" y="8001"/>
                    <a:pt x="140128" y="24003"/>
                  </a:cubicBezTo>
                  <a:lnTo>
                    <a:pt x="606726" y="490601"/>
                  </a:ln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45" name="Freeform 120"/>
            <p:cNvSpPr/>
            <p:nvPr/>
          </p:nvSpPr>
          <p:spPr>
            <a:xfrm>
              <a:off x="3290040" y="2468520"/>
              <a:ext cx="156240" cy="141480"/>
            </a:xfrm>
            <a:custGeom>
              <a:avLst/>
              <a:gdLst/>
              <a:ahLst/>
              <a:rect l="l" t="t" r="r" b="b"/>
              <a:pathLst>
                <a:path w="201233" h="181833">
                  <a:moveTo>
                    <a:pt x="177356" y="181834"/>
                  </a:moveTo>
                  <a:lnTo>
                    <a:pt x="0" y="43277"/>
                  </a:lnTo>
                  <a:cubicBezTo>
                    <a:pt x="38291" y="-5745"/>
                    <a:pt x="109030" y="-14381"/>
                    <a:pt x="157988" y="23846"/>
                  </a:cubicBezTo>
                  <a:cubicBezTo>
                    <a:pt x="206946" y="62073"/>
                    <a:pt x="215646" y="132812"/>
                    <a:pt x="177356" y="1818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46" name="Freeform 121"/>
            <p:cNvSpPr/>
            <p:nvPr/>
          </p:nvSpPr>
          <p:spPr>
            <a:xfrm>
              <a:off x="3466440" y="2442600"/>
              <a:ext cx="64440" cy="64440"/>
            </a:xfrm>
            <a:custGeom>
              <a:avLst/>
              <a:gdLst/>
              <a:ahLst/>
              <a:rect l="l" t="t" r="r" b="b"/>
              <a:pathLst>
                <a:path w="82867" h="82867">
                  <a:moveTo>
                    <a:pt x="63119" y="6096"/>
                  </a:moveTo>
                  <a:cubicBezTo>
                    <a:pt x="56833" y="2223"/>
                    <a:pt x="49403" y="0"/>
                    <a:pt x="41402" y="0"/>
                  </a:cubicBezTo>
                  <a:cubicBezTo>
                    <a:pt x="27051" y="0"/>
                    <a:pt x="14351" y="7366"/>
                    <a:pt x="6922" y="18479"/>
                  </a:cubicBezTo>
                  <a:cubicBezTo>
                    <a:pt x="2540" y="25019"/>
                    <a:pt x="0" y="32893"/>
                    <a:pt x="0" y="41402"/>
                  </a:cubicBezTo>
                  <a:cubicBezTo>
                    <a:pt x="0" y="59563"/>
                    <a:pt x="11685" y="75057"/>
                    <a:pt x="28004" y="80645"/>
                  </a:cubicBezTo>
                  <a:cubicBezTo>
                    <a:pt x="32195" y="82106"/>
                    <a:pt x="36703" y="82868"/>
                    <a:pt x="41402" y="82868"/>
                  </a:cubicBezTo>
                  <a:cubicBezTo>
                    <a:pt x="57722" y="82868"/>
                    <a:pt x="71755" y="73470"/>
                    <a:pt x="78613" y="59817"/>
                  </a:cubicBezTo>
                  <a:cubicBezTo>
                    <a:pt x="81344" y="54293"/>
                    <a:pt x="82868" y="48006"/>
                    <a:pt x="82868" y="41402"/>
                  </a:cubicBezTo>
                  <a:cubicBezTo>
                    <a:pt x="82868" y="26416"/>
                    <a:pt x="74994" y="13335"/>
                    <a:pt x="63119" y="6096"/>
                  </a:cubicBezTo>
                  <a:close/>
                  <a:moveTo>
                    <a:pt x="41466" y="64516"/>
                  </a:moveTo>
                  <a:cubicBezTo>
                    <a:pt x="31115" y="64516"/>
                    <a:pt x="22289" y="57658"/>
                    <a:pt x="19368" y="48260"/>
                  </a:cubicBezTo>
                  <a:cubicBezTo>
                    <a:pt x="18733" y="46101"/>
                    <a:pt x="18352" y="43752"/>
                    <a:pt x="18352" y="41339"/>
                  </a:cubicBezTo>
                  <a:cubicBezTo>
                    <a:pt x="18352" y="28575"/>
                    <a:pt x="28702" y="18224"/>
                    <a:pt x="41466" y="18224"/>
                  </a:cubicBezTo>
                  <a:cubicBezTo>
                    <a:pt x="42037" y="18224"/>
                    <a:pt x="42609" y="18224"/>
                    <a:pt x="43117" y="18288"/>
                  </a:cubicBezTo>
                  <a:cubicBezTo>
                    <a:pt x="55118" y="19177"/>
                    <a:pt x="64580" y="29146"/>
                    <a:pt x="64580" y="41339"/>
                  </a:cubicBezTo>
                  <a:cubicBezTo>
                    <a:pt x="64580" y="48260"/>
                    <a:pt x="61595" y="54483"/>
                    <a:pt x="56769" y="58738"/>
                  </a:cubicBezTo>
                  <a:cubicBezTo>
                    <a:pt x="52642" y="62357"/>
                    <a:pt x="47308" y="64516"/>
                    <a:pt x="41466" y="645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47" name="Freeform 122"/>
            <p:cNvSpPr/>
            <p:nvPr/>
          </p:nvSpPr>
          <p:spPr>
            <a:xfrm>
              <a:off x="3480840" y="2457000"/>
              <a:ext cx="35640" cy="36000"/>
            </a:xfrm>
            <a:custGeom>
              <a:avLst/>
              <a:gdLst/>
              <a:ahLst/>
              <a:rect l="l" t="t" r="r" b="b"/>
              <a:pathLst>
                <a:path w="46228" h="46291">
                  <a:moveTo>
                    <a:pt x="-19308" y="23114"/>
                  </a:moveTo>
                  <a:cubicBezTo>
                    <a:pt x="-19308" y="30036"/>
                    <a:pt x="-22292" y="-29278"/>
                    <a:pt x="-27118" y="-25023"/>
                  </a:cubicBezTo>
                  <a:cubicBezTo>
                    <a:pt x="-31182" y="-21403"/>
                    <a:pt x="29020" y="-19244"/>
                    <a:pt x="23114" y="-19244"/>
                  </a:cubicBezTo>
                  <a:cubicBezTo>
                    <a:pt x="12764" y="-19244"/>
                    <a:pt x="3937" y="-26103"/>
                    <a:pt x="1016" y="30036"/>
                  </a:cubicBezTo>
                  <a:cubicBezTo>
                    <a:pt x="381" y="27877"/>
                    <a:pt x="0" y="25527"/>
                    <a:pt x="0" y="23114"/>
                  </a:cubicBezTo>
                  <a:cubicBezTo>
                    <a:pt x="0" y="10351"/>
                    <a:pt x="10351" y="0"/>
                    <a:pt x="23114" y="0"/>
                  </a:cubicBezTo>
                  <a:cubicBezTo>
                    <a:pt x="23685" y="0"/>
                    <a:pt x="24257" y="0"/>
                    <a:pt x="24765" y="64"/>
                  </a:cubicBezTo>
                  <a:cubicBezTo>
                    <a:pt x="-28769" y="889"/>
                    <a:pt x="-19308" y="10922"/>
                    <a:pt x="-19308" y="23114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48" name="Freeform 123"/>
            <p:cNvSpPr/>
            <p:nvPr/>
          </p:nvSpPr>
          <p:spPr>
            <a:xfrm>
              <a:off x="2863440" y="2306160"/>
              <a:ext cx="105480" cy="293760"/>
            </a:xfrm>
            <a:custGeom>
              <a:avLst/>
              <a:gdLst/>
              <a:ahLst/>
              <a:rect l="l" t="t" r="r" b="b"/>
              <a:pathLst>
                <a:path w="135573" h="377570">
                  <a:moveTo>
                    <a:pt x="130175" y="57721"/>
                  </a:moveTo>
                  <a:lnTo>
                    <a:pt x="72644" y="0"/>
                  </a:lnTo>
                  <a:lnTo>
                    <a:pt x="70485" y="1841"/>
                  </a:lnTo>
                  <a:lnTo>
                    <a:pt x="118618" y="67627"/>
                  </a:lnTo>
                  <a:cubicBezTo>
                    <a:pt x="121285" y="70739"/>
                    <a:pt x="120078" y="74041"/>
                    <a:pt x="119634" y="74993"/>
                  </a:cubicBezTo>
                  <a:cubicBezTo>
                    <a:pt x="119189" y="75946"/>
                    <a:pt x="117475" y="78994"/>
                    <a:pt x="113348" y="78994"/>
                  </a:cubicBezTo>
                  <a:lnTo>
                    <a:pt x="76264" y="78994"/>
                  </a:lnTo>
                  <a:lnTo>
                    <a:pt x="64262" y="125158"/>
                  </a:lnTo>
                  <a:lnTo>
                    <a:pt x="64262" y="125158"/>
                  </a:lnTo>
                  <a:lnTo>
                    <a:pt x="54165" y="122873"/>
                  </a:lnTo>
                  <a:lnTo>
                    <a:pt x="1905" y="351473"/>
                  </a:lnTo>
                  <a:cubicBezTo>
                    <a:pt x="2286" y="352552"/>
                    <a:pt x="2540" y="353632"/>
                    <a:pt x="2730" y="354648"/>
                  </a:cubicBezTo>
                  <a:cubicBezTo>
                    <a:pt x="4127" y="362267"/>
                    <a:pt x="2032" y="370014"/>
                    <a:pt x="0" y="377571"/>
                  </a:cubicBezTo>
                  <a:cubicBezTo>
                    <a:pt x="9842" y="362648"/>
                    <a:pt x="20701" y="348488"/>
                    <a:pt x="31814" y="334582"/>
                  </a:cubicBezTo>
                  <a:lnTo>
                    <a:pt x="78803" y="129159"/>
                  </a:lnTo>
                  <a:lnTo>
                    <a:pt x="78803" y="129159"/>
                  </a:lnTo>
                  <a:lnTo>
                    <a:pt x="78994" y="129223"/>
                  </a:lnTo>
                  <a:lnTo>
                    <a:pt x="88074" y="94234"/>
                  </a:lnTo>
                  <a:lnTo>
                    <a:pt x="113411" y="94234"/>
                  </a:lnTo>
                  <a:cubicBezTo>
                    <a:pt x="122174" y="94234"/>
                    <a:pt x="129858" y="89281"/>
                    <a:pt x="133540" y="81343"/>
                  </a:cubicBezTo>
                  <a:cubicBezTo>
                    <a:pt x="137160" y="73470"/>
                    <a:pt x="135890" y="64389"/>
                    <a:pt x="130175" y="577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49" name="Freeform 124"/>
            <p:cNvSpPr/>
            <p:nvPr/>
          </p:nvSpPr>
          <p:spPr>
            <a:xfrm>
              <a:off x="2156400" y="3907800"/>
              <a:ext cx="434880" cy="231840"/>
            </a:xfrm>
            <a:custGeom>
              <a:avLst/>
              <a:gdLst/>
              <a:ahLst/>
              <a:rect l="l" t="t" r="r" b="b"/>
              <a:pathLst>
                <a:path w="558927" h="297941">
                  <a:moveTo>
                    <a:pt x="558927" y="1841"/>
                  </a:moveTo>
                  <a:lnTo>
                    <a:pt x="548196" y="76073"/>
                  </a:lnTo>
                  <a:cubicBezTo>
                    <a:pt x="392748" y="180721"/>
                    <a:pt x="217868" y="256604"/>
                    <a:pt x="35179" y="297942"/>
                  </a:cubicBezTo>
                  <a:cubicBezTo>
                    <a:pt x="15558" y="124079"/>
                    <a:pt x="381" y="4763"/>
                    <a:pt x="0" y="1905"/>
                  </a:cubicBezTo>
                  <a:cubicBezTo>
                    <a:pt x="183769" y="40132"/>
                    <a:pt x="375222" y="40005"/>
                    <a:pt x="558546" y="0"/>
                  </a:cubicBezTo>
                  <a:lnTo>
                    <a:pt x="558927" y="1841"/>
                  </a:lnTo>
                  <a:close/>
                </a:path>
              </a:pathLst>
            </a:custGeom>
            <a:solidFill>
              <a:srgbClr val="50b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50" name="Freeform 125"/>
            <p:cNvSpPr/>
            <p:nvPr/>
          </p:nvSpPr>
          <p:spPr>
            <a:xfrm>
              <a:off x="2159280" y="2826000"/>
              <a:ext cx="471600" cy="365760"/>
            </a:xfrm>
            <a:custGeom>
              <a:avLst/>
              <a:gdLst/>
              <a:ahLst/>
              <a:rect l="l" t="t" r="r" b="b"/>
              <a:pathLst>
                <a:path w="606107" h="470408">
                  <a:moveTo>
                    <a:pt x="606108" y="344297"/>
                  </a:moveTo>
                  <a:lnTo>
                    <a:pt x="606108" y="384048"/>
                  </a:lnTo>
                  <a:cubicBezTo>
                    <a:pt x="517398" y="470345"/>
                    <a:pt x="323914" y="470408"/>
                    <a:pt x="323469" y="470408"/>
                  </a:cubicBezTo>
                  <a:cubicBezTo>
                    <a:pt x="4445" y="446532"/>
                    <a:pt x="0" y="5715"/>
                    <a:pt x="0" y="0"/>
                  </a:cubicBezTo>
                  <a:cubicBezTo>
                    <a:pt x="10287" y="69405"/>
                    <a:pt x="29210" y="137096"/>
                    <a:pt x="61341" y="199199"/>
                  </a:cubicBezTo>
                  <a:cubicBezTo>
                    <a:pt x="113983" y="300863"/>
                    <a:pt x="206248" y="386207"/>
                    <a:pt x="318199" y="410210"/>
                  </a:cubicBezTo>
                  <a:cubicBezTo>
                    <a:pt x="415925" y="431165"/>
                    <a:pt x="519303" y="403161"/>
                    <a:pt x="602488" y="346837"/>
                  </a:cubicBezTo>
                  <a:cubicBezTo>
                    <a:pt x="602361" y="343852"/>
                    <a:pt x="602234" y="340868"/>
                    <a:pt x="602107" y="337883"/>
                  </a:cubicBezTo>
                  <a:cubicBezTo>
                    <a:pt x="603377" y="339979"/>
                    <a:pt x="604711" y="342138"/>
                    <a:pt x="606108" y="344297"/>
                  </a:cubicBezTo>
                  <a:close/>
                </a:path>
              </a:pathLst>
            </a:custGeom>
            <a:solidFill>
              <a:srgbClr val="918e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51" name="Freeform 126"/>
            <p:cNvSpPr/>
            <p:nvPr/>
          </p:nvSpPr>
          <p:spPr>
            <a:xfrm>
              <a:off x="2475720" y="2156040"/>
              <a:ext cx="172800" cy="110880"/>
            </a:xfrm>
            <a:custGeom>
              <a:avLst/>
              <a:gdLst/>
              <a:ahLst/>
              <a:rect l="l" t="t" r="r" b="b"/>
              <a:pathLst>
                <a:path w="222313" h="142684">
                  <a:moveTo>
                    <a:pt x="222314" y="121730"/>
                  </a:moveTo>
                  <a:lnTo>
                    <a:pt x="222314" y="121730"/>
                  </a:lnTo>
                  <a:lnTo>
                    <a:pt x="215074" y="142685"/>
                  </a:lnTo>
                  <a:cubicBezTo>
                    <a:pt x="78295" y="140208"/>
                    <a:pt x="0" y="54991"/>
                    <a:pt x="0" y="54991"/>
                  </a:cubicBezTo>
                  <a:lnTo>
                    <a:pt x="33210" y="0"/>
                  </a:lnTo>
                  <a:cubicBezTo>
                    <a:pt x="40259" y="5143"/>
                    <a:pt x="47815" y="6731"/>
                    <a:pt x="55308" y="5842"/>
                  </a:cubicBezTo>
                  <a:cubicBezTo>
                    <a:pt x="61976" y="15875"/>
                    <a:pt x="69342" y="25527"/>
                    <a:pt x="77279" y="34608"/>
                  </a:cubicBezTo>
                  <a:cubicBezTo>
                    <a:pt x="78422" y="35877"/>
                    <a:pt x="79439" y="37084"/>
                    <a:pt x="80645" y="38290"/>
                  </a:cubicBezTo>
                  <a:cubicBezTo>
                    <a:pt x="81915" y="39751"/>
                    <a:pt x="83312" y="41212"/>
                    <a:pt x="84645" y="42609"/>
                  </a:cubicBezTo>
                  <a:cubicBezTo>
                    <a:pt x="95631" y="54229"/>
                    <a:pt x="107633" y="64834"/>
                    <a:pt x="120586" y="74486"/>
                  </a:cubicBezTo>
                  <a:cubicBezTo>
                    <a:pt x="121920" y="75438"/>
                    <a:pt x="123253" y="76454"/>
                    <a:pt x="124587" y="77407"/>
                  </a:cubicBezTo>
                  <a:cubicBezTo>
                    <a:pt x="126174" y="78549"/>
                    <a:pt x="127762" y="79693"/>
                    <a:pt x="129413" y="80836"/>
                  </a:cubicBezTo>
                  <a:cubicBezTo>
                    <a:pt x="131064" y="81979"/>
                    <a:pt x="132651" y="82995"/>
                    <a:pt x="134302" y="84074"/>
                  </a:cubicBezTo>
                  <a:cubicBezTo>
                    <a:pt x="148463" y="93345"/>
                    <a:pt x="163449" y="101346"/>
                    <a:pt x="179133" y="107823"/>
                  </a:cubicBezTo>
                  <a:cubicBezTo>
                    <a:pt x="181102" y="108712"/>
                    <a:pt x="183070" y="109474"/>
                    <a:pt x="185102" y="110236"/>
                  </a:cubicBezTo>
                  <a:cubicBezTo>
                    <a:pt x="187134" y="111062"/>
                    <a:pt x="189166" y="111824"/>
                    <a:pt x="191198" y="112522"/>
                  </a:cubicBezTo>
                  <a:cubicBezTo>
                    <a:pt x="193230" y="113284"/>
                    <a:pt x="195263" y="113983"/>
                    <a:pt x="197358" y="114681"/>
                  </a:cubicBezTo>
                  <a:cubicBezTo>
                    <a:pt x="199326" y="115380"/>
                    <a:pt x="201295" y="116015"/>
                    <a:pt x="203327" y="116649"/>
                  </a:cubicBezTo>
                  <a:cubicBezTo>
                    <a:pt x="203645" y="116713"/>
                    <a:pt x="203962" y="116777"/>
                    <a:pt x="204216" y="116904"/>
                  </a:cubicBezTo>
                  <a:cubicBezTo>
                    <a:pt x="207073" y="117793"/>
                    <a:pt x="209867" y="118555"/>
                    <a:pt x="212725" y="119317"/>
                  </a:cubicBezTo>
                  <a:cubicBezTo>
                    <a:pt x="212789" y="119380"/>
                    <a:pt x="212852" y="119380"/>
                    <a:pt x="212915" y="119443"/>
                  </a:cubicBezTo>
                  <a:cubicBezTo>
                    <a:pt x="216027" y="120206"/>
                    <a:pt x="219202" y="121031"/>
                    <a:pt x="222314" y="121730"/>
                  </a:cubicBezTo>
                  <a:close/>
                </a:path>
              </a:pathLst>
            </a:custGeom>
            <a:solidFill>
              <a:srgbClr val="d16b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52" name="Freeform 127"/>
            <p:cNvSpPr/>
            <p:nvPr/>
          </p:nvSpPr>
          <p:spPr>
            <a:xfrm>
              <a:off x="2892600" y="3125520"/>
              <a:ext cx="216720" cy="84240"/>
            </a:xfrm>
            <a:custGeom>
              <a:avLst/>
              <a:gdLst/>
              <a:ahLst/>
              <a:rect l="l" t="t" r="r" b="b"/>
              <a:pathLst>
                <a:path w="278764" h="108394">
                  <a:moveTo>
                    <a:pt x="86424" y="108394"/>
                  </a:moveTo>
                  <a:cubicBezTo>
                    <a:pt x="86424" y="108394"/>
                    <a:pt x="225997" y="103695"/>
                    <a:pt x="278765" y="36766"/>
                  </a:cubicBezTo>
                  <a:lnTo>
                    <a:pt x="269875" y="24003"/>
                  </a:lnTo>
                  <a:cubicBezTo>
                    <a:pt x="269875" y="24003"/>
                    <a:pt x="154051" y="65151"/>
                    <a:pt x="0" y="0"/>
                  </a:cubicBezTo>
                  <a:lnTo>
                    <a:pt x="81407" y="108394"/>
                  </a:lnTo>
                  <a:lnTo>
                    <a:pt x="86424" y="108394"/>
                  </a:lnTo>
                  <a:close/>
                </a:path>
              </a:pathLst>
            </a:custGeom>
            <a:solidFill>
              <a:srgbClr val="d16b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53" name="Freeform 128"/>
            <p:cNvSpPr/>
            <p:nvPr/>
          </p:nvSpPr>
          <p:spPr>
            <a:xfrm>
              <a:off x="2835000" y="2119680"/>
              <a:ext cx="61560" cy="97560"/>
            </a:xfrm>
            <a:custGeom>
              <a:avLst/>
              <a:gdLst/>
              <a:ahLst/>
              <a:rect l="l" t="t" r="r" b="b"/>
              <a:pathLst>
                <a:path w="79184" h="125730">
                  <a:moveTo>
                    <a:pt x="0" y="107569"/>
                  </a:moveTo>
                  <a:lnTo>
                    <a:pt x="79184" y="0"/>
                  </a:lnTo>
                  <a:lnTo>
                    <a:pt x="42037" y="125730"/>
                  </a:lnTo>
                  <a:lnTo>
                    <a:pt x="0" y="107569"/>
                  </a:lnTo>
                  <a:close/>
                </a:path>
              </a:pathLst>
            </a:custGeom>
            <a:solidFill>
              <a:srgbClr val="d16b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54" name="Freeform 129"/>
            <p:cNvSpPr/>
            <p:nvPr/>
          </p:nvSpPr>
          <p:spPr>
            <a:xfrm>
              <a:off x="3355920" y="4164480"/>
              <a:ext cx="663840" cy="265680"/>
            </a:xfrm>
            <a:custGeom>
              <a:avLst/>
              <a:gdLst/>
              <a:ahLst/>
              <a:rect l="l" t="t" r="r" b="b"/>
              <a:pathLst>
                <a:path w="853501" h="341693">
                  <a:moveTo>
                    <a:pt x="853502" y="256477"/>
                  </a:moveTo>
                  <a:lnTo>
                    <a:pt x="720152" y="341694"/>
                  </a:lnTo>
                  <a:cubicBezTo>
                    <a:pt x="606550" y="319786"/>
                    <a:pt x="491107" y="307340"/>
                    <a:pt x="375473" y="304483"/>
                  </a:cubicBezTo>
                  <a:cubicBezTo>
                    <a:pt x="303782" y="302704"/>
                    <a:pt x="229805" y="304165"/>
                    <a:pt x="163384" y="277241"/>
                  </a:cubicBezTo>
                  <a:cubicBezTo>
                    <a:pt x="104773" y="253492"/>
                    <a:pt x="55370" y="207772"/>
                    <a:pt x="27240" y="151193"/>
                  </a:cubicBezTo>
                  <a:cubicBezTo>
                    <a:pt x="7745" y="112078"/>
                    <a:pt x="-1463" y="68009"/>
                    <a:pt x="189" y="24447"/>
                  </a:cubicBezTo>
                  <a:lnTo>
                    <a:pt x="19493" y="0"/>
                  </a:lnTo>
                  <a:cubicBezTo>
                    <a:pt x="12952" y="26734"/>
                    <a:pt x="19175" y="58610"/>
                    <a:pt x="46099" y="96329"/>
                  </a:cubicBezTo>
                  <a:cubicBezTo>
                    <a:pt x="163320" y="260667"/>
                    <a:pt x="405319" y="249428"/>
                    <a:pt x="853502" y="256477"/>
                  </a:cubicBezTo>
                  <a:close/>
                </a:path>
              </a:pathLst>
            </a:custGeom>
            <a:solidFill>
              <a:srgbClr val="918e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7500600" y="1767960"/>
            <a:ext cx="3832200" cy="10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3200" spc="-1" strike="noStrike">
                <a:solidFill>
                  <a:srgbClr val="ffffff"/>
                </a:solidFill>
                <a:latin typeface="Roboto Black"/>
              </a:rPr>
              <a:t>My Father Told Me</a:t>
            </a:r>
            <a:br>
              <a:rPr sz="3200"/>
            </a:br>
            <a:r>
              <a:rPr b="0" lang="en-ID" sz="3200" spc="-1" strike="noStrike">
                <a:solidFill>
                  <a:srgbClr val="ffffff"/>
                </a:solidFill>
                <a:latin typeface="Roboto Black"/>
              </a:rPr>
              <a:t>What It’s Feel Like</a:t>
            </a:r>
            <a:endParaRPr b="0" lang="en-US" sz="32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256" name="TextBox 131"/>
          <p:cNvSpPr/>
          <p:nvPr/>
        </p:nvSpPr>
        <p:spPr>
          <a:xfrm>
            <a:off x="8467560" y="3104280"/>
            <a:ext cx="28656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shuddered all over, and edged away from his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57" name="TextBox 132"/>
          <p:cNvSpPr/>
          <p:nvPr/>
        </p:nvSpPr>
        <p:spPr>
          <a:xfrm>
            <a:off x="7500960" y="1430640"/>
            <a:ext cx="1927080" cy="337320"/>
          </a:xfrm>
          <a:prstGeom prst="rect">
            <a:avLst/>
          </a:prstGeom>
          <a:solidFill>
            <a:srgbClr val="dceb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Open Sans"/>
              </a:rPr>
              <a:t>Sub-Title Here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58" name="TextBox 133"/>
          <p:cNvSpPr/>
          <p:nvPr/>
        </p:nvSpPr>
        <p:spPr>
          <a:xfrm>
            <a:off x="8467560" y="2865960"/>
            <a:ext cx="286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59" name="TextBox 134"/>
          <p:cNvSpPr/>
          <p:nvPr/>
        </p:nvSpPr>
        <p:spPr>
          <a:xfrm>
            <a:off x="8466120" y="4420440"/>
            <a:ext cx="2867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shuddered all over, and edged away from his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60" name="TextBox 135"/>
          <p:cNvSpPr/>
          <p:nvPr/>
        </p:nvSpPr>
        <p:spPr>
          <a:xfrm>
            <a:off x="8466120" y="4181760"/>
            <a:ext cx="28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Description Two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61" name="Rounded Rectangle 136"/>
          <p:cNvSpPr/>
          <p:nvPr/>
        </p:nvSpPr>
        <p:spPr>
          <a:xfrm>
            <a:off x="7529400" y="3083040"/>
            <a:ext cx="712800" cy="730080"/>
          </a:xfrm>
          <a:custGeom>
            <a:avLst/>
            <a:gdLst>
              <a:gd name="textAreaLeft" fmla="*/ 24480 w 712800"/>
              <a:gd name="textAreaRight" fmla="*/ 688320 w 712800"/>
              <a:gd name="textAreaTop" fmla="*/ 24480 h 730080"/>
              <a:gd name="textAreaBottom" fmla="*/ 705600 h 730080"/>
            </a:gdLst>
            <a:ahLst/>
            <a:rect l="textAreaLeft" t="textAreaTop" r="textAreaRight" b="textAreaBottom"/>
            <a:pathLst>
              <a:path w="21600" h="22123">
                <a:moveTo>
                  <a:pt x="2563" y="0"/>
                </a:moveTo>
                <a:arcTo wR="2563" hR="2563" stAng="16200000" swAng="-5400000"/>
                <a:lnTo>
                  <a:pt x="0" y="19560"/>
                </a:lnTo>
                <a:arcTo wR="2563" hR="2563" stAng="10800000" swAng="-5400000"/>
                <a:lnTo>
                  <a:pt x="19037" y="22123"/>
                </a:lnTo>
                <a:arcTo wR="2563" hR="2563" stAng="5400000" swAng="-5400000"/>
                <a:lnTo>
                  <a:pt x="21600" y="2563"/>
                </a:lnTo>
                <a:arcTo wR="2563" hR="2563" stAng="0" swAng="-5400000"/>
                <a:close/>
              </a:path>
            </a:pathLst>
          </a:custGeom>
          <a:solidFill>
            <a:srgbClr val="8fd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62" name="Rounded Rectangle 147"/>
          <p:cNvSpPr/>
          <p:nvPr/>
        </p:nvSpPr>
        <p:spPr>
          <a:xfrm>
            <a:off x="7529400" y="4335480"/>
            <a:ext cx="712800" cy="730080"/>
          </a:xfrm>
          <a:custGeom>
            <a:avLst/>
            <a:gdLst>
              <a:gd name="textAreaLeft" fmla="*/ 24480 w 712800"/>
              <a:gd name="textAreaRight" fmla="*/ 688320 w 712800"/>
              <a:gd name="textAreaTop" fmla="*/ 24480 h 730080"/>
              <a:gd name="textAreaBottom" fmla="*/ 705600 h 730080"/>
            </a:gdLst>
            <a:ahLst/>
            <a:rect l="textAreaLeft" t="textAreaTop" r="textAreaRight" b="textAreaBottom"/>
            <a:pathLst>
              <a:path w="21600" h="22123">
                <a:moveTo>
                  <a:pt x="2563" y="0"/>
                </a:moveTo>
                <a:arcTo wR="2563" hR="2563" stAng="16200000" swAng="-5400000"/>
                <a:lnTo>
                  <a:pt x="0" y="19560"/>
                </a:lnTo>
                <a:arcTo wR="2563" hR="2563" stAng="10800000" swAng="-5400000"/>
                <a:lnTo>
                  <a:pt x="19037" y="22123"/>
                </a:lnTo>
                <a:arcTo wR="2563" hR="2563" stAng="5400000" swAng="-5400000"/>
                <a:lnTo>
                  <a:pt x="21600" y="2563"/>
                </a:lnTo>
                <a:arcTo wR="2563" hR="2563" stAng="0" swAng="-5400000"/>
                <a:close/>
              </a:path>
            </a:pathLst>
          </a:custGeom>
          <a:solidFill>
            <a:srgbClr val="8fd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263" name="Graphic 1"/>
          <p:cNvGrpSpPr/>
          <p:nvPr/>
        </p:nvGrpSpPr>
        <p:grpSpPr>
          <a:xfrm>
            <a:off x="7693200" y="3259080"/>
            <a:ext cx="399960" cy="379440"/>
            <a:chOff x="7693200" y="3259080"/>
            <a:chExt cx="399960" cy="379440"/>
          </a:xfrm>
        </p:grpSpPr>
        <p:sp>
          <p:nvSpPr>
            <p:cNvPr id="1264" name="Freeform: Shape 733"/>
            <p:cNvSpPr/>
            <p:nvPr/>
          </p:nvSpPr>
          <p:spPr>
            <a:xfrm>
              <a:off x="7814160" y="3604320"/>
              <a:ext cx="145080" cy="29160"/>
            </a:xfrm>
            <a:custGeom>
              <a:avLst/>
              <a:gdLst/>
              <a:ahLst/>
              <a:rect l="l" t="t" r="r" b="b"/>
              <a:pathLst>
                <a:path w="236833" h="47366">
                  <a:moveTo>
                    <a:pt x="213151" y="47367"/>
                  </a:moveTo>
                  <a:lnTo>
                    <a:pt x="23683" y="47367"/>
                  </a:lnTo>
                  <a:cubicBezTo>
                    <a:pt x="10579" y="47367"/>
                    <a:pt x="0" y="36788"/>
                    <a:pt x="0" y="23683"/>
                  </a:cubicBezTo>
                  <a:lnTo>
                    <a:pt x="0" y="23683"/>
                  </a:lnTo>
                  <a:cubicBezTo>
                    <a:pt x="0" y="10579"/>
                    <a:pt x="10579" y="0"/>
                    <a:pt x="23683" y="0"/>
                  </a:cubicBezTo>
                  <a:lnTo>
                    <a:pt x="213151" y="0"/>
                  </a:lnTo>
                  <a:cubicBezTo>
                    <a:pt x="226255" y="0"/>
                    <a:pt x="236834" y="10579"/>
                    <a:pt x="236834" y="23683"/>
                  </a:cubicBezTo>
                  <a:lnTo>
                    <a:pt x="236834" y="23683"/>
                  </a:lnTo>
                  <a:cubicBezTo>
                    <a:pt x="236834" y="36788"/>
                    <a:pt x="226255" y="47367"/>
                    <a:pt x="213151" y="47367"/>
                  </a:cubicBezTo>
                  <a:close/>
                </a:path>
              </a:pathLst>
            </a:custGeom>
            <a:solidFill>
              <a:srgbClr val="457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65" name="Freeform: Shape 734"/>
            <p:cNvSpPr/>
            <p:nvPr/>
          </p:nvSpPr>
          <p:spPr>
            <a:xfrm>
              <a:off x="7697880" y="3331440"/>
              <a:ext cx="357480" cy="232920"/>
            </a:xfrm>
            <a:custGeom>
              <a:avLst/>
              <a:gdLst/>
              <a:ahLst/>
              <a:rect l="l" t="t" r="r" b="b"/>
              <a:pathLst>
                <a:path w="582743" h="375888">
                  <a:moveTo>
                    <a:pt x="575737" y="335587"/>
                  </a:moveTo>
                  <a:lnTo>
                    <a:pt x="425742" y="187487"/>
                  </a:lnTo>
                  <a:lnTo>
                    <a:pt x="191908" y="187487"/>
                  </a:lnTo>
                  <a:lnTo>
                    <a:pt x="41755" y="8440"/>
                  </a:lnTo>
                  <a:cubicBezTo>
                    <a:pt x="33387" y="-1507"/>
                    <a:pt x="18387" y="-2928"/>
                    <a:pt x="8440" y="5598"/>
                  </a:cubicBezTo>
                  <a:cubicBezTo>
                    <a:pt x="-1507" y="14124"/>
                    <a:pt x="-2928" y="28966"/>
                    <a:pt x="5598" y="38913"/>
                  </a:cubicBezTo>
                  <a:lnTo>
                    <a:pt x="169961" y="234696"/>
                  </a:lnTo>
                  <a:lnTo>
                    <a:pt x="173277" y="234696"/>
                  </a:lnTo>
                  <a:lnTo>
                    <a:pt x="408216" y="234696"/>
                  </a:lnTo>
                  <a:lnTo>
                    <a:pt x="542422" y="368902"/>
                  </a:lnTo>
                  <a:cubicBezTo>
                    <a:pt x="551737" y="378217"/>
                    <a:pt x="566737" y="378217"/>
                    <a:pt x="575894" y="368902"/>
                  </a:cubicBezTo>
                  <a:cubicBezTo>
                    <a:pt x="585052" y="359586"/>
                    <a:pt x="585052" y="344745"/>
                    <a:pt x="575737" y="335587"/>
                  </a:cubicBezTo>
                  <a:close/>
                </a:path>
              </a:pathLst>
            </a:custGeom>
            <a:solidFill>
              <a:srgbClr val="457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66" name="Freeform: Shape 735"/>
            <p:cNvSpPr/>
            <p:nvPr/>
          </p:nvSpPr>
          <p:spPr>
            <a:xfrm>
              <a:off x="7862400" y="3477240"/>
              <a:ext cx="48240" cy="97560"/>
            </a:xfrm>
            <a:custGeom>
              <a:avLst/>
              <a:gdLst/>
              <a:ahLst/>
              <a:rect l="l" t="t" r="r" b="b"/>
              <a:pathLst>
                <a:path w="78944" h="157889">
                  <a:moveTo>
                    <a:pt x="0" y="0"/>
                  </a:moveTo>
                  <a:lnTo>
                    <a:pt x="78945" y="0"/>
                  </a:lnTo>
                  <a:lnTo>
                    <a:pt x="78945" y="157889"/>
                  </a:lnTo>
                  <a:lnTo>
                    <a:pt x="0" y="1578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67" name="Freeform: Shape 736"/>
            <p:cNvSpPr/>
            <p:nvPr/>
          </p:nvSpPr>
          <p:spPr>
            <a:xfrm>
              <a:off x="7872120" y="3408480"/>
              <a:ext cx="28800" cy="38880"/>
            </a:xfrm>
            <a:custGeom>
              <a:avLst/>
              <a:gdLst/>
              <a:ahLst/>
              <a:rect l="l" t="t" r="r" b="b"/>
              <a:pathLst>
                <a:path w="47366" h="63155">
                  <a:moveTo>
                    <a:pt x="0" y="0"/>
                  </a:moveTo>
                  <a:lnTo>
                    <a:pt x="-18169" y="0"/>
                  </a:lnTo>
                  <a:lnTo>
                    <a:pt x="-18169" y="-2380"/>
                  </a:lnTo>
                  <a:lnTo>
                    <a:pt x="0" y="-23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68" name="Freeform: Shape 737"/>
            <p:cNvSpPr/>
            <p:nvPr/>
          </p:nvSpPr>
          <p:spPr>
            <a:xfrm>
              <a:off x="7833240" y="3379320"/>
              <a:ext cx="106560" cy="29160"/>
            </a:xfrm>
            <a:custGeom>
              <a:avLst/>
              <a:gdLst/>
              <a:ahLst/>
              <a:rect l="l" t="t" r="r" b="b"/>
              <a:pathLst>
                <a:path w="173678" h="47366">
                  <a:moveTo>
                    <a:pt x="149995" y="47367"/>
                  </a:moveTo>
                  <a:lnTo>
                    <a:pt x="23683" y="47367"/>
                  </a:lnTo>
                  <a:cubicBezTo>
                    <a:pt x="10579" y="47367"/>
                    <a:pt x="0" y="36788"/>
                    <a:pt x="0" y="23683"/>
                  </a:cubicBezTo>
                  <a:lnTo>
                    <a:pt x="0" y="23683"/>
                  </a:lnTo>
                  <a:cubicBezTo>
                    <a:pt x="0" y="10579"/>
                    <a:pt x="10579" y="0"/>
                    <a:pt x="23683" y="0"/>
                  </a:cubicBezTo>
                  <a:lnTo>
                    <a:pt x="149995" y="0"/>
                  </a:lnTo>
                  <a:cubicBezTo>
                    <a:pt x="163100" y="0"/>
                    <a:pt x="173678" y="10579"/>
                    <a:pt x="173678" y="23683"/>
                  </a:cubicBezTo>
                  <a:lnTo>
                    <a:pt x="173678" y="23683"/>
                  </a:lnTo>
                  <a:cubicBezTo>
                    <a:pt x="173678" y="36788"/>
                    <a:pt x="163100" y="47367"/>
                    <a:pt x="149995" y="47367"/>
                  </a:cubicBezTo>
                  <a:close/>
                </a:path>
              </a:pathLst>
            </a:custGeom>
            <a:solidFill>
              <a:srgbClr val="edf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69" name="Freeform: Shape 738"/>
            <p:cNvSpPr/>
            <p:nvPr/>
          </p:nvSpPr>
          <p:spPr>
            <a:xfrm>
              <a:off x="7787520" y="3268440"/>
              <a:ext cx="68040" cy="68760"/>
            </a:xfrm>
            <a:custGeom>
              <a:avLst/>
              <a:gdLst/>
              <a:ahLst/>
              <a:rect l="l" t="t" r="r" b="b"/>
              <a:pathLst>
                <a:path w="111114" h="111114">
                  <a:moveTo>
                    <a:pt x="78155" y="111115"/>
                  </a:moveTo>
                  <a:lnTo>
                    <a:pt x="0" y="32959"/>
                  </a:lnTo>
                  <a:lnTo>
                    <a:pt x="16736" y="16223"/>
                  </a:lnTo>
                  <a:cubicBezTo>
                    <a:pt x="38367" y="-5408"/>
                    <a:pt x="73261" y="-5408"/>
                    <a:pt x="94892" y="16223"/>
                  </a:cubicBezTo>
                  <a:lnTo>
                    <a:pt x="94892" y="16223"/>
                  </a:lnTo>
                  <a:cubicBezTo>
                    <a:pt x="116522" y="37854"/>
                    <a:pt x="116522" y="72748"/>
                    <a:pt x="94892" y="94378"/>
                  </a:cubicBezTo>
                  <a:lnTo>
                    <a:pt x="78155" y="111115"/>
                  </a:lnTo>
                  <a:close/>
                </a:path>
              </a:pathLst>
            </a:custGeom>
            <a:solidFill>
              <a:srgbClr val="fcbf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70" name="Freeform: Shape 739"/>
            <p:cNvSpPr/>
            <p:nvPr/>
          </p:nvSpPr>
          <p:spPr>
            <a:xfrm>
              <a:off x="7842960" y="3545640"/>
              <a:ext cx="87120" cy="87840"/>
            </a:xfrm>
            <a:custGeom>
              <a:avLst/>
              <a:gdLst/>
              <a:ahLst/>
              <a:rect l="l" t="t" r="r" b="b"/>
              <a:pathLst>
                <a:path w="142100" h="142100">
                  <a:moveTo>
                    <a:pt x="142100" y="71050"/>
                  </a:moveTo>
                  <a:cubicBezTo>
                    <a:pt x="142100" y="110290"/>
                    <a:pt x="110290" y="142100"/>
                    <a:pt x="71050" y="142100"/>
                  </a:cubicBezTo>
                  <a:cubicBezTo>
                    <a:pt x="31810" y="142100"/>
                    <a:pt x="0" y="110290"/>
                    <a:pt x="0" y="71050"/>
                  </a:cubicBezTo>
                  <a:cubicBezTo>
                    <a:pt x="0" y="31810"/>
                    <a:pt x="31810" y="0"/>
                    <a:pt x="71050" y="0"/>
                  </a:cubicBezTo>
                  <a:cubicBezTo>
                    <a:pt x="110290" y="0"/>
                    <a:pt x="142100" y="31810"/>
                    <a:pt x="142100" y="71050"/>
                  </a:cubicBezTo>
                  <a:close/>
                </a:path>
              </a:pathLst>
            </a:custGeom>
            <a:solidFill>
              <a:srgbClr val="457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71" name="Freeform: Shape 740"/>
            <p:cNvSpPr/>
            <p:nvPr/>
          </p:nvSpPr>
          <p:spPr>
            <a:xfrm>
              <a:off x="8027280" y="3330360"/>
              <a:ext cx="57960" cy="38880"/>
            </a:xfrm>
            <a:custGeom>
              <a:avLst/>
              <a:gdLst/>
              <a:ahLst/>
              <a:rect l="l" t="t" r="r" b="b"/>
              <a:pathLst>
                <a:path w="94733" h="63155">
                  <a:moveTo>
                    <a:pt x="0" y="0"/>
                  </a:moveTo>
                  <a:lnTo>
                    <a:pt x="94734" y="0"/>
                  </a:lnTo>
                  <a:lnTo>
                    <a:pt x="94734" y="63156"/>
                  </a:lnTo>
                  <a:lnTo>
                    <a:pt x="0" y="63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8ca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pic>
          <p:nvPicPr>
            <p:cNvPr id="1272" name="Graphic 1" descr=""/>
            <p:cNvPicPr/>
            <p:nvPr/>
          </p:nvPicPr>
          <p:blipFill>
            <a:blip r:embed="rId7"/>
            <a:stretch/>
          </p:blipFill>
          <p:spPr>
            <a:xfrm>
              <a:off x="7693200" y="3259080"/>
              <a:ext cx="399960" cy="37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3" name="Graphic 1"/>
          <p:cNvGrpSpPr/>
          <p:nvPr/>
        </p:nvGrpSpPr>
        <p:grpSpPr>
          <a:xfrm>
            <a:off x="7742160" y="4484520"/>
            <a:ext cx="351000" cy="408240"/>
            <a:chOff x="7742160" y="4484520"/>
            <a:chExt cx="351000" cy="408240"/>
          </a:xfrm>
        </p:grpSpPr>
        <p:sp>
          <p:nvSpPr>
            <p:cNvPr id="1274" name="Freeform: Shape 962"/>
            <p:cNvSpPr/>
            <p:nvPr/>
          </p:nvSpPr>
          <p:spPr>
            <a:xfrm>
              <a:off x="7747920" y="4486680"/>
              <a:ext cx="280440" cy="399600"/>
            </a:xfrm>
            <a:custGeom>
              <a:avLst/>
              <a:gdLst/>
              <a:ahLst/>
              <a:rect l="l" t="t" r="r" b="b"/>
              <a:pathLst>
                <a:path w="457878" h="647346">
                  <a:moveTo>
                    <a:pt x="252623" y="513140"/>
                  </a:moveTo>
                  <a:cubicBezTo>
                    <a:pt x="252623" y="421722"/>
                    <a:pt x="326989" y="347356"/>
                    <a:pt x="418407" y="347356"/>
                  </a:cubicBezTo>
                  <a:cubicBezTo>
                    <a:pt x="431985" y="347356"/>
                    <a:pt x="445248" y="349251"/>
                    <a:pt x="457879" y="352251"/>
                  </a:cubicBezTo>
                  <a:lnTo>
                    <a:pt x="457879" y="31578"/>
                  </a:lnTo>
                  <a:cubicBezTo>
                    <a:pt x="457879" y="14210"/>
                    <a:pt x="443669" y="0"/>
                    <a:pt x="426301" y="0"/>
                  </a:cubicBezTo>
                  <a:lnTo>
                    <a:pt x="31578" y="0"/>
                  </a:lnTo>
                  <a:cubicBezTo>
                    <a:pt x="14210" y="0"/>
                    <a:pt x="0" y="14210"/>
                    <a:pt x="0" y="31578"/>
                  </a:cubicBezTo>
                  <a:lnTo>
                    <a:pt x="0" y="615768"/>
                  </a:lnTo>
                  <a:cubicBezTo>
                    <a:pt x="0" y="633136"/>
                    <a:pt x="14210" y="647346"/>
                    <a:pt x="31578" y="647346"/>
                  </a:cubicBezTo>
                  <a:lnTo>
                    <a:pt x="321463" y="647346"/>
                  </a:lnTo>
                  <a:cubicBezTo>
                    <a:pt x="279780" y="617189"/>
                    <a:pt x="252623" y="568244"/>
                    <a:pt x="252623" y="513140"/>
                  </a:cubicBezTo>
                  <a:close/>
                </a:path>
              </a:pathLst>
            </a:custGeom>
            <a:solidFill>
              <a:srgbClr val="edf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75" name="Freeform: Shape 963"/>
            <p:cNvSpPr/>
            <p:nvPr/>
          </p:nvSpPr>
          <p:spPr>
            <a:xfrm>
              <a:off x="7922160" y="4720320"/>
              <a:ext cx="164520" cy="165600"/>
            </a:xfrm>
            <a:custGeom>
              <a:avLst/>
              <a:gdLst/>
              <a:ahLst/>
              <a:rect l="l" t="t" r="r" b="b"/>
              <a:pathLst>
                <a:path w="268411" h="268411">
                  <a:moveTo>
                    <a:pt x="268412" y="134206"/>
                  </a:moveTo>
                  <a:cubicBezTo>
                    <a:pt x="268412" y="208326"/>
                    <a:pt x="208326" y="268412"/>
                    <a:pt x="134206" y="268412"/>
                  </a:cubicBezTo>
                  <a:cubicBezTo>
                    <a:pt x="60086" y="268412"/>
                    <a:pt x="0" y="208326"/>
                    <a:pt x="0" y="134206"/>
                  </a:cubicBezTo>
                  <a:cubicBezTo>
                    <a:pt x="0" y="60086"/>
                    <a:pt x="60086" y="0"/>
                    <a:pt x="134206" y="0"/>
                  </a:cubicBezTo>
                  <a:cubicBezTo>
                    <a:pt x="208326" y="0"/>
                    <a:pt x="268412" y="60086"/>
                    <a:pt x="268412" y="134206"/>
                  </a:cubicBezTo>
                  <a:close/>
                </a:path>
              </a:pathLst>
            </a:custGeom>
            <a:solidFill>
              <a:srgbClr val="ffc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76" name="Freeform: Shape 964"/>
            <p:cNvSpPr/>
            <p:nvPr/>
          </p:nvSpPr>
          <p:spPr>
            <a:xfrm>
              <a:off x="7786440" y="4710600"/>
              <a:ext cx="28800" cy="29160"/>
            </a:xfrm>
            <a:custGeom>
              <a:avLst/>
              <a:gdLst/>
              <a:ahLst/>
              <a:rect l="l" t="t" r="r" b="b"/>
              <a:pathLst>
                <a:path w="47366" h="47366">
                  <a:moveTo>
                    <a:pt x="0" y="0"/>
                  </a:moveTo>
                  <a:lnTo>
                    <a:pt x="-18169" y="0"/>
                  </a:lnTo>
                  <a:lnTo>
                    <a:pt x="-18169" y="-18169"/>
                  </a:lnTo>
                  <a:lnTo>
                    <a:pt x="0" y="-181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ec4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77" name="Freeform: Shape 965"/>
            <p:cNvSpPr/>
            <p:nvPr/>
          </p:nvSpPr>
          <p:spPr>
            <a:xfrm>
              <a:off x="7786440" y="4769280"/>
              <a:ext cx="28800" cy="29160"/>
            </a:xfrm>
            <a:custGeom>
              <a:avLst/>
              <a:gdLst/>
              <a:ahLst/>
              <a:rect l="l" t="t" r="r" b="b"/>
              <a:pathLst>
                <a:path w="47366" h="47366">
                  <a:moveTo>
                    <a:pt x="0" y="0"/>
                  </a:moveTo>
                  <a:lnTo>
                    <a:pt x="-18169" y="0"/>
                  </a:lnTo>
                  <a:lnTo>
                    <a:pt x="-18169" y="-18169"/>
                  </a:lnTo>
                  <a:lnTo>
                    <a:pt x="0" y="-181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ec4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78" name="Freeform: Shape 966"/>
            <p:cNvSpPr/>
            <p:nvPr/>
          </p:nvSpPr>
          <p:spPr>
            <a:xfrm>
              <a:off x="7786440" y="4827600"/>
              <a:ext cx="28800" cy="29160"/>
            </a:xfrm>
            <a:custGeom>
              <a:avLst/>
              <a:gdLst/>
              <a:ahLst/>
              <a:rect l="l" t="t" r="r" b="b"/>
              <a:pathLst>
                <a:path w="47366" h="47366">
                  <a:moveTo>
                    <a:pt x="0" y="0"/>
                  </a:moveTo>
                  <a:lnTo>
                    <a:pt x="-18169" y="0"/>
                  </a:lnTo>
                  <a:lnTo>
                    <a:pt x="-18169" y="-18169"/>
                  </a:lnTo>
                  <a:lnTo>
                    <a:pt x="0" y="-181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79" name="Freeform: Shape 967"/>
            <p:cNvSpPr/>
            <p:nvPr/>
          </p:nvSpPr>
          <p:spPr>
            <a:xfrm>
              <a:off x="7815600" y="4535280"/>
              <a:ext cx="145080" cy="136440"/>
            </a:xfrm>
            <a:custGeom>
              <a:avLst/>
              <a:gdLst/>
              <a:ahLst/>
              <a:rect l="l" t="t" r="r" b="b"/>
              <a:pathLst>
                <a:path w="236664" h="221086">
                  <a:moveTo>
                    <a:pt x="234933" y="48154"/>
                  </a:moveTo>
                  <a:cubicBezTo>
                    <a:pt x="229722" y="25576"/>
                    <a:pt x="211407" y="7261"/>
                    <a:pt x="188987" y="1893"/>
                  </a:cubicBezTo>
                  <a:cubicBezTo>
                    <a:pt x="165619" y="-3634"/>
                    <a:pt x="143830" y="3787"/>
                    <a:pt x="129305" y="18471"/>
                  </a:cubicBezTo>
                  <a:cubicBezTo>
                    <a:pt x="123305" y="24629"/>
                    <a:pt x="113516" y="24629"/>
                    <a:pt x="107358" y="18471"/>
                  </a:cubicBezTo>
                  <a:cubicBezTo>
                    <a:pt x="92674" y="3787"/>
                    <a:pt x="71043" y="-3791"/>
                    <a:pt x="47676" y="1893"/>
                  </a:cubicBezTo>
                  <a:cubicBezTo>
                    <a:pt x="25098" y="7261"/>
                    <a:pt x="6940" y="25576"/>
                    <a:pt x="1730" y="48154"/>
                  </a:cubicBezTo>
                  <a:cubicBezTo>
                    <a:pt x="-3165" y="69469"/>
                    <a:pt x="2677" y="89363"/>
                    <a:pt x="14835" y="103731"/>
                  </a:cubicBezTo>
                  <a:cubicBezTo>
                    <a:pt x="35360" y="127888"/>
                    <a:pt x="47360" y="157887"/>
                    <a:pt x="47360" y="189465"/>
                  </a:cubicBezTo>
                  <a:lnTo>
                    <a:pt x="47360" y="189465"/>
                  </a:lnTo>
                  <a:cubicBezTo>
                    <a:pt x="47360" y="207465"/>
                    <a:pt x="62360" y="221832"/>
                    <a:pt x="80517" y="221043"/>
                  </a:cubicBezTo>
                  <a:cubicBezTo>
                    <a:pt x="88569" y="220727"/>
                    <a:pt x="94727" y="213464"/>
                    <a:pt x="94727" y="205254"/>
                  </a:cubicBezTo>
                  <a:cubicBezTo>
                    <a:pt x="94727" y="205254"/>
                    <a:pt x="94727" y="142098"/>
                    <a:pt x="118410" y="142098"/>
                  </a:cubicBezTo>
                  <a:cubicBezTo>
                    <a:pt x="142094" y="142098"/>
                    <a:pt x="142094" y="205254"/>
                    <a:pt x="142094" y="205254"/>
                  </a:cubicBezTo>
                  <a:cubicBezTo>
                    <a:pt x="142094" y="213306"/>
                    <a:pt x="148251" y="220569"/>
                    <a:pt x="156304" y="221043"/>
                  </a:cubicBezTo>
                  <a:cubicBezTo>
                    <a:pt x="174461" y="221990"/>
                    <a:pt x="189460" y="207465"/>
                    <a:pt x="189460" y="189465"/>
                  </a:cubicBezTo>
                  <a:lnTo>
                    <a:pt x="189460" y="189465"/>
                  </a:lnTo>
                  <a:cubicBezTo>
                    <a:pt x="189460" y="157887"/>
                    <a:pt x="201460" y="127730"/>
                    <a:pt x="221986" y="103731"/>
                  </a:cubicBezTo>
                  <a:cubicBezTo>
                    <a:pt x="233985" y="89363"/>
                    <a:pt x="239827" y="69469"/>
                    <a:pt x="234933" y="48154"/>
                  </a:cubicBezTo>
                  <a:close/>
                </a:path>
              </a:pathLst>
            </a:custGeom>
            <a:solidFill>
              <a:srgbClr val="f1fa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pic>
          <p:nvPicPr>
            <p:cNvPr id="1280" name="Graphic 1" descr=""/>
            <p:cNvPicPr/>
            <p:nvPr/>
          </p:nvPicPr>
          <p:blipFill>
            <a:blip r:embed="rId8"/>
            <a:stretch/>
          </p:blipFill>
          <p:spPr>
            <a:xfrm>
              <a:off x="7742160" y="4484520"/>
              <a:ext cx="351000" cy="4082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10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10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10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10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10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10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10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10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1" name="Graphic 2"/>
          <p:cNvGrpSpPr/>
          <p:nvPr/>
        </p:nvGrpSpPr>
        <p:grpSpPr>
          <a:xfrm>
            <a:off x="3727440" y="1604880"/>
            <a:ext cx="4737240" cy="3648240"/>
            <a:chOff x="3727440" y="1604880"/>
            <a:chExt cx="4737240" cy="3648240"/>
          </a:xfrm>
        </p:grpSpPr>
        <p:sp>
          <p:nvSpPr>
            <p:cNvPr id="1282" name="Freeform 4"/>
            <p:cNvSpPr/>
            <p:nvPr/>
          </p:nvSpPr>
          <p:spPr>
            <a:xfrm>
              <a:off x="4366440" y="2138400"/>
              <a:ext cx="577440" cy="561240"/>
            </a:xfrm>
            <a:custGeom>
              <a:avLst/>
              <a:gdLst/>
              <a:ahLst/>
              <a:rect l="l" t="t" r="r" b="b"/>
              <a:pathLst>
                <a:path w="805942" h="783716">
                  <a:moveTo>
                    <a:pt x="805942" y="391859"/>
                  </a:moveTo>
                  <a:cubicBezTo>
                    <a:pt x="805942" y="608276"/>
                    <a:pt x="625526" y="783717"/>
                    <a:pt x="402971" y="783717"/>
                  </a:cubicBezTo>
                  <a:cubicBezTo>
                    <a:pt x="180416" y="783717"/>
                    <a:pt x="0" y="608276"/>
                    <a:pt x="0" y="391859"/>
                  </a:cubicBezTo>
                  <a:cubicBezTo>
                    <a:pt x="0" y="175441"/>
                    <a:pt x="180416" y="0"/>
                    <a:pt x="402971" y="0"/>
                  </a:cubicBezTo>
                  <a:cubicBezTo>
                    <a:pt x="625526" y="0"/>
                    <a:pt x="805942" y="175441"/>
                    <a:pt x="805942" y="391859"/>
                  </a:cubicBezTo>
                  <a:close/>
                </a:path>
              </a:pathLst>
            </a:custGeom>
            <a:solidFill>
              <a:srgbClr val="dce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83" name="Freeform 5"/>
            <p:cNvSpPr/>
            <p:nvPr/>
          </p:nvSpPr>
          <p:spPr>
            <a:xfrm>
              <a:off x="3817440" y="1604880"/>
              <a:ext cx="4429440" cy="3568320"/>
            </a:xfrm>
            <a:custGeom>
              <a:avLst/>
              <a:gdLst/>
              <a:ahLst/>
              <a:rect l="l" t="t" r="r" b="b"/>
              <a:pathLst>
                <a:path w="6180344" h="4981542">
                  <a:moveTo>
                    <a:pt x="6032608" y="4981543"/>
                  </a:moveTo>
                  <a:cubicBezTo>
                    <a:pt x="6306547" y="4528915"/>
                    <a:pt x="6188501" y="3889343"/>
                    <a:pt x="5769781" y="3557555"/>
                  </a:cubicBezTo>
                  <a:cubicBezTo>
                    <a:pt x="5615286" y="3435127"/>
                    <a:pt x="5424976" y="3349148"/>
                    <a:pt x="5308581" y="3191795"/>
                  </a:cubicBezTo>
                  <a:cubicBezTo>
                    <a:pt x="5169643" y="3003962"/>
                    <a:pt x="5165198" y="2755550"/>
                    <a:pt x="5162976" y="2524156"/>
                  </a:cubicBezTo>
                  <a:cubicBezTo>
                    <a:pt x="5156054" y="1813337"/>
                    <a:pt x="5094205" y="1040034"/>
                    <a:pt x="4604302" y="512413"/>
                  </a:cubicBezTo>
                  <a:cubicBezTo>
                    <a:pt x="4232065" y="111474"/>
                    <a:pt x="3635039" y="-78709"/>
                    <a:pt x="3090970" y="30384"/>
                  </a:cubicBezTo>
                  <a:cubicBezTo>
                    <a:pt x="2546902" y="139477"/>
                    <a:pt x="2075923" y="543655"/>
                    <a:pt x="1897043" y="1055084"/>
                  </a:cubicBezTo>
                  <a:cubicBezTo>
                    <a:pt x="1835639" y="1230725"/>
                    <a:pt x="1802936" y="1423638"/>
                    <a:pt x="1680635" y="1566005"/>
                  </a:cubicBezTo>
                  <a:cubicBezTo>
                    <a:pt x="1476292" y="1803939"/>
                    <a:pt x="1097578" y="1818036"/>
                    <a:pt x="855198" y="2019458"/>
                  </a:cubicBezTo>
                  <a:cubicBezTo>
                    <a:pt x="559098" y="2265521"/>
                    <a:pt x="553383" y="2702972"/>
                    <a:pt x="593705" y="3079654"/>
                  </a:cubicBezTo>
                  <a:cubicBezTo>
                    <a:pt x="634028" y="3456336"/>
                    <a:pt x="685654" y="3874992"/>
                    <a:pt x="454005" y="4179538"/>
                  </a:cubicBezTo>
                  <a:cubicBezTo>
                    <a:pt x="355644" y="4308887"/>
                    <a:pt x="214928" y="4402613"/>
                    <a:pt x="112884" y="4529232"/>
                  </a:cubicBezTo>
                  <a:cubicBezTo>
                    <a:pt x="10839" y="4655851"/>
                    <a:pt x="-46311" y="4842732"/>
                    <a:pt x="47796" y="4975002"/>
                  </a:cubicBezTo>
                  <a:lnTo>
                    <a:pt x="6032608" y="4981543"/>
                  </a:lnTo>
                  <a:close/>
                </a:path>
              </a:pathLst>
            </a:custGeom>
            <a:solidFill>
              <a:srgbClr val="dce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84" name="Freeform 6"/>
            <p:cNvSpPr/>
            <p:nvPr/>
          </p:nvSpPr>
          <p:spPr>
            <a:xfrm>
              <a:off x="3727440" y="5113440"/>
              <a:ext cx="4737240" cy="139680"/>
            </a:xfrm>
            <a:custGeom>
              <a:avLst/>
              <a:gdLst/>
              <a:ahLst/>
              <a:rect l="l" t="t" r="r" b="b"/>
              <a:pathLst>
                <a:path w="6610223" h="195325">
                  <a:moveTo>
                    <a:pt x="6610223" y="97663"/>
                  </a:moveTo>
                  <a:cubicBezTo>
                    <a:pt x="6610223" y="151601"/>
                    <a:pt x="5130475" y="195326"/>
                    <a:pt x="3305112" y="195326"/>
                  </a:cubicBezTo>
                  <a:cubicBezTo>
                    <a:pt x="1479749" y="195326"/>
                    <a:pt x="0" y="151601"/>
                    <a:pt x="0" y="97663"/>
                  </a:cubicBezTo>
                  <a:cubicBezTo>
                    <a:pt x="0" y="43725"/>
                    <a:pt x="1479749" y="0"/>
                    <a:pt x="3305112" y="0"/>
                  </a:cubicBezTo>
                  <a:cubicBezTo>
                    <a:pt x="5130475" y="0"/>
                    <a:pt x="6610223" y="43725"/>
                    <a:pt x="6610223" y="97663"/>
                  </a:cubicBezTo>
                  <a:close/>
                </a:path>
              </a:pathLst>
            </a:custGeom>
            <a:solidFill>
              <a:srgbClr val="bfd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85" name="Freeform 7"/>
            <p:cNvSpPr/>
            <p:nvPr/>
          </p:nvSpPr>
          <p:spPr>
            <a:xfrm>
              <a:off x="4451760" y="2354400"/>
              <a:ext cx="2004480" cy="2815920"/>
            </a:xfrm>
            <a:custGeom>
              <a:avLst/>
              <a:gdLst/>
              <a:ahLst/>
              <a:rect l="l" t="t" r="r" b="b"/>
              <a:pathLst>
                <a:path w="2796977" h="3931284">
                  <a:moveTo>
                    <a:pt x="2655868" y="1373895"/>
                  </a:moveTo>
                  <a:cubicBezTo>
                    <a:pt x="2645264" y="1386595"/>
                    <a:pt x="2634088" y="1398978"/>
                    <a:pt x="2622214" y="1411043"/>
                  </a:cubicBezTo>
                  <a:cubicBezTo>
                    <a:pt x="2380659" y="1654946"/>
                    <a:pt x="2312206" y="1979812"/>
                    <a:pt x="2300015" y="2224986"/>
                  </a:cubicBezTo>
                  <a:cubicBezTo>
                    <a:pt x="2289728" y="2429646"/>
                    <a:pt x="2318683" y="2578681"/>
                    <a:pt x="2318683" y="2578681"/>
                  </a:cubicBezTo>
                  <a:cubicBezTo>
                    <a:pt x="2318683" y="2578681"/>
                    <a:pt x="2325732" y="2703839"/>
                    <a:pt x="2319445" y="2878020"/>
                  </a:cubicBezTo>
                  <a:cubicBezTo>
                    <a:pt x="2304903" y="3279467"/>
                    <a:pt x="2219433" y="3941391"/>
                    <a:pt x="1812842" y="3931167"/>
                  </a:cubicBezTo>
                  <a:cubicBezTo>
                    <a:pt x="1812842" y="3931167"/>
                    <a:pt x="1715306" y="3925389"/>
                    <a:pt x="1704003" y="3768417"/>
                  </a:cubicBezTo>
                  <a:cubicBezTo>
                    <a:pt x="1700638" y="3721998"/>
                    <a:pt x="1704829" y="3662372"/>
                    <a:pt x="1721339" y="3585791"/>
                  </a:cubicBezTo>
                  <a:cubicBezTo>
                    <a:pt x="1760645" y="3403228"/>
                    <a:pt x="1767122" y="3045088"/>
                    <a:pt x="1707559" y="2756354"/>
                  </a:cubicBezTo>
                  <a:cubicBezTo>
                    <a:pt x="1657648" y="2514165"/>
                    <a:pt x="1561128" y="2320807"/>
                    <a:pt x="1398505" y="2320807"/>
                  </a:cubicBezTo>
                  <a:cubicBezTo>
                    <a:pt x="1235881" y="2320807"/>
                    <a:pt x="1139424" y="2514165"/>
                    <a:pt x="1089450" y="2756354"/>
                  </a:cubicBezTo>
                  <a:cubicBezTo>
                    <a:pt x="1029887" y="3045088"/>
                    <a:pt x="1036428" y="3403228"/>
                    <a:pt x="1075734" y="3585791"/>
                  </a:cubicBezTo>
                  <a:cubicBezTo>
                    <a:pt x="1092054" y="3661610"/>
                    <a:pt x="1096308" y="3720792"/>
                    <a:pt x="1093133" y="3766956"/>
                  </a:cubicBezTo>
                  <a:cubicBezTo>
                    <a:pt x="1082338" y="3925325"/>
                    <a:pt x="984167" y="3931167"/>
                    <a:pt x="984167" y="3931167"/>
                  </a:cubicBezTo>
                  <a:cubicBezTo>
                    <a:pt x="401174" y="3945772"/>
                    <a:pt x="478262" y="2578617"/>
                    <a:pt x="478262" y="2578617"/>
                  </a:cubicBezTo>
                  <a:cubicBezTo>
                    <a:pt x="478262" y="2578617"/>
                    <a:pt x="618026" y="1858591"/>
                    <a:pt x="174796" y="1410979"/>
                  </a:cubicBezTo>
                  <a:cubicBezTo>
                    <a:pt x="163874" y="1399994"/>
                    <a:pt x="153587" y="1388627"/>
                    <a:pt x="143808" y="1377070"/>
                  </a:cubicBezTo>
                  <a:cubicBezTo>
                    <a:pt x="-5290" y="1199715"/>
                    <a:pt x="-24340" y="953525"/>
                    <a:pt x="22968" y="718258"/>
                  </a:cubicBezTo>
                  <a:cubicBezTo>
                    <a:pt x="98660" y="342274"/>
                    <a:pt x="344024" y="-5769"/>
                    <a:pt x="499154" y="73"/>
                  </a:cubicBezTo>
                  <a:cubicBezTo>
                    <a:pt x="685463" y="7058"/>
                    <a:pt x="897617" y="238896"/>
                    <a:pt x="1126026" y="356943"/>
                  </a:cubicBezTo>
                  <a:cubicBezTo>
                    <a:pt x="1214609" y="402790"/>
                    <a:pt x="1305604" y="431492"/>
                    <a:pt x="1398505" y="423300"/>
                  </a:cubicBezTo>
                  <a:cubicBezTo>
                    <a:pt x="1730927" y="452510"/>
                    <a:pt x="2039283" y="9788"/>
                    <a:pt x="2297855" y="73"/>
                  </a:cubicBezTo>
                  <a:cubicBezTo>
                    <a:pt x="2549378" y="-9389"/>
                    <a:pt x="3038328" y="911869"/>
                    <a:pt x="2655868" y="137389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86" name="Freeform 8"/>
            <p:cNvSpPr/>
            <p:nvPr/>
          </p:nvSpPr>
          <p:spPr>
            <a:xfrm>
              <a:off x="4554720" y="3340800"/>
              <a:ext cx="680040" cy="1829520"/>
            </a:xfrm>
            <a:custGeom>
              <a:avLst/>
              <a:gdLst/>
              <a:ahLst/>
              <a:rect l="l" t="t" r="r" b="b"/>
              <a:pathLst>
                <a:path w="949325" h="2554213">
                  <a:moveTo>
                    <a:pt x="949325" y="2389886"/>
                  </a:moveTo>
                  <a:cubicBezTo>
                    <a:pt x="938530" y="2548255"/>
                    <a:pt x="840359" y="2554097"/>
                    <a:pt x="840359" y="2554097"/>
                  </a:cubicBezTo>
                  <a:cubicBezTo>
                    <a:pt x="257366" y="2568702"/>
                    <a:pt x="334455" y="1201547"/>
                    <a:pt x="334455" y="1201547"/>
                  </a:cubicBezTo>
                  <a:cubicBezTo>
                    <a:pt x="334455" y="1201547"/>
                    <a:pt x="474218" y="481521"/>
                    <a:pt x="30988" y="33909"/>
                  </a:cubicBezTo>
                  <a:cubicBezTo>
                    <a:pt x="20066" y="22923"/>
                    <a:pt x="9779" y="11557"/>
                    <a:pt x="0" y="0"/>
                  </a:cubicBezTo>
                  <a:cubicBezTo>
                    <a:pt x="160020" y="120650"/>
                    <a:pt x="285242" y="285305"/>
                    <a:pt x="354394" y="470535"/>
                  </a:cubicBezTo>
                  <a:cubicBezTo>
                    <a:pt x="463169" y="762191"/>
                    <a:pt x="433451" y="1082548"/>
                    <a:pt x="421449" y="1392619"/>
                  </a:cubicBezTo>
                  <a:cubicBezTo>
                    <a:pt x="409448" y="1702689"/>
                    <a:pt x="422720" y="2033079"/>
                    <a:pt x="600266" y="2290953"/>
                  </a:cubicBezTo>
                  <a:cubicBezTo>
                    <a:pt x="644589" y="2355406"/>
                    <a:pt x="703961" y="2416937"/>
                    <a:pt x="781876" y="2433257"/>
                  </a:cubicBezTo>
                  <a:cubicBezTo>
                    <a:pt x="840486" y="2445449"/>
                    <a:pt x="904558" y="2428558"/>
                    <a:pt x="949325" y="2389886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87" name="Freeform 9"/>
            <p:cNvSpPr/>
            <p:nvPr/>
          </p:nvSpPr>
          <p:spPr>
            <a:xfrm>
              <a:off x="5672880" y="3338280"/>
              <a:ext cx="682200" cy="1831680"/>
            </a:xfrm>
            <a:custGeom>
              <a:avLst/>
              <a:gdLst/>
              <a:ahLst/>
              <a:rect l="l" t="t" r="r" b="b"/>
              <a:pathLst>
                <a:path w="951864" h="2557515">
                  <a:moveTo>
                    <a:pt x="596011" y="851217"/>
                  </a:moveTo>
                  <a:cubicBezTo>
                    <a:pt x="585724" y="1055878"/>
                    <a:pt x="614680" y="1204913"/>
                    <a:pt x="614680" y="1204913"/>
                  </a:cubicBezTo>
                  <a:cubicBezTo>
                    <a:pt x="614680" y="1204913"/>
                    <a:pt x="621728" y="1330071"/>
                    <a:pt x="615442" y="1504251"/>
                  </a:cubicBezTo>
                  <a:cubicBezTo>
                    <a:pt x="600900" y="1905698"/>
                    <a:pt x="515429" y="2567622"/>
                    <a:pt x="108839" y="2557399"/>
                  </a:cubicBezTo>
                  <a:cubicBezTo>
                    <a:pt x="108839" y="2557399"/>
                    <a:pt x="11303" y="2551620"/>
                    <a:pt x="0" y="2394649"/>
                  </a:cubicBezTo>
                  <a:cubicBezTo>
                    <a:pt x="44641" y="2432240"/>
                    <a:pt x="107886" y="2448560"/>
                    <a:pt x="165735" y="2436432"/>
                  </a:cubicBezTo>
                  <a:cubicBezTo>
                    <a:pt x="243713" y="2420112"/>
                    <a:pt x="303022" y="2358581"/>
                    <a:pt x="347345" y="2294128"/>
                  </a:cubicBezTo>
                  <a:cubicBezTo>
                    <a:pt x="524827" y="2036254"/>
                    <a:pt x="538099" y="1705927"/>
                    <a:pt x="526098" y="1395794"/>
                  </a:cubicBezTo>
                  <a:cubicBezTo>
                    <a:pt x="514096" y="1085723"/>
                    <a:pt x="484378" y="765365"/>
                    <a:pt x="593217" y="473710"/>
                  </a:cubicBezTo>
                  <a:cubicBezTo>
                    <a:pt x="662940" y="286829"/>
                    <a:pt x="789750" y="120967"/>
                    <a:pt x="951865" y="0"/>
                  </a:cubicBezTo>
                  <a:cubicBezTo>
                    <a:pt x="941261" y="12700"/>
                    <a:pt x="930085" y="25082"/>
                    <a:pt x="918210" y="37147"/>
                  </a:cubicBezTo>
                  <a:cubicBezTo>
                    <a:pt x="676656" y="281241"/>
                    <a:pt x="608203" y="606107"/>
                    <a:pt x="596011" y="851217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88" name="Freeform 10"/>
            <p:cNvSpPr/>
            <p:nvPr/>
          </p:nvSpPr>
          <p:spPr>
            <a:xfrm>
              <a:off x="5232240" y="3947760"/>
              <a:ext cx="443160" cy="380880"/>
            </a:xfrm>
            <a:custGeom>
              <a:avLst/>
              <a:gdLst/>
              <a:ahLst/>
              <a:rect l="l" t="t" r="r" b="b"/>
              <a:pathLst>
                <a:path w="618631" h="532129">
                  <a:moveTo>
                    <a:pt x="618599" y="532130"/>
                  </a:moveTo>
                  <a:lnTo>
                    <a:pt x="618599" y="532130"/>
                  </a:lnTo>
                  <a:cubicBezTo>
                    <a:pt x="568625" y="289941"/>
                    <a:pt x="472168" y="96583"/>
                    <a:pt x="309481" y="96583"/>
                  </a:cubicBezTo>
                  <a:cubicBezTo>
                    <a:pt x="146794" y="96583"/>
                    <a:pt x="50401" y="289941"/>
                    <a:pt x="427" y="532130"/>
                  </a:cubicBezTo>
                  <a:cubicBezTo>
                    <a:pt x="427" y="532130"/>
                    <a:pt x="-24275" y="0"/>
                    <a:pt x="302115" y="0"/>
                  </a:cubicBezTo>
                  <a:cubicBezTo>
                    <a:pt x="628505" y="0"/>
                    <a:pt x="618599" y="532130"/>
                    <a:pt x="618599" y="532130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89" name="Freeform 11"/>
            <p:cNvSpPr/>
            <p:nvPr/>
          </p:nvSpPr>
          <p:spPr>
            <a:xfrm>
              <a:off x="7524360" y="2010240"/>
              <a:ext cx="421200" cy="409320"/>
            </a:xfrm>
            <a:custGeom>
              <a:avLst/>
              <a:gdLst/>
              <a:ahLst/>
              <a:rect l="l" t="t" r="r" b="b"/>
              <a:pathLst>
                <a:path w="588073" h="571563">
                  <a:moveTo>
                    <a:pt x="19431" y="201676"/>
                  </a:moveTo>
                  <a:lnTo>
                    <a:pt x="187008" y="201676"/>
                  </a:lnTo>
                  <a:cubicBezTo>
                    <a:pt x="197739" y="201676"/>
                    <a:pt x="206439" y="193230"/>
                    <a:pt x="206439" y="182817"/>
                  </a:cubicBezTo>
                  <a:lnTo>
                    <a:pt x="206439" y="18860"/>
                  </a:lnTo>
                  <a:cubicBezTo>
                    <a:pt x="206439" y="8446"/>
                    <a:pt x="215138" y="0"/>
                    <a:pt x="225870" y="0"/>
                  </a:cubicBezTo>
                  <a:lnTo>
                    <a:pt x="361124" y="0"/>
                  </a:lnTo>
                  <a:cubicBezTo>
                    <a:pt x="371856" y="0"/>
                    <a:pt x="380556" y="8446"/>
                    <a:pt x="380556" y="18860"/>
                  </a:cubicBezTo>
                  <a:lnTo>
                    <a:pt x="380556" y="182817"/>
                  </a:lnTo>
                  <a:cubicBezTo>
                    <a:pt x="380556" y="193230"/>
                    <a:pt x="389255" y="201676"/>
                    <a:pt x="399986" y="201676"/>
                  </a:cubicBezTo>
                  <a:lnTo>
                    <a:pt x="568643" y="201676"/>
                  </a:lnTo>
                  <a:cubicBezTo>
                    <a:pt x="579374" y="201676"/>
                    <a:pt x="588073" y="210121"/>
                    <a:pt x="588073" y="220536"/>
                  </a:cubicBezTo>
                  <a:lnTo>
                    <a:pt x="588073" y="352044"/>
                  </a:lnTo>
                  <a:cubicBezTo>
                    <a:pt x="588073" y="362458"/>
                    <a:pt x="579374" y="370904"/>
                    <a:pt x="568643" y="370904"/>
                  </a:cubicBezTo>
                  <a:lnTo>
                    <a:pt x="399986" y="370904"/>
                  </a:lnTo>
                  <a:cubicBezTo>
                    <a:pt x="389255" y="370904"/>
                    <a:pt x="380556" y="379349"/>
                    <a:pt x="380556" y="389763"/>
                  </a:cubicBezTo>
                  <a:lnTo>
                    <a:pt x="380556" y="552704"/>
                  </a:lnTo>
                  <a:cubicBezTo>
                    <a:pt x="380556" y="563118"/>
                    <a:pt x="371856" y="571564"/>
                    <a:pt x="361124" y="571564"/>
                  </a:cubicBezTo>
                  <a:lnTo>
                    <a:pt x="225870" y="571564"/>
                  </a:lnTo>
                  <a:cubicBezTo>
                    <a:pt x="215138" y="571564"/>
                    <a:pt x="206439" y="563118"/>
                    <a:pt x="206439" y="552704"/>
                  </a:cubicBezTo>
                  <a:lnTo>
                    <a:pt x="206439" y="389763"/>
                  </a:lnTo>
                  <a:cubicBezTo>
                    <a:pt x="206439" y="379349"/>
                    <a:pt x="197739" y="370904"/>
                    <a:pt x="187008" y="370904"/>
                  </a:cubicBezTo>
                  <a:lnTo>
                    <a:pt x="19431" y="370904"/>
                  </a:lnTo>
                  <a:cubicBezTo>
                    <a:pt x="8699" y="370904"/>
                    <a:pt x="0" y="362458"/>
                    <a:pt x="0" y="352044"/>
                  </a:cubicBezTo>
                  <a:lnTo>
                    <a:pt x="0" y="220536"/>
                  </a:lnTo>
                  <a:cubicBezTo>
                    <a:pt x="0" y="210121"/>
                    <a:pt x="8699" y="201676"/>
                    <a:pt x="19431" y="201676"/>
                  </a:cubicBezTo>
                  <a:close/>
                </a:path>
              </a:pathLst>
            </a:custGeom>
            <a:solidFill>
              <a:srgbClr val="dce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90" name="Freeform 12"/>
            <p:cNvSpPr/>
            <p:nvPr/>
          </p:nvSpPr>
          <p:spPr>
            <a:xfrm>
              <a:off x="7945560" y="1782720"/>
              <a:ext cx="178200" cy="173160"/>
            </a:xfrm>
            <a:custGeom>
              <a:avLst/>
              <a:gdLst/>
              <a:ahLst/>
              <a:rect l="l" t="t" r="r" b="b"/>
              <a:pathLst>
                <a:path w="248856" h="242189">
                  <a:moveTo>
                    <a:pt x="8192" y="85471"/>
                  </a:moveTo>
                  <a:lnTo>
                    <a:pt x="79185" y="85471"/>
                  </a:lnTo>
                  <a:cubicBezTo>
                    <a:pt x="83757" y="85471"/>
                    <a:pt x="87376" y="81915"/>
                    <a:pt x="87376" y="77470"/>
                  </a:cubicBezTo>
                  <a:lnTo>
                    <a:pt x="87376" y="8001"/>
                  </a:lnTo>
                  <a:cubicBezTo>
                    <a:pt x="87376" y="3556"/>
                    <a:pt x="91060" y="0"/>
                    <a:pt x="95568" y="0"/>
                  </a:cubicBezTo>
                  <a:lnTo>
                    <a:pt x="152845" y="0"/>
                  </a:lnTo>
                  <a:cubicBezTo>
                    <a:pt x="157417" y="0"/>
                    <a:pt x="161037" y="3556"/>
                    <a:pt x="161037" y="8001"/>
                  </a:cubicBezTo>
                  <a:lnTo>
                    <a:pt x="161037" y="77470"/>
                  </a:lnTo>
                  <a:cubicBezTo>
                    <a:pt x="161037" y="81915"/>
                    <a:pt x="164719" y="85471"/>
                    <a:pt x="169228" y="85471"/>
                  </a:cubicBezTo>
                  <a:lnTo>
                    <a:pt x="240665" y="85471"/>
                  </a:lnTo>
                  <a:cubicBezTo>
                    <a:pt x="245238" y="85471"/>
                    <a:pt x="248857" y="89027"/>
                    <a:pt x="248857" y="93472"/>
                  </a:cubicBezTo>
                  <a:lnTo>
                    <a:pt x="248857" y="149162"/>
                  </a:lnTo>
                  <a:cubicBezTo>
                    <a:pt x="248857" y="153607"/>
                    <a:pt x="245174" y="157163"/>
                    <a:pt x="240665" y="157163"/>
                  </a:cubicBezTo>
                  <a:lnTo>
                    <a:pt x="169228" y="157163"/>
                  </a:lnTo>
                  <a:cubicBezTo>
                    <a:pt x="164656" y="157163"/>
                    <a:pt x="161037" y="160719"/>
                    <a:pt x="161037" y="165164"/>
                  </a:cubicBezTo>
                  <a:lnTo>
                    <a:pt x="161037" y="234188"/>
                  </a:lnTo>
                  <a:cubicBezTo>
                    <a:pt x="161037" y="238633"/>
                    <a:pt x="157353" y="242189"/>
                    <a:pt x="152845" y="242189"/>
                  </a:cubicBezTo>
                  <a:lnTo>
                    <a:pt x="95568" y="242189"/>
                  </a:lnTo>
                  <a:cubicBezTo>
                    <a:pt x="90996" y="242189"/>
                    <a:pt x="87376" y="238633"/>
                    <a:pt x="87376" y="234188"/>
                  </a:cubicBezTo>
                  <a:lnTo>
                    <a:pt x="87376" y="165164"/>
                  </a:lnTo>
                  <a:cubicBezTo>
                    <a:pt x="87376" y="160719"/>
                    <a:pt x="83693" y="157163"/>
                    <a:pt x="79185" y="157163"/>
                  </a:cubicBezTo>
                  <a:lnTo>
                    <a:pt x="8192" y="157163"/>
                  </a:lnTo>
                  <a:cubicBezTo>
                    <a:pt x="3620" y="157163"/>
                    <a:pt x="1" y="153607"/>
                    <a:pt x="1" y="149162"/>
                  </a:cubicBezTo>
                  <a:lnTo>
                    <a:pt x="1" y="93472"/>
                  </a:lnTo>
                  <a:cubicBezTo>
                    <a:pt x="-63" y="89090"/>
                    <a:pt x="3620" y="85471"/>
                    <a:pt x="8192" y="85471"/>
                  </a:cubicBezTo>
                  <a:close/>
                </a:path>
              </a:pathLst>
            </a:custGeom>
            <a:solidFill>
              <a:srgbClr val="dce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91" name="Freeform 13"/>
            <p:cNvSpPr/>
            <p:nvPr/>
          </p:nvSpPr>
          <p:spPr>
            <a:xfrm>
              <a:off x="7625520" y="2752920"/>
              <a:ext cx="77040" cy="116280"/>
            </a:xfrm>
            <a:custGeom>
              <a:avLst/>
              <a:gdLst/>
              <a:ahLst/>
              <a:rect l="l" t="t" r="r" b="b"/>
              <a:pathLst>
                <a:path w="107774" h="162623">
                  <a:moveTo>
                    <a:pt x="107775" y="141986"/>
                  </a:moveTo>
                  <a:cubicBezTo>
                    <a:pt x="107775" y="141986"/>
                    <a:pt x="106377" y="151067"/>
                    <a:pt x="101869" y="162624"/>
                  </a:cubicBezTo>
                  <a:cubicBezTo>
                    <a:pt x="-24623" y="161544"/>
                    <a:pt x="2428" y="0"/>
                    <a:pt x="2428" y="0"/>
                  </a:cubicBezTo>
                  <a:lnTo>
                    <a:pt x="2491" y="64"/>
                  </a:lnTo>
                  <a:cubicBezTo>
                    <a:pt x="18366" y="34227"/>
                    <a:pt x="34241" y="68263"/>
                    <a:pt x="50180" y="102426"/>
                  </a:cubicBezTo>
                  <a:cubicBezTo>
                    <a:pt x="56466" y="115951"/>
                    <a:pt x="63388" y="130239"/>
                    <a:pt x="76405" y="137986"/>
                  </a:cubicBezTo>
                  <a:cubicBezTo>
                    <a:pt x="85613" y="143510"/>
                    <a:pt x="96916" y="144208"/>
                    <a:pt x="107203" y="141161"/>
                  </a:cubicBezTo>
                  <a:cubicBezTo>
                    <a:pt x="107521" y="141668"/>
                    <a:pt x="107775" y="141986"/>
                    <a:pt x="107775" y="141986"/>
                  </a:cubicBezTo>
                  <a:close/>
                </a:path>
              </a:pathLst>
            </a:custGeom>
            <a:solidFill>
              <a:srgbClr val="50b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292" name="Freeform 14"/>
            <p:cNvSpPr/>
            <p:nvPr/>
          </p:nvSpPr>
          <p:spPr>
            <a:xfrm>
              <a:off x="7383240" y="3269520"/>
              <a:ext cx="360" cy="4680"/>
            </a:xfrm>
            <a:custGeom>
              <a:avLst/>
              <a:gdLst/>
              <a:ahLst/>
              <a:rect l="l" t="t" r="r" b="b"/>
              <a:pathLst>
                <a:path w="901" h="6667">
                  <a:moveTo>
                    <a:pt x="13" y="0"/>
                  </a:moveTo>
                  <a:lnTo>
                    <a:pt x="902" y="6668"/>
                  </a:lnTo>
                  <a:cubicBezTo>
                    <a:pt x="-177" y="2667"/>
                    <a:pt x="13" y="0"/>
                    <a:pt x="13" y="0"/>
                  </a:cubicBezTo>
                  <a:close/>
                </a:path>
              </a:pathLst>
            </a:custGeom>
            <a:solidFill>
              <a:srgbClr val="cada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grpSp>
          <p:nvGrpSpPr>
            <p:cNvPr id="1293" name="Graphic 2"/>
            <p:cNvGrpSpPr/>
            <p:nvPr/>
          </p:nvGrpSpPr>
          <p:grpSpPr>
            <a:xfrm>
              <a:off x="6633360" y="2101320"/>
              <a:ext cx="1093680" cy="3092040"/>
              <a:chOff x="6633360" y="2101320"/>
              <a:chExt cx="1093680" cy="3092040"/>
            </a:xfrm>
          </p:grpSpPr>
          <p:grpSp>
            <p:nvGrpSpPr>
              <p:cNvPr id="1294" name="Graphic 2"/>
              <p:cNvGrpSpPr/>
              <p:nvPr/>
            </p:nvGrpSpPr>
            <p:grpSpPr>
              <a:xfrm>
                <a:off x="6633360" y="2101320"/>
                <a:ext cx="1093680" cy="3092040"/>
                <a:chOff x="6633360" y="2101320"/>
                <a:chExt cx="1093680" cy="3092040"/>
              </a:xfrm>
            </p:grpSpPr>
            <p:sp>
              <p:nvSpPr>
                <p:cNvPr id="1295" name="Freeform 17"/>
                <p:cNvSpPr/>
                <p:nvPr/>
              </p:nvSpPr>
              <p:spPr>
                <a:xfrm>
                  <a:off x="7012800" y="2388240"/>
                  <a:ext cx="17280" cy="40320"/>
                </a:xfrm>
                <a:custGeom>
                  <a:avLst/>
                  <a:gdLst/>
                  <a:ahLst/>
                  <a:rect l="l" t="t" r="r" b="b"/>
                  <a:pathLst>
                    <a:path w="24574" h="56578">
                      <a:moveTo>
                        <a:pt x="21019" y="3429"/>
                      </a:moveTo>
                      <a:cubicBezTo>
                        <a:pt x="23241" y="5588"/>
                        <a:pt x="24574" y="8573"/>
                        <a:pt x="24574" y="11874"/>
                      </a:cubicBezTo>
                      <a:lnTo>
                        <a:pt x="24574" y="-20832"/>
                      </a:lnTo>
                      <a:cubicBezTo>
                        <a:pt x="24574" y="-14292"/>
                        <a:pt x="19050" y="-8957"/>
                        <a:pt x="12319" y="-8957"/>
                      </a:cubicBezTo>
                      <a:cubicBezTo>
                        <a:pt x="5524" y="-8957"/>
                        <a:pt x="0" y="-14292"/>
                        <a:pt x="0" y="-20832"/>
                      </a:cubicBezTo>
                      <a:lnTo>
                        <a:pt x="0" y="11874"/>
                      </a:lnTo>
                      <a:cubicBezTo>
                        <a:pt x="0" y="5334"/>
                        <a:pt x="5524" y="0"/>
                        <a:pt x="12319" y="0"/>
                      </a:cubicBezTo>
                      <a:cubicBezTo>
                        <a:pt x="15685" y="0"/>
                        <a:pt x="18797" y="1270"/>
                        <a:pt x="21019" y="3429"/>
                      </a:cubicBezTo>
                      <a:close/>
                    </a:path>
                  </a:pathLst>
                </a:custGeom>
                <a:solidFill>
                  <a:srgbClr val="cadaf0"/>
                </a:solidFill>
                <a:ln cap="rnd" w="6480">
                  <a:solidFill>
                    <a:srgbClr val="231f2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Open Sans"/>
                  </a:endParaRPr>
                </a:p>
              </p:txBody>
            </p:sp>
            <p:sp>
              <p:nvSpPr>
                <p:cNvPr id="1296" name="Freeform 18"/>
                <p:cNvSpPr/>
                <p:nvPr/>
              </p:nvSpPr>
              <p:spPr>
                <a:xfrm>
                  <a:off x="7076520" y="2406600"/>
                  <a:ext cx="39600" cy="83160"/>
                </a:xfrm>
                <a:custGeom>
                  <a:avLst/>
                  <a:gdLst/>
                  <a:ahLst/>
                  <a:rect l="l" t="t" r="r" b="b"/>
                  <a:pathLst>
                    <a:path w="55498" h="116395">
                      <a:moveTo>
                        <a:pt x="27749" y="0"/>
                      </a:moveTo>
                      <a:lnTo>
                        <a:pt x="55499" y="116395"/>
                      </a:lnTo>
                      <a:lnTo>
                        <a:pt x="0" y="116395"/>
                      </a:lnTo>
                      <a:lnTo>
                        <a:pt x="27749" y="0"/>
                      </a:lnTo>
                      <a:close/>
                    </a:path>
                  </a:pathLst>
                </a:custGeom>
                <a:solidFill>
                  <a:srgbClr val="cadaf0"/>
                </a:solidFill>
                <a:ln cap="rnd" w="6480">
                  <a:solidFill>
                    <a:srgbClr val="231f2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Open Sans"/>
                  </a:endParaRPr>
                </a:p>
              </p:txBody>
            </p:sp>
            <p:sp>
              <p:nvSpPr>
                <p:cNvPr id="1297" name="Freeform 19"/>
                <p:cNvSpPr/>
                <p:nvPr/>
              </p:nvSpPr>
              <p:spPr>
                <a:xfrm>
                  <a:off x="7000560" y="2615040"/>
                  <a:ext cx="165240" cy="50760"/>
                </a:xfrm>
                <a:custGeom>
                  <a:avLst/>
                  <a:gdLst/>
                  <a:ahLst/>
                  <a:rect l="l" t="t" r="r" b="b"/>
                  <a:pathLst>
                    <a:path w="230822" h="71246">
                      <a:moveTo>
                        <a:pt x="230822" y="0"/>
                      </a:moveTo>
                      <a:lnTo>
                        <a:pt x="230822" y="33909"/>
                      </a:lnTo>
                      <a:cubicBezTo>
                        <a:pt x="230822" y="33909"/>
                        <a:pt x="199263" y="71247"/>
                        <a:pt x="115380" y="71247"/>
                      </a:cubicBezTo>
                      <a:cubicBezTo>
                        <a:pt x="31559" y="71247"/>
                        <a:pt x="0" y="33909"/>
                        <a:pt x="0" y="33909"/>
                      </a:cubicBezTo>
                      <a:lnTo>
                        <a:pt x="0" y="0"/>
                      </a:lnTo>
                      <a:cubicBezTo>
                        <a:pt x="32385" y="21399"/>
                        <a:pt x="71438" y="33909"/>
                        <a:pt x="113602" y="33909"/>
                      </a:cubicBezTo>
                      <a:lnTo>
                        <a:pt x="117284" y="33909"/>
                      </a:lnTo>
                      <a:cubicBezTo>
                        <a:pt x="159385" y="33972"/>
                        <a:pt x="198501" y="21463"/>
                        <a:pt x="230822" y="0"/>
                      </a:cubicBezTo>
                      <a:close/>
                    </a:path>
                  </a:pathLst>
                </a:custGeom>
                <a:solidFill>
                  <a:srgbClr val="d16b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Open Sans"/>
                  </a:endParaRPr>
                </a:p>
              </p:txBody>
            </p:sp>
            <p:sp>
              <p:nvSpPr>
                <p:cNvPr id="1298" name="Freeform 20"/>
                <p:cNvSpPr/>
                <p:nvPr/>
              </p:nvSpPr>
              <p:spPr>
                <a:xfrm>
                  <a:off x="7000560" y="2639520"/>
                  <a:ext cx="165240" cy="173160"/>
                </a:xfrm>
                <a:custGeom>
                  <a:avLst/>
                  <a:gdLst/>
                  <a:ahLst/>
                  <a:rect l="l" t="t" r="r" b="b"/>
                  <a:pathLst>
                    <a:path w="230822" h="242125">
                      <a:moveTo>
                        <a:pt x="230695" y="108140"/>
                      </a:moveTo>
                      <a:lnTo>
                        <a:pt x="166624" y="141351"/>
                      </a:lnTo>
                      <a:lnTo>
                        <a:pt x="176403" y="226504"/>
                      </a:lnTo>
                      <a:cubicBezTo>
                        <a:pt x="159512" y="236410"/>
                        <a:pt x="139764" y="242125"/>
                        <a:pt x="118555" y="242125"/>
                      </a:cubicBezTo>
                      <a:lnTo>
                        <a:pt x="112205" y="242125"/>
                      </a:lnTo>
                      <a:cubicBezTo>
                        <a:pt x="90805" y="242125"/>
                        <a:pt x="70739" y="236347"/>
                        <a:pt x="53784" y="226187"/>
                      </a:cubicBezTo>
                      <a:lnTo>
                        <a:pt x="63500" y="141288"/>
                      </a:lnTo>
                      <a:lnTo>
                        <a:pt x="0" y="108394"/>
                      </a:lnTo>
                      <a:lnTo>
                        <a:pt x="0" y="0"/>
                      </a:lnTo>
                      <a:cubicBezTo>
                        <a:pt x="0" y="0"/>
                        <a:pt x="31559" y="37338"/>
                        <a:pt x="115380" y="37338"/>
                      </a:cubicBezTo>
                      <a:cubicBezTo>
                        <a:pt x="199263" y="37338"/>
                        <a:pt x="230822" y="0"/>
                        <a:pt x="230822" y="0"/>
                      </a:cubicBezTo>
                      <a:lnTo>
                        <a:pt x="230822" y="108140"/>
                      </a:lnTo>
                      <a:lnTo>
                        <a:pt x="230695" y="108140"/>
                      </a:lnTo>
                      <a:close/>
                    </a:path>
                  </a:pathLst>
                </a:custGeom>
                <a:solidFill>
                  <a:srgbClr val="f8ac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Open Sans"/>
                  </a:endParaRPr>
                </a:p>
              </p:txBody>
            </p:sp>
            <p:sp>
              <p:nvSpPr>
                <p:cNvPr id="1299" name="Freeform 21"/>
                <p:cNvSpPr/>
                <p:nvPr/>
              </p:nvSpPr>
              <p:spPr>
                <a:xfrm>
                  <a:off x="6936840" y="2289240"/>
                  <a:ext cx="292680" cy="350280"/>
                </a:xfrm>
                <a:custGeom>
                  <a:avLst/>
                  <a:gdLst/>
                  <a:ahLst/>
                  <a:rect l="l" t="t" r="r" b="b"/>
                  <a:pathLst>
                    <a:path w="408558" h="488950">
                      <a:moveTo>
                        <a:pt x="268351" y="0"/>
                      </a:moveTo>
                      <a:cubicBezTo>
                        <a:pt x="218440" y="75502"/>
                        <a:pt x="0" y="118618"/>
                        <a:pt x="0" y="118618"/>
                      </a:cubicBezTo>
                      <a:lnTo>
                        <a:pt x="0" y="292100"/>
                      </a:lnTo>
                      <a:cubicBezTo>
                        <a:pt x="0" y="359855"/>
                        <a:pt x="35243" y="419608"/>
                        <a:pt x="88836" y="455041"/>
                      </a:cubicBezTo>
                      <a:cubicBezTo>
                        <a:pt x="121221" y="476441"/>
                        <a:pt x="160274" y="488950"/>
                        <a:pt x="202438" y="488950"/>
                      </a:cubicBezTo>
                      <a:lnTo>
                        <a:pt x="206121" y="488950"/>
                      </a:lnTo>
                      <a:cubicBezTo>
                        <a:pt x="248221" y="488950"/>
                        <a:pt x="287338" y="476441"/>
                        <a:pt x="319722" y="455041"/>
                      </a:cubicBezTo>
                      <a:cubicBezTo>
                        <a:pt x="373317" y="419671"/>
                        <a:pt x="408559" y="359855"/>
                        <a:pt x="408559" y="292164"/>
                      </a:cubicBezTo>
                      <a:lnTo>
                        <a:pt x="408559" y="9081"/>
                      </a:lnTo>
                      <a:cubicBezTo>
                        <a:pt x="338772" y="53023"/>
                        <a:pt x="268351" y="0"/>
                        <a:pt x="268351" y="0"/>
                      </a:cubicBezTo>
                      <a:close/>
                      <a:moveTo>
                        <a:pt x="130619" y="183134"/>
                      </a:moveTo>
                      <a:cubicBezTo>
                        <a:pt x="130619" y="189674"/>
                        <a:pt x="125095" y="195009"/>
                        <a:pt x="118364" y="195009"/>
                      </a:cubicBezTo>
                      <a:cubicBezTo>
                        <a:pt x="111569" y="195009"/>
                        <a:pt x="106045" y="189674"/>
                        <a:pt x="106045" y="183134"/>
                      </a:cubicBezTo>
                      <a:lnTo>
                        <a:pt x="106045" y="150305"/>
                      </a:lnTo>
                      <a:cubicBezTo>
                        <a:pt x="106045" y="143764"/>
                        <a:pt x="111569" y="138430"/>
                        <a:pt x="118364" y="138430"/>
                      </a:cubicBezTo>
                      <a:cubicBezTo>
                        <a:pt x="121730" y="138430"/>
                        <a:pt x="124778" y="139764"/>
                        <a:pt x="127000" y="141923"/>
                      </a:cubicBezTo>
                      <a:cubicBezTo>
                        <a:pt x="129222" y="144082"/>
                        <a:pt x="130556" y="147066"/>
                        <a:pt x="130556" y="150368"/>
                      </a:cubicBezTo>
                      <a:lnTo>
                        <a:pt x="130556" y="183134"/>
                      </a:lnTo>
                      <a:lnTo>
                        <a:pt x="130619" y="183134"/>
                      </a:lnTo>
                      <a:close/>
                      <a:moveTo>
                        <a:pt x="194818" y="280416"/>
                      </a:moveTo>
                      <a:lnTo>
                        <a:pt x="222568" y="164021"/>
                      </a:lnTo>
                      <a:lnTo>
                        <a:pt x="250317" y="280416"/>
                      </a:lnTo>
                      <a:lnTo>
                        <a:pt x="194818" y="280416"/>
                      </a:lnTo>
                      <a:close/>
                    </a:path>
                  </a:pathLst>
                </a:custGeom>
                <a:solidFill>
                  <a:srgbClr val="f8ac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Open Sans"/>
                  </a:endParaRPr>
                </a:p>
              </p:txBody>
            </p:sp>
            <p:sp>
              <p:nvSpPr>
                <p:cNvPr id="1300" name="Freeform 22"/>
                <p:cNvSpPr/>
                <p:nvPr/>
              </p:nvSpPr>
              <p:spPr>
                <a:xfrm>
                  <a:off x="7076520" y="2406600"/>
                  <a:ext cx="39600" cy="83160"/>
                </a:xfrm>
                <a:custGeom>
                  <a:avLst/>
                  <a:gdLst/>
                  <a:ahLst/>
                  <a:rect l="l" t="t" r="r" b="b"/>
                  <a:pathLst>
                    <a:path w="55498" h="116395">
                      <a:moveTo>
                        <a:pt x="55499" y="116395"/>
                      </a:moveTo>
                      <a:lnTo>
                        <a:pt x="0" y="116395"/>
                      </a:lnTo>
                      <a:lnTo>
                        <a:pt x="27749" y="0"/>
                      </a:lnTo>
                      <a:lnTo>
                        <a:pt x="55499" y="116395"/>
                      </a:lnTo>
                      <a:close/>
                    </a:path>
                  </a:pathLst>
                </a:custGeom>
                <a:solidFill>
                  <a:srgbClr val="d16b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Open Sans"/>
                  </a:endParaRPr>
                </a:p>
              </p:txBody>
            </p:sp>
            <p:sp>
              <p:nvSpPr>
                <p:cNvPr id="1301" name="Freeform 23"/>
                <p:cNvSpPr/>
                <p:nvPr/>
              </p:nvSpPr>
              <p:spPr>
                <a:xfrm>
                  <a:off x="7012800" y="2388240"/>
                  <a:ext cx="17280" cy="40320"/>
                </a:xfrm>
                <a:custGeom>
                  <a:avLst/>
                  <a:gdLst/>
                  <a:ahLst/>
                  <a:rect l="l" t="t" r="r" b="b"/>
                  <a:pathLst>
                    <a:path w="24574" h="56578">
                      <a:moveTo>
                        <a:pt x="24574" y="11874"/>
                      </a:moveTo>
                      <a:lnTo>
                        <a:pt x="24574" y="-20832"/>
                      </a:lnTo>
                      <a:cubicBezTo>
                        <a:pt x="24574" y="-14292"/>
                        <a:pt x="19050" y="-8957"/>
                        <a:pt x="12319" y="-8957"/>
                      </a:cubicBezTo>
                      <a:cubicBezTo>
                        <a:pt x="5524" y="-8957"/>
                        <a:pt x="0" y="-14292"/>
                        <a:pt x="0" y="-20832"/>
                      </a:cubicBezTo>
                      <a:lnTo>
                        <a:pt x="0" y="11874"/>
                      </a:lnTo>
                      <a:cubicBezTo>
                        <a:pt x="0" y="5334"/>
                        <a:pt x="5524" y="0"/>
                        <a:pt x="12319" y="0"/>
                      </a:cubicBezTo>
                      <a:cubicBezTo>
                        <a:pt x="15685" y="0"/>
                        <a:pt x="18733" y="1333"/>
                        <a:pt x="20955" y="3492"/>
                      </a:cubicBezTo>
                      <a:cubicBezTo>
                        <a:pt x="23241" y="5651"/>
                        <a:pt x="24574" y="8573"/>
                        <a:pt x="24574" y="11874"/>
                      </a:cubicBezTo>
                      <a:close/>
                    </a:path>
                  </a:pathLst>
                </a:custGeom>
                <a:solidFill>
                  <a:srgbClr val="231f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Open Sans"/>
                  </a:endParaRPr>
                </a:p>
              </p:txBody>
            </p:sp>
            <p:sp>
              <p:nvSpPr>
                <p:cNvPr id="1302" name="Freeform 24"/>
                <p:cNvSpPr/>
                <p:nvPr/>
              </p:nvSpPr>
              <p:spPr>
                <a:xfrm>
                  <a:off x="7136640" y="2381040"/>
                  <a:ext cx="49320" cy="37080"/>
                </a:xfrm>
                <a:custGeom>
                  <a:avLst/>
                  <a:gdLst/>
                  <a:ahLst/>
                  <a:rect l="l" t="t" r="r" b="b"/>
                  <a:pathLst>
                    <a:path w="68893" h="52011">
                      <a:moveTo>
                        <a:pt x="59184" y="52012"/>
                      </a:moveTo>
                      <a:cubicBezTo>
                        <a:pt x="59056" y="52012"/>
                        <a:pt x="58866" y="52012"/>
                        <a:pt x="58739" y="51948"/>
                      </a:cubicBezTo>
                      <a:cubicBezTo>
                        <a:pt x="35879" y="47948"/>
                        <a:pt x="18607" y="46805"/>
                        <a:pt x="2796" y="48138"/>
                      </a:cubicBezTo>
                      <a:cubicBezTo>
                        <a:pt x="1653" y="48265"/>
                        <a:pt x="700" y="47694"/>
                        <a:pt x="255" y="46741"/>
                      </a:cubicBezTo>
                      <a:cubicBezTo>
                        <a:pt x="-189" y="45789"/>
                        <a:pt x="-62" y="44709"/>
                        <a:pt x="700" y="43947"/>
                      </a:cubicBezTo>
                      <a:cubicBezTo>
                        <a:pt x="18607" y="25151"/>
                        <a:pt x="40959" y="9975"/>
                        <a:pt x="65343" y="196"/>
                      </a:cubicBezTo>
                      <a:cubicBezTo>
                        <a:pt x="66613" y="-312"/>
                        <a:pt x="68074" y="196"/>
                        <a:pt x="68645" y="1402"/>
                      </a:cubicBezTo>
                      <a:cubicBezTo>
                        <a:pt x="69216" y="2609"/>
                        <a:pt x="68772" y="4006"/>
                        <a:pt x="67629" y="4704"/>
                      </a:cubicBezTo>
                      <a:lnTo>
                        <a:pt x="65597" y="5847"/>
                      </a:lnTo>
                      <a:cubicBezTo>
                        <a:pt x="65153" y="6101"/>
                        <a:pt x="64708" y="6228"/>
                        <a:pt x="64200" y="6165"/>
                      </a:cubicBezTo>
                      <a:cubicBezTo>
                        <a:pt x="43753" y="14801"/>
                        <a:pt x="24893" y="27374"/>
                        <a:pt x="9082" y="42741"/>
                      </a:cubicBezTo>
                      <a:cubicBezTo>
                        <a:pt x="23624" y="42169"/>
                        <a:pt x="39562" y="43566"/>
                        <a:pt x="59691" y="47059"/>
                      </a:cubicBezTo>
                      <a:cubicBezTo>
                        <a:pt x="61089" y="47313"/>
                        <a:pt x="62041" y="48646"/>
                        <a:pt x="61787" y="49980"/>
                      </a:cubicBezTo>
                      <a:cubicBezTo>
                        <a:pt x="61533" y="51123"/>
                        <a:pt x="60453" y="52012"/>
                        <a:pt x="59184" y="52012"/>
                      </a:cubicBezTo>
                      <a:close/>
                    </a:path>
                  </a:pathLst>
                </a:custGeom>
                <a:solidFill>
                  <a:srgbClr val="231f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Open Sans"/>
                  </a:endParaRPr>
                </a:p>
              </p:txBody>
            </p:sp>
            <p:sp>
              <p:nvSpPr>
                <p:cNvPr id="1303" name="Freeform 25"/>
                <p:cNvSpPr/>
                <p:nvPr/>
              </p:nvSpPr>
              <p:spPr>
                <a:xfrm>
                  <a:off x="7049880" y="2548800"/>
                  <a:ext cx="87120" cy="16920"/>
                </a:xfrm>
                <a:custGeom>
                  <a:avLst/>
                  <a:gdLst/>
                  <a:ahLst/>
                  <a:rect l="l" t="t" r="r" b="b"/>
                  <a:pathLst>
                    <a:path w="121604" h="23843">
                      <a:moveTo>
                        <a:pt x="58709" y="23844"/>
                      </a:moveTo>
                      <a:cubicBezTo>
                        <a:pt x="23403" y="23844"/>
                        <a:pt x="1178" y="4667"/>
                        <a:pt x="860" y="4413"/>
                      </a:cubicBezTo>
                      <a:cubicBezTo>
                        <a:pt x="-219" y="3460"/>
                        <a:pt x="-283" y="1873"/>
                        <a:pt x="670" y="857"/>
                      </a:cubicBezTo>
                      <a:cubicBezTo>
                        <a:pt x="1622" y="-159"/>
                        <a:pt x="3274" y="-223"/>
                        <a:pt x="4353" y="666"/>
                      </a:cubicBezTo>
                      <a:cubicBezTo>
                        <a:pt x="6258" y="2381"/>
                        <a:pt x="51851" y="41370"/>
                        <a:pt x="117637" y="412"/>
                      </a:cubicBezTo>
                      <a:cubicBezTo>
                        <a:pt x="118843" y="-350"/>
                        <a:pt x="120431" y="-32"/>
                        <a:pt x="121193" y="1174"/>
                      </a:cubicBezTo>
                      <a:cubicBezTo>
                        <a:pt x="121955" y="2317"/>
                        <a:pt x="121638" y="3905"/>
                        <a:pt x="120431" y="4667"/>
                      </a:cubicBezTo>
                      <a:cubicBezTo>
                        <a:pt x="97317" y="19018"/>
                        <a:pt x="76362" y="23844"/>
                        <a:pt x="58709" y="23844"/>
                      </a:cubicBezTo>
                      <a:close/>
                    </a:path>
                  </a:pathLst>
                </a:custGeom>
                <a:solidFill>
                  <a:srgbClr val="231f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Open Sans"/>
                  </a:endParaRPr>
                </a:p>
              </p:txBody>
            </p:sp>
            <p:sp>
              <p:nvSpPr>
                <p:cNvPr id="1304" name="Freeform 26"/>
                <p:cNvSpPr/>
                <p:nvPr/>
              </p:nvSpPr>
              <p:spPr>
                <a:xfrm>
                  <a:off x="6885360" y="2398680"/>
                  <a:ext cx="51120" cy="99360"/>
                </a:xfrm>
                <a:custGeom>
                  <a:avLst/>
                  <a:gdLst/>
                  <a:ahLst/>
                  <a:rect l="l" t="t" r="r" b="b"/>
                  <a:pathLst>
                    <a:path w="71564" h="139064">
                      <a:moveTo>
                        <a:pt x="71565" y="0"/>
                      </a:moveTo>
                      <a:lnTo>
                        <a:pt x="71565" y="139065"/>
                      </a:lnTo>
                      <a:cubicBezTo>
                        <a:pt x="32068" y="139065"/>
                        <a:pt x="0" y="107950"/>
                        <a:pt x="0" y="69533"/>
                      </a:cubicBezTo>
                      <a:cubicBezTo>
                        <a:pt x="0" y="54292"/>
                        <a:pt x="5017" y="40195"/>
                        <a:pt x="13589" y="28765"/>
                      </a:cubicBezTo>
                      <a:cubicBezTo>
                        <a:pt x="26607" y="11367"/>
                        <a:pt x="47689" y="0"/>
                        <a:pt x="71565" y="0"/>
                      </a:cubicBezTo>
                      <a:close/>
                    </a:path>
                  </a:pathLst>
                </a:custGeom>
                <a:solidFill>
                  <a:srgbClr val="f8ac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Open Sans"/>
                  </a:endParaRPr>
                </a:p>
              </p:txBody>
            </p:sp>
            <p:sp>
              <p:nvSpPr>
                <p:cNvPr id="1305" name="Freeform 27"/>
                <p:cNvSpPr/>
                <p:nvPr/>
              </p:nvSpPr>
              <p:spPr>
                <a:xfrm>
                  <a:off x="7229520" y="2398680"/>
                  <a:ext cx="51120" cy="99360"/>
                </a:xfrm>
                <a:custGeom>
                  <a:avLst/>
                  <a:gdLst/>
                  <a:ahLst/>
                  <a:rect l="l" t="t" r="r" b="b"/>
                  <a:pathLst>
                    <a:path w="71564" h="139064">
                      <a:moveTo>
                        <a:pt x="71565" y="69532"/>
                      </a:moveTo>
                      <a:cubicBezTo>
                        <a:pt x="71565" y="107950"/>
                        <a:pt x="39498" y="139065"/>
                        <a:pt x="0" y="139065"/>
                      </a:cubicBezTo>
                      <a:lnTo>
                        <a:pt x="0" y="0"/>
                      </a:lnTo>
                      <a:cubicBezTo>
                        <a:pt x="17400" y="0"/>
                        <a:pt x="33338" y="6032"/>
                        <a:pt x="45720" y="16065"/>
                      </a:cubicBezTo>
                      <a:cubicBezTo>
                        <a:pt x="61532" y="28765"/>
                        <a:pt x="71565" y="47942"/>
                        <a:pt x="71565" y="69532"/>
                      </a:cubicBezTo>
                      <a:close/>
                    </a:path>
                  </a:pathLst>
                </a:custGeom>
                <a:solidFill>
                  <a:srgbClr val="f8ac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Open Sans"/>
                  </a:endParaRPr>
                </a:p>
              </p:txBody>
            </p:sp>
            <p:sp>
              <p:nvSpPr>
                <p:cNvPr id="1306" name="Freeform 28"/>
                <p:cNvSpPr/>
                <p:nvPr/>
              </p:nvSpPr>
              <p:spPr>
                <a:xfrm>
                  <a:off x="6870240" y="2101320"/>
                  <a:ext cx="425160" cy="317880"/>
                </a:xfrm>
                <a:custGeom>
                  <a:avLst/>
                  <a:gdLst/>
                  <a:ahLst/>
                  <a:rect l="l" t="t" r="r" b="b"/>
                  <a:pathLst>
                    <a:path w="593535" h="443936">
                      <a:moveTo>
                        <a:pt x="526433" y="276931"/>
                      </a:moveTo>
                      <a:cubicBezTo>
                        <a:pt x="526433" y="276931"/>
                        <a:pt x="573803" y="376182"/>
                        <a:pt x="546880" y="431236"/>
                      </a:cubicBezTo>
                      <a:cubicBezTo>
                        <a:pt x="534497" y="421203"/>
                        <a:pt x="518495" y="415171"/>
                        <a:pt x="501159" y="415171"/>
                      </a:cubicBezTo>
                      <a:lnTo>
                        <a:pt x="501159" y="271470"/>
                      </a:lnTo>
                      <a:cubicBezTo>
                        <a:pt x="431500" y="315476"/>
                        <a:pt x="361015" y="262517"/>
                        <a:pt x="361015" y="262517"/>
                      </a:cubicBezTo>
                      <a:cubicBezTo>
                        <a:pt x="311104" y="338018"/>
                        <a:pt x="92664" y="381135"/>
                        <a:pt x="92664" y="381135"/>
                      </a:cubicBezTo>
                      <a:lnTo>
                        <a:pt x="92664" y="415171"/>
                      </a:lnTo>
                      <a:cubicBezTo>
                        <a:pt x="68788" y="415171"/>
                        <a:pt x="47706" y="426537"/>
                        <a:pt x="34688" y="443936"/>
                      </a:cubicBezTo>
                      <a:cubicBezTo>
                        <a:pt x="34688" y="443936"/>
                        <a:pt x="-58530" y="204033"/>
                        <a:pt x="60660" y="193238"/>
                      </a:cubicBezTo>
                      <a:cubicBezTo>
                        <a:pt x="60660" y="193238"/>
                        <a:pt x="39387" y="74620"/>
                        <a:pt x="183595" y="29726"/>
                      </a:cubicBezTo>
                      <a:cubicBezTo>
                        <a:pt x="327805" y="-15232"/>
                        <a:pt x="380445" y="74684"/>
                        <a:pt x="380445" y="74684"/>
                      </a:cubicBezTo>
                      <a:cubicBezTo>
                        <a:pt x="380445" y="74684"/>
                        <a:pt x="425785" y="-25964"/>
                        <a:pt x="518177" y="6421"/>
                      </a:cubicBezTo>
                      <a:cubicBezTo>
                        <a:pt x="610507" y="38743"/>
                        <a:pt x="623460" y="251785"/>
                        <a:pt x="526433" y="276931"/>
                      </a:cubicBezTo>
                      <a:close/>
                    </a:path>
                  </a:pathLst>
                </a:custGeom>
                <a:solidFill>
                  <a:srgbClr val="803d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Open Sans"/>
                  </a:endParaRPr>
                </a:p>
              </p:txBody>
            </p:sp>
            <p:sp>
              <p:nvSpPr>
                <p:cNvPr id="1307" name="Freeform 29"/>
                <p:cNvSpPr/>
                <p:nvPr/>
              </p:nvSpPr>
              <p:spPr>
                <a:xfrm>
                  <a:off x="6894360" y="2694960"/>
                  <a:ext cx="151200" cy="139680"/>
                </a:xfrm>
                <a:custGeom>
                  <a:avLst/>
                  <a:gdLst/>
                  <a:ahLst/>
                  <a:rect l="l" t="t" r="r" b="b"/>
                  <a:pathLst>
                    <a:path w="211328" h="195008">
                      <a:moveTo>
                        <a:pt x="211328" y="63627"/>
                      </a:moveTo>
                      <a:lnTo>
                        <a:pt x="201676" y="148527"/>
                      </a:lnTo>
                      <a:lnTo>
                        <a:pt x="196342" y="195009"/>
                      </a:lnTo>
                      <a:lnTo>
                        <a:pt x="0" y="92901"/>
                      </a:lnTo>
                      <a:lnTo>
                        <a:pt x="88329" y="0"/>
                      </a:lnTo>
                      <a:lnTo>
                        <a:pt x="147828" y="30798"/>
                      </a:lnTo>
                      <a:lnTo>
                        <a:pt x="211328" y="63627"/>
                      </a:lnTo>
                      <a:close/>
                    </a:path>
                  </a:pathLst>
                </a:custGeom>
                <a:solidFill>
                  <a:srgbClr val="8fd2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Open Sans"/>
                  </a:endParaRPr>
                </a:p>
              </p:txBody>
            </p:sp>
            <p:sp>
              <p:nvSpPr>
                <p:cNvPr id="1308" name="Freeform 30"/>
                <p:cNvSpPr/>
                <p:nvPr/>
              </p:nvSpPr>
              <p:spPr>
                <a:xfrm>
                  <a:off x="7120080" y="2694960"/>
                  <a:ext cx="151200" cy="139680"/>
                </a:xfrm>
                <a:custGeom>
                  <a:avLst/>
                  <a:gdLst/>
                  <a:ahLst/>
                  <a:rect l="l" t="t" r="r" b="b"/>
                  <a:pathLst>
                    <a:path w="211328" h="195008">
                      <a:moveTo>
                        <a:pt x="211328" y="92901"/>
                      </a:moveTo>
                      <a:lnTo>
                        <a:pt x="15049" y="195009"/>
                      </a:lnTo>
                      <a:lnTo>
                        <a:pt x="9716" y="148844"/>
                      </a:lnTo>
                      <a:lnTo>
                        <a:pt x="0" y="63627"/>
                      </a:lnTo>
                      <a:lnTo>
                        <a:pt x="64071" y="30480"/>
                      </a:lnTo>
                      <a:lnTo>
                        <a:pt x="122936" y="0"/>
                      </a:lnTo>
                      <a:lnTo>
                        <a:pt x="211328" y="92901"/>
                      </a:lnTo>
                      <a:close/>
                    </a:path>
                  </a:pathLst>
                </a:custGeom>
                <a:solidFill>
                  <a:srgbClr val="8fd2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Open Sans"/>
                  </a:endParaRPr>
                </a:p>
              </p:txBody>
            </p:sp>
            <p:sp>
              <p:nvSpPr>
                <p:cNvPr id="1309" name="Freeform 31"/>
                <p:cNvSpPr/>
                <p:nvPr/>
              </p:nvSpPr>
              <p:spPr>
                <a:xfrm>
                  <a:off x="6633360" y="2761560"/>
                  <a:ext cx="408960" cy="1208160"/>
                </a:xfrm>
                <a:custGeom>
                  <a:avLst/>
                  <a:gdLst/>
                  <a:ahLst/>
                  <a:rect l="l" t="t" r="r" b="b"/>
                  <a:pathLst>
                    <a:path w="570864" h="1686455">
                      <a:moveTo>
                        <a:pt x="548950" y="1206373"/>
                      </a:moveTo>
                      <a:cubicBezTo>
                        <a:pt x="541076" y="1429703"/>
                        <a:pt x="533836" y="1605344"/>
                        <a:pt x="532947" y="1633030"/>
                      </a:cubicBezTo>
                      <a:cubicBezTo>
                        <a:pt x="531106" y="1691704"/>
                        <a:pt x="321366" y="1689481"/>
                        <a:pt x="203827" y="1683639"/>
                      </a:cubicBezTo>
                      <a:cubicBezTo>
                        <a:pt x="158044" y="1681353"/>
                        <a:pt x="126230" y="1678559"/>
                        <a:pt x="126230" y="1678559"/>
                      </a:cubicBezTo>
                      <a:cubicBezTo>
                        <a:pt x="126230" y="1678559"/>
                        <a:pt x="181602" y="1183450"/>
                        <a:pt x="182237" y="1079881"/>
                      </a:cubicBezTo>
                      <a:cubicBezTo>
                        <a:pt x="122103" y="1018794"/>
                        <a:pt x="-22487" y="838073"/>
                        <a:pt x="2977" y="532892"/>
                      </a:cubicBezTo>
                      <a:cubicBezTo>
                        <a:pt x="35044" y="149416"/>
                        <a:pt x="364482" y="0"/>
                        <a:pt x="364482" y="0"/>
                      </a:cubicBezTo>
                      <a:lnTo>
                        <a:pt x="560760" y="102108"/>
                      </a:lnTo>
                      <a:cubicBezTo>
                        <a:pt x="582605" y="154813"/>
                        <a:pt x="564507" y="771081"/>
                        <a:pt x="548950" y="120637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Open Sans"/>
                  </a:endParaRPr>
                </a:p>
              </p:txBody>
            </p:sp>
            <p:sp>
              <p:nvSpPr>
                <p:cNvPr id="1310" name="Freeform 32"/>
                <p:cNvSpPr/>
                <p:nvPr/>
              </p:nvSpPr>
              <p:spPr>
                <a:xfrm>
                  <a:off x="6771240" y="3072960"/>
                  <a:ext cx="77760" cy="494640"/>
                </a:xfrm>
                <a:custGeom>
                  <a:avLst/>
                  <a:gdLst/>
                  <a:ahLst/>
                  <a:rect l="l" t="t" r="r" b="b"/>
                  <a:pathLst>
                    <a:path w="108616" h="690880">
                      <a:moveTo>
                        <a:pt x="108442" y="437261"/>
                      </a:moveTo>
                      <a:cubicBezTo>
                        <a:pt x="108950" y="435991"/>
                        <a:pt x="108315" y="434467"/>
                        <a:pt x="106982" y="433959"/>
                      </a:cubicBezTo>
                      <a:cubicBezTo>
                        <a:pt x="105648" y="433451"/>
                        <a:pt x="104124" y="434086"/>
                        <a:pt x="103616" y="435356"/>
                      </a:cubicBezTo>
                      <a:lnTo>
                        <a:pt x="85011" y="480695"/>
                      </a:lnTo>
                      <a:lnTo>
                        <a:pt x="17447" y="418465"/>
                      </a:lnTo>
                      <a:lnTo>
                        <a:pt x="17447" y="2540"/>
                      </a:lnTo>
                      <a:cubicBezTo>
                        <a:pt x="17447" y="1143"/>
                        <a:pt x="16303" y="0"/>
                        <a:pt x="14843" y="0"/>
                      </a:cubicBezTo>
                      <a:cubicBezTo>
                        <a:pt x="13383" y="0"/>
                        <a:pt x="12239" y="1143"/>
                        <a:pt x="12239" y="2540"/>
                      </a:cubicBezTo>
                      <a:lnTo>
                        <a:pt x="12239" y="419545"/>
                      </a:lnTo>
                      <a:cubicBezTo>
                        <a:pt x="12239" y="420243"/>
                        <a:pt x="12557" y="420878"/>
                        <a:pt x="13065" y="421386"/>
                      </a:cubicBezTo>
                      <a:lnTo>
                        <a:pt x="82978" y="485775"/>
                      </a:lnTo>
                      <a:lnTo>
                        <a:pt x="175" y="687388"/>
                      </a:lnTo>
                      <a:cubicBezTo>
                        <a:pt x="-334" y="688657"/>
                        <a:pt x="301" y="690182"/>
                        <a:pt x="1635" y="690689"/>
                      </a:cubicBezTo>
                      <a:cubicBezTo>
                        <a:pt x="1952" y="690817"/>
                        <a:pt x="2270" y="690880"/>
                        <a:pt x="2588" y="690880"/>
                      </a:cubicBezTo>
                      <a:cubicBezTo>
                        <a:pt x="3603" y="690880"/>
                        <a:pt x="4620" y="690308"/>
                        <a:pt x="5000" y="689293"/>
                      </a:cubicBezTo>
                      <a:lnTo>
                        <a:pt x="88503" y="486029"/>
                      </a:lnTo>
                      <a:cubicBezTo>
                        <a:pt x="88503" y="486029"/>
                        <a:pt x="88503" y="485966"/>
                        <a:pt x="88503" y="485966"/>
                      </a:cubicBezTo>
                      <a:lnTo>
                        <a:pt x="108442" y="437261"/>
                      </a:lnTo>
                      <a:close/>
                    </a:path>
                  </a:pathLst>
                </a:custGeom>
                <a:solidFill>
                  <a:srgbClr val="918e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Open Sans"/>
                  </a:endParaRPr>
                </a:p>
              </p:txBody>
            </p:sp>
            <p:sp>
              <p:nvSpPr>
                <p:cNvPr id="1311" name="Freeform 33"/>
                <p:cNvSpPr/>
                <p:nvPr/>
              </p:nvSpPr>
              <p:spPr>
                <a:xfrm>
                  <a:off x="7130880" y="2761560"/>
                  <a:ext cx="523080" cy="1202400"/>
                </a:xfrm>
                <a:custGeom>
                  <a:avLst/>
                  <a:gdLst/>
                  <a:ahLst/>
                  <a:rect l="l" t="t" r="r" b="b"/>
                  <a:pathLst>
                    <a:path w="730122" h="1678493">
                      <a:moveTo>
                        <a:pt x="479616" y="810958"/>
                      </a:moveTo>
                      <a:cubicBezTo>
                        <a:pt x="706310" y="784352"/>
                        <a:pt x="729996" y="414211"/>
                        <a:pt x="730123" y="262001"/>
                      </a:cubicBezTo>
                      <a:cubicBezTo>
                        <a:pt x="730123" y="248158"/>
                        <a:pt x="729996" y="236030"/>
                        <a:pt x="729679" y="226187"/>
                      </a:cubicBezTo>
                      <a:cubicBezTo>
                        <a:pt x="694372" y="224473"/>
                        <a:pt x="659130" y="220599"/>
                        <a:pt x="624332" y="214567"/>
                      </a:cubicBezTo>
                      <a:lnTo>
                        <a:pt x="483680" y="503619"/>
                      </a:lnTo>
                      <a:cubicBezTo>
                        <a:pt x="472504" y="400939"/>
                        <a:pt x="460946" y="296418"/>
                        <a:pt x="418973" y="201613"/>
                      </a:cubicBezTo>
                      <a:cubicBezTo>
                        <a:pt x="376936" y="106744"/>
                        <a:pt x="298895" y="26480"/>
                        <a:pt x="196279" y="0"/>
                      </a:cubicBezTo>
                      <a:lnTo>
                        <a:pt x="0" y="102108"/>
                      </a:lnTo>
                      <a:cubicBezTo>
                        <a:pt x="0" y="102108"/>
                        <a:pt x="12700" y="751967"/>
                        <a:pt x="43117" y="1206310"/>
                      </a:cubicBezTo>
                      <a:cubicBezTo>
                        <a:pt x="58293" y="1433259"/>
                        <a:pt x="77915" y="1611439"/>
                        <a:pt x="102553" y="1635379"/>
                      </a:cubicBezTo>
                      <a:cubicBezTo>
                        <a:pt x="151130" y="1682623"/>
                        <a:pt x="299466" y="1681670"/>
                        <a:pt x="395478" y="1675448"/>
                      </a:cubicBezTo>
                      <a:cubicBezTo>
                        <a:pt x="445516" y="1672209"/>
                        <a:pt x="481330" y="1667510"/>
                        <a:pt x="481330" y="1667510"/>
                      </a:cubicBezTo>
                      <a:cubicBezTo>
                        <a:pt x="444945" y="1397000"/>
                        <a:pt x="408559" y="1126617"/>
                        <a:pt x="372173" y="856107"/>
                      </a:cubicBezTo>
                      <a:lnTo>
                        <a:pt x="360997" y="772858"/>
                      </a:lnTo>
                      <a:cubicBezTo>
                        <a:pt x="394462" y="815594"/>
                        <a:pt x="479616" y="810958"/>
                        <a:pt x="479616" y="810958"/>
                      </a:cubicBezTo>
                      <a:close/>
                      <a:moveTo>
                        <a:pt x="249745" y="1405319"/>
                      </a:moveTo>
                      <a:cubicBezTo>
                        <a:pt x="124714" y="1405319"/>
                        <a:pt x="140716" y="1225614"/>
                        <a:pt x="140716" y="1225614"/>
                      </a:cubicBezTo>
                      <a:lnTo>
                        <a:pt x="140716" y="1180084"/>
                      </a:lnTo>
                      <a:lnTo>
                        <a:pt x="358775" y="1180084"/>
                      </a:lnTo>
                      <a:lnTo>
                        <a:pt x="358775" y="1225614"/>
                      </a:lnTo>
                      <a:cubicBezTo>
                        <a:pt x="358775" y="1225614"/>
                        <a:pt x="374841" y="1405319"/>
                        <a:pt x="249745" y="140531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Open Sans"/>
                  </a:endParaRPr>
                </a:p>
              </p:txBody>
            </p:sp>
            <p:sp>
              <p:nvSpPr>
                <p:cNvPr id="1312" name="Freeform 34"/>
                <p:cNvSpPr/>
                <p:nvPr/>
              </p:nvSpPr>
              <p:spPr>
                <a:xfrm>
                  <a:off x="7578360" y="2896200"/>
                  <a:ext cx="75240" cy="27360"/>
                </a:xfrm>
                <a:custGeom>
                  <a:avLst/>
                  <a:gdLst/>
                  <a:ahLst/>
                  <a:rect l="l" t="t" r="r" b="b"/>
                  <a:pathLst>
                    <a:path w="105346" h="38417">
                      <a:moveTo>
                        <a:pt x="105346" y="38417"/>
                      </a:moveTo>
                      <a:cubicBezTo>
                        <a:pt x="70040" y="36703"/>
                        <a:pt x="34798" y="32829"/>
                        <a:pt x="0" y="26797"/>
                      </a:cubicBezTo>
                      <a:lnTo>
                        <a:pt x="13017" y="0"/>
                      </a:lnTo>
                      <a:lnTo>
                        <a:pt x="104203" y="9589"/>
                      </a:lnTo>
                      <a:cubicBezTo>
                        <a:pt x="104203" y="9589"/>
                        <a:pt x="104838" y="20129"/>
                        <a:pt x="105346" y="38417"/>
                      </a:cubicBezTo>
                      <a:close/>
                    </a:path>
                  </a:pathLst>
                </a:custGeom>
                <a:solidFill>
                  <a:srgbClr val="f8ac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Open Sans"/>
                  </a:endParaRPr>
                </a:p>
              </p:txBody>
            </p:sp>
            <p:sp>
              <p:nvSpPr>
                <p:cNvPr id="1313" name="Freeform 35"/>
                <p:cNvSpPr/>
                <p:nvPr/>
              </p:nvSpPr>
              <p:spPr>
                <a:xfrm>
                  <a:off x="7230960" y="3639600"/>
                  <a:ext cx="156960" cy="128520"/>
                </a:xfrm>
                <a:custGeom>
                  <a:avLst/>
                  <a:gdLst/>
                  <a:ahLst/>
                  <a:rect l="l" t="t" r="r" b="b"/>
                  <a:pathLst>
                    <a:path w="219394" h="179704">
                      <a:moveTo>
                        <a:pt x="109694" y="179705"/>
                      </a:moveTo>
                      <a:cubicBezTo>
                        <a:pt x="-15337" y="179705"/>
                        <a:pt x="665" y="0"/>
                        <a:pt x="665" y="0"/>
                      </a:cubicBezTo>
                      <a:lnTo>
                        <a:pt x="218723" y="0"/>
                      </a:lnTo>
                      <a:cubicBezTo>
                        <a:pt x="218723" y="0"/>
                        <a:pt x="234789" y="179705"/>
                        <a:pt x="109694" y="179705"/>
                      </a:cubicBezTo>
                      <a:close/>
                    </a:path>
                  </a:pathLst>
                </a:custGeom>
                <a:solidFill>
                  <a:srgbClr val="f1f1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Open Sans"/>
                  </a:endParaRPr>
                </a:p>
              </p:txBody>
            </p:sp>
            <p:sp>
              <p:nvSpPr>
                <p:cNvPr id="1314" name="Freeform 36"/>
                <p:cNvSpPr/>
                <p:nvPr/>
              </p:nvSpPr>
              <p:spPr>
                <a:xfrm>
                  <a:off x="7026480" y="2801520"/>
                  <a:ext cx="134640" cy="828000"/>
                </a:xfrm>
                <a:custGeom>
                  <a:avLst/>
                  <a:gdLst/>
                  <a:ahLst/>
                  <a:rect l="l" t="t" r="r" b="b"/>
                  <a:pathLst>
                    <a:path w="188341" h="1155989">
                      <a:moveTo>
                        <a:pt x="188341" y="1150684"/>
                      </a:moveTo>
                      <a:cubicBezTo>
                        <a:pt x="123952" y="1162622"/>
                        <a:pt x="64" y="1150684"/>
                        <a:pt x="64" y="1150684"/>
                      </a:cubicBezTo>
                      <a:lnTo>
                        <a:pt x="0" y="1150684"/>
                      </a:lnTo>
                      <a:cubicBezTo>
                        <a:pt x="15558" y="715391"/>
                        <a:pt x="33655" y="99123"/>
                        <a:pt x="11938" y="46482"/>
                      </a:cubicBezTo>
                      <a:lnTo>
                        <a:pt x="17272" y="0"/>
                      </a:lnTo>
                      <a:cubicBezTo>
                        <a:pt x="34290" y="10160"/>
                        <a:pt x="54293" y="15938"/>
                        <a:pt x="75692" y="15938"/>
                      </a:cubicBezTo>
                      <a:lnTo>
                        <a:pt x="82042" y="15938"/>
                      </a:lnTo>
                      <a:cubicBezTo>
                        <a:pt x="103251" y="15938"/>
                        <a:pt x="122999" y="10223"/>
                        <a:pt x="139891" y="317"/>
                      </a:cubicBezTo>
                      <a:lnTo>
                        <a:pt x="145161" y="46482"/>
                      </a:lnTo>
                      <a:cubicBezTo>
                        <a:pt x="145288" y="46482"/>
                        <a:pt x="157988" y="696405"/>
                        <a:pt x="188341" y="1150684"/>
                      </a:cubicBezTo>
                      <a:close/>
                    </a:path>
                  </a:pathLst>
                </a:custGeom>
                <a:solidFill>
                  <a:srgbClr val="fe6b1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Open Sans"/>
                  </a:endParaRPr>
                </a:p>
              </p:txBody>
            </p:sp>
            <p:sp>
              <p:nvSpPr>
                <p:cNvPr id="1315" name="Freeform 37"/>
                <p:cNvSpPr/>
                <p:nvPr/>
              </p:nvSpPr>
              <p:spPr>
                <a:xfrm>
                  <a:off x="7563960" y="2651040"/>
                  <a:ext cx="134640" cy="252000"/>
                </a:xfrm>
                <a:custGeom>
                  <a:avLst/>
                  <a:gdLst/>
                  <a:ahLst/>
                  <a:rect l="l" t="t" r="r" b="b"/>
                  <a:pathLst>
                    <a:path w="188030" h="351837">
                      <a:moveTo>
                        <a:pt x="188031" y="304630"/>
                      </a:moveTo>
                      <a:cubicBezTo>
                        <a:pt x="180029" y="325268"/>
                        <a:pt x="162059" y="353652"/>
                        <a:pt x="124276" y="351747"/>
                      </a:cubicBezTo>
                      <a:lnTo>
                        <a:pt x="33090" y="342159"/>
                      </a:lnTo>
                      <a:cubicBezTo>
                        <a:pt x="33090" y="342159"/>
                        <a:pt x="-2977" y="282278"/>
                        <a:pt x="22931" y="195981"/>
                      </a:cubicBezTo>
                      <a:cubicBezTo>
                        <a:pt x="43632" y="127020"/>
                        <a:pt x="13533" y="41994"/>
                        <a:pt x="578" y="10625"/>
                      </a:cubicBezTo>
                      <a:cubicBezTo>
                        <a:pt x="-1835" y="4719"/>
                        <a:pt x="3690" y="-1377"/>
                        <a:pt x="9976" y="274"/>
                      </a:cubicBezTo>
                      <a:cubicBezTo>
                        <a:pt x="31059" y="5735"/>
                        <a:pt x="70048" y="25674"/>
                        <a:pt x="95956" y="98001"/>
                      </a:cubicBezTo>
                      <a:cubicBezTo>
                        <a:pt x="97607" y="102637"/>
                        <a:pt x="99321" y="107209"/>
                        <a:pt x="101036" y="111717"/>
                      </a:cubicBezTo>
                      <a:cubicBezTo>
                        <a:pt x="95257" y="121178"/>
                        <a:pt x="92146" y="131084"/>
                        <a:pt x="88526" y="142006"/>
                      </a:cubicBezTo>
                      <a:cubicBezTo>
                        <a:pt x="88526" y="141943"/>
                        <a:pt x="61538" y="303487"/>
                        <a:pt x="188031" y="304630"/>
                      </a:cubicBezTo>
                      <a:close/>
                    </a:path>
                  </a:pathLst>
                </a:custGeom>
                <a:solidFill>
                  <a:srgbClr val="8fd2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Open Sans"/>
                  </a:endParaRPr>
                </a:p>
              </p:txBody>
            </p:sp>
            <p:sp>
              <p:nvSpPr>
                <p:cNvPr id="1316" name="Freeform 38"/>
                <p:cNvSpPr/>
                <p:nvPr/>
              </p:nvSpPr>
              <p:spPr>
                <a:xfrm>
                  <a:off x="7627320" y="2712960"/>
                  <a:ext cx="99720" cy="141840"/>
                </a:xfrm>
                <a:custGeom>
                  <a:avLst/>
                  <a:gdLst/>
                  <a:ahLst/>
                  <a:rect l="l" t="t" r="r" b="b"/>
                  <a:pathLst>
                    <a:path w="139415" h="198470">
                      <a:moveTo>
                        <a:pt x="129858" y="175405"/>
                      </a:moveTo>
                      <a:cubicBezTo>
                        <a:pt x="129731" y="175595"/>
                        <a:pt x="129731" y="175786"/>
                        <a:pt x="129604" y="176040"/>
                      </a:cubicBezTo>
                      <a:cubicBezTo>
                        <a:pt x="125223" y="186200"/>
                        <a:pt x="115570" y="193502"/>
                        <a:pt x="104775" y="196677"/>
                      </a:cubicBezTo>
                      <a:cubicBezTo>
                        <a:pt x="94488" y="199725"/>
                        <a:pt x="83122" y="199027"/>
                        <a:pt x="73978" y="193502"/>
                      </a:cubicBezTo>
                      <a:cubicBezTo>
                        <a:pt x="60961" y="185755"/>
                        <a:pt x="54039" y="171468"/>
                        <a:pt x="47752" y="157942"/>
                      </a:cubicBezTo>
                      <a:cubicBezTo>
                        <a:pt x="31814" y="123779"/>
                        <a:pt x="15939" y="89743"/>
                        <a:pt x="64" y="55580"/>
                      </a:cubicBezTo>
                      <a:lnTo>
                        <a:pt x="0" y="55517"/>
                      </a:lnTo>
                      <a:cubicBezTo>
                        <a:pt x="3620" y="44595"/>
                        <a:pt x="6731" y="34625"/>
                        <a:pt x="12510" y="25227"/>
                      </a:cubicBezTo>
                      <a:cubicBezTo>
                        <a:pt x="13780" y="23132"/>
                        <a:pt x="15240" y="20973"/>
                        <a:pt x="16891" y="18941"/>
                      </a:cubicBezTo>
                      <a:cubicBezTo>
                        <a:pt x="25591" y="7701"/>
                        <a:pt x="39370" y="-935"/>
                        <a:pt x="53848" y="81"/>
                      </a:cubicBezTo>
                      <a:cubicBezTo>
                        <a:pt x="73787" y="1415"/>
                        <a:pt x="87630" y="19322"/>
                        <a:pt x="98616" y="35514"/>
                      </a:cubicBezTo>
                      <a:cubicBezTo>
                        <a:pt x="112459" y="55961"/>
                        <a:pt x="126429" y="76535"/>
                        <a:pt x="134874" y="99586"/>
                      </a:cubicBezTo>
                      <a:cubicBezTo>
                        <a:pt x="143256" y="122509"/>
                        <a:pt x="139129" y="152735"/>
                        <a:pt x="129858" y="175405"/>
                      </a:cubicBezTo>
                      <a:close/>
                    </a:path>
                  </a:pathLst>
                </a:custGeom>
                <a:solidFill>
                  <a:srgbClr val="8fd2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Open Sans"/>
                  </a:endParaRPr>
                </a:p>
              </p:txBody>
            </p:sp>
            <p:sp>
              <p:nvSpPr>
                <p:cNvPr id="1317" name="Freeform 39"/>
                <p:cNvSpPr/>
                <p:nvPr/>
              </p:nvSpPr>
              <p:spPr>
                <a:xfrm>
                  <a:off x="6779160" y="3625920"/>
                  <a:ext cx="644400" cy="1440360"/>
                </a:xfrm>
                <a:custGeom>
                  <a:avLst/>
                  <a:gdLst/>
                  <a:ahLst/>
                  <a:rect l="l" t="t" r="r" b="b"/>
                  <a:pathLst>
                    <a:path w="899414" h="2010819">
                      <a:moveTo>
                        <a:pt x="899414" y="1991678"/>
                      </a:moveTo>
                      <a:cubicBezTo>
                        <a:pt x="894017" y="1996631"/>
                        <a:pt x="888047" y="2000187"/>
                        <a:pt x="881761" y="2002600"/>
                      </a:cubicBezTo>
                      <a:cubicBezTo>
                        <a:pt x="855028" y="2013204"/>
                        <a:pt x="822960" y="2004187"/>
                        <a:pt x="809561" y="1999488"/>
                      </a:cubicBezTo>
                      <a:cubicBezTo>
                        <a:pt x="805561" y="1998091"/>
                        <a:pt x="803211" y="1997075"/>
                        <a:pt x="803211" y="1997075"/>
                      </a:cubicBezTo>
                      <a:lnTo>
                        <a:pt x="445516" y="319977"/>
                      </a:lnTo>
                      <a:lnTo>
                        <a:pt x="205232" y="1984439"/>
                      </a:lnTo>
                      <a:cubicBezTo>
                        <a:pt x="205232" y="1984439"/>
                        <a:pt x="195707" y="1990027"/>
                        <a:pt x="182118" y="1996059"/>
                      </a:cubicBezTo>
                      <a:cubicBezTo>
                        <a:pt x="158750" y="2006473"/>
                        <a:pt x="123317" y="2018157"/>
                        <a:pt x="104457" y="2004885"/>
                      </a:cubicBezTo>
                      <a:cubicBezTo>
                        <a:pt x="98616" y="2000822"/>
                        <a:pt x="94297" y="1994217"/>
                        <a:pt x="92456" y="1984439"/>
                      </a:cubicBezTo>
                      <a:cubicBezTo>
                        <a:pt x="81407" y="1925129"/>
                        <a:pt x="0" y="477266"/>
                        <a:pt x="0" y="477266"/>
                      </a:cubicBezTo>
                      <a:cubicBezTo>
                        <a:pt x="117539" y="483108"/>
                        <a:pt x="327279" y="485267"/>
                        <a:pt x="329120" y="426657"/>
                      </a:cubicBezTo>
                      <a:cubicBezTo>
                        <a:pt x="329946" y="399034"/>
                        <a:pt x="337185" y="223329"/>
                        <a:pt x="345122" y="0"/>
                      </a:cubicBezTo>
                      <a:lnTo>
                        <a:pt x="345186" y="0"/>
                      </a:lnTo>
                      <a:cubicBezTo>
                        <a:pt x="345186" y="0"/>
                        <a:pt x="469074" y="11938"/>
                        <a:pt x="533464" y="0"/>
                      </a:cubicBezTo>
                      <a:cubicBezTo>
                        <a:pt x="548640" y="226949"/>
                        <a:pt x="568261" y="405130"/>
                        <a:pt x="592900" y="429070"/>
                      </a:cubicBezTo>
                      <a:cubicBezTo>
                        <a:pt x="641477" y="476314"/>
                        <a:pt x="789813" y="475361"/>
                        <a:pt x="885825" y="469138"/>
                      </a:cubicBezTo>
                      <a:lnTo>
                        <a:pt x="899414" y="1991678"/>
                      </a:lnTo>
                      <a:close/>
                    </a:path>
                  </a:pathLst>
                </a:custGeom>
                <a:solidFill>
                  <a:srgbClr val="8fd2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Open Sans"/>
                  </a:endParaRPr>
                </a:p>
              </p:txBody>
            </p:sp>
            <p:sp>
              <p:nvSpPr>
                <p:cNvPr id="1318" name="Freeform 40"/>
                <p:cNvSpPr/>
                <p:nvPr/>
              </p:nvSpPr>
              <p:spPr>
                <a:xfrm>
                  <a:off x="6854040" y="5055840"/>
                  <a:ext cx="55440" cy="59040"/>
                </a:xfrm>
                <a:custGeom>
                  <a:avLst/>
                  <a:gdLst/>
                  <a:ahLst/>
                  <a:rect l="l" t="t" r="r" b="b"/>
                  <a:pathLst>
                    <a:path w="77660" h="82789">
                      <a:moveTo>
                        <a:pt x="77660" y="0"/>
                      </a:moveTo>
                      <a:lnTo>
                        <a:pt x="77660" y="72009"/>
                      </a:lnTo>
                      <a:cubicBezTo>
                        <a:pt x="32385" y="96266"/>
                        <a:pt x="5588" y="72009"/>
                        <a:pt x="5588" y="72009"/>
                      </a:cubicBezTo>
                      <a:lnTo>
                        <a:pt x="0" y="8826"/>
                      </a:lnTo>
                      <a:cubicBezTo>
                        <a:pt x="18859" y="22098"/>
                        <a:pt x="54229" y="10414"/>
                        <a:pt x="77660" y="0"/>
                      </a:cubicBezTo>
                      <a:close/>
                    </a:path>
                  </a:pathLst>
                </a:custGeom>
                <a:solidFill>
                  <a:srgbClr val="f1f1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Open Sans"/>
                  </a:endParaRPr>
                </a:p>
              </p:txBody>
            </p:sp>
            <p:sp>
              <p:nvSpPr>
                <p:cNvPr id="1319" name="Freeform 41"/>
                <p:cNvSpPr/>
                <p:nvPr/>
              </p:nvSpPr>
              <p:spPr>
                <a:xfrm>
                  <a:off x="6674760" y="5107320"/>
                  <a:ext cx="277560" cy="86040"/>
                </a:xfrm>
                <a:custGeom>
                  <a:avLst/>
                  <a:gdLst/>
                  <a:ahLst/>
                  <a:rect l="l" t="t" r="r" b="b"/>
                  <a:pathLst>
                    <a:path w="387291" h="120269">
                      <a:moveTo>
                        <a:pt x="387286" y="120269"/>
                      </a:moveTo>
                      <a:lnTo>
                        <a:pt x="286512" y="120269"/>
                      </a:lnTo>
                      <a:lnTo>
                        <a:pt x="262509" y="81788"/>
                      </a:lnTo>
                      <a:cubicBezTo>
                        <a:pt x="189484" y="144717"/>
                        <a:pt x="0" y="111506"/>
                        <a:pt x="0" y="111506"/>
                      </a:cubicBezTo>
                      <a:lnTo>
                        <a:pt x="0" y="61151"/>
                      </a:lnTo>
                      <a:cubicBezTo>
                        <a:pt x="146050" y="71882"/>
                        <a:pt x="256032" y="0"/>
                        <a:pt x="256032" y="0"/>
                      </a:cubicBezTo>
                      <a:cubicBezTo>
                        <a:pt x="256032" y="0"/>
                        <a:pt x="282828" y="24257"/>
                        <a:pt x="328104" y="0"/>
                      </a:cubicBezTo>
                      <a:cubicBezTo>
                        <a:pt x="389065" y="889"/>
                        <a:pt x="387286" y="120269"/>
                        <a:pt x="387286" y="120269"/>
                      </a:cubicBezTo>
                      <a:close/>
                    </a:path>
                  </a:pathLst>
                </a:custGeom>
                <a:solidFill>
                  <a:srgbClr val="0000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Open Sans"/>
                  </a:endParaRPr>
                </a:p>
              </p:txBody>
            </p:sp>
            <p:sp>
              <p:nvSpPr>
                <p:cNvPr id="1320" name="Freeform 42"/>
                <p:cNvSpPr/>
                <p:nvPr/>
              </p:nvSpPr>
              <p:spPr>
                <a:xfrm>
                  <a:off x="7359480" y="5058360"/>
                  <a:ext cx="51480" cy="56520"/>
                </a:xfrm>
                <a:custGeom>
                  <a:avLst/>
                  <a:gdLst/>
                  <a:ahLst/>
                  <a:rect l="l" t="t" r="r" b="b"/>
                  <a:pathLst>
                    <a:path w="72199" h="79360">
                      <a:moveTo>
                        <a:pt x="72199" y="3111"/>
                      </a:moveTo>
                      <a:lnTo>
                        <a:pt x="72072" y="68580"/>
                      </a:lnTo>
                      <a:cubicBezTo>
                        <a:pt x="72072" y="68580"/>
                        <a:pt x="45276" y="92837"/>
                        <a:pt x="0" y="68580"/>
                      </a:cubicBezTo>
                      <a:lnTo>
                        <a:pt x="0" y="0"/>
                      </a:lnTo>
                      <a:cubicBezTo>
                        <a:pt x="13398" y="4699"/>
                        <a:pt x="45466" y="13652"/>
                        <a:pt x="72199" y="3111"/>
                      </a:cubicBezTo>
                      <a:close/>
                    </a:path>
                  </a:pathLst>
                </a:custGeom>
                <a:solidFill>
                  <a:srgbClr val="f1f1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Open Sans"/>
                  </a:endParaRPr>
                </a:p>
              </p:txBody>
            </p:sp>
            <p:sp>
              <p:nvSpPr>
                <p:cNvPr id="1321" name="Freeform 43"/>
                <p:cNvSpPr/>
                <p:nvPr/>
              </p:nvSpPr>
              <p:spPr>
                <a:xfrm>
                  <a:off x="7317000" y="5107320"/>
                  <a:ext cx="277200" cy="86040"/>
                </a:xfrm>
                <a:custGeom>
                  <a:avLst/>
                  <a:gdLst/>
                  <a:ahLst/>
                  <a:rect l="l" t="t" r="r" b="b"/>
                  <a:pathLst>
                    <a:path w="387229" h="120205">
                      <a:moveTo>
                        <a:pt x="387230" y="61087"/>
                      </a:moveTo>
                      <a:lnTo>
                        <a:pt x="387230" y="111442"/>
                      </a:lnTo>
                      <a:cubicBezTo>
                        <a:pt x="387230" y="111442"/>
                        <a:pt x="197809" y="144653"/>
                        <a:pt x="124784" y="81724"/>
                      </a:cubicBezTo>
                      <a:lnTo>
                        <a:pt x="100780" y="120205"/>
                      </a:lnTo>
                      <a:lnTo>
                        <a:pt x="6" y="120205"/>
                      </a:lnTo>
                      <a:cubicBezTo>
                        <a:pt x="6" y="120205"/>
                        <a:pt x="-1835" y="826"/>
                        <a:pt x="59188" y="0"/>
                      </a:cubicBezTo>
                      <a:cubicBezTo>
                        <a:pt x="104464" y="24257"/>
                        <a:pt x="131261" y="0"/>
                        <a:pt x="131261" y="0"/>
                      </a:cubicBezTo>
                      <a:cubicBezTo>
                        <a:pt x="131261" y="0"/>
                        <a:pt x="241180" y="71818"/>
                        <a:pt x="387230" y="61087"/>
                      </a:cubicBezTo>
                      <a:close/>
                    </a:path>
                  </a:pathLst>
                </a:custGeom>
                <a:solidFill>
                  <a:srgbClr val="0000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Open Sans"/>
                  </a:endParaRPr>
                </a:p>
              </p:txBody>
            </p:sp>
            <p:sp>
              <p:nvSpPr>
                <p:cNvPr id="1322" name="Freeform 44"/>
                <p:cNvSpPr/>
                <p:nvPr/>
              </p:nvSpPr>
              <p:spPr>
                <a:xfrm>
                  <a:off x="7231680" y="3606840"/>
                  <a:ext cx="156240" cy="32400"/>
                </a:xfrm>
                <a:custGeom>
                  <a:avLst/>
                  <a:gdLst/>
                  <a:ahLst/>
                  <a:rect l="l" t="t" r="r" b="b"/>
                  <a:pathLst>
                    <a:path w="218058" h="45529">
                      <a:moveTo>
                        <a:pt x="0" y="0"/>
                      </a:moveTo>
                      <a:lnTo>
                        <a:pt x="218059" y="0"/>
                      </a:lnTo>
                      <a:lnTo>
                        <a:pt x="218059" y="45529"/>
                      </a:lnTo>
                      <a:lnTo>
                        <a:pt x="0" y="4552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2e3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Open Sans"/>
                  </a:endParaRPr>
                </a:p>
              </p:txBody>
            </p:sp>
          </p:grpSp>
          <p:sp>
            <p:nvSpPr>
              <p:cNvPr id="1323" name="Freeform 45"/>
              <p:cNvSpPr/>
              <p:nvPr/>
            </p:nvSpPr>
            <p:spPr>
              <a:xfrm>
                <a:off x="7383960" y="2949480"/>
                <a:ext cx="270000" cy="393120"/>
              </a:xfrm>
              <a:custGeom>
                <a:avLst/>
                <a:gdLst/>
                <a:ahLst/>
                <a:rect l="l" t="t" r="r" b="b"/>
                <a:pathLst>
                  <a:path w="376872" h="549100">
                    <a:moveTo>
                      <a:pt x="376872" y="0"/>
                    </a:moveTo>
                    <a:cubicBezTo>
                      <a:pt x="376746" y="152210"/>
                      <a:pt x="353060" y="522351"/>
                      <a:pt x="126365" y="548957"/>
                    </a:cubicBezTo>
                    <a:cubicBezTo>
                      <a:pt x="126365" y="548957"/>
                      <a:pt x="41211" y="553530"/>
                      <a:pt x="7683" y="510921"/>
                    </a:cubicBezTo>
                    <a:lnTo>
                      <a:pt x="0" y="453771"/>
                    </a:lnTo>
                    <a:cubicBezTo>
                      <a:pt x="4255" y="470344"/>
                      <a:pt x="27877" y="510476"/>
                      <a:pt x="158306" y="495744"/>
                    </a:cubicBezTo>
                    <a:cubicBezTo>
                      <a:pt x="321120" y="477202"/>
                      <a:pt x="376872" y="0"/>
                      <a:pt x="376872" y="0"/>
                    </a:cubicBezTo>
                    <a:close/>
                  </a:path>
                </a:pathLst>
              </a:custGeom>
              <a:solidFill>
                <a:srgbClr val="f1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</p:grpSp>
        <p:sp>
          <p:nvSpPr>
            <p:cNvPr id="1324" name="Freeform 46"/>
            <p:cNvSpPr/>
            <p:nvPr/>
          </p:nvSpPr>
          <p:spPr>
            <a:xfrm>
              <a:off x="3817440" y="2428920"/>
              <a:ext cx="191520" cy="186120"/>
            </a:xfrm>
            <a:custGeom>
              <a:avLst/>
              <a:gdLst/>
              <a:ahLst/>
              <a:rect l="l" t="t" r="r" b="b"/>
              <a:pathLst>
                <a:path w="267334" h="259968">
                  <a:moveTo>
                    <a:pt x="267335" y="129985"/>
                  </a:moveTo>
                  <a:cubicBezTo>
                    <a:pt x="267335" y="201773"/>
                    <a:pt x="207490" y="259969"/>
                    <a:pt x="133667" y="259969"/>
                  </a:cubicBezTo>
                  <a:cubicBezTo>
                    <a:pt x="59845" y="259969"/>
                    <a:pt x="0" y="201773"/>
                    <a:pt x="0" y="129985"/>
                  </a:cubicBezTo>
                  <a:cubicBezTo>
                    <a:pt x="0" y="58196"/>
                    <a:pt x="59845" y="0"/>
                    <a:pt x="133667" y="0"/>
                  </a:cubicBezTo>
                  <a:cubicBezTo>
                    <a:pt x="207490" y="0"/>
                    <a:pt x="267335" y="58196"/>
                    <a:pt x="267335" y="129985"/>
                  </a:cubicBezTo>
                  <a:close/>
                </a:path>
              </a:pathLst>
            </a:custGeom>
            <a:solidFill>
              <a:srgbClr val="dce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25" name="Freeform 47"/>
            <p:cNvSpPr/>
            <p:nvPr/>
          </p:nvSpPr>
          <p:spPr>
            <a:xfrm>
              <a:off x="6209640" y="1913400"/>
              <a:ext cx="453600" cy="440640"/>
            </a:xfrm>
            <a:custGeom>
              <a:avLst/>
              <a:gdLst/>
              <a:ahLst/>
              <a:rect l="l" t="t" r="r" b="b"/>
              <a:pathLst>
                <a:path w="633095" h="615632">
                  <a:moveTo>
                    <a:pt x="316802" y="615633"/>
                  </a:moveTo>
                  <a:lnTo>
                    <a:pt x="316357" y="615633"/>
                  </a:lnTo>
                  <a:cubicBezTo>
                    <a:pt x="316357" y="445707"/>
                    <a:pt x="174752" y="308039"/>
                    <a:pt x="0" y="308039"/>
                  </a:cubicBezTo>
                  <a:lnTo>
                    <a:pt x="0" y="307848"/>
                  </a:lnTo>
                  <a:cubicBezTo>
                    <a:pt x="174816" y="307848"/>
                    <a:pt x="316547" y="170053"/>
                    <a:pt x="316547" y="0"/>
                  </a:cubicBezTo>
                  <a:lnTo>
                    <a:pt x="316547" y="0"/>
                  </a:lnTo>
                  <a:cubicBezTo>
                    <a:pt x="316547" y="169990"/>
                    <a:pt x="458280" y="307848"/>
                    <a:pt x="633095" y="307848"/>
                  </a:cubicBezTo>
                  <a:lnTo>
                    <a:pt x="633095" y="308039"/>
                  </a:lnTo>
                  <a:cubicBezTo>
                    <a:pt x="458470" y="307975"/>
                    <a:pt x="316802" y="445707"/>
                    <a:pt x="316802" y="61563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26" name="Freeform 48"/>
            <p:cNvSpPr/>
            <p:nvPr/>
          </p:nvSpPr>
          <p:spPr>
            <a:xfrm>
              <a:off x="4411800" y="3835440"/>
              <a:ext cx="172440" cy="167400"/>
            </a:xfrm>
            <a:custGeom>
              <a:avLst/>
              <a:gdLst/>
              <a:ahLst/>
              <a:rect l="l" t="t" r="r" b="b"/>
              <a:pathLst>
                <a:path w="240919" h="234188">
                  <a:moveTo>
                    <a:pt x="120523" y="234188"/>
                  </a:moveTo>
                  <a:lnTo>
                    <a:pt x="120333" y="234188"/>
                  </a:lnTo>
                  <a:cubicBezTo>
                    <a:pt x="120333" y="169545"/>
                    <a:pt x="66421" y="117157"/>
                    <a:pt x="0" y="117157"/>
                  </a:cubicBezTo>
                  <a:lnTo>
                    <a:pt x="0" y="117094"/>
                  </a:lnTo>
                  <a:cubicBezTo>
                    <a:pt x="66548" y="117094"/>
                    <a:pt x="120460" y="64643"/>
                    <a:pt x="120460" y="0"/>
                  </a:cubicBezTo>
                  <a:lnTo>
                    <a:pt x="120460" y="0"/>
                  </a:lnTo>
                  <a:cubicBezTo>
                    <a:pt x="120460" y="64707"/>
                    <a:pt x="174371" y="117094"/>
                    <a:pt x="240919" y="117094"/>
                  </a:cubicBezTo>
                  <a:lnTo>
                    <a:pt x="240919" y="117157"/>
                  </a:lnTo>
                  <a:cubicBezTo>
                    <a:pt x="174371" y="117157"/>
                    <a:pt x="120523" y="169545"/>
                    <a:pt x="120523" y="23418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27" name="Freeform 49"/>
            <p:cNvSpPr/>
            <p:nvPr/>
          </p:nvSpPr>
          <p:spPr>
            <a:xfrm>
              <a:off x="6415920" y="3420360"/>
              <a:ext cx="172440" cy="167400"/>
            </a:xfrm>
            <a:custGeom>
              <a:avLst/>
              <a:gdLst/>
              <a:ahLst/>
              <a:rect l="l" t="t" r="r" b="b"/>
              <a:pathLst>
                <a:path w="240918" h="234188">
                  <a:moveTo>
                    <a:pt x="120523" y="234188"/>
                  </a:moveTo>
                  <a:lnTo>
                    <a:pt x="120332" y="234188"/>
                  </a:lnTo>
                  <a:cubicBezTo>
                    <a:pt x="120332" y="169545"/>
                    <a:pt x="66421" y="117158"/>
                    <a:pt x="0" y="117158"/>
                  </a:cubicBezTo>
                  <a:lnTo>
                    <a:pt x="0" y="117094"/>
                  </a:lnTo>
                  <a:cubicBezTo>
                    <a:pt x="66548" y="117094"/>
                    <a:pt x="120459" y="64643"/>
                    <a:pt x="120459" y="0"/>
                  </a:cubicBezTo>
                  <a:lnTo>
                    <a:pt x="120459" y="0"/>
                  </a:lnTo>
                  <a:cubicBezTo>
                    <a:pt x="120459" y="64707"/>
                    <a:pt x="174371" y="117094"/>
                    <a:pt x="240919" y="117094"/>
                  </a:cubicBezTo>
                  <a:lnTo>
                    <a:pt x="240919" y="117158"/>
                  </a:lnTo>
                  <a:cubicBezTo>
                    <a:pt x="174434" y="117158"/>
                    <a:pt x="120523" y="169545"/>
                    <a:pt x="120523" y="23418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28" name="Freeform 50"/>
            <p:cNvSpPr/>
            <p:nvPr/>
          </p:nvSpPr>
          <p:spPr>
            <a:xfrm>
              <a:off x="4325400" y="1913400"/>
              <a:ext cx="172440" cy="167400"/>
            </a:xfrm>
            <a:custGeom>
              <a:avLst/>
              <a:gdLst/>
              <a:ahLst/>
              <a:rect l="l" t="t" r="r" b="b"/>
              <a:pathLst>
                <a:path w="240919" h="234188">
                  <a:moveTo>
                    <a:pt x="120523" y="234188"/>
                  </a:moveTo>
                  <a:lnTo>
                    <a:pt x="120333" y="234188"/>
                  </a:lnTo>
                  <a:cubicBezTo>
                    <a:pt x="120333" y="169545"/>
                    <a:pt x="66421" y="117158"/>
                    <a:pt x="0" y="117158"/>
                  </a:cubicBezTo>
                  <a:lnTo>
                    <a:pt x="0" y="117094"/>
                  </a:lnTo>
                  <a:cubicBezTo>
                    <a:pt x="66548" y="117094"/>
                    <a:pt x="120459" y="64643"/>
                    <a:pt x="120459" y="0"/>
                  </a:cubicBezTo>
                  <a:lnTo>
                    <a:pt x="120459" y="0"/>
                  </a:lnTo>
                  <a:cubicBezTo>
                    <a:pt x="120459" y="64707"/>
                    <a:pt x="174371" y="117094"/>
                    <a:pt x="240919" y="117094"/>
                  </a:cubicBezTo>
                  <a:lnTo>
                    <a:pt x="240919" y="117158"/>
                  </a:lnTo>
                  <a:cubicBezTo>
                    <a:pt x="174434" y="117158"/>
                    <a:pt x="120523" y="169545"/>
                    <a:pt x="120523" y="234188"/>
                  </a:cubicBezTo>
                  <a:close/>
                </a:path>
              </a:pathLst>
            </a:custGeom>
            <a:solidFill>
              <a:srgbClr val="dce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839880" y="2662200"/>
            <a:ext cx="2720880" cy="15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boto Black"/>
              </a:rPr>
              <a:t>We Provid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Roboto Black"/>
              </a:rPr>
              <a:t>You The Best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Roboto Black"/>
              </a:rPr>
              <a:t>We Can Do</a:t>
            </a:r>
            <a:endParaRPr b="0" lang="en-US" sz="32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330" name="TextBox 53"/>
          <p:cNvSpPr/>
          <p:nvPr/>
        </p:nvSpPr>
        <p:spPr>
          <a:xfrm>
            <a:off x="8945640" y="1968480"/>
            <a:ext cx="246384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shuddered all over, and edged away from his companion. A dentist! A dentist at Philip Philip gave a cry of personal disgust and pain. He shuddered all over, and edged away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31" name="TextBox 54"/>
          <p:cNvSpPr/>
          <p:nvPr/>
        </p:nvSpPr>
        <p:spPr>
          <a:xfrm>
            <a:off x="8943840" y="4323600"/>
            <a:ext cx="24638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shuddered all over, 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32" name="TextBox 55"/>
          <p:cNvSpPr/>
          <p:nvPr/>
        </p:nvSpPr>
        <p:spPr>
          <a:xfrm>
            <a:off x="907920" y="1435320"/>
            <a:ext cx="1925640" cy="337320"/>
          </a:xfrm>
          <a:prstGeom prst="rect">
            <a:avLst/>
          </a:prstGeom>
          <a:solidFill>
            <a:srgbClr val="dceb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Open Sans"/>
              </a:rPr>
              <a:t>Sub-Title Here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33" name="TextBox 56"/>
          <p:cNvSpPr/>
          <p:nvPr/>
        </p:nvSpPr>
        <p:spPr>
          <a:xfrm>
            <a:off x="909720" y="5085000"/>
            <a:ext cx="19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Open Sans"/>
              </a:rPr>
              <a:t>Sub-Title Here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10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10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10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1000" fill="hold"/>
                                        <p:tgtEl>
                                          <p:spTgt spid="1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1000" fill="hold"/>
                                        <p:tgtEl>
                                          <p:spTgt spid="1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10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1000" fill="hold"/>
                                        <p:tgtEl>
                                          <p:spTgt spid="1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1000" fill="hold"/>
                                        <p:tgtEl>
                                          <p:spTgt spid="1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1000" fill="hold"/>
                                        <p:tgtEl>
                                          <p:spTgt spid="1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1000" fill="hold"/>
                                        <p:tgtEl>
                                          <p:spTgt spid="1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4" name="Group 213"/>
          <p:cNvGrpSpPr/>
          <p:nvPr/>
        </p:nvGrpSpPr>
        <p:grpSpPr>
          <a:xfrm>
            <a:off x="800280" y="1352520"/>
            <a:ext cx="5045040" cy="4152960"/>
            <a:chOff x="800280" y="1352520"/>
            <a:chExt cx="5045040" cy="4152960"/>
          </a:xfrm>
        </p:grpSpPr>
        <p:sp>
          <p:nvSpPr>
            <p:cNvPr id="1335" name="Freeform 4"/>
            <p:cNvSpPr/>
            <p:nvPr/>
          </p:nvSpPr>
          <p:spPr>
            <a:xfrm>
              <a:off x="4427280" y="1969920"/>
              <a:ext cx="806040" cy="806040"/>
            </a:xfrm>
            <a:custGeom>
              <a:avLst/>
              <a:gdLst/>
              <a:ahLst/>
              <a:rect l="l" t="t" r="r" b="b"/>
              <a:pathLst>
                <a:path w="1211580" h="1211579">
                  <a:moveTo>
                    <a:pt x="31814" y="427545"/>
                  </a:moveTo>
                  <a:lnTo>
                    <a:pt x="393509" y="427545"/>
                  </a:lnTo>
                  <a:cubicBezTo>
                    <a:pt x="411099" y="427545"/>
                    <a:pt x="425323" y="413321"/>
                    <a:pt x="425323" y="395732"/>
                  </a:cubicBezTo>
                  <a:lnTo>
                    <a:pt x="425323" y="31813"/>
                  </a:lnTo>
                  <a:cubicBezTo>
                    <a:pt x="425323" y="14224"/>
                    <a:pt x="439547" y="0"/>
                    <a:pt x="457136" y="0"/>
                  </a:cubicBezTo>
                  <a:lnTo>
                    <a:pt x="752221" y="0"/>
                  </a:lnTo>
                  <a:cubicBezTo>
                    <a:pt x="769810" y="0"/>
                    <a:pt x="784034" y="14224"/>
                    <a:pt x="784034" y="31813"/>
                  </a:cubicBezTo>
                  <a:lnTo>
                    <a:pt x="784034" y="395732"/>
                  </a:lnTo>
                  <a:cubicBezTo>
                    <a:pt x="784034" y="413321"/>
                    <a:pt x="798258" y="427545"/>
                    <a:pt x="815848" y="427545"/>
                  </a:cubicBezTo>
                  <a:lnTo>
                    <a:pt x="1179767" y="427545"/>
                  </a:lnTo>
                  <a:cubicBezTo>
                    <a:pt x="1197356" y="427545"/>
                    <a:pt x="1211580" y="441770"/>
                    <a:pt x="1211580" y="459359"/>
                  </a:cubicBezTo>
                  <a:lnTo>
                    <a:pt x="1211580" y="754444"/>
                  </a:lnTo>
                  <a:cubicBezTo>
                    <a:pt x="1211580" y="772033"/>
                    <a:pt x="1197356" y="786257"/>
                    <a:pt x="1179767" y="786257"/>
                  </a:cubicBezTo>
                  <a:lnTo>
                    <a:pt x="815848" y="786257"/>
                  </a:lnTo>
                  <a:cubicBezTo>
                    <a:pt x="798258" y="786257"/>
                    <a:pt x="784034" y="800481"/>
                    <a:pt x="784034" y="818070"/>
                  </a:cubicBezTo>
                  <a:lnTo>
                    <a:pt x="784034" y="1179767"/>
                  </a:lnTo>
                  <a:cubicBezTo>
                    <a:pt x="784034" y="1197356"/>
                    <a:pt x="769810" y="1211580"/>
                    <a:pt x="752221" y="1211580"/>
                  </a:cubicBezTo>
                  <a:lnTo>
                    <a:pt x="457136" y="1211580"/>
                  </a:lnTo>
                  <a:cubicBezTo>
                    <a:pt x="439547" y="1211580"/>
                    <a:pt x="425323" y="1197356"/>
                    <a:pt x="425323" y="1179767"/>
                  </a:cubicBezTo>
                  <a:lnTo>
                    <a:pt x="425323" y="818070"/>
                  </a:lnTo>
                  <a:cubicBezTo>
                    <a:pt x="425323" y="800481"/>
                    <a:pt x="411099" y="786257"/>
                    <a:pt x="393509" y="786257"/>
                  </a:cubicBezTo>
                  <a:lnTo>
                    <a:pt x="31814" y="786257"/>
                  </a:lnTo>
                  <a:cubicBezTo>
                    <a:pt x="14224" y="786257"/>
                    <a:pt x="0" y="772033"/>
                    <a:pt x="0" y="754444"/>
                  </a:cubicBezTo>
                  <a:lnTo>
                    <a:pt x="0" y="459359"/>
                  </a:lnTo>
                  <a:cubicBezTo>
                    <a:pt x="0" y="441770"/>
                    <a:pt x="14224" y="427545"/>
                    <a:pt x="31814" y="427545"/>
                  </a:cubicBezTo>
                  <a:close/>
                </a:path>
              </a:pathLst>
            </a:custGeom>
            <a:solidFill>
              <a:srgbClr val="dce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36" name="Freeform 5"/>
            <p:cNvSpPr/>
            <p:nvPr/>
          </p:nvSpPr>
          <p:spPr>
            <a:xfrm>
              <a:off x="5307480" y="1725120"/>
              <a:ext cx="316800" cy="316800"/>
            </a:xfrm>
            <a:custGeom>
              <a:avLst/>
              <a:gdLst/>
              <a:ahLst/>
              <a:rect l="l" t="t" r="r" b="b"/>
              <a:pathLst>
                <a:path w="476313" h="476313">
                  <a:moveTo>
                    <a:pt x="12509" y="168085"/>
                  </a:moveTo>
                  <a:lnTo>
                    <a:pt x="154686" y="168085"/>
                  </a:lnTo>
                  <a:cubicBezTo>
                    <a:pt x="161607" y="168085"/>
                    <a:pt x="167195" y="162496"/>
                    <a:pt x="167195" y="155575"/>
                  </a:cubicBezTo>
                  <a:lnTo>
                    <a:pt x="167195" y="12510"/>
                  </a:lnTo>
                  <a:cubicBezTo>
                    <a:pt x="167195" y="5588"/>
                    <a:pt x="172783" y="0"/>
                    <a:pt x="179705" y="0"/>
                  </a:cubicBezTo>
                  <a:lnTo>
                    <a:pt x="295719" y="0"/>
                  </a:lnTo>
                  <a:cubicBezTo>
                    <a:pt x="302640" y="0"/>
                    <a:pt x="308228" y="5588"/>
                    <a:pt x="308228" y="12510"/>
                  </a:cubicBezTo>
                  <a:lnTo>
                    <a:pt x="308228" y="155575"/>
                  </a:lnTo>
                  <a:cubicBezTo>
                    <a:pt x="308228" y="162496"/>
                    <a:pt x="313817" y="168085"/>
                    <a:pt x="320739" y="168085"/>
                  </a:cubicBezTo>
                  <a:lnTo>
                    <a:pt x="463803" y="168085"/>
                  </a:lnTo>
                  <a:cubicBezTo>
                    <a:pt x="470726" y="168085"/>
                    <a:pt x="476314" y="173672"/>
                    <a:pt x="476314" y="180594"/>
                  </a:cubicBezTo>
                  <a:lnTo>
                    <a:pt x="476314" y="296608"/>
                  </a:lnTo>
                  <a:cubicBezTo>
                    <a:pt x="476314" y="303530"/>
                    <a:pt x="470726" y="309118"/>
                    <a:pt x="463803" y="309118"/>
                  </a:cubicBezTo>
                  <a:lnTo>
                    <a:pt x="320739" y="309118"/>
                  </a:lnTo>
                  <a:cubicBezTo>
                    <a:pt x="313817" y="309118"/>
                    <a:pt x="308228" y="314706"/>
                    <a:pt x="308228" y="321627"/>
                  </a:cubicBezTo>
                  <a:lnTo>
                    <a:pt x="308228" y="463804"/>
                  </a:lnTo>
                  <a:cubicBezTo>
                    <a:pt x="308228" y="470725"/>
                    <a:pt x="302640" y="476313"/>
                    <a:pt x="295719" y="476313"/>
                  </a:cubicBezTo>
                  <a:lnTo>
                    <a:pt x="179705" y="476313"/>
                  </a:lnTo>
                  <a:cubicBezTo>
                    <a:pt x="172783" y="476313"/>
                    <a:pt x="167195" y="470725"/>
                    <a:pt x="167195" y="463804"/>
                  </a:cubicBezTo>
                  <a:lnTo>
                    <a:pt x="167195" y="321627"/>
                  </a:lnTo>
                  <a:cubicBezTo>
                    <a:pt x="167195" y="314706"/>
                    <a:pt x="161607" y="309118"/>
                    <a:pt x="154686" y="309118"/>
                  </a:cubicBezTo>
                  <a:lnTo>
                    <a:pt x="12509" y="309118"/>
                  </a:lnTo>
                  <a:cubicBezTo>
                    <a:pt x="5588" y="309118"/>
                    <a:pt x="0" y="303530"/>
                    <a:pt x="0" y="296608"/>
                  </a:cubicBezTo>
                  <a:lnTo>
                    <a:pt x="0" y="180594"/>
                  </a:lnTo>
                  <a:cubicBezTo>
                    <a:pt x="0" y="173672"/>
                    <a:pt x="5588" y="168085"/>
                    <a:pt x="12509" y="168085"/>
                  </a:cubicBezTo>
                  <a:close/>
                </a:path>
              </a:pathLst>
            </a:custGeom>
            <a:solidFill>
              <a:srgbClr val="dce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37" name="Freeform 6"/>
            <p:cNvSpPr/>
            <p:nvPr/>
          </p:nvSpPr>
          <p:spPr>
            <a:xfrm>
              <a:off x="800280" y="1792080"/>
              <a:ext cx="3713760" cy="3713400"/>
            </a:xfrm>
            <a:custGeom>
              <a:avLst/>
              <a:gdLst/>
              <a:ahLst/>
              <a:rect l="l" t="t" r="r" b="b"/>
              <a:pathLst>
                <a:path w="5581904" h="5581904">
                  <a:moveTo>
                    <a:pt x="5581904" y="2790952"/>
                  </a:moveTo>
                  <a:cubicBezTo>
                    <a:pt x="5581904" y="4332352"/>
                    <a:pt x="4332353" y="5581904"/>
                    <a:pt x="2790952" y="5581904"/>
                  </a:cubicBezTo>
                  <a:cubicBezTo>
                    <a:pt x="1249552" y="5581904"/>
                    <a:pt x="0" y="4332353"/>
                    <a:pt x="0" y="2790952"/>
                  </a:cubicBezTo>
                  <a:cubicBezTo>
                    <a:pt x="0" y="1249552"/>
                    <a:pt x="1249552" y="0"/>
                    <a:pt x="2790952" y="0"/>
                  </a:cubicBezTo>
                  <a:cubicBezTo>
                    <a:pt x="4332353" y="0"/>
                    <a:pt x="5581904" y="1249552"/>
                    <a:pt x="5581904" y="2790952"/>
                  </a:cubicBezTo>
                  <a:close/>
                </a:path>
              </a:pathLst>
            </a:custGeom>
            <a:solidFill>
              <a:srgbClr val="dce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grpSp>
          <p:nvGrpSpPr>
            <p:cNvPr id="1338" name="Graphic 2"/>
            <p:cNvGrpSpPr/>
            <p:nvPr/>
          </p:nvGrpSpPr>
          <p:grpSpPr>
            <a:xfrm>
              <a:off x="1378080" y="2564280"/>
              <a:ext cx="3597480" cy="1216440"/>
              <a:chOff x="1378080" y="2564280"/>
              <a:chExt cx="3597480" cy="1216440"/>
            </a:xfrm>
          </p:grpSpPr>
          <p:sp>
            <p:nvSpPr>
              <p:cNvPr id="1339" name="Freeform 131"/>
              <p:cNvSpPr/>
              <p:nvPr/>
            </p:nvSpPr>
            <p:spPr>
              <a:xfrm>
                <a:off x="1490040" y="3181320"/>
                <a:ext cx="436320" cy="547920"/>
              </a:xfrm>
              <a:custGeom>
                <a:avLst/>
                <a:gdLst/>
                <a:ahLst/>
                <a:rect l="l" t="t" r="r" b="b"/>
                <a:pathLst>
                  <a:path w="656080" h="823994">
                    <a:moveTo>
                      <a:pt x="655546" y="728934"/>
                    </a:moveTo>
                    <a:cubicBezTo>
                      <a:pt x="655546" y="728934"/>
                      <a:pt x="473555" y="823994"/>
                      <a:pt x="328013" y="823994"/>
                    </a:cubicBezTo>
                    <a:cubicBezTo>
                      <a:pt x="300708" y="823994"/>
                      <a:pt x="272514" y="820628"/>
                      <a:pt x="244637" y="815231"/>
                    </a:cubicBezTo>
                    <a:cubicBezTo>
                      <a:pt x="123860" y="791672"/>
                      <a:pt x="10005" y="728934"/>
                      <a:pt x="10005" y="728934"/>
                    </a:cubicBezTo>
                    <a:cubicBezTo>
                      <a:pt x="10005" y="728934"/>
                      <a:pt x="-1489" y="638193"/>
                      <a:pt x="162" y="520654"/>
                    </a:cubicBezTo>
                    <a:cubicBezTo>
                      <a:pt x="226" y="516209"/>
                      <a:pt x="289" y="511764"/>
                      <a:pt x="416" y="507256"/>
                    </a:cubicBezTo>
                    <a:cubicBezTo>
                      <a:pt x="5115" y="290784"/>
                      <a:pt x="56233" y="-5634"/>
                      <a:pt x="300771" y="81"/>
                    </a:cubicBezTo>
                    <a:cubicBezTo>
                      <a:pt x="448663" y="3574"/>
                      <a:pt x="535277" y="112349"/>
                      <a:pt x="585886" y="244810"/>
                    </a:cubicBezTo>
                    <a:cubicBezTo>
                      <a:pt x="632940" y="368000"/>
                      <a:pt x="648815" y="511764"/>
                      <a:pt x="653895" y="610444"/>
                    </a:cubicBezTo>
                    <a:cubicBezTo>
                      <a:pt x="657514" y="681309"/>
                      <a:pt x="655546" y="728934"/>
                      <a:pt x="655546" y="72893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40" name="Freeform 132"/>
              <p:cNvSpPr/>
              <p:nvPr/>
            </p:nvSpPr>
            <p:spPr>
              <a:xfrm>
                <a:off x="4426920" y="3181320"/>
                <a:ext cx="436320" cy="547920"/>
              </a:xfrm>
              <a:custGeom>
                <a:avLst/>
                <a:gdLst/>
                <a:ahLst/>
                <a:rect l="l" t="t" r="r" b="b"/>
                <a:pathLst>
                  <a:path w="656097" h="823994">
                    <a:moveTo>
                      <a:pt x="655727" y="579773"/>
                    </a:moveTo>
                    <a:cubicBezTo>
                      <a:pt x="653885" y="667276"/>
                      <a:pt x="646075" y="728935"/>
                      <a:pt x="646075" y="728935"/>
                    </a:cubicBezTo>
                    <a:cubicBezTo>
                      <a:pt x="646075" y="728935"/>
                      <a:pt x="473610" y="823994"/>
                      <a:pt x="328067" y="823994"/>
                    </a:cubicBezTo>
                    <a:cubicBezTo>
                      <a:pt x="307621" y="823994"/>
                      <a:pt x="286475" y="822153"/>
                      <a:pt x="265266" y="818914"/>
                    </a:cubicBezTo>
                    <a:cubicBezTo>
                      <a:pt x="135027" y="799166"/>
                      <a:pt x="535" y="728935"/>
                      <a:pt x="535" y="728935"/>
                    </a:cubicBezTo>
                    <a:cubicBezTo>
                      <a:pt x="535" y="728935"/>
                      <a:pt x="-1434" y="681310"/>
                      <a:pt x="2185" y="610444"/>
                    </a:cubicBezTo>
                    <a:cubicBezTo>
                      <a:pt x="3455" y="585552"/>
                      <a:pt x="5423" y="557802"/>
                      <a:pt x="8409" y="528211"/>
                    </a:cubicBezTo>
                    <a:cubicBezTo>
                      <a:pt x="8409" y="528148"/>
                      <a:pt x="8409" y="528148"/>
                      <a:pt x="8409" y="528148"/>
                    </a:cubicBezTo>
                    <a:cubicBezTo>
                      <a:pt x="29934" y="314470"/>
                      <a:pt x="104547" y="5987"/>
                      <a:pt x="355309" y="82"/>
                    </a:cubicBezTo>
                    <a:cubicBezTo>
                      <a:pt x="604927" y="-5760"/>
                      <a:pt x="652997" y="303231"/>
                      <a:pt x="655918" y="520655"/>
                    </a:cubicBezTo>
                    <a:cubicBezTo>
                      <a:pt x="656235" y="541292"/>
                      <a:pt x="656109" y="561104"/>
                      <a:pt x="655727" y="57977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41" name="Freeform 133"/>
              <p:cNvSpPr/>
              <p:nvPr/>
            </p:nvSpPr>
            <p:spPr>
              <a:xfrm>
                <a:off x="1926720" y="3013200"/>
                <a:ext cx="587520" cy="737640"/>
              </a:xfrm>
              <a:custGeom>
                <a:avLst/>
                <a:gdLst/>
                <a:ahLst/>
                <a:rect l="l" t="t" r="r" b="b"/>
                <a:pathLst>
                  <a:path w="883104" h="1108949">
                    <a:moveTo>
                      <a:pt x="882403" y="980997"/>
                    </a:moveTo>
                    <a:cubicBezTo>
                      <a:pt x="882403" y="980997"/>
                      <a:pt x="637420" y="1108950"/>
                      <a:pt x="441523" y="1108950"/>
                    </a:cubicBezTo>
                    <a:cubicBezTo>
                      <a:pt x="245625" y="1108950"/>
                      <a:pt x="13532" y="980997"/>
                      <a:pt x="13532" y="980997"/>
                    </a:cubicBezTo>
                    <a:cubicBezTo>
                      <a:pt x="13532" y="980997"/>
                      <a:pt x="7690" y="935087"/>
                      <a:pt x="3690" y="863141"/>
                    </a:cubicBezTo>
                    <a:cubicBezTo>
                      <a:pt x="1531" y="824025"/>
                      <a:pt x="-120" y="777162"/>
                      <a:pt x="7" y="725790"/>
                    </a:cubicBezTo>
                    <a:cubicBezTo>
                      <a:pt x="769" y="432484"/>
                      <a:pt x="59252" y="-8079"/>
                      <a:pt x="404819" y="113"/>
                    </a:cubicBezTo>
                    <a:cubicBezTo>
                      <a:pt x="742703" y="8050"/>
                      <a:pt x="842906" y="423975"/>
                      <a:pt x="871862" y="711630"/>
                    </a:cubicBezTo>
                    <a:cubicBezTo>
                      <a:pt x="876243" y="755382"/>
                      <a:pt x="878974" y="796149"/>
                      <a:pt x="880688" y="832090"/>
                    </a:cubicBezTo>
                    <a:cubicBezTo>
                      <a:pt x="884816" y="921625"/>
                      <a:pt x="882403" y="980997"/>
                      <a:pt x="882403" y="98099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42" name="Freeform 134"/>
              <p:cNvSpPr/>
              <p:nvPr/>
            </p:nvSpPr>
            <p:spPr>
              <a:xfrm>
                <a:off x="3839400" y="3013200"/>
                <a:ext cx="587520" cy="737640"/>
              </a:xfrm>
              <a:custGeom>
                <a:avLst/>
                <a:gdLst/>
                <a:ahLst/>
                <a:rect l="l" t="t" r="r" b="b"/>
                <a:pathLst>
                  <a:path w="883093" h="1108949">
                    <a:moveTo>
                      <a:pt x="879414" y="863141"/>
                    </a:moveTo>
                    <a:cubicBezTo>
                      <a:pt x="875414" y="935086"/>
                      <a:pt x="869571" y="980997"/>
                      <a:pt x="869571" y="980997"/>
                    </a:cubicBezTo>
                    <a:cubicBezTo>
                      <a:pt x="869571" y="980997"/>
                      <a:pt x="690438" y="1079740"/>
                      <a:pt x="514035" y="1103743"/>
                    </a:cubicBezTo>
                    <a:cubicBezTo>
                      <a:pt x="489715" y="1107045"/>
                      <a:pt x="465394" y="1108950"/>
                      <a:pt x="441581" y="1108950"/>
                    </a:cubicBezTo>
                    <a:cubicBezTo>
                      <a:pt x="245684" y="1108950"/>
                      <a:pt x="701" y="980997"/>
                      <a:pt x="701" y="980997"/>
                    </a:cubicBezTo>
                    <a:cubicBezTo>
                      <a:pt x="701" y="980997"/>
                      <a:pt x="-1712" y="921625"/>
                      <a:pt x="2416" y="832090"/>
                    </a:cubicBezTo>
                    <a:cubicBezTo>
                      <a:pt x="4511" y="787703"/>
                      <a:pt x="8194" y="735823"/>
                      <a:pt x="14671" y="680134"/>
                    </a:cubicBezTo>
                    <a:cubicBezTo>
                      <a:pt x="47691" y="394638"/>
                      <a:pt x="152530" y="7796"/>
                      <a:pt x="478284" y="113"/>
                    </a:cubicBezTo>
                    <a:cubicBezTo>
                      <a:pt x="810580" y="-7761"/>
                      <a:pt x="877445" y="399273"/>
                      <a:pt x="882716" y="691373"/>
                    </a:cubicBezTo>
                    <a:cubicBezTo>
                      <a:pt x="883922" y="756207"/>
                      <a:pt x="882081" y="815389"/>
                      <a:pt x="879414" y="86314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43" name="Freeform 135"/>
              <p:cNvSpPr/>
              <p:nvPr/>
            </p:nvSpPr>
            <p:spPr>
              <a:xfrm>
                <a:off x="2514240" y="2943720"/>
                <a:ext cx="662400" cy="837000"/>
              </a:xfrm>
              <a:custGeom>
                <a:avLst/>
                <a:gdLst/>
                <a:ahLst/>
                <a:rect l="l" t="t" r="r" b="b"/>
                <a:pathLst>
                  <a:path w="995891" h="1258378">
                    <a:moveTo>
                      <a:pt x="995892" y="1059751"/>
                    </a:moveTo>
                    <a:cubicBezTo>
                      <a:pt x="995892" y="1093660"/>
                      <a:pt x="995066" y="1113218"/>
                      <a:pt x="995066" y="1113218"/>
                    </a:cubicBezTo>
                    <a:cubicBezTo>
                      <a:pt x="995066" y="1113218"/>
                      <a:pt x="797836" y="1216850"/>
                      <a:pt x="603399" y="1248981"/>
                    </a:cubicBezTo>
                    <a:cubicBezTo>
                      <a:pt x="567712" y="1254886"/>
                      <a:pt x="532151" y="1258379"/>
                      <a:pt x="497925" y="1258379"/>
                    </a:cubicBezTo>
                    <a:cubicBezTo>
                      <a:pt x="277072" y="1258379"/>
                      <a:pt x="15262" y="1113218"/>
                      <a:pt x="15262" y="1113218"/>
                    </a:cubicBezTo>
                    <a:cubicBezTo>
                      <a:pt x="15262" y="1113218"/>
                      <a:pt x="6308" y="1042352"/>
                      <a:pt x="2117" y="936370"/>
                    </a:cubicBezTo>
                    <a:cubicBezTo>
                      <a:pt x="-42" y="881951"/>
                      <a:pt x="-931" y="818197"/>
                      <a:pt x="1292" y="750061"/>
                    </a:cubicBezTo>
                    <a:lnTo>
                      <a:pt x="1292" y="749871"/>
                    </a:lnTo>
                    <a:cubicBezTo>
                      <a:pt x="11960" y="421830"/>
                      <a:pt x="94700" y="-8446"/>
                      <a:pt x="456587" y="126"/>
                    </a:cubicBezTo>
                    <a:cubicBezTo>
                      <a:pt x="768880" y="7492"/>
                      <a:pt x="901150" y="325945"/>
                      <a:pt x="956586" y="620267"/>
                    </a:cubicBezTo>
                    <a:cubicBezTo>
                      <a:pt x="990939" y="802449"/>
                      <a:pt x="995892" y="975486"/>
                      <a:pt x="995892" y="105975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44" name="Freeform 136"/>
              <p:cNvSpPr/>
              <p:nvPr/>
            </p:nvSpPr>
            <p:spPr>
              <a:xfrm>
                <a:off x="3176640" y="2943720"/>
                <a:ext cx="662400" cy="837000"/>
              </a:xfrm>
              <a:custGeom>
                <a:avLst/>
                <a:gdLst/>
                <a:ahLst/>
                <a:rect l="l" t="t" r="r" b="b"/>
                <a:pathLst>
                  <a:path w="995894" h="1258378">
                    <a:moveTo>
                      <a:pt x="993775" y="936370"/>
                    </a:moveTo>
                    <a:cubicBezTo>
                      <a:pt x="989585" y="1042351"/>
                      <a:pt x="980631" y="1113217"/>
                      <a:pt x="980631" y="1113217"/>
                    </a:cubicBezTo>
                    <a:cubicBezTo>
                      <a:pt x="980631" y="1113217"/>
                      <a:pt x="718820" y="1258378"/>
                      <a:pt x="497967" y="1258378"/>
                    </a:cubicBezTo>
                    <a:cubicBezTo>
                      <a:pt x="277051" y="1258378"/>
                      <a:pt x="826" y="1113217"/>
                      <a:pt x="826" y="1113217"/>
                    </a:cubicBezTo>
                    <a:cubicBezTo>
                      <a:pt x="826" y="1113217"/>
                      <a:pt x="0" y="1093659"/>
                      <a:pt x="0" y="1059750"/>
                    </a:cubicBezTo>
                    <a:cubicBezTo>
                      <a:pt x="0" y="980121"/>
                      <a:pt x="4382" y="821371"/>
                      <a:pt x="33846" y="650492"/>
                    </a:cubicBezTo>
                    <a:cubicBezTo>
                      <a:pt x="85916" y="348169"/>
                      <a:pt x="216281" y="7746"/>
                      <a:pt x="539306" y="126"/>
                    </a:cubicBezTo>
                    <a:cubicBezTo>
                      <a:pt x="888556" y="-8129"/>
                      <a:pt x="977837" y="392365"/>
                      <a:pt x="993204" y="715199"/>
                    </a:cubicBezTo>
                    <a:cubicBezTo>
                      <a:pt x="997077" y="796416"/>
                      <a:pt x="996315" y="872742"/>
                      <a:pt x="993775" y="93637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45" name="Freeform 137"/>
              <p:cNvSpPr/>
              <p:nvPr/>
            </p:nvSpPr>
            <p:spPr>
              <a:xfrm>
                <a:off x="1378080" y="2701440"/>
                <a:ext cx="3597480" cy="946800"/>
              </a:xfrm>
              <a:custGeom>
                <a:avLst/>
                <a:gdLst/>
                <a:ahLst/>
                <a:rect l="l" t="t" r="r" b="b"/>
                <a:pathLst>
                  <a:path w="5407513" h="1423522">
                    <a:moveTo>
                      <a:pt x="5238741" y="1241912"/>
                    </a:moveTo>
                    <a:lnTo>
                      <a:pt x="5238677" y="1241912"/>
                    </a:lnTo>
                    <a:cubicBezTo>
                      <a:pt x="5235756" y="1024488"/>
                      <a:pt x="5187686" y="715497"/>
                      <a:pt x="4938068" y="721339"/>
                    </a:cubicBezTo>
                    <a:cubicBezTo>
                      <a:pt x="4652572" y="728070"/>
                      <a:pt x="4595422" y="1126977"/>
                      <a:pt x="4584944" y="1331701"/>
                    </a:cubicBezTo>
                    <a:lnTo>
                      <a:pt x="4579039" y="1331384"/>
                    </a:lnTo>
                    <a:cubicBezTo>
                      <a:pt x="4593644" y="1068684"/>
                      <a:pt x="4583992" y="458767"/>
                      <a:pt x="4177909" y="468355"/>
                    </a:cubicBezTo>
                    <a:cubicBezTo>
                      <a:pt x="3788655" y="477499"/>
                      <a:pt x="3714804" y="1028171"/>
                      <a:pt x="3702041" y="1300332"/>
                    </a:cubicBezTo>
                    <a:lnTo>
                      <a:pt x="3697532" y="1300142"/>
                    </a:lnTo>
                    <a:cubicBezTo>
                      <a:pt x="3710042" y="983467"/>
                      <a:pt x="3680196" y="353547"/>
                      <a:pt x="3243062" y="363898"/>
                    </a:cubicBezTo>
                    <a:cubicBezTo>
                      <a:pt x="2737475" y="375836"/>
                      <a:pt x="2703757" y="1203050"/>
                      <a:pt x="2703757" y="1423522"/>
                    </a:cubicBezTo>
                    <a:cubicBezTo>
                      <a:pt x="2703757" y="1203050"/>
                      <a:pt x="2670038" y="375836"/>
                      <a:pt x="2164452" y="363898"/>
                    </a:cubicBezTo>
                    <a:cubicBezTo>
                      <a:pt x="1727317" y="353547"/>
                      <a:pt x="1697472" y="983467"/>
                      <a:pt x="1709982" y="1300142"/>
                    </a:cubicBezTo>
                    <a:lnTo>
                      <a:pt x="1705473" y="1300332"/>
                    </a:lnTo>
                    <a:cubicBezTo>
                      <a:pt x="1692710" y="1028171"/>
                      <a:pt x="1618859" y="477499"/>
                      <a:pt x="1229604" y="468355"/>
                    </a:cubicBezTo>
                    <a:cubicBezTo>
                      <a:pt x="823522" y="458767"/>
                      <a:pt x="813870" y="1068684"/>
                      <a:pt x="828475" y="1331384"/>
                    </a:cubicBezTo>
                    <a:lnTo>
                      <a:pt x="822569" y="1331701"/>
                    </a:lnTo>
                    <a:cubicBezTo>
                      <a:pt x="812092" y="1126977"/>
                      <a:pt x="754942" y="728070"/>
                      <a:pt x="469446" y="721339"/>
                    </a:cubicBezTo>
                    <a:cubicBezTo>
                      <a:pt x="219827" y="715497"/>
                      <a:pt x="171758" y="1024488"/>
                      <a:pt x="168837" y="1241912"/>
                    </a:cubicBezTo>
                    <a:lnTo>
                      <a:pt x="168773" y="1241912"/>
                    </a:lnTo>
                    <a:cubicBezTo>
                      <a:pt x="168773" y="1241912"/>
                      <a:pt x="-154124" y="870755"/>
                      <a:pt x="93335" y="587037"/>
                    </a:cubicBezTo>
                    <a:cubicBezTo>
                      <a:pt x="340795" y="303382"/>
                      <a:pt x="1532817" y="-67775"/>
                      <a:pt x="2703757" y="10647"/>
                    </a:cubicBezTo>
                    <a:cubicBezTo>
                      <a:pt x="3874697" y="-67775"/>
                      <a:pt x="5066719" y="303382"/>
                      <a:pt x="5314179" y="587037"/>
                    </a:cubicBezTo>
                    <a:cubicBezTo>
                      <a:pt x="5561638" y="870755"/>
                      <a:pt x="5238741" y="1241912"/>
                      <a:pt x="5238741" y="1241912"/>
                    </a:cubicBezTo>
                    <a:close/>
                  </a:path>
                </a:pathLst>
              </a:custGeom>
              <a:solidFill>
                <a:srgbClr val="f4cc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46" name="Freeform 138"/>
              <p:cNvSpPr/>
              <p:nvPr/>
            </p:nvSpPr>
            <p:spPr>
              <a:xfrm>
                <a:off x="1926720" y="2564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63" h="63">
                    <a:moveTo>
                      <a:pt x="63" y="63"/>
                    </a:move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231f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47" name="Freeform 139"/>
              <p:cNvSpPr/>
              <p:nvPr/>
            </p:nvSpPr>
            <p:spPr>
              <a:xfrm>
                <a:off x="1609200" y="3393720"/>
                <a:ext cx="171360" cy="171360"/>
              </a:xfrm>
              <a:custGeom>
                <a:avLst/>
                <a:gdLst/>
                <a:ahLst/>
                <a:rect l="l" t="t" r="r" b="b"/>
                <a:pathLst>
                  <a:path w="258064" h="258048">
                    <a:moveTo>
                      <a:pt x="240657" y="225861"/>
                    </a:moveTo>
                    <a:lnTo>
                      <a:pt x="56444" y="257739"/>
                    </a:lnTo>
                    <a:cubicBezTo>
                      <a:pt x="45014" y="259707"/>
                      <a:pt x="34155" y="252087"/>
                      <a:pt x="32187" y="240657"/>
                    </a:cubicBezTo>
                    <a:lnTo>
                      <a:pt x="310" y="56443"/>
                    </a:lnTo>
                    <a:cubicBezTo>
                      <a:pt x="-1659" y="45014"/>
                      <a:pt x="5961" y="34155"/>
                      <a:pt x="17391" y="32186"/>
                    </a:cubicBezTo>
                    <a:lnTo>
                      <a:pt x="201605" y="310"/>
                    </a:lnTo>
                    <a:cubicBezTo>
                      <a:pt x="213035" y="-1659"/>
                      <a:pt x="223893" y="5961"/>
                      <a:pt x="225862" y="17391"/>
                    </a:cubicBezTo>
                    <a:lnTo>
                      <a:pt x="257739" y="201604"/>
                    </a:lnTo>
                    <a:cubicBezTo>
                      <a:pt x="259771" y="213035"/>
                      <a:pt x="252087" y="223893"/>
                      <a:pt x="240657" y="225861"/>
                    </a:cubicBezTo>
                    <a:close/>
                  </a:path>
                </a:pathLst>
              </a:custGeom>
              <a:solidFill>
                <a:srgbClr val="e2e3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48" name="Freeform 140"/>
              <p:cNvSpPr/>
              <p:nvPr/>
            </p:nvSpPr>
            <p:spPr>
              <a:xfrm rot="21010800">
                <a:off x="1656720" y="3441600"/>
                <a:ext cx="76320" cy="76320"/>
              </a:xfrm>
              <a:custGeom>
                <a:avLst/>
                <a:gdLst/>
                <a:ahLst/>
                <a:rect l="l" t="t" r="r" b="b"/>
                <a:pathLst>
                  <a:path w="114939" h="114939">
                    <a:moveTo>
                      <a:pt x="0" y="0"/>
                    </a:moveTo>
                    <a:lnTo>
                      <a:pt x="114940" y="0"/>
                    </a:lnTo>
                    <a:lnTo>
                      <a:pt x="114940" y="114940"/>
                    </a:lnTo>
                    <a:lnTo>
                      <a:pt x="0" y="1149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49" name="Freeform 141"/>
              <p:cNvSpPr/>
              <p:nvPr/>
            </p:nvSpPr>
            <p:spPr>
              <a:xfrm>
                <a:off x="2145600" y="3326400"/>
                <a:ext cx="166680" cy="166680"/>
              </a:xfrm>
              <a:custGeom>
                <a:avLst/>
                <a:gdLst/>
                <a:ahLst/>
                <a:rect l="l" t="t" r="r" b="b"/>
                <a:pathLst>
                  <a:path w="251028" h="251029">
                    <a:moveTo>
                      <a:pt x="231687" y="232449"/>
                    </a:moveTo>
                    <a:lnTo>
                      <a:pt x="41948" y="250927"/>
                    </a:lnTo>
                    <a:cubicBezTo>
                      <a:pt x="30201" y="252070"/>
                      <a:pt x="19723" y="243498"/>
                      <a:pt x="18581" y="231687"/>
                    </a:cubicBezTo>
                    <a:lnTo>
                      <a:pt x="102" y="41949"/>
                    </a:lnTo>
                    <a:cubicBezTo>
                      <a:pt x="-1041" y="30201"/>
                      <a:pt x="7532" y="19724"/>
                      <a:pt x="19343" y="18581"/>
                    </a:cubicBezTo>
                    <a:lnTo>
                      <a:pt x="209081" y="102"/>
                    </a:lnTo>
                    <a:cubicBezTo>
                      <a:pt x="220828" y="-1041"/>
                      <a:pt x="231306" y="7532"/>
                      <a:pt x="232448" y="19343"/>
                    </a:cubicBezTo>
                    <a:lnTo>
                      <a:pt x="250927" y="209081"/>
                    </a:lnTo>
                    <a:cubicBezTo>
                      <a:pt x="252070" y="220828"/>
                      <a:pt x="243434" y="231306"/>
                      <a:pt x="231687" y="232449"/>
                    </a:cubicBezTo>
                    <a:close/>
                  </a:path>
                </a:pathLst>
              </a:custGeom>
              <a:solidFill>
                <a:srgbClr val="e2e3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50" name="Freeform 142"/>
              <p:cNvSpPr/>
              <p:nvPr/>
            </p:nvSpPr>
            <p:spPr>
              <a:xfrm rot="21266400">
                <a:off x="2189880" y="3371040"/>
                <a:ext cx="77760" cy="77760"/>
              </a:xfrm>
              <a:custGeom>
                <a:avLst/>
                <a:gdLst/>
                <a:ahLst/>
                <a:rect l="l" t="t" r="r" b="b"/>
                <a:pathLst>
                  <a:path w="117220" h="117220">
                    <a:moveTo>
                      <a:pt x="0" y="0"/>
                    </a:moveTo>
                    <a:lnTo>
                      <a:pt x="117221" y="0"/>
                    </a:lnTo>
                    <a:lnTo>
                      <a:pt x="117221" y="117221"/>
                    </a:lnTo>
                    <a:lnTo>
                      <a:pt x="0" y="1172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51" name="Freeform 143"/>
              <p:cNvSpPr/>
              <p:nvPr/>
            </p:nvSpPr>
            <p:spPr>
              <a:xfrm>
                <a:off x="2766600" y="3283560"/>
                <a:ext cx="172440" cy="172440"/>
              </a:xfrm>
              <a:custGeom>
                <a:avLst/>
                <a:gdLst/>
                <a:ahLst/>
                <a:rect l="l" t="t" r="r" b="b"/>
                <a:pathLst>
                  <a:path w="259470" h="259470">
                    <a:moveTo>
                      <a:pt x="236542" y="255338"/>
                    </a:moveTo>
                    <a:lnTo>
                      <a:pt x="28008" y="259466"/>
                    </a:lnTo>
                    <a:cubicBezTo>
                      <a:pt x="15054" y="259720"/>
                      <a:pt x="4386" y="249433"/>
                      <a:pt x="4132" y="236542"/>
                    </a:cubicBezTo>
                    <a:lnTo>
                      <a:pt x="5" y="28008"/>
                    </a:lnTo>
                    <a:cubicBezTo>
                      <a:pt x="-250" y="15054"/>
                      <a:pt x="10038" y="4386"/>
                      <a:pt x="22928" y="4132"/>
                    </a:cubicBezTo>
                    <a:lnTo>
                      <a:pt x="231462" y="5"/>
                    </a:lnTo>
                    <a:cubicBezTo>
                      <a:pt x="244352" y="-249"/>
                      <a:pt x="255084" y="10038"/>
                      <a:pt x="255338" y="22928"/>
                    </a:cubicBezTo>
                    <a:lnTo>
                      <a:pt x="259466" y="231462"/>
                    </a:lnTo>
                    <a:cubicBezTo>
                      <a:pt x="259719" y="244353"/>
                      <a:pt x="249496" y="255084"/>
                      <a:pt x="236542" y="255338"/>
                    </a:cubicBezTo>
                    <a:close/>
                  </a:path>
                </a:pathLst>
              </a:custGeom>
              <a:solidFill>
                <a:srgbClr val="e2e3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52" name="Freeform 144"/>
              <p:cNvSpPr/>
              <p:nvPr/>
            </p:nvSpPr>
            <p:spPr>
              <a:xfrm rot="21531600">
                <a:off x="2810160" y="3326760"/>
                <a:ext cx="84960" cy="84960"/>
              </a:xfrm>
              <a:custGeom>
                <a:avLst/>
                <a:gdLst/>
                <a:ahLst/>
                <a:rect l="l" t="t" r="r" b="b"/>
                <a:pathLst>
                  <a:path w="128206" h="128206">
                    <a:moveTo>
                      <a:pt x="0" y="0"/>
                    </a:moveTo>
                    <a:lnTo>
                      <a:pt x="128206" y="0"/>
                    </a:lnTo>
                    <a:lnTo>
                      <a:pt x="128206" y="128206"/>
                    </a:lnTo>
                    <a:lnTo>
                      <a:pt x="0" y="12820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53" name="Freeform 145"/>
              <p:cNvSpPr/>
              <p:nvPr/>
            </p:nvSpPr>
            <p:spPr>
              <a:xfrm>
                <a:off x="4577760" y="3393720"/>
                <a:ext cx="171360" cy="171360"/>
              </a:xfrm>
              <a:custGeom>
                <a:avLst/>
                <a:gdLst/>
                <a:ahLst/>
                <a:rect l="l" t="t" r="r" b="b"/>
                <a:pathLst>
                  <a:path w="258048" h="258048">
                    <a:moveTo>
                      <a:pt x="17391" y="225861"/>
                    </a:moveTo>
                    <a:lnTo>
                      <a:pt x="201604" y="257739"/>
                    </a:lnTo>
                    <a:cubicBezTo>
                      <a:pt x="213035" y="259707"/>
                      <a:pt x="223893" y="252087"/>
                      <a:pt x="225862" y="240657"/>
                    </a:cubicBezTo>
                    <a:lnTo>
                      <a:pt x="257739" y="56443"/>
                    </a:lnTo>
                    <a:cubicBezTo>
                      <a:pt x="259707" y="45014"/>
                      <a:pt x="252087" y="34155"/>
                      <a:pt x="240657" y="32186"/>
                    </a:cubicBezTo>
                    <a:lnTo>
                      <a:pt x="56444" y="310"/>
                    </a:lnTo>
                    <a:cubicBezTo>
                      <a:pt x="45014" y="-1659"/>
                      <a:pt x="34155" y="5961"/>
                      <a:pt x="32187" y="17391"/>
                    </a:cubicBezTo>
                    <a:lnTo>
                      <a:pt x="310" y="201604"/>
                    </a:lnTo>
                    <a:cubicBezTo>
                      <a:pt x="-1659" y="213035"/>
                      <a:pt x="5961" y="223893"/>
                      <a:pt x="17391" y="225861"/>
                    </a:cubicBezTo>
                    <a:close/>
                  </a:path>
                </a:pathLst>
              </a:custGeom>
              <a:solidFill>
                <a:srgbClr val="e2e3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54" name="Freeform 146"/>
              <p:cNvSpPr/>
              <p:nvPr/>
            </p:nvSpPr>
            <p:spPr>
              <a:xfrm rot="16788600">
                <a:off x="4625280" y="3440880"/>
                <a:ext cx="76320" cy="76320"/>
              </a:xfrm>
              <a:custGeom>
                <a:avLst/>
                <a:gdLst/>
                <a:ahLst/>
                <a:rect l="l" t="t" r="r" b="b"/>
                <a:pathLst>
                  <a:path w="114939" h="114939">
                    <a:moveTo>
                      <a:pt x="0" y="0"/>
                    </a:moveTo>
                    <a:lnTo>
                      <a:pt x="114939" y="0"/>
                    </a:lnTo>
                    <a:lnTo>
                      <a:pt x="114939" y="114940"/>
                    </a:lnTo>
                    <a:lnTo>
                      <a:pt x="0" y="1149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55" name="Freeform 147"/>
              <p:cNvSpPr/>
              <p:nvPr/>
            </p:nvSpPr>
            <p:spPr>
              <a:xfrm>
                <a:off x="4046400" y="3326400"/>
                <a:ext cx="166680" cy="166680"/>
              </a:xfrm>
              <a:custGeom>
                <a:avLst/>
                <a:gdLst/>
                <a:ahLst/>
                <a:rect l="l" t="t" r="r" b="b"/>
                <a:pathLst>
                  <a:path w="251028" h="251029">
                    <a:moveTo>
                      <a:pt x="19342" y="232449"/>
                    </a:moveTo>
                    <a:lnTo>
                      <a:pt x="209080" y="250927"/>
                    </a:lnTo>
                    <a:cubicBezTo>
                      <a:pt x="220828" y="252070"/>
                      <a:pt x="231305" y="243498"/>
                      <a:pt x="232448" y="231687"/>
                    </a:cubicBezTo>
                    <a:lnTo>
                      <a:pt x="250927" y="41949"/>
                    </a:lnTo>
                    <a:cubicBezTo>
                      <a:pt x="252070" y="30201"/>
                      <a:pt x="243497" y="19724"/>
                      <a:pt x="231686" y="18581"/>
                    </a:cubicBezTo>
                    <a:lnTo>
                      <a:pt x="41948" y="102"/>
                    </a:lnTo>
                    <a:cubicBezTo>
                      <a:pt x="30201" y="-1041"/>
                      <a:pt x="19723" y="7532"/>
                      <a:pt x="18580" y="19343"/>
                    </a:cubicBezTo>
                    <a:lnTo>
                      <a:pt x="102" y="209081"/>
                    </a:lnTo>
                    <a:cubicBezTo>
                      <a:pt x="-1042" y="220828"/>
                      <a:pt x="7595" y="231306"/>
                      <a:pt x="19342" y="232449"/>
                    </a:cubicBezTo>
                    <a:close/>
                  </a:path>
                </a:pathLst>
              </a:custGeom>
              <a:solidFill>
                <a:srgbClr val="e2e3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56" name="Freeform 148"/>
              <p:cNvSpPr/>
              <p:nvPr/>
            </p:nvSpPr>
            <p:spPr>
              <a:xfrm rot="16533000">
                <a:off x="4090320" y="3370320"/>
                <a:ext cx="77760" cy="77760"/>
              </a:xfrm>
              <a:custGeom>
                <a:avLst/>
                <a:gdLst/>
                <a:ahLst/>
                <a:rect l="l" t="t" r="r" b="b"/>
                <a:pathLst>
                  <a:path w="117220" h="117220">
                    <a:moveTo>
                      <a:pt x="0" y="0"/>
                    </a:moveTo>
                    <a:lnTo>
                      <a:pt x="117220" y="0"/>
                    </a:lnTo>
                    <a:lnTo>
                      <a:pt x="117220" y="117221"/>
                    </a:lnTo>
                    <a:lnTo>
                      <a:pt x="0" y="1172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57" name="Freeform 149"/>
              <p:cNvSpPr/>
              <p:nvPr/>
            </p:nvSpPr>
            <p:spPr>
              <a:xfrm>
                <a:off x="3420000" y="3283560"/>
                <a:ext cx="172440" cy="172440"/>
              </a:xfrm>
              <a:custGeom>
                <a:avLst/>
                <a:gdLst/>
                <a:ahLst/>
                <a:rect l="l" t="t" r="r" b="b"/>
                <a:pathLst>
                  <a:path w="259472" h="259470">
                    <a:moveTo>
                      <a:pt x="22931" y="255338"/>
                    </a:moveTo>
                    <a:lnTo>
                      <a:pt x="231465" y="259466"/>
                    </a:lnTo>
                    <a:cubicBezTo>
                      <a:pt x="244355" y="259720"/>
                      <a:pt x="255087" y="249433"/>
                      <a:pt x="255341" y="236542"/>
                    </a:cubicBezTo>
                    <a:lnTo>
                      <a:pt x="259468" y="28008"/>
                    </a:lnTo>
                    <a:cubicBezTo>
                      <a:pt x="259722" y="15054"/>
                      <a:pt x="249435" y="4386"/>
                      <a:pt x="236545" y="4132"/>
                    </a:cubicBezTo>
                    <a:lnTo>
                      <a:pt x="28011" y="5"/>
                    </a:lnTo>
                    <a:cubicBezTo>
                      <a:pt x="15057" y="-249"/>
                      <a:pt x="4389" y="10038"/>
                      <a:pt x="4135" y="22928"/>
                    </a:cubicBezTo>
                    <a:lnTo>
                      <a:pt x="7" y="231462"/>
                    </a:lnTo>
                    <a:cubicBezTo>
                      <a:pt x="-310" y="244353"/>
                      <a:pt x="9977" y="255084"/>
                      <a:pt x="22931" y="255338"/>
                    </a:cubicBezTo>
                    <a:close/>
                  </a:path>
                </a:pathLst>
              </a:custGeom>
              <a:solidFill>
                <a:srgbClr val="e2e3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58" name="Freeform 150"/>
              <p:cNvSpPr/>
              <p:nvPr/>
            </p:nvSpPr>
            <p:spPr>
              <a:xfrm rot="16268400">
                <a:off x="3463200" y="3327120"/>
                <a:ext cx="84960" cy="84960"/>
              </a:xfrm>
              <a:custGeom>
                <a:avLst/>
                <a:gdLst/>
                <a:ahLst/>
                <a:rect l="l" t="t" r="r" b="b"/>
                <a:pathLst>
                  <a:path w="128206" h="128206">
                    <a:moveTo>
                      <a:pt x="0" y="0"/>
                    </a:moveTo>
                    <a:lnTo>
                      <a:pt x="128206" y="0"/>
                    </a:lnTo>
                    <a:lnTo>
                      <a:pt x="128206" y="128206"/>
                    </a:lnTo>
                    <a:lnTo>
                      <a:pt x="0" y="12820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59" name="Freeform 151"/>
              <p:cNvSpPr/>
              <p:nvPr/>
            </p:nvSpPr>
            <p:spPr>
              <a:xfrm>
                <a:off x="1490040" y="3344400"/>
                <a:ext cx="436320" cy="385200"/>
              </a:xfrm>
              <a:custGeom>
                <a:avLst/>
                <a:gdLst/>
                <a:ahLst/>
                <a:rect l="l" t="t" r="r" b="b"/>
                <a:pathLst>
                  <a:path w="656080" h="579183">
                    <a:moveTo>
                      <a:pt x="655546" y="484124"/>
                    </a:moveTo>
                    <a:cubicBezTo>
                      <a:pt x="655546" y="484124"/>
                      <a:pt x="473555" y="579184"/>
                      <a:pt x="328013" y="579184"/>
                    </a:cubicBezTo>
                    <a:cubicBezTo>
                      <a:pt x="300708" y="579184"/>
                      <a:pt x="272514" y="575818"/>
                      <a:pt x="244637" y="570421"/>
                    </a:cubicBezTo>
                    <a:cubicBezTo>
                      <a:pt x="123860" y="546862"/>
                      <a:pt x="10005" y="484124"/>
                      <a:pt x="10005" y="484124"/>
                    </a:cubicBezTo>
                    <a:cubicBezTo>
                      <a:pt x="10005" y="484124"/>
                      <a:pt x="-1489" y="393383"/>
                      <a:pt x="162" y="275844"/>
                    </a:cubicBezTo>
                    <a:cubicBezTo>
                      <a:pt x="226" y="271399"/>
                      <a:pt x="289" y="266954"/>
                      <a:pt x="416" y="262446"/>
                    </a:cubicBezTo>
                    <a:cubicBezTo>
                      <a:pt x="6957" y="312166"/>
                      <a:pt x="20800" y="359982"/>
                      <a:pt x="46771" y="403289"/>
                    </a:cubicBezTo>
                    <a:cubicBezTo>
                      <a:pt x="90269" y="475805"/>
                      <a:pt x="166977" y="526669"/>
                      <a:pt x="249971" y="541401"/>
                    </a:cubicBezTo>
                    <a:cubicBezTo>
                      <a:pt x="270482" y="545147"/>
                      <a:pt x="291373" y="546608"/>
                      <a:pt x="312201" y="545655"/>
                    </a:cubicBezTo>
                    <a:cubicBezTo>
                      <a:pt x="417548" y="540829"/>
                      <a:pt x="517814" y="474599"/>
                      <a:pt x="563534" y="379603"/>
                    </a:cubicBezTo>
                    <a:cubicBezTo>
                      <a:pt x="619351" y="263589"/>
                      <a:pt x="593189" y="130937"/>
                      <a:pt x="585886" y="0"/>
                    </a:cubicBezTo>
                    <a:cubicBezTo>
                      <a:pt x="632940" y="123190"/>
                      <a:pt x="648815" y="266954"/>
                      <a:pt x="653895" y="365633"/>
                    </a:cubicBezTo>
                    <a:cubicBezTo>
                      <a:pt x="657514" y="436499"/>
                      <a:pt x="655546" y="484124"/>
                      <a:pt x="655546" y="484124"/>
                    </a:cubicBezTo>
                    <a:close/>
                  </a:path>
                </a:pathLst>
              </a:custGeom>
              <a:solidFill>
                <a:srgbClr val="f1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60" name="Freeform 152"/>
              <p:cNvSpPr/>
              <p:nvPr/>
            </p:nvSpPr>
            <p:spPr>
              <a:xfrm>
                <a:off x="1926720" y="3486600"/>
                <a:ext cx="587520" cy="264240"/>
              </a:xfrm>
              <a:custGeom>
                <a:avLst/>
                <a:gdLst/>
                <a:ahLst/>
                <a:rect l="l" t="t" r="r" b="b"/>
                <a:pathLst>
                  <a:path w="883104" h="397319">
                    <a:moveTo>
                      <a:pt x="882403" y="269367"/>
                    </a:moveTo>
                    <a:cubicBezTo>
                      <a:pt x="882403" y="269367"/>
                      <a:pt x="637420" y="397320"/>
                      <a:pt x="441523" y="397320"/>
                    </a:cubicBezTo>
                    <a:cubicBezTo>
                      <a:pt x="245625" y="397320"/>
                      <a:pt x="13532" y="269367"/>
                      <a:pt x="13532" y="269367"/>
                    </a:cubicBezTo>
                    <a:cubicBezTo>
                      <a:pt x="13532" y="269367"/>
                      <a:pt x="7690" y="223457"/>
                      <a:pt x="3690" y="151511"/>
                    </a:cubicBezTo>
                    <a:cubicBezTo>
                      <a:pt x="1531" y="112395"/>
                      <a:pt x="-120" y="65532"/>
                      <a:pt x="7" y="14160"/>
                    </a:cubicBezTo>
                    <a:cubicBezTo>
                      <a:pt x="54109" y="154813"/>
                      <a:pt x="169044" y="272669"/>
                      <a:pt x="312681" y="317691"/>
                    </a:cubicBezTo>
                    <a:cubicBezTo>
                      <a:pt x="487814" y="372618"/>
                      <a:pt x="697237" y="308801"/>
                      <a:pt x="801441" y="157734"/>
                    </a:cubicBezTo>
                    <a:cubicBezTo>
                      <a:pt x="834587" y="109728"/>
                      <a:pt x="856495" y="56134"/>
                      <a:pt x="871862" y="0"/>
                    </a:cubicBezTo>
                    <a:cubicBezTo>
                      <a:pt x="876243" y="43752"/>
                      <a:pt x="878974" y="84518"/>
                      <a:pt x="880688" y="120460"/>
                    </a:cubicBezTo>
                    <a:cubicBezTo>
                      <a:pt x="884816" y="209995"/>
                      <a:pt x="882403" y="269367"/>
                      <a:pt x="882403" y="269367"/>
                    </a:cubicBezTo>
                    <a:close/>
                  </a:path>
                </a:pathLst>
              </a:custGeom>
              <a:solidFill>
                <a:srgbClr val="f1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61" name="Freeform 153"/>
              <p:cNvSpPr/>
              <p:nvPr/>
            </p:nvSpPr>
            <p:spPr>
              <a:xfrm>
                <a:off x="2514240" y="3356280"/>
                <a:ext cx="662400" cy="424440"/>
              </a:xfrm>
              <a:custGeom>
                <a:avLst/>
                <a:gdLst/>
                <a:ahLst/>
                <a:rect l="l" t="t" r="r" b="b"/>
                <a:pathLst>
                  <a:path w="995891" h="638111">
                    <a:moveTo>
                      <a:pt x="995892" y="439483"/>
                    </a:moveTo>
                    <a:cubicBezTo>
                      <a:pt x="995892" y="473392"/>
                      <a:pt x="995066" y="492951"/>
                      <a:pt x="995066" y="492951"/>
                    </a:cubicBezTo>
                    <a:cubicBezTo>
                      <a:pt x="995066" y="492951"/>
                      <a:pt x="797836" y="596582"/>
                      <a:pt x="603399" y="628713"/>
                    </a:cubicBezTo>
                    <a:cubicBezTo>
                      <a:pt x="567712" y="634619"/>
                      <a:pt x="532151" y="638111"/>
                      <a:pt x="497925" y="638111"/>
                    </a:cubicBezTo>
                    <a:cubicBezTo>
                      <a:pt x="277072" y="638111"/>
                      <a:pt x="15262" y="492951"/>
                      <a:pt x="15262" y="492951"/>
                    </a:cubicBezTo>
                    <a:cubicBezTo>
                      <a:pt x="15262" y="492951"/>
                      <a:pt x="6308" y="422084"/>
                      <a:pt x="2117" y="316103"/>
                    </a:cubicBezTo>
                    <a:cubicBezTo>
                      <a:pt x="-42" y="261683"/>
                      <a:pt x="-931" y="197929"/>
                      <a:pt x="1292" y="129794"/>
                    </a:cubicBezTo>
                    <a:cubicBezTo>
                      <a:pt x="11261" y="215201"/>
                      <a:pt x="49044" y="297180"/>
                      <a:pt x="99780" y="367284"/>
                    </a:cubicBezTo>
                    <a:cubicBezTo>
                      <a:pt x="172170" y="467233"/>
                      <a:pt x="273707" y="548195"/>
                      <a:pt x="391689" y="584263"/>
                    </a:cubicBezTo>
                    <a:cubicBezTo>
                      <a:pt x="458301" y="604583"/>
                      <a:pt x="530056" y="609727"/>
                      <a:pt x="598573" y="598233"/>
                    </a:cubicBezTo>
                    <a:cubicBezTo>
                      <a:pt x="651532" y="589344"/>
                      <a:pt x="702522" y="570611"/>
                      <a:pt x="747734" y="541401"/>
                    </a:cubicBezTo>
                    <a:cubicBezTo>
                      <a:pt x="814282" y="498284"/>
                      <a:pt x="866669" y="433578"/>
                      <a:pt x="894927" y="359473"/>
                    </a:cubicBezTo>
                    <a:cubicBezTo>
                      <a:pt x="915565" y="305308"/>
                      <a:pt x="923439" y="247269"/>
                      <a:pt x="931122" y="189801"/>
                    </a:cubicBezTo>
                    <a:cubicBezTo>
                      <a:pt x="939631" y="126555"/>
                      <a:pt x="948077" y="63309"/>
                      <a:pt x="956586" y="0"/>
                    </a:cubicBezTo>
                    <a:cubicBezTo>
                      <a:pt x="990939" y="182182"/>
                      <a:pt x="995892" y="355219"/>
                      <a:pt x="995892" y="439483"/>
                    </a:cubicBezTo>
                    <a:close/>
                  </a:path>
                </a:pathLst>
              </a:custGeom>
              <a:solidFill>
                <a:srgbClr val="f1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62" name="Freeform 154"/>
              <p:cNvSpPr/>
              <p:nvPr/>
            </p:nvSpPr>
            <p:spPr>
              <a:xfrm>
                <a:off x="3176640" y="3376440"/>
                <a:ext cx="662400" cy="404280"/>
              </a:xfrm>
              <a:custGeom>
                <a:avLst/>
                <a:gdLst/>
                <a:ahLst/>
                <a:rect l="l" t="t" r="r" b="b"/>
                <a:pathLst>
                  <a:path w="995894" h="607885">
                    <a:moveTo>
                      <a:pt x="993775" y="285877"/>
                    </a:moveTo>
                    <a:cubicBezTo>
                      <a:pt x="989585" y="391859"/>
                      <a:pt x="980631" y="462725"/>
                      <a:pt x="980631" y="462725"/>
                    </a:cubicBezTo>
                    <a:cubicBezTo>
                      <a:pt x="980631" y="462725"/>
                      <a:pt x="718820" y="607886"/>
                      <a:pt x="497967" y="607886"/>
                    </a:cubicBezTo>
                    <a:cubicBezTo>
                      <a:pt x="277051" y="607886"/>
                      <a:pt x="826" y="462725"/>
                      <a:pt x="826" y="462725"/>
                    </a:cubicBezTo>
                    <a:cubicBezTo>
                      <a:pt x="826" y="462725"/>
                      <a:pt x="0" y="443167"/>
                      <a:pt x="0" y="409258"/>
                    </a:cubicBezTo>
                    <a:cubicBezTo>
                      <a:pt x="0" y="329629"/>
                      <a:pt x="4382" y="170879"/>
                      <a:pt x="33846" y="0"/>
                    </a:cubicBezTo>
                    <a:cubicBezTo>
                      <a:pt x="53849" y="85471"/>
                      <a:pt x="73914" y="170942"/>
                      <a:pt x="93917" y="256413"/>
                    </a:cubicBezTo>
                    <a:cubicBezTo>
                      <a:pt x="108966" y="320612"/>
                      <a:pt x="125223" y="387287"/>
                      <a:pt x="167005" y="438404"/>
                    </a:cubicBezTo>
                    <a:cubicBezTo>
                      <a:pt x="208724" y="489395"/>
                      <a:pt x="272098" y="519113"/>
                      <a:pt x="336868" y="531686"/>
                    </a:cubicBezTo>
                    <a:cubicBezTo>
                      <a:pt x="401575" y="544195"/>
                      <a:pt x="468186" y="541084"/>
                      <a:pt x="533972" y="536321"/>
                    </a:cubicBezTo>
                    <a:cubicBezTo>
                      <a:pt x="598298" y="531686"/>
                      <a:pt x="663131" y="525399"/>
                      <a:pt x="724536" y="505524"/>
                    </a:cubicBezTo>
                    <a:cubicBezTo>
                      <a:pt x="785940" y="485712"/>
                      <a:pt x="844233" y="451104"/>
                      <a:pt x="882333" y="399034"/>
                    </a:cubicBezTo>
                    <a:cubicBezTo>
                      <a:pt x="916750" y="351854"/>
                      <a:pt x="932371" y="293942"/>
                      <a:pt x="947357" y="237490"/>
                    </a:cubicBezTo>
                    <a:cubicBezTo>
                      <a:pt x="962597" y="179896"/>
                      <a:pt x="977900" y="122301"/>
                      <a:pt x="993204" y="64707"/>
                    </a:cubicBezTo>
                    <a:cubicBezTo>
                      <a:pt x="997077" y="145923"/>
                      <a:pt x="996315" y="222250"/>
                      <a:pt x="993775" y="285877"/>
                    </a:cubicBezTo>
                    <a:close/>
                  </a:path>
                </a:pathLst>
              </a:custGeom>
              <a:solidFill>
                <a:srgbClr val="f1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63" name="Freeform 155"/>
              <p:cNvSpPr/>
              <p:nvPr/>
            </p:nvSpPr>
            <p:spPr>
              <a:xfrm>
                <a:off x="3839400" y="3465720"/>
                <a:ext cx="587520" cy="285120"/>
              </a:xfrm>
              <a:custGeom>
                <a:avLst/>
                <a:gdLst/>
                <a:ahLst/>
                <a:rect l="l" t="t" r="r" b="b"/>
                <a:pathLst>
                  <a:path w="883093" h="428815">
                    <a:moveTo>
                      <a:pt x="879414" y="183007"/>
                    </a:moveTo>
                    <a:cubicBezTo>
                      <a:pt x="875414" y="254952"/>
                      <a:pt x="869571" y="300863"/>
                      <a:pt x="869571" y="300863"/>
                    </a:cubicBezTo>
                    <a:cubicBezTo>
                      <a:pt x="869571" y="300863"/>
                      <a:pt x="690438" y="399605"/>
                      <a:pt x="514035" y="423608"/>
                    </a:cubicBezTo>
                    <a:cubicBezTo>
                      <a:pt x="489715" y="426910"/>
                      <a:pt x="465394" y="428815"/>
                      <a:pt x="441581" y="428815"/>
                    </a:cubicBezTo>
                    <a:cubicBezTo>
                      <a:pt x="245684" y="428815"/>
                      <a:pt x="701" y="300863"/>
                      <a:pt x="701" y="300863"/>
                    </a:cubicBezTo>
                    <a:cubicBezTo>
                      <a:pt x="701" y="300863"/>
                      <a:pt x="-1712" y="241490"/>
                      <a:pt x="2416" y="151955"/>
                    </a:cubicBezTo>
                    <a:cubicBezTo>
                      <a:pt x="4511" y="107569"/>
                      <a:pt x="8194" y="55689"/>
                      <a:pt x="14671" y="0"/>
                    </a:cubicBezTo>
                    <a:cubicBezTo>
                      <a:pt x="20577" y="37655"/>
                      <a:pt x="32451" y="74549"/>
                      <a:pt x="49215" y="108712"/>
                    </a:cubicBezTo>
                    <a:cubicBezTo>
                      <a:pt x="86617" y="184975"/>
                      <a:pt x="146815" y="248475"/>
                      <a:pt x="215458" y="298513"/>
                    </a:cubicBezTo>
                    <a:cubicBezTo>
                      <a:pt x="275529" y="342328"/>
                      <a:pt x="343982" y="377063"/>
                      <a:pt x="417642" y="387350"/>
                    </a:cubicBezTo>
                    <a:cubicBezTo>
                      <a:pt x="448185" y="391604"/>
                      <a:pt x="478919" y="391350"/>
                      <a:pt x="509145" y="387223"/>
                    </a:cubicBezTo>
                    <a:cubicBezTo>
                      <a:pt x="617286" y="372237"/>
                      <a:pt x="719013" y="306705"/>
                      <a:pt x="783211" y="216725"/>
                    </a:cubicBezTo>
                    <a:cubicBezTo>
                      <a:pt x="827534" y="154622"/>
                      <a:pt x="855856" y="82804"/>
                      <a:pt x="882716" y="11239"/>
                    </a:cubicBezTo>
                    <a:cubicBezTo>
                      <a:pt x="883922" y="76073"/>
                      <a:pt x="882081" y="135255"/>
                      <a:pt x="879414" y="183007"/>
                    </a:cubicBezTo>
                    <a:close/>
                  </a:path>
                </a:pathLst>
              </a:custGeom>
              <a:solidFill>
                <a:srgbClr val="f1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64" name="Freeform 156"/>
              <p:cNvSpPr/>
              <p:nvPr/>
            </p:nvSpPr>
            <p:spPr>
              <a:xfrm>
                <a:off x="4426920" y="3533040"/>
                <a:ext cx="435960" cy="196560"/>
              </a:xfrm>
              <a:custGeom>
                <a:avLst/>
                <a:gdLst/>
                <a:ahLst/>
                <a:rect l="l" t="t" r="r" b="b"/>
                <a:pathLst>
                  <a:path w="655727" h="295783">
                    <a:moveTo>
                      <a:pt x="655727" y="51562"/>
                    </a:moveTo>
                    <a:cubicBezTo>
                      <a:pt x="653885" y="139065"/>
                      <a:pt x="646075" y="200723"/>
                      <a:pt x="646075" y="200723"/>
                    </a:cubicBezTo>
                    <a:cubicBezTo>
                      <a:pt x="646075" y="200723"/>
                      <a:pt x="473610" y="295783"/>
                      <a:pt x="328067" y="295783"/>
                    </a:cubicBezTo>
                    <a:cubicBezTo>
                      <a:pt x="307621" y="295783"/>
                      <a:pt x="286475" y="293941"/>
                      <a:pt x="265266" y="290703"/>
                    </a:cubicBezTo>
                    <a:cubicBezTo>
                      <a:pt x="135027" y="270954"/>
                      <a:pt x="535" y="200723"/>
                      <a:pt x="535" y="200723"/>
                    </a:cubicBezTo>
                    <a:cubicBezTo>
                      <a:pt x="535" y="200723"/>
                      <a:pt x="-1434" y="153098"/>
                      <a:pt x="2185" y="82233"/>
                    </a:cubicBezTo>
                    <a:cubicBezTo>
                      <a:pt x="3455" y="57340"/>
                      <a:pt x="5423" y="29591"/>
                      <a:pt x="8409" y="0"/>
                    </a:cubicBezTo>
                    <a:cubicBezTo>
                      <a:pt x="18123" y="81724"/>
                      <a:pt x="60986" y="159512"/>
                      <a:pt x="125884" y="210376"/>
                    </a:cubicBezTo>
                    <a:cubicBezTo>
                      <a:pt x="166968" y="242570"/>
                      <a:pt x="216435" y="263589"/>
                      <a:pt x="267933" y="272097"/>
                    </a:cubicBezTo>
                    <a:cubicBezTo>
                      <a:pt x="310287" y="279083"/>
                      <a:pt x="353911" y="277622"/>
                      <a:pt x="395504" y="266954"/>
                    </a:cubicBezTo>
                    <a:cubicBezTo>
                      <a:pt x="468466" y="248285"/>
                      <a:pt x="532855" y="203390"/>
                      <a:pt x="583782" y="147891"/>
                    </a:cubicBezTo>
                    <a:cubicBezTo>
                      <a:pt x="610959" y="118301"/>
                      <a:pt x="634582" y="85789"/>
                      <a:pt x="655727" y="51562"/>
                    </a:cubicBezTo>
                    <a:close/>
                  </a:path>
                </a:pathLst>
              </a:custGeom>
              <a:solidFill>
                <a:srgbClr val="f1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65" name="Freeform 157"/>
              <p:cNvSpPr/>
              <p:nvPr/>
            </p:nvSpPr>
            <p:spPr>
              <a:xfrm>
                <a:off x="1486080" y="3358440"/>
                <a:ext cx="3381840" cy="155520"/>
              </a:xfrm>
              <a:custGeom>
                <a:avLst/>
                <a:gdLst/>
                <a:ahLst/>
                <a:rect l="l" t="t" r="r" b="b"/>
                <a:pathLst>
                  <a:path w="5082967" h="233911">
                    <a:moveTo>
                      <a:pt x="5076576" y="233910"/>
                    </a:moveTo>
                    <a:cubicBezTo>
                      <a:pt x="5076194" y="233910"/>
                      <a:pt x="5075813" y="233910"/>
                      <a:pt x="5075432" y="233783"/>
                    </a:cubicBezTo>
                    <a:cubicBezTo>
                      <a:pt x="3691958" y="-23329"/>
                      <a:pt x="2387731" y="-9612"/>
                      <a:pt x="1537276" y="47157"/>
                    </a:cubicBezTo>
                    <a:cubicBezTo>
                      <a:pt x="615700" y="108625"/>
                      <a:pt x="13593" y="232513"/>
                      <a:pt x="7624" y="233783"/>
                    </a:cubicBezTo>
                    <a:cubicBezTo>
                      <a:pt x="4132" y="234482"/>
                      <a:pt x="830" y="232259"/>
                      <a:pt x="131" y="228894"/>
                    </a:cubicBezTo>
                    <a:cubicBezTo>
                      <a:pt x="-567" y="225465"/>
                      <a:pt x="1591" y="222099"/>
                      <a:pt x="5021" y="221401"/>
                    </a:cubicBezTo>
                    <a:cubicBezTo>
                      <a:pt x="10990" y="220131"/>
                      <a:pt x="613795" y="96115"/>
                      <a:pt x="1536196" y="34584"/>
                    </a:cubicBezTo>
                    <a:cubicBezTo>
                      <a:pt x="2077915" y="-1548"/>
                      <a:pt x="2622237" y="-9422"/>
                      <a:pt x="3154176" y="11216"/>
                    </a:cubicBezTo>
                    <a:cubicBezTo>
                      <a:pt x="3819085" y="37060"/>
                      <a:pt x="4466277" y="107736"/>
                      <a:pt x="5077782" y="221401"/>
                    </a:cubicBezTo>
                    <a:cubicBezTo>
                      <a:pt x="5081211" y="222036"/>
                      <a:pt x="5083497" y="225338"/>
                      <a:pt x="5082862" y="228830"/>
                    </a:cubicBezTo>
                    <a:cubicBezTo>
                      <a:pt x="5082227" y="231815"/>
                      <a:pt x="5079560" y="233910"/>
                      <a:pt x="5076576" y="233910"/>
                    </a:cubicBezTo>
                    <a:close/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</p:grpSp>
        <p:grpSp>
          <p:nvGrpSpPr>
            <p:cNvPr id="1366" name="Graphic 2"/>
            <p:cNvGrpSpPr/>
            <p:nvPr/>
          </p:nvGrpSpPr>
          <p:grpSpPr>
            <a:xfrm>
              <a:off x="1378080" y="3879360"/>
              <a:ext cx="3597480" cy="922320"/>
              <a:chOff x="1378080" y="3879360"/>
              <a:chExt cx="3597480" cy="922320"/>
            </a:xfrm>
          </p:grpSpPr>
          <p:sp>
            <p:nvSpPr>
              <p:cNvPr id="1367" name="Freeform 159"/>
              <p:cNvSpPr/>
              <p:nvPr/>
            </p:nvSpPr>
            <p:spPr>
              <a:xfrm>
                <a:off x="4426920" y="3917880"/>
                <a:ext cx="436320" cy="413640"/>
              </a:xfrm>
              <a:custGeom>
                <a:avLst/>
                <a:gdLst/>
                <a:ahLst/>
                <a:rect l="l" t="t" r="r" b="b"/>
                <a:pathLst>
                  <a:path w="656080" h="624710">
                    <a:moveTo>
                      <a:pt x="655918" y="229934"/>
                    </a:moveTo>
                    <a:cubicBezTo>
                      <a:pt x="655854" y="233299"/>
                      <a:pt x="655791" y="236728"/>
                      <a:pt x="655664" y="240093"/>
                    </a:cubicBezTo>
                    <a:cubicBezTo>
                      <a:pt x="654838" y="268351"/>
                      <a:pt x="652679" y="298386"/>
                      <a:pt x="648361" y="328740"/>
                    </a:cubicBezTo>
                    <a:cubicBezTo>
                      <a:pt x="627660" y="474790"/>
                      <a:pt x="557747" y="628205"/>
                      <a:pt x="355309" y="624650"/>
                    </a:cubicBezTo>
                    <a:cubicBezTo>
                      <a:pt x="207417" y="621983"/>
                      <a:pt x="120803" y="539496"/>
                      <a:pt x="70194" y="439103"/>
                    </a:cubicBezTo>
                    <a:cubicBezTo>
                      <a:pt x="59971" y="418719"/>
                      <a:pt x="51144" y="397637"/>
                      <a:pt x="43651" y="376301"/>
                    </a:cubicBezTo>
                    <a:cubicBezTo>
                      <a:pt x="16727" y="299784"/>
                      <a:pt x="6185" y="220409"/>
                      <a:pt x="2185" y="161861"/>
                    </a:cubicBezTo>
                    <a:cubicBezTo>
                      <a:pt x="-1434" y="108140"/>
                      <a:pt x="535" y="72072"/>
                      <a:pt x="535" y="72072"/>
                    </a:cubicBezTo>
                    <a:cubicBezTo>
                      <a:pt x="535" y="72072"/>
                      <a:pt x="182525" y="0"/>
                      <a:pt x="328067" y="0"/>
                    </a:cubicBezTo>
                    <a:cubicBezTo>
                      <a:pt x="355372" y="0"/>
                      <a:pt x="383566" y="2540"/>
                      <a:pt x="411443" y="6604"/>
                    </a:cubicBezTo>
                    <a:cubicBezTo>
                      <a:pt x="532220" y="24511"/>
                      <a:pt x="646075" y="72072"/>
                      <a:pt x="646075" y="72072"/>
                    </a:cubicBezTo>
                    <a:cubicBezTo>
                      <a:pt x="646075" y="72072"/>
                      <a:pt x="657569" y="140843"/>
                      <a:pt x="655918" y="22993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68" name="Freeform 160"/>
              <p:cNvSpPr/>
              <p:nvPr/>
            </p:nvSpPr>
            <p:spPr>
              <a:xfrm>
                <a:off x="1490040" y="3917880"/>
                <a:ext cx="436320" cy="413640"/>
              </a:xfrm>
              <a:custGeom>
                <a:avLst/>
                <a:gdLst/>
                <a:ahLst/>
                <a:rect l="l" t="t" r="r" b="b"/>
                <a:pathLst>
                  <a:path w="656097" h="624711">
                    <a:moveTo>
                      <a:pt x="653912" y="161861"/>
                    </a:moveTo>
                    <a:cubicBezTo>
                      <a:pt x="652642" y="180784"/>
                      <a:pt x="650674" y="201803"/>
                      <a:pt x="647690" y="224218"/>
                    </a:cubicBezTo>
                    <a:cubicBezTo>
                      <a:pt x="647690" y="224282"/>
                      <a:pt x="647690" y="224282"/>
                      <a:pt x="647690" y="224282"/>
                    </a:cubicBezTo>
                    <a:cubicBezTo>
                      <a:pt x="640196" y="280924"/>
                      <a:pt x="626163" y="346329"/>
                      <a:pt x="600382" y="407607"/>
                    </a:cubicBezTo>
                    <a:cubicBezTo>
                      <a:pt x="552503" y="521716"/>
                      <a:pt x="463921" y="621728"/>
                      <a:pt x="300789" y="624650"/>
                    </a:cubicBezTo>
                    <a:cubicBezTo>
                      <a:pt x="104701" y="628142"/>
                      <a:pt x="32946" y="484251"/>
                      <a:pt x="9832" y="342519"/>
                    </a:cubicBezTo>
                    <a:cubicBezTo>
                      <a:pt x="3546" y="303784"/>
                      <a:pt x="815" y="265303"/>
                      <a:pt x="180" y="229934"/>
                    </a:cubicBezTo>
                    <a:cubicBezTo>
                      <a:pt x="-138" y="214313"/>
                      <a:pt x="-10" y="199263"/>
                      <a:pt x="371" y="185166"/>
                    </a:cubicBezTo>
                    <a:cubicBezTo>
                      <a:pt x="2212" y="118809"/>
                      <a:pt x="10022" y="72072"/>
                      <a:pt x="10022" y="72072"/>
                    </a:cubicBezTo>
                    <a:cubicBezTo>
                      <a:pt x="10022" y="72072"/>
                      <a:pt x="182488" y="0"/>
                      <a:pt x="328030" y="0"/>
                    </a:cubicBezTo>
                    <a:cubicBezTo>
                      <a:pt x="348477" y="0"/>
                      <a:pt x="369623" y="1397"/>
                      <a:pt x="390832" y="3810"/>
                    </a:cubicBezTo>
                    <a:cubicBezTo>
                      <a:pt x="521071" y="18796"/>
                      <a:pt x="655564" y="72072"/>
                      <a:pt x="655564" y="72072"/>
                    </a:cubicBezTo>
                    <a:cubicBezTo>
                      <a:pt x="655564" y="72072"/>
                      <a:pt x="657532" y="108140"/>
                      <a:pt x="653912" y="16186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69" name="Freeform 161"/>
              <p:cNvSpPr/>
              <p:nvPr/>
            </p:nvSpPr>
            <p:spPr>
              <a:xfrm>
                <a:off x="3839400" y="3901680"/>
                <a:ext cx="587520" cy="556920"/>
              </a:xfrm>
              <a:custGeom>
                <a:avLst/>
                <a:gdLst/>
                <a:ahLst/>
                <a:rect l="l" t="t" r="r" b="b"/>
                <a:pathLst>
                  <a:path w="883103" h="840761">
                    <a:moveTo>
                      <a:pt x="883097" y="290513"/>
                    </a:moveTo>
                    <a:cubicBezTo>
                      <a:pt x="883033" y="314706"/>
                      <a:pt x="882271" y="340297"/>
                      <a:pt x="880494" y="366522"/>
                    </a:cubicBezTo>
                    <a:cubicBezTo>
                      <a:pt x="866206" y="581597"/>
                      <a:pt x="786196" y="846201"/>
                      <a:pt x="478284" y="840677"/>
                    </a:cubicBezTo>
                    <a:cubicBezTo>
                      <a:pt x="219141" y="836041"/>
                      <a:pt x="99761" y="649478"/>
                      <a:pt x="45151" y="464376"/>
                    </a:cubicBezTo>
                    <a:cubicBezTo>
                      <a:pt x="28578" y="408178"/>
                      <a:pt x="17973" y="352044"/>
                      <a:pt x="11242" y="301244"/>
                    </a:cubicBezTo>
                    <a:cubicBezTo>
                      <a:pt x="6860" y="268097"/>
                      <a:pt x="4130" y="237172"/>
                      <a:pt x="2416" y="209931"/>
                    </a:cubicBezTo>
                    <a:cubicBezTo>
                      <a:pt x="-1712" y="142049"/>
                      <a:pt x="701" y="97028"/>
                      <a:pt x="701" y="97028"/>
                    </a:cubicBezTo>
                    <a:cubicBezTo>
                      <a:pt x="701" y="97028"/>
                      <a:pt x="245684" y="0"/>
                      <a:pt x="441581" y="0"/>
                    </a:cubicBezTo>
                    <a:cubicBezTo>
                      <a:pt x="637479" y="0"/>
                      <a:pt x="869571" y="97028"/>
                      <a:pt x="869571" y="97028"/>
                    </a:cubicBezTo>
                    <a:cubicBezTo>
                      <a:pt x="869571" y="97028"/>
                      <a:pt x="875414" y="131826"/>
                      <a:pt x="879414" y="186372"/>
                    </a:cubicBezTo>
                    <a:cubicBezTo>
                      <a:pt x="881573" y="216027"/>
                      <a:pt x="883224" y="251587"/>
                      <a:pt x="883097" y="29051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70" name="Freeform 162"/>
              <p:cNvSpPr/>
              <p:nvPr/>
            </p:nvSpPr>
            <p:spPr>
              <a:xfrm>
                <a:off x="1926720" y="3901680"/>
                <a:ext cx="587520" cy="556920"/>
              </a:xfrm>
              <a:custGeom>
                <a:avLst/>
                <a:gdLst/>
                <a:ahLst/>
                <a:rect l="l" t="t" r="r" b="b"/>
                <a:pathLst>
                  <a:path w="883089" h="840761">
                    <a:moveTo>
                      <a:pt x="881123" y="202374"/>
                    </a:moveTo>
                    <a:cubicBezTo>
                      <a:pt x="880996" y="204851"/>
                      <a:pt x="880805" y="207391"/>
                      <a:pt x="880678" y="209931"/>
                    </a:cubicBezTo>
                    <a:cubicBezTo>
                      <a:pt x="878583" y="243586"/>
                      <a:pt x="874900" y="282892"/>
                      <a:pt x="868423" y="325120"/>
                    </a:cubicBezTo>
                    <a:cubicBezTo>
                      <a:pt x="860485" y="377063"/>
                      <a:pt x="848420" y="433388"/>
                      <a:pt x="830196" y="489141"/>
                    </a:cubicBezTo>
                    <a:cubicBezTo>
                      <a:pt x="772411" y="665797"/>
                      <a:pt x="652396" y="836295"/>
                      <a:pt x="404809" y="840677"/>
                    </a:cubicBezTo>
                    <a:cubicBezTo>
                      <a:pt x="131632" y="845566"/>
                      <a:pt x="37843" y="637921"/>
                      <a:pt x="10157" y="440817"/>
                    </a:cubicBezTo>
                    <a:cubicBezTo>
                      <a:pt x="4188" y="398145"/>
                      <a:pt x="1330" y="355981"/>
                      <a:pt x="378" y="316611"/>
                    </a:cubicBezTo>
                    <a:cubicBezTo>
                      <a:pt x="-829" y="267462"/>
                      <a:pt x="1013" y="222567"/>
                      <a:pt x="3680" y="186372"/>
                    </a:cubicBezTo>
                    <a:cubicBezTo>
                      <a:pt x="7680" y="131826"/>
                      <a:pt x="13522" y="97028"/>
                      <a:pt x="13522" y="97028"/>
                    </a:cubicBezTo>
                    <a:cubicBezTo>
                      <a:pt x="13522" y="97028"/>
                      <a:pt x="192656" y="22161"/>
                      <a:pt x="369059" y="3937"/>
                    </a:cubicBezTo>
                    <a:cubicBezTo>
                      <a:pt x="393379" y="1460"/>
                      <a:pt x="417700" y="0"/>
                      <a:pt x="441512" y="0"/>
                    </a:cubicBezTo>
                    <a:cubicBezTo>
                      <a:pt x="637410" y="0"/>
                      <a:pt x="882393" y="97028"/>
                      <a:pt x="882393" y="97028"/>
                    </a:cubicBezTo>
                    <a:cubicBezTo>
                      <a:pt x="882393" y="97028"/>
                      <a:pt x="884615" y="138747"/>
                      <a:pt x="881123" y="20237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71" name="Freeform 163"/>
              <p:cNvSpPr/>
              <p:nvPr/>
            </p:nvSpPr>
            <p:spPr>
              <a:xfrm>
                <a:off x="3176640" y="3879360"/>
                <a:ext cx="662400" cy="631800"/>
              </a:xfrm>
              <a:custGeom>
                <a:avLst/>
                <a:gdLst/>
                <a:ahLst/>
                <a:rect l="l" t="t" r="r" b="b"/>
                <a:pathLst>
                  <a:path w="995892" h="953992">
                    <a:moveTo>
                      <a:pt x="994601" y="385382"/>
                    </a:moveTo>
                    <a:lnTo>
                      <a:pt x="994601" y="385508"/>
                    </a:lnTo>
                    <a:cubicBezTo>
                      <a:pt x="993204" y="418274"/>
                      <a:pt x="990537" y="452438"/>
                      <a:pt x="986092" y="486982"/>
                    </a:cubicBezTo>
                    <a:cubicBezTo>
                      <a:pt x="957263" y="714439"/>
                      <a:pt x="853504" y="959548"/>
                      <a:pt x="539306" y="953897"/>
                    </a:cubicBezTo>
                    <a:cubicBezTo>
                      <a:pt x="227013" y="948309"/>
                      <a:pt x="94742" y="706882"/>
                      <a:pt x="39307" y="483743"/>
                    </a:cubicBezTo>
                    <a:cubicBezTo>
                      <a:pt x="38354" y="479933"/>
                      <a:pt x="37465" y="476186"/>
                      <a:pt x="36576" y="472377"/>
                    </a:cubicBezTo>
                    <a:cubicBezTo>
                      <a:pt x="4700" y="338455"/>
                      <a:pt x="0" y="212661"/>
                      <a:pt x="0" y="150558"/>
                    </a:cubicBezTo>
                    <a:cubicBezTo>
                      <a:pt x="0" y="124841"/>
                      <a:pt x="826" y="110046"/>
                      <a:pt x="826" y="110046"/>
                    </a:cubicBezTo>
                    <a:cubicBezTo>
                      <a:pt x="826" y="110046"/>
                      <a:pt x="198057" y="31433"/>
                      <a:pt x="392494" y="7112"/>
                    </a:cubicBezTo>
                    <a:cubicBezTo>
                      <a:pt x="428181" y="2603"/>
                      <a:pt x="463741" y="0"/>
                      <a:pt x="497967" y="0"/>
                    </a:cubicBezTo>
                    <a:cubicBezTo>
                      <a:pt x="718820" y="0"/>
                      <a:pt x="980631" y="110046"/>
                      <a:pt x="980631" y="110046"/>
                    </a:cubicBezTo>
                    <a:cubicBezTo>
                      <a:pt x="980631" y="110046"/>
                      <a:pt x="989585" y="163766"/>
                      <a:pt x="993775" y="244094"/>
                    </a:cubicBezTo>
                    <a:cubicBezTo>
                      <a:pt x="995935" y="285369"/>
                      <a:pt x="996824" y="333692"/>
                      <a:pt x="994601" y="38538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72" name="Freeform 164"/>
              <p:cNvSpPr/>
              <p:nvPr/>
            </p:nvSpPr>
            <p:spPr>
              <a:xfrm>
                <a:off x="2514240" y="3879360"/>
                <a:ext cx="662400" cy="631800"/>
              </a:xfrm>
              <a:custGeom>
                <a:avLst/>
                <a:gdLst/>
                <a:ahLst/>
                <a:rect l="l" t="t" r="r" b="b"/>
                <a:pathLst>
                  <a:path w="995894" h="953993">
                    <a:moveTo>
                      <a:pt x="995895" y="150558"/>
                    </a:moveTo>
                    <a:cubicBezTo>
                      <a:pt x="995895" y="210947"/>
                      <a:pt x="991513" y="331279"/>
                      <a:pt x="962049" y="460820"/>
                    </a:cubicBezTo>
                    <a:cubicBezTo>
                      <a:pt x="952779" y="501523"/>
                      <a:pt x="941094" y="543115"/>
                      <a:pt x="926299" y="584073"/>
                    </a:cubicBezTo>
                    <a:cubicBezTo>
                      <a:pt x="926235" y="584136"/>
                      <a:pt x="926235" y="584136"/>
                      <a:pt x="926235" y="584200"/>
                    </a:cubicBezTo>
                    <a:cubicBezTo>
                      <a:pt x="857529" y="773811"/>
                      <a:pt x="722210" y="949134"/>
                      <a:pt x="456590" y="953897"/>
                    </a:cubicBezTo>
                    <a:cubicBezTo>
                      <a:pt x="189572" y="958723"/>
                      <a:pt x="74510" y="782383"/>
                      <a:pt x="28282" y="589725"/>
                    </a:cubicBezTo>
                    <a:cubicBezTo>
                      <a:pt x="14058" y="530352"/>
                      <a:pt x="6311" y="469455"/>
                      <a:pt x="2691" y="411797"/>
                    </a:cubicBezTo>
                    <a:cubicBezTo>
                      <a:pt x="-1182" y="350202"/>
                      <a:pt x="-420" y="292354"/>
                      <a:pt x="2120" y="244094"/>
                    </a:cubicBezTo>
                    <a:cubicBezTo>
                      <a:pt x="2247" y="241554"/>
                      <a:pt x="2374" y="239077"/>
                      <a:pt x="2501" y="236664"/>
                    </a:cubicBezTo>
                    <a:cubicBezTo>
                      <a:pt x="6882" y="160464"/>
                      <a:pt x="15265" y="110046"/>
                      <a:pt x="15265" y="110046"/>
                    </a:cubicBezTo>
                    <a:cubicBezTo>
                      <a:pt x="15265" y="110046"/>
                      <a:pt x="277075" y="0"/>
                      <a:pt x="497928" y="0"/>
                    </a:cubicBezTo>
                    <a:cubicBezTo>
                      <a:pt x="718844" y="0"/>
                      <a:pt x="995069" y="110046"/>
                      <a:pt x="995069" y="110046"/>
                    </a:cubicBezTo>
                    <a:cubicBezTo>
                      <a:pt x="995069" y="110046"/>
                      <a:pt x="995895" y="124841"/>
                      <a:pt x="995895" y="15055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73" name="Freeform 165"/>
              <p:cNvSpPr/>
              <p:nvPr/>
            </p:nvSpPr>
            <p:spPr>
              <a:xfrm>
                <a:off x="1378080" y="3979080"/>
                <a:ext cx="3597480" cy="714600"/>
              </a:xfrm>
              <a:custGeom>
                <a:avLst/>
                <a:gdLst/>
                <a:ahLst/>
                <a:rect l="l" t="t" r="r" b="b"/>
                <a:pathLst>
                  <a:path w="5407513" h="1079249">
                    <a:moveTo>
                      <a:pt x="168773" y="137668"/>
                    </a:moveTo>
                    <a:lnTo>
                      <a:pt x="168837" y="137668"/>
                    </a:lnTo>
                    <a:cubicBezTo>
                      <a:pt x="171758" y="302514"/>
                      <a:pt x="219827" y="536766"/>
                      <a:pt x="469446" y="532321"/>
                    </a:cubicBezTo>
                    <a:cubicBezTo>
                      <a:pt x="754942" y="527241"/>
                      <a:pt x="812092" y="224790"/>
                      <a:pt x="822569" y="69596"/>
                    </a:cubicBezTo>
                    <a:lnTo>
                      <a:pt x="828475" y="69850"/>
                    </a:lnTo>
                    <a:cubicBezTo>
                      <a:pt x="813870" y="268986"/>
                      <a:pt x="823522" y="731457"/>
                      <a:pt x="1229604" y="724154"/>
                    </a:cubicBezTo>
                    <a:cubicBezTo>
                      <a:pt x="1618859" y="717233"/>
                      <a:pt x="1692710" y="299720"/>
                      <a:pt x="1705473" y="93409"/>
                    </a:cubicBezTo>
                    <a:lnTo>
                      <a:pt x="1709982" y="93536"/>
                    </a:lnTo>
                    <a:cubicBezTo>
                      <a:pt x="1697472" y="333629"/>
                      <a:pt x="1727317" y="811213"/>
                      <a:pt x="2164452" y="803339"/>
                    </a:cubicBezTo>
                    <a:cubicBezTo>
                      <a:pt x="2670038" y="794258"/>
                      <a:pt x="2703757" y="167132"/>
                      <a:pt x="2703757" y="0"/>
                    </a:cubicBezTo>
                    <a:cubicBezTo>
                      <a:pt x="2703757" y="167132"/>
                      <a:pt x="2737475" y="794322"/>
                      <a:pt x="3243062" y="803339"/>
                    </a:cubicBezTo>
                    <a:cubicBezTo>
                      <a:pt x="3680196" y="811213"/>
                      <a:pt x="3710042" y="333629"/>
                      <a:pt x="3697532" y="93536"/>
                    </a:cubicBezTo>
                    <a:lnTo>
                      <a:pt x="3702041" y="93409"/>
                    </a:lnTo>
                    <a:cubicBezTo>
                      <a:pt x="3714804" y="299720"/>
                      <a:pt x="3788655" y="717233"/>
                      <a:pt x="4177909" y="724154"/>
                    </a:cubicBezTo>
                    <a:cubicBezTo>
                      <a:pt x="4583992" y="731393"/>
                      <a:pt x="4593644" y="268986"/>
                      <a:pt x="4579039" y="69850"/>
                    </a:cubicBezTo>
                    <a:lnTo>
                      <a:pt x="4584944" y="69596"/>
                    </a:lnTo>
                    <a:cubicBezTo>
                      <a:pt x="4595422" y="224790"/>
                      <a:pt x="4652572" y="527241"/>
                      <a:pt x="4938068" y="532321"/>
                    </a:cubicBezTo>
                    <a:cubicBezTo>
                      <a:pt x="5187686" y="536766"/>
                      <a:pt x="5235756" y="302514"/>
                      <a:pt x="5238677" y="137668"/>
                    </a:cubicBezTo>
                    <a:lnTo>
                      <a:pt x="5238741" y="137668"/>
                    </a:lnTo>
                    <a:cubicBezTo>
                      <a:pt x="5238741" y="137668"/>
                      <a:pt x="5561638" y="419037"/>
                      <a:pt x="5314179" y="634175"/>
                    </a:cubicBezTo>
                    <a:cubicBezTo>
                      <a:pt x="5066719" y="849249"/>
                      <a:pt x="3874697" y="1130618"/>
                      <a:pt x="2703757" y="1071182"/>
                    </a:cubicBezTo>
                    <a:cubicBezTo>
                      <a:pt x="1532817" y="1130618"/>
                      <a:pt x="340795" y="849249"/>
                      <a:pt x="93335" y="634175"/>
                    </a:cubicBezTo>
                    <a:cubicBezTo>
                      <a:pt x="-154124" y="419100"/>
                      <a:pt x="168773" y="137668"/>
                      <a:pt x="168773" y="137668"/>
                    </a:cubicBezTo>
                    <a:close/>
                  </a:path>
                </a:pathLst>
              </a:custGeom>
              <a:solidFill>
                <a:srgbClr val="f4cc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74" name="Freeform 166"/>
              <p:cNvSpPr/>
              <p:nvPr/>
            </p:nvSpPr>
            <p:spPr>
              <a:xfrm>
                <a:off x="4426920" y="4797720"/>
                <a:ext cx="360" cy="3960"/>
              </a:xfrm>
              <a:custGeom>
                <a:avLst/>
                <a:gdLst/>
                <a:ahLst/>
                <a:rect l="l" t="t" r="r" b="b"/>
                <a:pathLst>
                  <a:path w="63" h="6350">
                    <a:moveTo>
                      <a:pt x="0" y="0"/>
                    </a:moveTo>
                    <a:lnTo>
                      <a:pt x="63" y="0"/>
                    </a:lnTo>
                  </a:path>
                </a:pathLst>
              </a:custGeom>
              <a:noFill/>
              <a:ln w="6480">
                <a:solidFill>
                  <a:srgbClr val="231f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75" name="Freeform 167"/>
              <p:cNvSpPr/>
              <p:nvPr/>
            </p:nvSpPr>
            <p:spPr>
              <a:xfrm>
                <a:off x="4572720" y="4041720"/>
                <a:ext cx="171360" cy="129600"/>
              </a:xfrm>
              <a:custGeom>
                <a:avLst/>
                <a:gdLst/>
                <a:ahLst/>
                <a:rect l="l" t="t" r="r" b="b"/>
                <a:pathLst>
                  <a:path w="258046" h="195682">
                    <a:moveTo>
                      <a:pt x="17390" y="24435"/>
                    </a:moveTo>
                    <a:lnTo>
                      <a:pt x="201602" y="242"/>
                    </a:lnTo>
                    <a:cubicBezTo>
                      <a:pt x="213033" y="-1282"/>
                      <a:pt x="223891" y="4560"/>
                      <a:pt x="225860" y="13196"/>
                    </a:cubicBezTo>
                    <a:lnTo>
                      <a:pt x="257737" y="152896"/>
                    </a:lnTo>
                    <a:cubicBezTo>
                      <a:pt x="259705" y="161532"/>
                      <a:pt x="252085" y="169787"/>
                      <a:pt x="240655" y="171247"/>
                    </a:cubicBezTo>
                    <a:lnTo>
                      <a:pt x="56441" y="195441"/>
                    </a:lnTo>
                    <a:cubicBezTo>
                      <a:pt x="45012" y="196965"/>
                      <a:pt x="34153" y="191123"/>
                      <a:pt x="32185" y="182487"/>
                    </a:cubicBezTo>
                    <a:lnTo>
                      <a:pt x="308" y="42787"/>
                    </a:lnTo>
                    <a:cubicBezTo>
                      <a:pt x="-1660" y="34151"/>
                      <a:pt x="6023" y="25959"/>
                      <a:pt x="17390" y="24435"/>
                    </a:cubicBezTo>
                    <a:close/>
                  </a:path>
                </a:pathLst>
              </a:custGeom>
              <a:solidFill>
                <a:srgbClr val="e2e3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76" name="Freeform 168"/>
              <p:cNvSpPr/>
              <p:nvPr/>
            </p:nvSpPr>
            <p:spPr>
              <a:xfrm>
                <a:off x="4614120" y="4073040"/>
                <a:ext cx="88200" cy="66600"/>
              </a:xfrm>
              <a:custGeom>
                <a:avLst/>
                <a:gdLst/>
                <a:ahLst/>
                <a:rect l="l" t="t" r="r" b="b"/>
                <a:pathLst>
                  <a:path w="132841" h="100774">
                    <a:moveTo>
                      <a:pt x="0" y="14859"/>
                    </a:moveTo>
                    <a:lnTo>
                      <a:pt x="113284" y="0"/>
                    </a:lnTo>
                    <a:lnTo>
                      <a:pt x="132842" y="85916"/>
                    </a:lnTo>
                    <a:lnTo>
                      <a:pt x="19621" y="100774"/>
                    </a:lnTo>
                    <a:lnTo>
                      <a:pt x="0" y="14859"/>
                    </a:lnTo>
                    <a:close/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77" name="Freeform 169"/>
              <p:cNvSpPr/>
              <p:nvPr/>
            </p:nvSpPr>
            <p:spPr>
              <a:xfrm>
                <a:off x="4041000" y="4096440"/>
                <a:ext cx="166680" cy="126000"/>
              </a:xfrm>
              <a:custGeom>
                <a:avLst/>
                <a:gdLst/>
                <a:ahLst/>
                <a:rect l="l" t="t" r="r" b="b"/>
                <a:pathLst>
                  <a:path w="251028" h="190280">
                    <a:moveTo>
                      <a:pt x="19342" y="14051"/>
                    </a:moveTo>
                    <a:lnTo>
                      <a:pt x="209080" y="81"/>
                    </a:lnTo>
                    <a:cubicBezTo>
                      <a:pt x="220828" y="-808"/>
                      <a:pt x="231305" y="5733"/>
                      <a:pt x="232448" y="14622"/>
                    </a:cubicBezTo>
                    <a:lnTo>
                      <a:pt x="250927" y="158514"/>
                    </a:lnTo>
                    <a:cubicBezTo>
                      <a:pt x="252070" y="167403"/>
                      <a:pt x="243497" y="175341"/>
                      <a:pt x="231686" y="176230"/>
                    </a:cubicBezTo>
                    <a:lnTo>
                      <a:pt x="41948" y="190200"/>
                    </a:lnTo>
                    <a:cubicBezTo>
                      <a:pt x="30201" y="191089"/>
                      <a:pt x="19723" y="184548"/>
                      <a:pt x="18580" y="175658"/>
                    </a:cubicBezTo>
                    <a:lnTo>
                      <a:pt x="102" y="31767"/>
                    </a:lnTo>
                    <a:cubicBezTo>
                      <a:pt x="-1042" y="22877"/>
                      <a:pt x="7595" y="14940"/>
                      <a:pt x="19342" y="14051"/>
                    </a:cubicBezTo>
                    <a:close/>
                  </a:path>
                </a:pathLst>
              </a:custGeom>
              <a:solidFill>
                <a:srgbClr val="e2e3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78" name="Freeform 170"/>
              <p:cNvSpPr/>
              <p:nvPr/>
            </p:nvSpPr>
            <p:spPr>
              <a:xfrm>
                <a:off x="4082040" y="4127040"/>
                <a:ext cx="84960" cy="64080"/>
              </a:xfrm>
              <a:custGeom>
                <a:avLst/>
                <a:gdLst/>
                <a:ahLst/>
                <a:rect l="l" t="t" r="r" b="b"/>
                <a:pathLst>
                  <a:path w="128015" h="97027">
                    <a:moveTo>
                      <a:pt x="0" y="8572"/>
                    </a:moveTo>
                    <a:lnTo>
                      <a:pt x="116649" y="0"/>
                    </a:lnTo>
                    <a:lnTo>
                      <a:pt x="128015" y="88392"/>
                    </a:lnTo>
                    <a:lnTo>
                      <a:pt x="11366" y="97028"/>
                    </a:lnTo>
                    <a:lnTo>
                      <a:pt x="0" y="8572"/>
                    </a:lnTo>
                    <a:close/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79" name="Freeform 171"/>
              <p:cNvSpPr/>
              <p:nvPr/>
            </p:nvSpPr>
            <p:spPr>
              <a:xfrm>
                <a:off x="3414600" y="4124160"/>
                <a:ext cx="172440" cy="130320"/>
              </a:xfrm>
              <a:custGeom>
                <a:avLst/>
                <a:gdLst/>
                <a:ahLst/>
                <a:rect l="l" t="t" r="r" b="b"/>
                <a:pathLst>
                  <a:path w="259470" h="196793">
                    <a:moveTo>
                      <a:pt x="22928" y="3178"/>
                    </a:moveTo>
                    <a:lnTo>
                      <a:pt x="231463" y="3"/>
                    </a:lnTo>
                    <a:cubicBezTo>
                      <a:pt x="244416" y="-187"/>
                      <a:pt x="255084" y="7623"/>
                      <a:pt x="255339" y="17403"/>
                    </a:cubicBezTo>
                    <a:lnTo>
                      <a:pt x="259466" y="175518"/>
                    </a:lnTo>
                    <a:cubicBezTo>
                      <a:pt x="259720" y="185297"/>
                      <a:pt x="249433" y="193425"/>
                      <a:pt x="236542" y="193615"/>
                    </a:cubicBezTo>
                    <a:lnTo>
                      <a:pt x="28008" y="196790"/>
                    </a:lnTo>
                    <a:cubicBezTo>
                      <a:pt x="15054" y="196981"/>
                      <a:pt x="4387" y="189170"/>
                      <a:pt x="4132" y="179391"/>
                    </a:cubicBezTo>
                    <a:lnTo>
                      <a:pt x="5" y="21276"/>
                    </a:lnTo>
                    <a:cubicBezTo>
                      <a:pt x="-249" y="11497"/>
                      <a:pt x="9975" y="3433"/>
                      <a:pt x="22928" y="3178"/>
                    </a:cubicBezTo>
                    <a:close/>
                  </a:path>
                </a:pathLst>
              </a:custGeom>
              <a:solidFill>
                <a:srgbClr val="e2e3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80" name="Freeform 172"/>
              <p:cNvSpPr/>
              <p:nvPr/>
            </p:nvSpPr>
            <p:spPr>
              <a:xfrm>
                <a:off x="3457440" y="4156560"/>
                <a:ext cx="86760" cy="65520"/>
              </a:xfrm>
              <a:custGeom>
                <a:avLst/>
                <a:gdLst/>
                <a:ahLst/>
                <a:rect l="l" t="t" r="r" b="b"/>
                <a:pathLst>
                  <a:path w="130747" h="99187">
                    <a:moveTo>
                      <a:pt x="0" y="1968"/>
                    </a:moveTo>
                    <a:lnTo>
                      <a:pt x="128207" y="0"/>
                    </a:lnTo>
                    <a:lnTo>
                      <a:pt x="130747" y="97218"/>
                    </a:lnTo>
                    <a:lnTo>
                      <a:pt x="2604" y="99187"/>
                    </a:lnTo>
                    <a:lnTo>
                      <a:pt x="0" y="1968"/>
                    </a:lnTo>
                    <a:close/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81" name="Freeform 173"/>
              <p:cNvSpPr/>
              <p:nvPr/>
            </p:nvSpPr>
            <p:spPr>
              <a:xfrm>
                <a:off x="1604160" y="4041720"/>
                <a:ext cx="171360" cy="129600"/>
              </a:xfrm>
              <a:custGeom>
                <a:avLst/>
                <a:gdLst/>
                <a:ahLst/>
                <a:rect l="l" t="t" r="r" b="b"/>
                <a:pathLst>
                  <a:path w="258046" h="195682">
                    <a:moveTo>
                      <a:pt x="240657" y="24435"/>
                    </a:moveTo>
                    <a:lnTo>
                      <a:pt x="56444" y="242"/>
                    </a:lnTo>
                    <a:cubicBezTo>
                      <a:pt x="45014" y="-1282"/>
                      <a:pt x="34155" y="4560"/>
                      <a:pt x="32187" y="13196"/>
                    </a:cubicBezTo>
                    <a:lnTo>
                      <a:pt x="310" y="152896"/>
                    </a:lnTo>
                    <a:cubicBezTo>
                      <a:pt x="-1659" y="161532"/>
                      <a:pt x="5961" y="169787"/>
                      <a:pt x="17391" y="171247"/>
                    </a:cubicBezTo>
                    <a:lnTo>
                      <a:pt x="201605" y="195441"/>
                    </a:lnTo>
                    <a:cubicBezTo>
                      <a:pt x="213035" y="196965"/>
                      <a:pt x="223893" y="191123"/>
                      <a:pt x="225862" y="182487"/>
                    </a:cubicBezTo>
                    <a:lnTo>
                      <a:pt x="257739" y="42787"/>
                    </a:lnTo>
                    <a:cubicBezTo>
                      <a:pt x="259707" y="34151"/>
                      <a:pt x="252024" y="25959"/>
                      <a:pt x="240657" y="24435"/>
                    </a:cubicBezTo>
                    <a:close/>
                  </a:path>
                </a:pathLst>
              </a:custGeom>
              <a:solidFill>
                <a:srgbClr val="e2e3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82" name="Freeform 174"/>
              <p:cNvSpPr/>
              <p:nvPr/>
            </p:nvSpPr>
            <p:spPr>
              <a:xfrm>
                <a:off x="1645560" y="4073040"/>
                <a:ext cx="88200" cy="66600"/>
              </a:xfrm>
              <a:custGeom>
                <a:avLst/>
                <a:gdLst/>
                <a:ahLst/>
                <a:rect l="l" t="t" r="r" b="b"/>
                <a:pathLst>
                  <a:path w="132842" h="100774">
                    <a:moveTo>
                      <a:pt x="132842" y="14859"/>
                    </a:moveTo>
                    <a:lnTo>
                      <a:pt x="19558" y="0"/>
                    </a:lnTo>
                    <a:lnTo>
                      <a:pt x="0" y="85916"/>
                    </a:lnTo>
                    <a:lnTo>
                      <a:pt x="113221" y="100774"/>
                    </a:lnTo>
                    <a:lnTo>
                      <a:pt x="132842" y="14859"/>
                    </a:lnTo>
                    <a:close/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83" name="Freeform 175"/>
              <p:cNvSpPr/>
              <p:nvPr/>
            </p:nvSpPr>
            <p:spPr>
              <a:xfrm>
                <a:off x="2140200" y="4096440"/>
                <a:ext cx="166680" cy="126000"/>
              </a:xfrm>
              <a:custGeom>
                <a:avLst/>
                <a:gdLst/>
                <a:ahLst/>
                <a:rect l="l" t="t" r="r" b="b"/>
                <a:pathLst>
                  <a:path w="251028" h="190280">
                    <a:moveTo>
                      <a:pt x="231687" y="14051"/>
                    </a:moveTo>
                    <a:lnTo>
                      <a:pt x="41948" y="81"/>
                    </a:lnTo>
                    <a:cubicBezTo>
                      <a:pt x="30201" y="-808"/>
                      <a:pt x="19723" y="5733"/>
                      <a:pt x="18581" y="14622"/>
                    </a:cubicBezTo>
                    <a:lnTo>
                      <a:pt x="102" y="158514"/>
                    </a:lnTo>
                    <a:cubicBezTo>
                      <a:pt x="-1041" y="167403"/>
                      <a:pt x="7532" y="175341"/>
                      <a:pt x="19343" y="176230"/>
                    </a:cubicBezTo>
                    <a:lnTo>
                      <a:pt x="209081" y="190200"/>
                    </a:lnTo>
                    <a:cubicBezTo>
                      <a:pt x="220828" y="191089"/>
                      <a:pt x="231306" y="184548"/>
                      <a:pt x="232448" y="175658"/>
                    </a:cubicBezTo>
                    <a:lnTo>
                      <a:pt x="250927" y="31767"/>
                    </a:lnTo>
                    <a:cubicBezTo>
                      <a:pt x="252070" y="22877"/>
                      <a:pt x="243434" y="14940"/>
                      <a:pt x="231687" y="14051"/>
                    </a:cubicBezTo>
                    <a:close/>
                  </a:path>
                </a:pathLst>
              </a:custGeom>
              <a:solidFill>
                <a:srgbClr val="e2e3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84" name="Freeform 176"/>
              <p:cNvSpPr/>
              <p:nvPr/>
            </p:nvSpPr>
            <p:spPr>
              <a:xfrm>
                <a:off x="2181240" y="4127040"/>
                <a:ext cx="84960" cy="64080"/>
              </a:xfrm>
              <a:custGeom>
                <a:avLst/>
                <a:gdLst/>
                <a:ahLst/>
                <a:rect l="l" t="t" r="r" b="b"/>
                <a:pathLst>
                  <a:path w="128016" h="97027">
                    <a:moveTo>
                      <a:pt x="128016" y="8572"/>
                    </a:moveTo>
                    <a:lnTo>
                      <a:pt x="11366" y="0"/>
                    </a:lnTo>
                    <a:lnTo>
                      <a:pt x="0" y="88392"/>
                    </a:lnTo>
                    <a:lnTo>
                      <a:pt x="116649" y="97028"/>
                    </a:lnTo>
                    <a:lnTo>
                      <a:pt x="128016" y="8572"/>
                    </a:lnTo>
                    <a:close/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85" name="Freeform 177"/>
              <p:cNvSpPr/>
              <p:nvPr/>
            </p:nvSpPr>
            <p:spPr>
              <a:xfrm>
                <a:off x="2761200" y="4124160"/>
                <a:ext cx="172440" cy="130320"/>
              </a:xfrm>
              <a:custGeom>
                <a:avLst/>
                <a:gdLst/>
                <a:ahLst/>
                <a:rect l="l" t="t" r="r" b="b"/>
                <a:pathLst>
                  <a:path w="259472" h="196793">
                    <a:moveTo>
                      <a:pt x="236542" y="3178"/>
                    </a:moveTo>
                    <a:lnTo>
                      <a:pt x="28008" y="3"/>
                    </a:lnTo>
                    <a:cubicBezTo>
                      <a:pt x="15118" y="-187"/>
                      <a:pt x="4386" y="7623"/>
                      <a:pt x="4132" y="17403"/>
                    </a:cubicBezTo>
                    <a:lnTo>
                      <a:pt x="5" y="175518"/>
                    </a:lnTo>
                    <a:cubicBezTo>
                      <a:pt x="-249" y="185297"/>
                      <a:pt x="10038" y="193425"/>
                      <a:pt x="22928" y="193615"/>
                    </a:cubicBezTo>
                    <a:lnTo>
                      <a:pt x="231462" y="196790"/>
                    </a:lnTo>
                    <a:cubicBezTo>
                      <a:pt x="244416" y="196981"/>
                      <a:pt x="255084" y="189170"/>
                      <a:pt x="255338" y="179391"/>
                    </a:cubicBezTo>
                    <a:lnTo>
                      <a:pt x="259466" y="21276"/>
                    </a:lnTo>
                    <a:cubicBezTo>
                      <a:pt x="259783" y="11497"/>
                      <a:pt x="249496" y="3433"/>
                      <a:pt x="236542" y="3178"/>
                    </a:cubicBezTo>
                    <a:close/>
                  </a:path>
                </a:pathLst>
              </a:custGeom>
              <a:solidFill>
                <a:srgbClr val="e2e3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86" name="Freeform 178"/>
              <p:cNvSpPr/>
              <p:nvPr/>
            </p:nvSpPr>
            <p:spPr>
              <a:xfrm>
                <a:off x="2804040" y="4156560"/>
                <a:ext cx="86760" cy="65520"/>
              </a:xfrm>
              <a:custGeom>
                <a:avLst/>
                <a:gdLst/>
                <a:ahLst/>
                <a:rect l="l" t="t" r="r" b="b"/>
                <a:pathLst>
                  <a:path w="130746" h="99187">
                    <a:moveTo>
                      <a:pt x="130746" y="1968"/>
                    </a:moveTo>
                    <a:lnTo>
                      <a:pt x="2540" y="0"/>
                    </a:lnTo>
                    <a:lnTo>
                      <a:pt x="0" y="97218"/>
                    </a:lnTo>
                    <a:lnTo>
                      <a:pt x="128207" y="99187"/>
                    </a:lnTo>
                    <a:lnTo>
                      <a:pt x="130746" y="1968"/>
                    </a:lnTo>
                    <a:close/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87" name="Freeform 179"/>
              <p:cNvSpPr/>
              <p:nvPr/>
            </p:nvSpPr>
            <p:spPr>
              <a:xfrm>
                <a:off x="1485720" y="4080600"/>
                <a:ext cx="3381840" cy="117360"/>
              </a:xfrm>
              <a:custGeom>
                <a:avLst/>
                <a:gdLst/>
                <a:ahLst/>
                <a:rect l="l" t="t" r="r" b="b"/>
                <a:pathLst>
                  <a:path w="5082967" h="177503">
                    <a:moveTo>
                      <a:pt x="6392" y="0"/>
                    </a:moveTo>
                    <a:cubicBezTo>
                      <a:pt x="6773" y="0"/>
                      <a:pt x="7154" y="0"/>
                      <a:pt x="7535" y="64"/>
                    </a:cubicBezTo>
                    <a:cubicBezTo>
                      <a:pt x="1391010" y="195009"/>
                      <a:pt x="2695237" y="184595"/>
                      <a:pt x="3545692" y="141605"/>
                    </a:cubicBezTo>
                    <a:cubicBezTo>
                      <a:pt x="4467267" y="94996"/>
                      <a:pt x="5069375" y="1079"/>
                      <a:pt x="5075343" y="127"/>
                    </a:cubicBezTo>
                    <a:cubicBezTo>
                      <a:pt x="5078836" y="-445"/>
                      <a:pt x="5082138" y="1270"/>
                      <a:pt x="5082837" y="3873"/>
                    </a:cubicBezTo>
                    <a:cubicBezTo>
                      <a:pt x="5083535" y="6477"/>
                      <a:pt x="5081376" y="9017"/>
                      <a:pt x="5077947" y="9589"/>
                    </a:cubicBezTo>
                    <a:cubicBezTo>
                      <a:pt x="5071978" y="10541"/>
                      <a:pt x="4469173" y="104584"/>
                      <a:pt x="3546771" y="151257"/>
                    </a:cubicBezTo>
                    <a:cubicBezTo>
                      <a:pt x="3005053" y="178689"/>
                      <a:pt x="2460731" y="184658"/>
                      <a:pt x="1928791" y="168973"/>
                    </a:cubicBezTo>
                    <a:cubicBezTo>
                      <a:pt x="1263883" y="149415"/>
                      <a:pt x="616691" y="95758"/>
                      <a:pt x="5186" y="9652"/>
                    </a:cubicBezTo>
                    <a:cubicBezTo>
                      <a:pt x="1757" y="9144"/>
                      <a:pt x="-529" y="6667"/>
                      <a:pt x="106" y="4064"/>
                    </a:cubicBezTo>
                    <a:cubicBezTo>
                      <a:pt x="741" y="1651"/>
                      <a:pt x="3408" y="0"/>
                      <a:pt x="6392" y="0"/>
                    </a:cubicBezTo>
                    <a:close/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88" name="Freeform 180"/>
              <p:cNvSpPr/>
              <p:nvPr/>
            </p:nvSpPr>
            <p:spPr>
              <a:xfrm>
                <a:off x="1496520" y="4144680"/>
                <a:ext cx="392760" cy="186840"/>
              </a:xfrm>
              <a:custGeom>
                <a:avLst/>
                <a:gdLst/>
                <a:ahLst/>
                <a:rect l="l" t="t" r="r" b="b"/>
                <a:pathLst>
                  <a:path w="590550" h="282192">
                    <a:moveTo>
                      <a:pt x="317500" y="212725"/>
                    </a:moveTo>
                    <a:cubicBezTo>
                      <a:pt x="420307" y="196977"/>
                      <a:pt x="495998" y="104521"/>
                      <a:pt x="590550" y="65088"/>
                    </a:cubicBezTo>
                    <a:cubicBezTo>
                      <a:pt x="542671" y="179197"/>
                      <a:pt x="454089" y="279209"/>
                      <a:pt x="290957" y="282130"/>
                    </a:cubicBezTo>
                    <a:cubicBezTo>
                      <a:pt x="94869" y="285623"/>
                      <a:pt x="23114" y="141732"/>
                      <a:pt x="0" y="0"/>
                    </a:cubicBezTo>
                    <a:cubicBezTo>
                      <a:pt x="28003" y="47498"/>
                      <a:pt x="59118" y="93027"/>
                      <a:pt x="98806" y="131064"/>
                    </a:cubicBezTo>
                    <a:cubicBezTo>
                      <a:pt x="157035" y="186817"/>
                      <a:pt x="237808" y="224980"/>
                      <a:pt x="317500" y="212725"/>
                    </a:cubicBezTo>
                    <a:close/>
                  </a:path>
                </a:pathLst>
              </a:custGeom>
              <a:solidFill>
                <a:srgbClr val="f1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89" name="Freeform 181"/>
              <p:cNvSpPr/>
              <p:nvPr/>
            </p:nvSpPr>
            <p:spPr>
              <a:xfrm>
                <a:off x="1933560" y="4193640"/>
                <a:ext cx="545400" cy="264600"/>
              </a:xfrm>
              <a:custGeom>
                <a:avLst/>
                <a:gdLst/>
                <a:ahLst/>
                <a:rect l="l" t="t" r="r" b="b"/>
                <a:pathLst>
                  <a:path w="820038" h="399944">
                    <a:moveTo>
                      <a:pt x="820039" y="48324"/>
                    </a:moveTo>
                    <a:cubicBezTo>
                      <a:pt x="762254" y="224980"/>
                      <a:pt x="642239" y="395478"/>
                      <a:pt x="394652" y="399860"/>
                    </a:cubicBezTo>
                    <a:cubicBezTo>
                      <a:pt x="121476" y="404749"/>
                      <a:pt x="27686" y="197104"/>
                      <a:pt x="0" y="0"/>
                    </a:cubicBezTo>
                    <a:cubicBezTo>
                      <a:pt x="53911" y="88074"/>
                      <a:pt x="132651" y="172720"/>
                      <a:pt x="212979" y="234505"/>
                    </a:cubicBezTo>
                    <a:cubicBezTo>
                      <a:pt x="300545" y="301943"/>
                      <a:pt x="416242" y="339916"/>
                      <a:pt x="523621" y="313690"/>
                    </a:cubicBezTo>
                    <a:cubicBezTo>
                      <a:pt x="655955" y="281369"/>
                      <a:pt x="745236" y="164783"/>
                      <a:pt x="820039" y="48324"/>
                    </a:cubicBezTo>
                    <a:close/>
                  </a:path>
                </a:pathLst>
              </a:custGeom>
              <a:solidFill>
                <a:srgbClr val="f1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90" name="Freeform 182"/>
              <p:cNvSpPr/>
              <p:nvPr/>
            </p:nvSpPr>
            <p:spPr>
              <a:xfrm>
                <a:off x="2532960" y="4266360"/>
                <a:ext cx="597240" cy="244800"/>
              </a:xfrm>
              <a:custGeom>
                <a:avLst/>
                <a:gdLst/>
                <a:ahLst/>
                <a:rect l="l" t="t" r="r" b="b"/>
                <a:pathLst>
                  <a:path w="897953" h="369793">
                    <a:moveTo>
                      <a:pt x="897953" y="0"/>
                    </a:moveTo>
                    <a:cubicBezTo>
                      <a:pt x="829247" y="189611"/>
                      <a:pt x="693928" y="364934"/>
                      <a:pt x="428308" y="369697"/>
                    </a:cubicBezTo>
                    <a:cubicBezTo>
                      <a:pt x="161290" y="374523"/>
                      <a:pt x="46228" y="198183"/>
                      <a:pt x="0" y="5524"/>
                    </a:cubicBezTo>
                    <a:cubicBezTo>
                      <a:pt x="63817" y="98806"/>
                      <a:pt x="150495" y="180658"/>
                      <a:pt x="248984" y="226441"/>
                    </a:cubicBezTo>
                    <a:cubicBezTo>
                      <a:pt x="382270" y="288417"/>
                      <a:pt x="544576" y="292481"/>
                      <a:pt x="674560" y="223838"/>
                    </a:cubicBezTo>
                    <a:cubicBezTo>
                      <a:pt x="769429" y="173736"/>
                      <a:pt x="839788" y="91630"/>
                      <a:pt x="897953" y="0"/>
                    </a:cubicBezTo>
                    <a:close/>
                  </a:path>
                </a:pathLst>
              </a:custGeom>
              <a:solidFill>
                <a:srgbClr val="f1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91" name="Freeform 183"/>
              <p:cNvSpPr/>
              <p:nvPr/>
            </p:nvSpPr>
            <p:spPr>
              <a:xfrm>
                <a:off x="3201120" y="4192200"/>
                <a:ext cx="631440" cy="318960"/>
              </a:xfrm>
              <a:custGeom>
                <a:avLst/>
                <a:gdLst/>
                <a:ahLst/>
                <a:rect l="l" t="t" r="r" b="b"/>
                <a:pathLst>
                  <a:path w="949515" h="481616">
                    <a:moveTo>
                      <a:pt x="843280" y="245554"/>
                    </a:moveTo>
                    <a:cubicBezTo>
                      <a:pt x="894842" y="177546"/>
                      <a:pt x="928243" y="97472"/>
                      <a:pt x="949516" y="14605"/>
                    </a:cubicBezTo>
                    <a:cubicBezTo>
                      <a:pt x="920686" y="242062"/>
                      <a:pt x="816928" y="487172"/>
                      <a:pt x="502730" y="481520"/>
                    </a:cubicBezTo>
                    <a:cubicBezTo>
                      <a:pt x="190436" y="475932"/>
                      <a:pt x="58166" y="234505"/>
                      <a:pt x="2731" y="11366"/>
                    </a:cubicBezTo>
                    <a:cubicBezTo>
                      <a:pt x="1778" y="7557"/>
                      <a:pt x="889" y="3810"/>
                      <a:pt x="0" y="0"/>
                    </a:cubicBezTo>
                    <a:cubicBezTo>
                      <a:pt x="64453" y="100457"/>
                      <a:pt x="145924" y="201104"/>
                      <a:pt x="232601" y="279273"/>
                    </a:cubicBezTo>
                    <a:cubicBezTo>
                      <a:pt x="329883" y="366966"/>
                      <a:pt x="461709" y="426021"/>
                      <a:pt x="591122" y="405638"/>
                    </a:cubicBezTo>
                    <a:cubicBezTo>
                      <a:pt x="691897" y="389763"/>
                      <a:pt x="781622" y="326834"/>
                      <a:pt x="843280" y="245554"/>
                    </a:cubicBezTo>
                    <a:close/>
                  </a:path>
                </a:pathLst>
              </a:custGeom>
              <a:solidFill>
                <a:srgbClr val="f1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92" name="Freeform 184"/>
              <p:cNvSpPr/>
              <p:nvPr/>
            </p:nvSpPr>
            <p:spPr>
              <a:xfrm>
                <a:off x="3869280" y="4144680"/>
                <a:ext cx="555480" cy="313920"/>
              </a:xfrm>
              <a:custGeom>
                <a:avLst/>
                <a:gdLst/>
                <a:ahLst/>
                <a:rect l="l" t="t" r="r" b="b"/>
                <a:pathLst>
                  <a:path w="835342" h="474239">
                    <a:moveTo>
                      <a:pt x="749744" y="198818"/>
                    </a:moveTo>
                    <a:cubicBezTo>
                      <a:pt x="786575" y="136588"/>
                      <a:pt x="811530" y="68389"/>
                      <a:pt x="835343" y="0"/>
                    </a:cubicBezTo>
                    <a:cubicBezTo>
                      <a:pt x="821055" y="215074"/>
                      <a:pt x="741045" y="479679"/>
                      <a:pt x="433133" y="474154"/>
                    </a:cubicBezTo>
                    <a:cubicBezTo>
                      <a:pt x="173990" y="469519"/>
                      <a:pt x="54610" y="282956"/>
                      <a:pt x="0" y="97853"/>
                    </a:cubicBezTo>
                    <a:cubicBezTo>
                      <a:pt x="61341" y="181800"/>
                      <a:pt x="125413" y="262191"/>
                      <a:pt x="213551" y="317944"/>
                    </a:cubicBezTo>
                    <a:cubicBezTo>
                      <a:pt x="322643" y="386969"/>
                      <a:pt x="465328" y="415671"/>
                      <a:pt x="582358" y="361124"/>
                    </a:cubicBezTo>
                    <a:cubicBezTo>
                      <a:pt x="653923" y="327787"/>
                      <a:pt x="709613" y="266700"/>
                      <a:pt x="749744" y="198818"/>
                    </a:cubicBezTo>
                    <a:close/>
                  </a:path>
                </a:pathLst>
              </a:custGeom>
              <a:solidFill>
                <a:srgbClr val="f1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93" name="Freeform 185"/>
              <p:cNvSpPr/>
              <p:nvPr/>
            </p:nvSpPr>
            <p:spPr>
              <a:xfrm>
                <a:off x="4456080" y="4135680"/>
                <a:ext cx="402120" cy="195840"/>
              </a:xfrm>
              <a:custGeom>
                <a:avLst/>
                <a:gdLst/>
                <a:ahLst/>
                <a:rect l="l" t="t" r="r" b="b"/>
                <a:pathLst>
                  <a:path w="604710" h="295970">
                    <a:moveTo>
                      <a:pt x="604710" y="0"/>
                    </a:moveTo>
                    <a:cubicBezTo>
                      <a:pt x="584009" y="146050"/>
                      <a:pt x="514097" y="299466"/>
                      <a:pt x="311659" y="295910"/>
                    </a:cubicBezTo>
                    <a:cubicBezTo>
                      <a:pt x="163767" y="293243"/>
                      <a:pt x="77153" y="210757"/>
                      <a:pt x="26543" y="110363"/>
                    </a:cubicBezTo>
                    <a:cubicBezTo>
                      <a:pt x="16320" y="89979"/>
                      <a:pt x="7493" y="68897"/>
                      <a:pt x="0" y="47561"/>
                    </a:cubicBezTo>
                    <a:cubicBezTo>
                      <a:pt x="58674" y="118745"/>
                      <a:pt x="135446" y="185039"/>
                      <a:pt x="216662" y="215963"/>
                    </a:cubicBezTo>
                    <a:cubicBezTo>
                      <a:pt x="280353" y="240220"/>
                      <a:pt x="352108" y="251904"/>
                      <a:pt x="416370" y="229298"/>
                    </a:cubicBezTo>
                    <a:cubicBezTo>
                      <a:pt x="471742" y="209804"/>
                      <a:pt x="516192" y="166624"/>
                      <a:pt x="548005" y="117348"/>
                    </a:cubicBezTo>
                    <a:cubicBezTo>
                      <a:pt x="571627" y="80772"/>
                      <a:pt x="589026" y="40703"/>
                      <a:pt x="604710" y="0"/>
                    </a:cubicBezTo>
                    <a:close/>
                  </a:path>
                </a:pathLst>
              </a:custGeom>
              <a:solidFill>
                <a:srgbClr val="f1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</p:grpSp>
        <p:grpSp>
          <p:nvGrpSpPr>
            <p:cNvPr id="1394" name="Graphic 2"/>
            <p:cNvGrpSpPr/>
            <p:nvPr/>
          </p:nvGrpSpPr>
          <p:grpSpPr>
            <a:xfrm>
              <a:off x="835200" y="1352520"/>
              <a:ext cx="1645920" cy="2216160"/>
              <a:chOff x="835200" y="1352520"/>
              <a:chExt cx="1645920" cy="2216160"/>
            </a:xfrm>
          </p:grpSpPr>
          <p:sp>
            <p:nvSpPr>
              <p:cNvPr id="1395" name="Freeform 187"/>
              <p:cNvSpPr/>
              <p:nvPr/>
            </p:nvSpPr>
            <p:spPr>
              <a:xfrm>
                <a:off x="835200" y="1352520"/>
                <a:ext cx="747000" cy="580680"/>
              </a:xfrm>
              <a:custGeom>
                <a:avLst/>
                <a:gdLst/>
                <a:ahLst/>
                <a:rect l="l" t="t" r="r" b="b"/>
                <a:pathLst>
                  <a:path w="1122680" h="873124">
                    <a:moveTo>
                      <a:pt x="1122680" y="245555"/>
                    </a:moveTo>
                    <a:lnTo>
                      <a:pt x="173355" y="873125"/>
                    </a:lnTo>
                    <a:cubicBezTo>
                      <a:pt x="77533" y="715709"/>
                      <a:pt x="0" y="621919"/>
                      <a:pt x="0" y="621919"/>
                    </a:cubicBezTo>
                    <a:lnTo>
                      <a:pt x="940118" y="0"/>
                    </a:lnTo>
                    <a:cubicBezTo>
                      <a:pt x="940118" y="4572"/>
                      <a:pt x="1010920" y="100203"/>
                      <a:pt x="1122680" y="245555"/>
                    </a:cubicBezTo>
                    <a:close/>
                  </a:path>
                </a:pathLst>
              </a:custGeom>
              <a:solidFill>
                <a:srgbClr val="f8ac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96" name="Freeform 188"/>
              <p:cNvSpPr/>
              <p:nvPr/>
            </p:nvSpPr>
            <p:spPr>
              <a:xfrm>
                <a:off x="950400" y="1515600"/>
                <a:ext cx="1530720" cy="2053080"/>
              </a:xfrm>
              <a:custGeom>
                <a:avLst/>
                <a:gdLst/>
                <a:ahLst/>
                <a:rect l="l" t="t" r="r" b="b"/>
                <a:pathLst>
                  <a:path w="2300779" h="3085973">
                    <a:moveTo>
                      <a:pt x="2295081" y="3085973"/>
                    </a:moveTo>
                    <a:lnTo>
                      <a:pt x="1781175" y="2757361"/>
                    </a:lnTo>
                    <a:lnTo>
                      <a:pt x="1261173" y="2699068"/>
                    </a:lnTo>
                    <a:cubicBezTo>
                      <a:pt x="1214819" y="2693861"/>
                      <a:pt x="1174750" y="2664206"/>
                      <a:pt x="1156271" y="2621407"/>
                    </a:cubicBezTo>
                    <a:cubicBezTo>
                      <a:pt x="1154113" y="2616391"/>
                      <a:pt x="1151890" y="2611184"/>
                      <a:pt x="1149540" y="2605786"/>
                    </a:cubicBezTo>
                    <a:lnTo>
                      <a:pt x="1149477" y="2605786"/>
                    </a:lnTo>
                    <a:lnTo>
                      <a:pt x="954088" y="2562543"/>
                    </a:lnTo>
                    <a:cubicBezTo>
                      <a:pt x="889889" y="2548319"/>
                      <a:pt x="834453" y="2508123"/>
                      <a:pt x="801052" y="2451481"/>
                    </a:cubicBezTo>
                    <a:cubicBezTo>
                      <a:pt x="784733" y="2423859"/>
                      <a:pt x="765937" y="2391918"/>
                      <a:pt x="746633" y="2358898"/>
                    </a:cubicBezTo>
                    <a:cubicBezTo>
                      <a:pt x="633413" y="2305939"/>
                      <a:pt x="519430" y="2128457"/>
                      <a:pt x="444246" y="1990090"/>
                    </a:cubicBezTo>
                    <a:cubicBezTo>
                      <a:pt x="391604" y="1893126"/>
                      <a:pt x="361378" y="1785557"/>
                      <a:pt x="355282" y="1675384"/>
                    </a:cubicBezTo>
                    <a:cubicBezTo>
                      <a:pt x="331724" y="1249553"/>
                      <a:pt x="144907" y="865696"/>
                      <a:pt x="0" y="627571"/>
                    </a:cubicBezTo>
                    <a:lnTo>
                      <a:pt x="949325" y="0"/>
                    </a:lnTo>
                    <a:cubicBezTo>
                      <a:pt x="1263587" y="408749"/>
                      <a:pt x="1901507" y="1210754"/>
                      <a:pt x="2198561" y="1488059"/>
                    </a:cubicBezTo>
                    <a:cubicBezTo>
                      <a:pt x="2259139" y="1544574"/>
                      <a:pt x="2291397" y="1625156"/>
                      <a:pt x="2286190" y="1707832"/>
                    </a:cubicBezTo>
                    <a:lnTo>
                      <a:pt x="2237295" y="2478405"/>
                    </a:lnTo>
                    <a:cubicBezTo>
                      <a:pt x="2237295" y="2478405"/>
                      <a:pt x="1919097" y="2372360"/>
                      <a:pt x="1986597" y="1919161"/>
                    </a:cubicBezTo>
                    <a:lnTo>
                      <a:pt x="1605344" y="1658874"/>
                    </a:lnTo>
                    <a:cubicBezTo>
                      <a:pt x="1607883" y="1665478"/>
                      <a:pt x="1774698" y="2089722"/>
                      <a:pt x="1808163" y="2324164"/>
                    </a:cubicBezTo>
                    <a:cubicBezTo>
                      <a:pt x="1808163" y="2324291"/>
                      <a:pt x="2362581" y="2801493"/>
                      <a:pt x="2295081" y="3085973"/>
                    </a:cubicBezTo>
                    <a:close/>
                  </a:path>
                </a:pathLst>
              </a:custGeom>
              <a:solidFill>
                <a:srgbClr val="8fd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97" name="Freeform 189"/>
              <p:cNvSpPr/>
              <p:nvPr/>
            </p:nvSpPr>
            <p:spPr>
              <a:xfrm>
                <a:off x="1567440" y="2910600"/>
                <a:ext cx="149400" cy="339480"/>
              </a:xfrm>
              <a:custGeom>
                <a:avLst/>
                <a:gdLst/>
                <a:ahLst/>
                <a:rect l="l" t="t" r="r" b="b"/>
                <a:pathLst>
                  <a:path w="225044" h="510539">
                    <a:moveTo>
                      <a:pt x="218821" y="510540"/>
                    </a:moveTo>
                    <a:lnTo>
                      <a:pt x="211138" y="492760"/>
                    </a:lnTo>
                    <a:cubicBezTo>
                      <a:pt x="138621" y="325057"/>
                      <a:pt x="3556" y="12827"/>
                      <a:pt x="0" y="2159"/>
                    </a:cubicBezTo>
                    <a:lnTo>
                      <a:pt x="6414" y="0"/>
                    </a:lnTo>
                    <a:cubicBezTo>
                      <a:pt x="9906" y="10414"/>
                      <a:pt x="144843" y="322453"/>
                      <a:pt x="217361" y="490093"/>
                    </a:cubicBezTo>
                    <a:lnTo>
                      <a:pt x="225044" y="507873"/>
                    </a:lnTo>
                    <a:lnTo>
                      <a:pt x="218821" y="510540"/>
                    </a:lnTo>
                    <a:close/>
                  </a:path>
                </a:pathLst>
              </a:custGeom>
              <a:solidFill>
                <a:srgbClr val="00ac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98" name="Freeform 190"/>
              <p:cNvSpPr/>
              <p:nvPr/>
            </p:nvSpPr>
            <p:spPr>
              <a:xfrm>
                <a:off x="1352520" y="2920680"/>
                <a:ext cx="96480" cy="165240"/>
              </a:xfrm>
              <a:custGeom>
                <a:avLst/>
                <a:gdLst/>
                <a:ahLst/>
                <a:rect l="l" t="t" r="r" b="b"/>
                <a:pathLst>
                  <a:path w="145288" h="248729">
                    <a:moveTo>
                      <a:pt x="139383" y="248730"/>
                    </a:moveTo>
                    <a:cubicBezTo>
                      <a:pt x="0" y="10668"/>
                      <a:pt x="0" y="3048"/>
                      <a:pt x="0" y="190"/>
                    </a:cubicBezTo>
                    <a:lnTo>
                      <a:pt x="6795" y="190"/>
                    </a:lnTo>
                    <a:lnTo>
                      <a:pt x="3429" y="190"/>
                    </a:lnTo>
                    <a:lnTo>
                      <a:pt x="6795" y="0"/>
                    </a:lnTo>
                    <a:cubicBezTo>
                      <a:pt x="7557" y="4572"/>
                      <a:pt x="26543" y="42608"/>
                      <a:pt x="145288" y="245364"/>
                    </a:cubicBezTo>
                    <a:lnTo>
                      <a:pt x="139383" y="248730"/>
                    </a:lnTo>
                    <a:close/>
                  </a:path>
                </a:pathLst>
              </a:custGeom>
              <a:solidFill>
                <a:srgbClr val="00ac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399" name="Freeform 191"/>
              <p:cNvSpPr/>
              <p:nvPr/>
            </p:nvSpPr>
            <p:spPr>
              <a:xfrm>
                <a:off x="1795320" y="2775960"/>
                <a:ext cx="341280" cy="576000"/>
              </a:xfrm>
              <a:custGeom>
                <a:avLst/>
                <a:gdLst/>
                <a:ahLst/>
                <a:rect l="l" t="t" r="r" b="b"/>
                <a:pathLst>
                  <a:path w="513143" h="865886">
                    <a:moveTo>
                      <a:pt x="509524" y="865886"/>
                    </a:moveTo>
                    <a:lnTo>
                      <a:pt x="311150" y="739013"/>
                    </a:lnTo>
                    <a:cubicBezTo>
                      <a:pt x="219520" y="680402"/>
                      <a:pt x="153860" y="590169"/>
                      <a:pt x="126365" y="484949"/>
                    </a:cubicBezTo>
                    <a:lnTo>
                      <a:pt x="0" y="1714"/>
                    </a:lnTo>
                    <a:lnTo>
                      <a:pt x="6541" y="0"/>
                    </a:lnTo>
                    <a:lnTo>
                      <a:pt x="132905" y="483235"/>
                    </a:lnTo>
                    <a:cubicBezTo>
                      <a:pt x="160020" y="586804"/>
                      <a:pt x="224599" y="675640"/>
                      <a:pt x="314770" y="733298"/>
                    </a:cubicBezTo>
                    <a:lnTo>
                      <a:pt x="513144" y="860171"/>
                    </a:lnTo>
                    <a:lnTo>
                      <a:pt x="509524" y="865886"/>
                    </a:lnTo>
                    <a:close/>
                  </a:path>
                </a:pathLst>
              </a:custGeom>
              <a:solidFill>
                <a:srgbClr val="00ac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</p:grpSp>
        <p:grpSp>
          <p:nvGrpSpPr>
            <p:cNvPr id="1400" name="Graphic 2"/>
            <p:cNvGrpSpPr/>
            <p:nvPr/>
          </p:nvGrpSpPr>
          <p:grpSpPr>
            <a:xfrm>
              <a:off x="2954520" y="3456360"/>
              <a:ext cx="2890800" cy="1820520"/>
              <a:chOff x="2954520" y="3456360"/>
              <a:chExt cx="2890800" cy="1820520"/>
            </a:xfrm>
          </p:grpSpPr>
          <p:sp>
            <p:nvSpPr>
              <p:cNvPr id="1401" name="Freeform 193"/>
              <p:cNvSpPr/>
              <p:nvPr/>
            </p:nvSpPr>
            <p:spPr>
              <a:xfrm>
                <a:off x="2954520" y="3456360"/>
                <a:ext cx="337680" cy="664560"/>
              </a:xfrm>
              <a:custGeom>
                <a:avLst/>
                <a:gdLst/>
                <a:ahLst/>
                <a:rect l="l" t="t" r="r" b="b"/>
                <a:pathLst>
                  <a:path w="507885" h="998856">
                    <a:moveTo>
                      <a:pt x="507886" y="924689"/>
                    </a:moveTo>
                    <a:lnTo>
                      <a:pt x="449974" y="998857"/>
                    </a:lnTo>
                    <a:lnTo>
                      <a:pt x="20015" y="548324"/>
                    </a:lnTo>
                    <a:cubicBezTo>
                      <a:pt x="5664" y="533211"/>
                      <a:pt x="-1512" y="512701"/>
                      <a:pt x="267" y="491936"/>
                    </a:cubicBezTo>
                    <a:lnTo>
                      <a:pt x="43002" y="5399"/>
                    </a:lnTo>
                    <a:cubicBezTo>
                      <a:pt x="43637" y="-1967"/>
                      <a:pt x="54495" y="-1713"/>
                      <a:pt x="54749" y="5653"/>
                    </a:cubicBezTo>
                    <a:lnTo>
                      <a:pt x="76467" y="512510"/>
                    </a:lnTo>
                    <a:lnTo>
                      <a:pt x="507886" y="92468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402" name="Freeform 194"/>
              <p:cNvSpPr/>
              <p:nvPr/>
            </p:nvSpPr>
            <p:spPr>
              <a:xfrm>
                <a:off x="5627880" y="4256640"/>
                <a:ext cx="217440" cy="645120"/>
              </a:xfrm>
              <a:custGeom>
                <a:avLst/>
                <a:gdLst/>
                <a:ahLst/>
                <a:rect l="l" t="t" r="r" b="b"/>
                <a:pathLst>
                  <a:path w="327033" h="969835">
                    <a:moveTo>
                      <a:pt x="327034" y="4699"/>
                    </a:moveTo>
                    <a:lnTo>
                      <a:pt x="327034" y="962787"/>
                    </a:lnTo>
                    <a:cubicBezTo>
                      <a:pt x="240547" y="949325"/>
                      <a:pt x="128406" y="953452"/>
                      <a:pt x="1342" y="969835"/>
                    </a:cubicBezTo>
                    <a:cubicBezTo>
                      <a:pt x="580" y="701992"/>
                      <a:pt x="-627" y="213042"/>
                      <a:pt x="390" y="0"/>
                    </a:cubicBezTo>
                    <a:cubicBezTo>
                      <a:pt x="125231" y="12890"/>
                      <a:pt x="238197" y="16192"/>
                      <a:pt x="327034" y="4699"/>
                    </a:cubicBezTo>
                    <a:close/>
                  </a:path>
                </a:pathLst>
              </a:custGeom>
              <a:solidFill>
                <a:srgbClr val="f8ac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403" name="Freeform 195"/>
              <p:cNvSpPr/>
              <p:nvPr/>
            </p:nvSpPr>
            <p:spPr>
              <a:xfrm>
                <a:off x="3477240" y="4340880"/>
                <a:ext cx="1093680" cy="882000"/>
              </a:xfrm>
              <a:custGeom>
                <a:avLst/>
                <a:gdLst/>
                <a:ahLst/>
                <a:rect l="l" t="t" r="r" b="b"/>
                <a:pathLst>
                  <a:path w="1644141" h="1325916">
                    <a:moveTo>
                      <a:pt x="1644142" y="1292923"/>
                    </a:moveTo>
                    <a:cubicBezTo>
                      <a:pt x="1624838" y="1300035"/>
                      <a:pt x="1608010" y="1306322"/>
                      <a:pt x="1593914" y="1311656"/>
                    </a:cubicBezTo>
                    <a:cubicBezTo>
                      <a:pt x="1560385" y="1324292"/>
                      <a:pt x="1524317" y="1328610"/>
                      <a:pt x="1488757" y="1324292"/>
                    </a:cubicBezTo>
                    <a:lnTo>
                      <a:pt x="190944" y="1167321"/>
                    </a:lnTo>
                    <a:cubicBezTo>
                      <a:pt x="122936" y="1159129"/>
                      <a:pt x="70485" y="1103566"/>
                      <a:pt x="66103" y="1035241"/>
                    </a:cubicBezTo>
                    <a:lnTo>
                      <a:pt x="57023" y="892873"/>
                    </a:lnTo>
                    <a:lnTo>
                      <a:pt x="16128" y="253111"/>
                    </a:lnTo>
                    <a:lnTo>
                      <a:pt x="16128" y="252984"/>
                    </a:lnTo>
                    <a:lnTo>
                      <a:pt x="635" y="10033"/>
                    </a:lnTo>
                    <a:lnTo>
                      <a:pt x="0" y="0"/>
                    </a:lnTo>
                    <a:cubicBezTo>
                      <a:pt x="0" y="0"/>
                      <a:pt x="147955" y="5334"/>
                      <a:pt x="263207" y="215011"/>
                    </a:cubicBezTo>
                    <a:cubicBezTo>
                      <a:pt x="305498" y="291719"/>
                      <a:pt x="343344" y="395796"/>
                      <a:pt x="367919" y="536956"/>
                    </a:cubicBezTo>
                    <a:cubicBezTo>
                      <a:pt x="380936" y="611569"/>
                      <a:pt x="390207" y="696532"/>
                      <a:pt x="394526" y="793305"/>
                    </a:cubicBezTo>
                    <a:cubicBezTo>
                      <a:pt x="394526" y="793305"/>
                      <a:pt x="647636" y="770191"/>
                      <a:pt x="928814" y="734504"/>
                    </a:cubicBezTo>
                    <a:lnTo>
                      <a:pt x="1644142" y="1292923"/>
                    </a:lnTo>
                    <a:close/>
                  </a:path>
                </a:pathLst>
              </a:custGeom>
              <a:solidFill>
                <a:srgbClr val="8fd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404" name="Freeform 196"/>
              <p:cNvSpPr/>
              <p:nvPr/>
            </p:nvSpPr>
            <p:spPr>
              <a:xfrm>
                <a:off x="3570840" y="4092480"/>
                <a:ext cx="2058120" cy="1051920"/>
              </a:xfrm>
              <a:custGeom>
                <a:avLst/>
                <a:gdLst/>
                <a:ahLst/>
                <a:rect l="l" t="t" r="r" b="b"/>
                <a:pathLst>
                  <a:path w="3093060" h="1581177">
                    <a:moveTo>
                      <a:pt x="3093061" y="1216942"/>
                    </a:moveTo>
                    <a:cubicBezTo>
                      <a:pt x="2677009" y="1270599"/>
                      <a:pt x="2100810" y="1455257"/>
                      <a:pt x="1740129" y="1581177"/>
                    </a:cubicBezTo>
                    <a:lnTo>
                      <a:pt x="1080873" y="1066574"/>
                    </a:lnTo>
                    <a:cubicBezTo>
                      <a:pt x="1255561" y="1039078"/>
                      <a:pt x="1409929" y="1007900"/>
                      <a:pt x="1485241" y="975769"/>
                    </a:cubicBezTo>
                    <a:cubicBezTo>
                      <a:pt x="1485241" y="975769"/>
                      <a:pt x="1341604" y="876963"/>
                      <a:pt x="1166216" y="789714"/>
                    </a:cubicBezTo>
                    <a:cubicBezTo>
                      <a:pt x="1023532" y="718721"/>
                      <a:pt x="859766" y="655475"/>
                      <a:pt x="735305" y="659348"/>
                    </a:cubicBezTo>
                    <a:cubicBezTo>
                      <a:pt x="678473" y="661126"/>
                      <a:pt x="618592" y="661825"/>
                      <a:pt x="558395" y="658777"/>
                    </a:cubicBezTo>
                    <a:cubicBezTo>
                      <a:pt x="324524" y="647093"/>
                      <a:pt x="86209" y="579592"/>
                      <a:pt x="6961" y="303812"/>
                    </a:cubicBezTo>
                    <a:cubicBezTo>
                      <a:pt x="-2120" y="272125"/>
                      <a:pt x="-2120" y="247043"/>
                      <a:pt x="5817" y="227421"/>
                    </a:cubicBezTo>
                    <a:cubicBezTo>
                      <a:pt x="9437" y="218468"/>
                      <a:pt x="14708" y="210657"/>
                      <a:pt x="21439" y="203989"/>
                    </a:cubicBezTo>
                    <a:lnTo>
                      <a:pt x="21439" y="203926"/>
                    </a:lnTo>
                    <a:cubicBezTo>
                      <a:pt x="61443" y="164112"/>
                      <a:pt x="154344" y="160937"/>
                      <a:pt x="275248" y="174462"/>
                    </a:cubicBezTo>
                    <a:lnTo>
                      <a:pt x="275248" y="174526"/>
                    </a:lnTo>
                    <a:cubicBezTo>
                      <a:pt x="580303" y="208625"/>
                      <a:pt x="1063728" y="348896"/>
                      <a:pt x="1324840" y="273522"/>
                    </a:cubicBezTo>
                    <a:cubicBezTo>
                      <a:pt x="1537247" y="212181"/>
                      <a:pt x="1658977" y="133187"/>
                      <a:pt x="1727429" y="70004"/>
                    </a:cubicBezTo>
                    <a:cubicBezTo>
                      <a:pt x="1794422" y="8092"/>
                      <a:pt x="1888466" y="-14959"/>
                      <a:pt x="1976286" y="9743"/>
                    </a:cubicBezTo>
                    <a:cubicBezTo>
                      <a:pt x="2227111" y="80546"/>
                      <a:pt x="2713903" y="207927"/>
                      <a:pt x="3092108" y="247106"/>
                    </a:cubicBezTo>
                    <a:cubicBezTo>
                      <a:pt x="3091092" y="460149"/>
                      <a:pt x="3092299" y="949099"/>
                      <a:pt x="3093061" y="1216942"/>
                    </a:cubicBezTo>
                    <a:close/>
                  </a:path>
                </a:pathLst>
              </a:custGeom>
              <a:solidFill>
                <a:srgbClr val="8fd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405" name="Freeform 197"/>
              <p:cNvSpPr/>
              <p:nvPr/>
            </p:nvSpPr>
            <p:spPr>
              <a:xfrm>
                <a:off x="3228480" y="4041720"/>
                <a:ext cx="1535040" cy="1235160"/>
              </a:xfrm>
              <a:custGeom>
                <a:avLst/>
                <a:gdLst/>
                <a:ahLst/>
                <a:rect l="l" t="t" r="r" b="b"/>
                <a:pathLst>
                  <a:path w="2307087" h="1856848">
                    <a:moveTo>
                      <a:pt x="2284603" y="1815973"/>
                    </a:moveTo>
                    <a:cubicBezTo>
                      <a:pt x="2248536" y="1862201"/>
                      <a:pt x="2181797" y="1870456"/>
                      <a:pt x="2135505" y="1834388"/>
                    </a:cubicBezTo>
                    <a:lnTo>
                      <a:pt x="2017776" y="1742503"/>
                    </a:lnTo>
                    <a:lnTo>
                      <a:pt x="1302448" y="1184084"/>
                    </a:lnTo>
                    <a:lnTo>
                      <a:pt x="1095439" y="1022540"/>
                    </a:lnTo>
                    <a:lnTo>
                      <a:pt x="636842" y="664591"/>
                    </a:lnTo>
                    <a:cubicBezTo>
                      <a:pt x="521589" y="454914"/>
                      <a:pt x="373635" y="449580"/>
                      <a:pt x="373635" y="449580"/>
                    </a:cubicBezTo>
                    <a:lnTo>
                      <a:pt x="374269" y="459613"/>
                    </a:lnTo>
                    <a:lnTo>
                      <a:pt x="0" y="167449"/>
                    </a:lnTo>
                    <a:lnTo>
                      <a:pt x="37783" y="118999"/>
                    </a:lnTo>
                    <a:lnTo>
                      <a:pt x="95695" y="44831"/>
                    </a:lnTo>
                    <a:lnTo>
                      <a:pt x="130684" y="0"/>
                    </a:lnTo>
                    <a:lnTo>
                      <a:pt x="519874" y="303784"/>
                    </a:lnTo>
                    <a:cubicBezTo>
                      <a:pt x="511937" y="323405"/>
                      <a:pt x="511937" y="348488"/>
                      <a:pt x="521018" y="380174"/>
                    </a:cubicBezTo>
                    <a:cubicBezTo>
                      <a:pt x="600266" y="655955"/>
                      <a:pt x="838581" y="723455"/>
                      <a:pt x="1072452" y="735140"/>
                    </a:cubicBezTo>
                    <a:lnTo>
                      <a:pt x="1370838" y="968058"/>
                    </a:lnTo>
                    <a:lnTo>
                      <a:pt x="1594930" y="1142937"/>
                    </a:lnTo>
                    <a:lnTo>
                      <a:pt x="2254187" y="1657540"/>
                    </a:lnTo>
                    <a:lnTo>
                      <a:pt x="2266252" y="1666939"/>
                    </a:lnTo>
                    <a:cubicBezTo>
                      <a:pt x="2312480" y="1703007"/>
                      <a:pt x="2320672" y="1769745"/>
                      <a:pt x="2284603" y="1815973"/>
                    </a:cubicBezTo>
                    <a:close/>
                  </a:path>
                </a:pathLst>
              </a:custGeom>
              <a:solidFill>
                <a:srgbClr val="fe6b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406" name="Freeform 198"/>
              <p:cNvSpPr/>
              <p:nvPr/>
            </p:nvSpPr>
            <p:spPr>
              <a:xfrm>
                <a:off x="3488040" y="45090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63" h="126">
                    <a:moveTo>
                      <a:pt x="63" y="0"/>
                    </a:moveTo>
                    <a:lnTo>
                      <a:pt x="0" y="127"/>
                    </a:lnTo>
                  </a:path>
                </a:pathLst>
              </a:custGeom>
              <a:noFill/>
              <a:ln w="6480">
                <a:solidFill>
                  <a:srgbClr val="231f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407" name="Freeform 199"/>
              <p:cNvSpPr/>
              <p:nvPr/>
            </p:nvSpPr>
            <p:spPr>
              <a:xfrm>
                <a:off x="3422880" y="4509000"/>
                <a:ext cx="92160" cy="425520"/>
              </a:xfrm>
              <a:custGeom>
                <a:avLst/>
                <a:gdLst/>
                <a:ahLst/>
                <a:rect l="l" t="t" r="r" b="b"/>
                <a:pathLst>
                  <a:path w="138633" h="639762">
                    <a:moveTo>
                      <a:pt x="138633" y="639763"/>
                    </a:moveTo>
                    <a:lnTo>
                      <a:pt x="80975" y="594170"/>
                    </a:lnTo>
                    <a:cubicBezTo>
                      <a:pt x="15634" y="542480"/>
                      <a:pt x="-13640" y="457454"/>
                      <a:pt x="6045" y="376492"/>
                    </a:cubicBezTo>
                    <a:lnTo>
                      <a:pt x="97739" y="0"/>
                    </a:lnTo>
                    <a:lnTo>
                      <a:pt x="138633" y="639763"/>
                    </a:lnTo>
                    <a:close/>
                  </a:path>
                </a:pathLst>
              </a:custGeom>
              <a:solidFill>
                <a:srgbClr val="50b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408" name="Freeform 200"/>
              <p:cNvSpPr/>
              <p:nvPr/>
            </p:nvSpPr>
            <p:spPr>
              <a:xfrm>
                <a:off x="3515040" y="49348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63" h="63">
                    <a:moveTo>
                      <a:pt x="64" y="63"/>
                    </a:move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231f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409" name="Freeform 201"/>
              <p:cNvSpPr/>
              <p:nvPr/>
            </p:nvSpPr>
            <p:spPr>
              <a:xfrm>
                <a:off x="3564720" y="4043880"/>
                <a:ext cx="189000" cy="183960"/>
              </a:xfrm>
              <a:custGeom>
                <a:avLst/>
                <a:gdLst/>
                <a:ahLst/>
                <a:rect l="l" t="t" r="r" b="b"/>
                <a:pathLst>
                  <a:path w="284095" h="276964">
                    <a:moveTo>
                      <a:pt x="284095" y="247500"/>
                    </a:moveTo>
                    <a:cubicBezTo>
                      <a:pt x="163191" y="233975"/>
                      <a:pt x="70291" y="237150"/>
                      <a:pt x="30286" y="276964"/>
                    </a:cubicBezTo>
                    <a:lnTo>
                      <a:pt x="441" y="54206"/>
                    </a:lnTo>
                    <a:cubicBezTo>
                      <a:pt x="-4702" y="15598"/>
                      <a:pt x="36191" y="-12786"/>
                      <a:pt x="70354" y="5883"/>
                    </a:cubicBezTo>
                    <a:cubicBezTo>
                      <a:pt x="148078" y="48364"/>
                      <a:pt x="257108" y="127676"/>
                      <a:pt x="284095" y="247500"/>
                    </a:cubicBezTo>
                    <a:close/>
                  </a:path>
                </a:pathLst>
              </a:custGeom>
              <a:solidFill>
                <a:srgbClr val="50b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410" name="Freeform 202"/>
              <p:cNvSpPr/>
              <p:nvPr/>
            </p:nvSpPr>
            <p:spPr>
              <a:xfrm>
                <a:off x="4140720" y="4617720"/>
                <a:ext cx="417960" cy="183960"/>
              </a:xfrm>
              <a:custGeom>
                <a:avLst/>
                <a:gdLst/>
                <a:ahLst/>
                <a:rect l="l" t="t" r="r" b="b"/>
                <a:pathLst>
                  <a:path w="628460" h="276859">
                    <a:moveTo>
                      <a:pt x="628460" y="186055"/>
                    </a:moveTo>
                    <a:cubicBezTo>
                      <a:pt x="553148" y="218186"/>
                      <a:pt x="398780" y="249364"/>
                      <a:pt x="224092" y="276860"/>
                    </a:cubicBezTo>
                    <a:lnTo>
                      <a:pt x="0" y="101981"/>
                    </a:lnTo>
                    <a:cubicBezTo>
                      <a:pt x="140907" y="54356"/>
                      <a:pt x="309435" y="0"/>
                      <a:pt x="309435" y="0"/>
                    </a:cubicBezTo>
                    <a:cubicBezTo>
                      <a:pt x="484823" y="87249"/>
                      <a:pt x="628460" y="186055"/>
                      <a:pt x="628460" y="186055"/>
                    </a:cubicBezTo>
                    <a:close/>
                  </a:path>
                </a:pathLst>
              </a:custGeom>
              <a:solidFill>
                <a:srgbClr val="50b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  <p:sp>
            <p:nvSpPr>
              <p:cNvPr id="1411" name="Freeform 203"/>
              <p:cNvSpPr/>
              <p:nvPr/>
            </p:nvSpPr>
            <p:spPr>
              <a:xfrm>
                <a:off x="3722040" y="4698000"/>
                <a:ext cx="372960" cy="170280"/>
              </a:xfrm>
              <a:custGeom>
                <a:avLst/>
                <a:gdLst/>
                <a:ahLst/>
                <a:rect l="l" t="t" r="r" b="b"/>
                <a:pathLst>
                  <a:path w="560895" h="256349">
                    <a:moveTo>
                      <a:pt x="560895" y="197548"/>
                    </a:moveTo>
                    <a:cubicBezTo>
                      <a:pt x="279718" y="233235"/>
                      <a:pt x="26607" y="256349"/>
                      <a:pt x="26607" y="256349"/>
                    </a:cubicBezTo>
                    <a:cubicBezTo>
                      <a:pt x="22289" y="159576"/>
                      <a:pt x="13018" y="74613"/>
                      <a:pt x="0" y="0"/>
                    </a:cubicBezTo>
                    <a:cubicBezTo>
                      <a:pt x="0" y="0"/>
                      <a:pt x="191643" y="33973"/>
                      <a:pt x="353885" y="36004"/>
                    </a:cubicBezTo>
                    <a:lnTo>
                      <a:pt x="560895" y="197548"/>
                    </a:lnTo>
                    <a:close/>
                  </a:path>
                </a:pathLst>
              </a:custGeom>
              <a:solidFill>
                <a:srgbClr val="50b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Open Sans"/>
                </a:endParaRPr>
              </a:p>
            </p:txBody>
          </p:sp>
        </p:grpSp>
        <p:sp>
          <p:nvSpPr>
            <p:cNvPr id="1412" name="Freeform 204"/>
            <p:cNvSpPr/>
            <p:nvPr/>
          </p:nvSpPr>
          <p:spPr>
            <a:xfrm>
              <a:off x="2456640" y="2063520"/>
              <a:ext cx="515520" cy="515520"/>
            </a:xfrm>
            <a:custGeom>
              <a:avLst/>
              <a:gdLst/>
              <a:ahLst/>
              <a:rect l="l" t="t" r="r" b="b"/>
              <a:pathLst>
                <a:path w="775208" h="775208">
                  <a:moveTo>
                    <a:pt x="387858" y="775208"/>
                  </a:moveTo>
                  <a:lnTo>
                    <a:pt x="387350" y="775208"/>
                  </a:lnTo>
                  <a:cubicBezTo>
                    <a:pt x="387350" y="561277"/>
                    <a:pt x="213932" y="387858"/>
                    <a:pt x="0" y="387858"/>
                  </a:cubicBezTo>
                  <a:lnTo>
                    <a:pt x="0" y="387604"/>
                  </a:lnTo>
                  <a:cubicBezTo>
                    <a:pt x="214059" y="387604"/>
                    <a:pt x="387604" y="214059"/>
                    <a:pt x="387604" y="0"/>
                  </a:cubicBezTo>
                  <a:lnTo>
                    <a:pt x="387604" y="0"/>
                  </a:lnTo>
                  <a:cubicBezTo>
                    <a:pt x="387604" y="214059"/>
                    <a:pt x="561150" y="387604"/>
                    <a:pt x="775208" y="387604"/>
                  </a:cubicBezTo>
                  <a:lnTo>
                    <a:pt x="775208" y="387858"/>
                  </a:lnTo>
                  <a:cubicBezTo>
                    <a:pt x="561277" y="387858"/>
                    <a:pt x="387858" y="561277"/>
                    <a:pt x="387858" y="77520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13" name="Freeform 205"/>
            <p:cNvSpPr/>
            <p:nvPr/>
          </p:nvSpPr>
          <p:spPr>
            <a:xfrm>
              <a:off x="3075480" y="1961640"/>
              <a:ext cx="203400" cy="203400"/>
            </a:xfrm>
            <a:custGeom>
              <a:avLst/>
              <a:gdLst/>
              <a:ahLst/>
              <a:rect l="l" t="t" r="r" b="b"/>
              <a:pathLst>
                <a:path w="305943" h="305943">
                  <a:moveTo>
                    <a:pt x="153035" y="305943"/>
                  </a:moveTo>
                  <a:lnTo>
                    <a:pt x="152845" y="305943"/>
                  </a:lnTo>
                  <a:cubicBezTo>
                    <a:pt x="152845" y="221552"/>
                    <a:pt x="84392" y="153099"/>
                    <a:pt x="0" y="153099"/>
                  </a:cubicBezTo>
                  <a:lnTo>
                    <a:pt x="0" y="152972"/>
                  </a:lnTo>
                  <a:cubicBezTo>
                    <a:pt x="84455" y="152972"/>
                    <a:pt x="152971" y="84519"/>
                    <a:pt x="152971" y="0"/>
                  </a:cubicBezTo>
                  <a:lnTo>
                    <a:pt x="152971" y="0"/>
                  </a:lnTo>
                  <a:cubicBezTo>
                    <a:pt x="152971" y="84455"/>
                    <a:pt x="221424" y="152972"/>
                    <a:pt x="305943" y="152972"/>
                  </a:cubicBezTo>
                  <a:lnTo>
                    <a:pt x="305943" y="153099"/>
                  </a:lnTo>
                  <a:cubicBezTo>
                    <a:pt x="221424" y="153099"/>
                    <a:pt x="153035" y="221552"/>
                    <a:pt x="153035" y="30594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6501960" y="1564920"/>
            <a:ext cx="4559400" cy="10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3200" spc="-1" strike="noStrike">
                <a:solidFill>
                  <a:srgbClr val="ffffff"/>
                </a:solidFill>
                <a:latin typeface="Roboto Black"/>
              </a:rPr>
              <a:t>Braces Is Good For</a:t>
            </a:r>
            <a:br>
              <a:rPr sz="3200"/>
            </a:br>
            <a:r>
              <a:rPr b="0" lang="en-ID" sz="3200" spc="-1" strike="noStrike">
                <a:solidFill>
                  <a:srgbClr val="ffffff"/>
                </a:solidFill>
                <a:latin typeface="Roboto Black"/>
              </a:rPr>
              <a:t>Your Appereance</a:t>
            </a:r>
            <a:endParaRPr b="0" lang="en-US" sz="3200" spc="-1" strike="noStrike">
              <a:solidFill>
                <a:srgbClr val="ffffff"/>
              </a:solidFill>
              <a:latin typeface="Roboto Black"/>
            </a:endParaRPr>
          </a:p>
        </p:txBody>
      </p:sp>
      <p:sp>
        <p:nvSpPr>
          <p:cNvPr id="1415" name="TextBox 215"/>
          <p:cNvSpPr/>
          <p:nvPr/>
        </p:nvSpPr>
        <p:spPr>
          <a:xfrm>
            <a:off x="6502320" y="1176840"/>
            <a:ext cx="1925640" cy="337320"/>
          </a:xfrm>
          <a:prstGeom prst="rect">
            <a:avLst/>
          </a:prstGeom>
          <a:solidFill>
            <a:srgbClr val="dceb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Open Sans"/>
              </a:rPr>
              <a:t>Sub-Title Here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16" name="TextBox 216"/>
          <p:cNvSpPr/>
          <p:nvPr/>
        </p:nvSpPr>
        <p:spPr>
          <a:xfrm>
            <a:off x="6502320" y="2602440"/>
            <a:ext cx="4559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 and pain. He shuddered all over, and edged away from his companion. A dentist! A dentist at Philip lorem ipsum dolor sit amet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17" name="Rounded Rectangle 217"/>
          <p:cNvSpPr/>
          <p:nvPr/>
        </p:nvSpPr>
        <p:spPr>
          <a:xfrm>
            <a:off x="6502320" y="3751200"/>
            <a:ext cx="2192400" cy="1930320"/>
          </a:xfrm>
          <a:prstGeom prst="roundRect">
            <a:avLst>
              <a:gd name="adj" fmla="val 5838"/>
            </a:avLst>
          </a:prstGeom>
          <a:solidFill>
            <a:srgbClr val="262626"/>
          </a:solidFill>
          <a:ln w="0">
            <a:noFill/>
          </a:ln>
          <a:effectLst>
            <a:outerShdw dist="153753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18" name="Rounded Rectangle 219"/>
          <p:cNvSpPr/>
          <p:nvPr/>
        </p:nvSpPr>
        <p:spPr>
          <a:xfrm>
            <a:off x="8869320" y="3757680"/>
            <a:ext cx="2192400" cy="1928880"/>
          </a:xfrm>
          <a:prstGeom prst="roundRect">
            <a:avLst>
              <a:gd name="adj" fmla="val 5838"/>
            </a:avLst>
          </a:prstGeom>
          <a:solidFill>
            <a:srgbClr val="262626"/>
          </a:solidFill>
          <a:ln w="0">
            <a:noFill/>
          </a:ln>
          <a:effectLst>
            <a:outerShdw dist="153753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19" name="TextBox 220"/>
          <p:cNvSpPr/>
          <p:nvPr/>
        </p:nvSpPr>
        <p:spPr>
          <a:xfrm>
            <a:off x="6654960" y="4811760"/>
            <a:ext cx="1890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20" name="TextBox 221"/>
          <p:cNvSpPr/>
          <p:nvPr/>
        </p:nvSpPr>
        <p:spPr>
          <a:xfrm>
            <a:off x="6654960" y="4580280"/>
            <a:ext cx="18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21" name="TextBox 222"/>
          <p:cNvSpPr/>
          <p:nvPr/>
        </p:nvSpPr>
        <p:spPr>
          <a:xfrm>
            <a:off x="9020160" y="4794480"/>
            <a:ext cx="1890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hilip gave a cry of personal disgust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22" name="TextBox 223"/>
          <p:cNvSpPr/>
          <p:nvPr/>
        </p:nvSpPr>
        <p:spPr>
          <a:xfrm>
            <a:off x="9020160" y="4563000"/>
            <a:ext cx="18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Description Two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23" name="Rounded Rectangle 225"/>
          <p:cNvSpPr/>
          <p:nvPr/>
        </p:nvSpPr>
        <p:spPr>
          <a:xfrm>
            <a:off x="6913440" y="5635800"/>
            <a:ext cx="1371600" cy="45720"/>
          </a:xfrm>
          <a:prstGeom prst="roundRect">
            <a:avLst>
              <a:gd name="adj" fmla="val 50000"/>
            </a:avLst>
          </a:prstGeom>
          <a:solidFill>
            <a:srgbClr val="8fd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24" name="Rounded Rectangle 226"/>
          <p:cNvSpPr/>
          <p:nvPr/>
        </p:nvSpPr>
        <p:spPr>
          <a:xfrm>
            <a:off x="9283680" y="5635800"/>
            <a:ext cx="1371600" cy="45720"/>
          </a:xfrm>
          <a:prstGeom prst="roundRect">
            <a:avLst>
              <a:gd name="adj" fmla="val 50000"/>
            </a:avLst>
          </a:prstGeom>
          <a:solidFill>
            <a:srgbClr val="8fd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425" name="Graphic 1"/>
          <p:cNvGrpSpPr/>
          <p:nvPr/>
        </p:nvGrpSpPr>
        <p:grpSpPr>
          <a:xfrm>
            <a:off x="7345440" y="3962520"/>
            <a:ext cx="488880" cy="465120"/>
            <a:chOff x="7345440" y="3962520"/>
            <a:chExt cx="488880" cy="465120"/>
          </a:xfrm>
        </p:grpSpPr>
        <p:sp>
          <p:nvSpPr>
            <p:cNvPr id="1426" name="Freeform: Shape 733"/>
            <p:cNvSpPr/>
            <p:nvPr/>
          </p:nvSpPr>
          <p:spPr>
            <a:xfrm>
              <a:off x="7494120" y="4388400"/>
              <a:ext cx="179280" cy="35640"/>
            </a:xfrm>
            <a:custGeom>
              <a:avLst/>
              <a:gdLst/>
              <a:ahLst/>
              <a:rect l="l" t="t" r="r" b="b"/>
              <a:pathLst>
                <a:path w="236833" h="47366">
                  <a:moveTo>
                    <a:pt x="213151" y="47367"/>
                  </a:moveTo>
                  <a:lnTo>
                    <a:pt x="23683" y="47367"/>
                  </a:lnTo>
                  <a:cubicBezTo>
                    <a:pt x="10579" y="47367"/>
                    <a:pt x="0" y="36788"/>
                    <a:pt x="0" y="23683"/>
                  </a:cubicBezTo>
                  <a:lnTo>
                    <a:pt x="0" y="23683"/>
                  </a:lnTo>
                  <a:cubicBezTo>
                    <a:pt x="0" y="10579"/>
                    <a:pt x="10579" y="0"/>
                    <a:pt x="23683" y="0"/>
                  </a:cubicBezTo>
                  <a:lnTo>
                    <a:pt x="213151" y="0"/>
                  </a:lnTo>
                  <a:cubicBezTo>
                    <a:pt x="226255" y="0"/>
                    <a:pt x="236834" y="10579"/>
                    <a:pt x="236834" y="23683"/>
                  </a:cubicBezTo>
                  <a:lnTo>
                    <a:pt x="236834" y="23683"/>
                  </a:lnTo>
                  <a:cubicBezTo>
                    <a:pt x="236834" y="36788"/>
                    <a:pt x="226255" y="47367"/>
                    <a:pt x="213151" y="47367"/>
                  </a:cubicBezTo>
                  <a:close/>
                </a:path>
              </a:pathLst>
            </a:custGeom>
            <a:solidFill>
              <a:srgbClr val="457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27" name="Freeform: Shape 734"/>
            <p:cNvSpPr/>
            <p:nvPr/>
          </p:nvSpPr>
          <p:spPr>
            <a:xfrm>
              <a:off x="7350840" y="4054320"/>
              <a:ext cx="441720" cy="285120"/>
            </a:xfrm>
            <a:custGeom>
              <a:avLst/>
              <a:gdLst/>
              <a:ahLst/>
              <a:rect l="l" t="t" r="r" b="b"/>
              <a:pathLst>
                <a:path w="582743" h="375888">
                  <a:moveTo>
                    <a:pt x="575737" y="335587"/>
                  </a:moveTo>
                  <a:lnTo>
                    <a:pt x="425742" y="187487"/>
                  </a:lnTo>
                  <a:lnTo>
                    <a:pt x="191908" y="187487"/>
                  </a:lnTo>
                  <a:lnTo>
                    <a:pt x="41755" y="8440"/>
                  </a:lnTo>
                  <a:cubicBezTo>
                    <a:pt x="33387" y="-1507"/>
                    <a:pt x="18387" y="-2928"/>
                    <a:pt x="8440" y="5598"/>
                  </a:cubicBezTo>
                  <a:cubicBezTo>
                    <a:pt x="-1507" y="14124"/>
                    <a:pt x="-2928" y="28966"/>
                    <a:pt x="5598" y="38913"/>
                  </a:cubicBezTo>
                  <a:lnTo>
                    <a:pt x="169961" y="234696"/>
                  </a:lnTo>
                  <a:lnTo>
                    <a:pt x="173277" y="234696"/>
                  </a:lnTo>
                  <a:lnTo>
                    <a:pt x="408216" y="234696"/>
                  </a:lnTo>
                  <a:lnTo>
                    <a:pt x="542422" y="368902"/>
                  </a:lnTo>
                  <a:cubicBezTo>
                    <a:pt x="551737" y="378217"/>
                    <a:pt x="566737" y="378217"/>
                    <a:pt x="575894" y="368902"/>
                  </a:cubicBezTo>
                  <a:cubicBezTo>
                    <a:pt x="585052" y="359586"/>
                    <a:pt x="585052" y="344745"/>
                    <a:pt x="575737" y="335587"/>
                  </a:cubicBezTo>
                  <a:close/>
                </a:path>
              </a:pathLst>
            </a:custGeom>
            <a:solidFill>
              <a:srgbClr val="457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28" name="Freeform: Shape 735"/>
            <p:cNvSpPr/>
            <p:nvPr/>
          </p:nvSpPr>
          <p:spPr>
            <a:xfrm>
              <a:off x="7553880" y="4232520"/>
              <a:ext cx="59760" cy="119520"/>
            </a:xfrm>
            <a:custGeom>
              <a:avLst/>
              <a:gdLst/>
              <a:ahLst/>
              <a:rect l="l" t="t" r="r" b="b"/>
              <a:pathLst>
                <a:path w="78944" h="157889">
                  <a:moveTo>
                    <a:pt x="0" y="0"/>
                  </a:moveTo>
                  <a:lnTo>
                    <a:pt x="78945" y="0"/>
                  </a:lnTo>
                  <a:lnTo>
                    <a:pt x="78945" y="157889"/>
                  </a:lnTo>
                  <a:lnTo>
                    <a:pt x="0" y="1578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29" name="Freeform: Shape 736"/>
            <p:cNvSpPr/>
            <p:nvPr/>
          </p:nvSpPr>
          <p:spPr>
            <a:xfrm>
              <a:off x="7565760" y="4148640"/>
              <a:ext cx="35640" cy="47880"/>
            </a:xfrm>
            <a:custGeom>
              <a:avLst/>
              <a:gdLst/>
              <a:ahLst/>
              <a:rect l="l" t="t" r="r" b="b"/>
              <a:pathLst>
                <a:path w="47366" h="63155">
                  <a:moveTo>
                    <a:pt x="0" y="0"/>
                  </a:moveTo>
                  <a:lnTo>
                    <a:pt x="-18169" y="0"/>
                  </a:lnTo>
                  <a:lnTo>
                    <a:pt x="-18169" y="-2380"/>
                  </a:lnTo>
                  <a:lnTo>
                    <a:pt x="0" y="-23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30" name="Freeform: Shape 737"/>
            <p:cNvSpPr/>
            <p:nvPr/>
          </p:nvSpPr>
          <p:spPr>
            <a:xfrm>
              <a:off x="7517880" y="4112640"/>
              <a:ext cx="131400" cy="35640"/>
            </a:xfrm>
            <a:custGeom>
              <a:avLst/>
              <a:gdLst/>
              <a:ahLst/>
              <a:rect l="l" t="t" r="r" b="b"/>
              <a:pathLst>
                <a:path w="173678" h="47366">
                  <a:moveTo>
                    <a:pt x="149995" y="47367"/>
                  </a:moveTo>
                  <a:lnTo>
                    <a:pt x="23683" y="47367"/>
                  </a:lnTo>
                  <a:cubicBezTo>
                    <a:pt x="10579" y="47367"/>
                    <a:pt x="0" y="36788"/>
                    <a:pt x="0" y="23683"/>
                  </a:cubicBezTo>
                  <a:lnTo>
                    <a:pt x="0" y="23683"/>
                  </a:lnTo>
                  <a:cubicBezTo>
                    <a:pt x="0" y="10579"/>
                    <a:pt x="10579" y="0"/>
                    <a:pt x="23683" y="0"/>
                  </a:cubicBezTo>
                  <a:lnTo>
                    <a:pt x="149995" y="0"/>
                  </a:lnTo>
                  <a:cubicBezTo>
                    <a:pt x="163100" y="0"/>
                    <a:pt x="173678" y="10579"/>
                    <a:pt x="173678" y="23683"/>
                  </a:cubicBezTo>
                  <a:lnTo>
                    <a:pt x="173678" y="23683"/>
                  </a:lnTo>
                  <a:cubicBezTo>
                    <a:pt x="173678" y="36788"/>
                    <a:pt x="163100" y="47367"/>
                    <a:pt x="149995" y="47367"/>
                  </a:cubicBezTo>
                  <a:close/>
                </a:path>
              </a:pathLst>
            </a:custGeom>
            <a:solidFill>
              <a:srgbClr val="edf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31" name="Freeform: Shape 738"/>
            <p:cNvSpPr/>
            <p:nvPr/>
          </p:nvSpPr>
          <p:spPr>
            <a:xfrm>
              <a:off x="7461360" y="3977280"/>
              <a:ext cx="83880" cy="84240"/>
            </a:xfrm>
            <a:custGeom>
              <a:avLst/>
              <a:gdLst/>
              <a:ahLst/>
              <a:rect l="l" t="t" r="r" b="b"/>
              <a:pathLst>
                <a:path w="111114" h="111114">
                  <a:moveTo>
                    <a:pt x="78155" y="111115"/>
                  </a:moveTo>
                  <a:lnTo>
                    <a:pt x="0" y="32959"/>
                  </a:lnTo>
                  <a:lnTo>
                    <a:pt x="16736" y="16223"/>
                  </a:lnTo>
                  <a:cubicBezTo>
                    <a:pt x="38367" y="-5408"/>
                    <a:pt x="73261" y="-5408"/>
                    <a:pt x="94892" y="16223"/>
                  </a:cubicBezTo>
                  <a:lnTo>
                    <a:pt x="94892" y="16223"/>
                  </a:lnTo>
                  <a:cubicBezTo>
                    <a:pt x="116522" y="37854"/>
                    <a:pt x="116522" y="72748"/>
                    <a:pt x="94892" y="94378"/>
                  </a:cubicBezTo>
                  <a:lnTo>
                    <a:pt x="78155" y="111115"/>
                  </a:lnTo>
                  <a:close/>
                </a:path>
              </a:pathLst>
            </a:custGeom>
            <a:solidFill>
              <a:srgbClr val="fcbf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32" name="Freeform: Shape 739"/>
            <p:cNvSpPr/>
            <p:nvPr/>
          </p:nvSpPr>
          <p:spPr>
            <a:xfrm>
              <a:off x="7530120" y="4316400"/>
              <a:ext cx="107640" cy="107640"/>
            </a:xfrm>
            <a:custGeom>
              <a:avLst/>
              <a:gdLst/>
              <a:ahLst/>
              <a:rect l="l" t="t" r="r" b="b"/>
              <a:pathLst>
                <a:path w="142100" h="142100">
                  <a:moveTo>
                    <a:pt x="142100" y="71050"/>
                  </a:moveTo>
                  <a:cubicBezTo>
                    <a:pt x="142100" y="110290"/>
                    <a:pt x="110290" y="142100"/>
                    <a:pt x="71050" y="142100"/>
                  </a:cubicBezTo>
                  <a:cubicBezTo>
                    <a:pt x="31810" y="142100"/>
                    <a:pt x="0" y="110290"/>
                    <a:pt x="0" y="71050"/>
                  </a:cubicBezTo>
                  <a:cubicBezTo>
                    <a:pt x="0" y="31810"/>
                    <a:pt x="31810" y="0"/>
                    <a:pt x="71050" y="0"/>
                  </a:cubicBezTo>
                  <a:cubicBezTo>
                    <a:pt x="110290" y="0"/>
                    <a:pt x="142100" y="31810"/>
                    <a:pt x="142100" y="71050"/>
                  </a:cubicBezTo>
                  <a:close/>
                </a:path>
              </a:pathLst>
            </a:custGeom>
            <a:solidFill>
              <a:srgbClr val="457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33" name="Freeform: Shape 740"/>
            <p:cNvSpPr/>
            <p:nvPr/>
          </p:nvSpPr>
          <p:spPr>
            <a:xfrm>
              <a:off x="7757280" y="4052880"/>
              <a:ext cx="71640" cy="47880"/>
            </a:xfrm>
            <a:custGeom>
              <a:avLst/>
              <a:gdLst/>
              <a:ahLst/>
              <a:rect l="l" t="t" r="r" b="b"/>
              <a:pathLst>
                <a:path w="94733" h="63155">
                  <a:moveTo>
                    <a:pt x="0" y="0"/>
                  </a:moveTo>
                  <a:lnTo>
                    <a:pt x="94734" y="0"/>
                  </a:lnTo>
                  <a:lnTo>
                    <a:pt x="94734" y="63156"/>
                  </a:lnTo>
                  <a:lnTo>
                    <a:pt x="0" y="63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8ca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pic>
          <p:nvPicPr>
            <p:cNvPr id="1434" name="Graphic 1" descr=""/>
            <p:cNvPicPr/>
            <p:nvPr/>
          </p:nvPicPr>
          <p:blipFill>
            <a:blip r:embed="rId1"/>
            <a:stretch/>
          </p:blipFill>
          <p:spPr>
            <a:xfrm>
              <a:off x="7345440" y="3962520"/>
              <a:ext cx="488880" cy="465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5" name="Graphic 1"/>
          <p:cNvGrpSpPr/>
          <p:nvPr/>
        </p:nvGrpSpPr>
        <p:grpSpPr>
          <a:xfrm>
            <a:off x="9732960" y="3941640"/>
            <a:ext cx="430200" cy="501840"/>
            <a:chOff x="9732960" y="3941640"/>
            <a:chExt cx="430200" cy="501840"/>
          </a:xfrm>
        </p:grpSpPr>
        <p:sp>
          <p:nvSpPr>
            <p:cNvPr id="1436" name="Freeform: Shape 962"/>
            <p:cNvSpPr/>
            <p:nvPr/>
          </p:nvSpPr>
          <p:spPr>
            <a:xfrm>
              <a:off x="9736200" y="3945240"/>
              <a:ext cx="348840" cy="491400"/>
            </a:xfrm>
            <a:custGeom>
              <a:avLst/>
              <a:gdLst/>
              <a:ahLst/>
              <a:rect l="l" t="t" r="r" b="b"/>
              <a:pathLst>
                <a:path w="457878" h="647346">
                  <a:moveTo>
                    <a:pt x="252623" y="513140"/>
                  </a:moveTo>
                  <a:cubicBezTo>
                    <a:pt x="252623" y="421722"/>
                    <a:pt x="326989" y="347356"/>
                    <a:pt x="418407" y="347356"/>
                  </a:cubicBezTo>
                  <a:cubicBezTo>
                    <a:pt x="431985" y="347356"/>
                    <a:pt x="445248" y="349251"/>
                    <a:pt x="457879" y="352251"/>
                  </a:cubicBezTo>
                  <a:lnTo>
                    <a:pt x="457879" y="31578"/>
                  </a:lnTo>
                  <a:cubicBezTo>
                    <a:pt x="457879" y="14210"/>
                    <a:pt x="443669" y="0"/>
                    <a:pt x="426301" y="0"/>
                  </a:cubicBezTo>
                  <a:lnTo>
                    <a:pt x="31578" y="0"/>
                  </a:lnTo>
                  <a:cubicBezTo>
                    <a:pt x="14210" y="0"/>
                    <a:pt x="0" y="14210"/>
                    <a:pt x="0" y="31578"/>
                  </a:cubicBezTo>
                  <a:lnTo>
                    <a:pt x="0" y="615768"/>
                  </a:lnTo>
                  <a:cubicBezTo>
                    <a:pt x="0" y="633136"/>
                    <a:pt x="14210" y="647346"/>
                    <a:pt x="31578" y="647346"/>
                  </a:cubicBezTo>
                  <a:lnTo>
                    <a:pt x="321463" y="647346"/>
                  </a:lnTo>
                  <a:cubicBezTo>
                    <a:pt x="279780" y="617189"/>
                    <a:pt x="252623" y="568244"/>
                    <a:pt x="252623" y="513140"/>
                  </a:cubicBezTo>
                  <a:close/>
                </a:path>
              </a:pathLst>
            </a:custGeom>
            <a:solidFill>
              <a:srgbClr val="edf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37" name="Freeform: Shape 963"/>
            <p:cNvSpPr/>
            <p:nvPr/>
          </p:nvSpPr>
          <p:spPr>
            <a:xfrm>
              <a:off x="9952920" y="4232880"/>
              <a:ext cx="204480" cy="203760"/>
            </a:xfrm>
            <a:custGeom>
              <a:avLst/>
              <a:gdLst/>
              <a:ahLst/>
              <a:rect l="l" t="t" r="r" b="b"/>
              <a:pathLst>
                <a:path w="268411" h="268411">
                  <a:moveTo>
                    <a:pt x="268412" y="134206"/>
                  </a:moveTo>
                  <a:cubicBezTo>
                    <a:pt x="268412" y="208326"/>
                    <a:pt x="208326" y="268412"/>
                    <a:pt x="134206" y="268412"/>
                  </a:cubicBezTo>
                  <a:cubicBezTo>
                    <a:pt x="60086" y="268412"/>
                    <a:pt x="0" y="208326"/>
                    <a:pt x="0" y="134206"/>
                  </a:cubicBezTo>
                  <a:cubicBezTo>
                    <a:pt x="0" y="60086"/>
                    <a:pt x="60086" y="0"/>
                    <a:pt x="134206" y="0"/>
                  </a:cubicBezTo>
                  <a:cubicBezTo>
                    <a:pt x="208326" y="0"/>
                    <a:pt x="268412" y="60086"/>
                    <a:pt x="268412" y="134206"/>
                  </a:cubicBezTo>
                  <a:close/>
                </a:path>
              </a:pathLst>
            </a:custGeom>
            <a:solidFill>
              <a:srgbClr val="ffc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38" name="Freeform: Shape 964"/>
            <p:cNvSpPr/>
            <p:nvPr/>
          </p:nvSpPr>
          <p:spPr>
            <a:xfrm>
              <a:off x="9784440" y="4221000"/>
              <a:ext cx="36000" cy="35640"/>
            </a:xfrm>
            <a:custGeom>
              <a:avLst/>
              <a:gdLst/>
              <a:ahLst/>
              <a:rect l="l" t="t" r="r" b="b"/>
              <a:pathLst>
                <a:path w="47366" h="47366">
                  <a:moveTo>
                    <a:pt x="0" y="0"/>
                  </a:moveTo>
                  <a:lnTo>
                    <a:pt x="-18169" y="0"/>
                  </a:lnTo>
                  <a:lnTo>
                    <a:pt x="-18169" y="-18169"/>
                  </a:lnTo>
                  <a:lnTo>
                    <a:pt x="0" y="-181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ec4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39" name="Freeform: Shape 965"/>
            <p:cNvSpPr/>
            <p:nvPr/>
          </p:nvSpPr>
          <p:spPr>
            <a:xfrm>
              <a:off x="9784440" y="4293000"/>
              <a:ext cx="36000" cy="35640"/>
            </a:xfrm>
            <a:custGeom>
              <a:avLst/>
              <a:gdLst/>
              <a:ahLst/>
              <a:rect l="l" t="t" r="r" b="b"/>
              <a:pathLst>
                <a:path w="47366" h="47366">
                  <a:moveTo>
                    <a:pt x="0" y="0"/>
                  </a:moveTo>
                  <a:lnTo>
                    <a:pt x="-18169" y="0"/>
                  </a:lnTo>
                  <a:lnTo>
                    <a:pt x="-18169" y="-18169"/>
                  </a:lnTo>
                  <a:lnTo>
                    <a:pt x="0" y="-181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ec4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40" name="Freeform: Shape 966"/>
            <p:cNvSpPr/>
            <p:nvPr/>
          </p:nvSpPr>
          <p:spPr>
            <a:xfrm>
              <a:off x="9784440" y="4364640"/>
              <a:ext cx="36000" cy="35640"/>
            </a:xfrm>
            <a:custGeom>
              <a:avLst/>
              <a:gdLst/>
              <a:ahLst/>
              <a:rect l="l" t="t" r="r" b="b"/>
              <a:pathLst>
                <a:path w="47366" h="47366">
                  <a:moveTo>
                    <a:pt x="0" y="0"/>
                  </a:moveTo>
                  <a:lnTo>
                    <a:pt x="-18169" y="0"/>
                  </a:lnTo>
                  <a:lnTo>
                    <a:pt x="-18169" y="-18169"/>
                  </a:lnTo>
                  <a:lnTo>
                    <a:pt x="0" y="-181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41" name="Freeform: Shape 967"/>
            <p:cNvSpPr/>
            <p:nvPr/>
          </p:nvSpPr>
          <p:spPr>
            <a:xfrm>
              <a:off x="9820800" y="4005000"/>
              <a:ext cx="180360" cy="167760"/>
            </a:xfrm>
            <a:custGeom>
              <a:avLst/>
              <a:gdLst/>
              <a:ahLst/>
              <a:rect l="l" t="t" r="r" b="b"/>
              <a:pathLst>
                <a:path w="236664" h="221086">
                  <a:moveTo>
                    <a:pt x="234933" y="48154"/>
                  </a:moveTo>
                  <a:cubicBezTo>
                    <a:pt x="229722" y="25576"/>
                    <a:pt x="211407" y="7261"/>
                    <a:pt x="188987" y="1893"/>
                  </a:cubicBezTo>
                  <a:cubicBezTo>
                    <a:pt x="165619" y="-3634"/>
                    <a:pt x="143830" y="3787"/>
                    <a:pt x="129305" y="18471"/>
                  </a:cubicBezTo>
                  <a:cubicBezTo>
                    <a:pt x="123305" y="24629"/>
                    <a:pt x="113516" y="24629"/>
                    <a:pt x="107358" y="18471"/>
                  </a:cubicBezTo>
                  <a:cubicBezTo>
                    <a:pt x="92674" y="3787"/>
                    <a:pt x="71043" y="-3791"/>
                    <a:pt x="47676" y="1893"/>
                  </a:cubicBezTo>
                  <a:cubicBezTo>
                    <a:pt x="25098" y="7261"/>
                    <a:pt x="6940" y="25576"/>
                    <a:pt x="1730" y="48154"/>
                  </a:cubicBezTo>
                  <a:cubicBezTo>
                    <a:pt x="-3165" y="69469"/>
                    <a:pt x="2677" y="89363"/>
                    <a:pt x="14835" y="103731"/>
                  </a:cubicBezTo>
                  <a:cubicBezTo>
                    <a:pt x="35360" y="127888"/>
                    <a:pt x="47360" y="157887"/>
                    <a:pt x="47360" y="189465"/>
                  </a:cubicBezTo>
                  <a:lnTo>
                    <a:pt x="47360" y="189465"/>
                  </a:lnTo>
                  <a:cubicBezTo>
                    <a:pt x="47360" y="207465"/>
                    <a:pt x="62360" y="221832"/>
                    <a:pt x="80517" y="221043"/>
                  </a:cubicBezTo>
                  <a:cubicBezTo>
                    <a:pt x="88569" y="220727"/>
                    <a:pt x="94727" y="213464"/>
                    <a:pt x="94727" y="205254"/>
                  </a:cubicBezTo>
                  <a:cubicBezTo>
                    <a:pt x="94727" y="205254"/>
                    <a:pt x="94727" y="142098"/>
                    <a:pt x="118410" y="142098"/>
                  </a:cubicBezTo>
                  <a:cubicBezTo>
                    <a:pt x="142094" y="142098"/>
                    <a:pt x="142094" y="205254"/>
                    <a:pt x="142094" y="205254"/>
                  </a:cubicBezTo>
                  <a:cubicBezTo>
                    <a:pt x="142094" y="213306"/>
                    <a:pt x="148251" y="220569"/>
                    <a:pt x="156304" y="221043"/>
                  </a:cubicBezTo>
                  <a:cubicBezTo>
                    <a:pt x="174461" y="221990"/>
                    <a:pt x="189460" y="207465"/>
                    <a:pt x="189460" y="189465"/>
                  </a:cubicBezTo>
                  <a:lnTo>
                    <a:pt x="189460" y="189465"/>
                  </a:lnTo>
                  <a:cubicBezTo>
                    <a:pt x="189460" y="157887"/>
                    <a:pt x="201460" y="127730"/>
                    <a:pt x="221986" y="103731"/>
                  </a:cubicBezTo>
                  <a:cubicBezTo>
                    <a:pt x="233985" y="89363"/>
                    <a:pt x="239827" y="69469"/>
                    <a:pt x="234933" y="48154"/>
                  </a:cubicBezTo>
                  <a:close/>
                </a:path>
              </a:pathLst>
            </a:custGeom>
            <a:solidFill>
              <a:srgbClr val="f1fa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pic>
          <p:nvPicPr>
            <p:cNvPr id="1442" name="Graphic 1" descr=""/>
            <p:cNvPicPr/>
            <p:nvPr/>
          </p:nvPicPr>
          <p:blipFill>
            <a:blip r:embed="rId2"/>
            <a:stretch/>
          </p:blipFill>
          <p:spPr>
            <a:xfrm>
              <a:off x="9732960" y="3941640"/>
              <a:ext cx="430200" cy="501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10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10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10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10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10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1000" fill="hold"/>
                                        <p:tgtEl>
                                          <p:spTgt spid="1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1000" fill="hold"/>
                                        <p:tgtEl>
                                          <p:spTgt spid="1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9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9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9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9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9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900" fill="hold"/>
                                        <p:tgtEl>
                                          <p:spTgt spid="1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900" fill="hold"/>
                                        <p:tgtEl>
                                          <p:spTgt spid="1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900" fill="hold"/>
                                        <p:tgtEl>
                                          <p:spTgt spid="1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9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900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0T11:09:36Z</dcterms:created>
  <dc:creator>Musedsmh</dc:creator>
  <dc:description/>
  <cp:keywords/>
  <dc:language>en-US</dc:language>
  <cp:lastModifiedBy>gilang maulana</cp:lastModifiedBy>
  <cp:lastPrinted>2019-09-17T09:29:31Z</cp:lastPrinted>
  <dcterms:modified xsi:type="dcterms:W3CDTF">2020-11-10T07:14:33Z</dcterms:modified>
  <cp:revision>2563</cp:revision>
  <dc:subject/>
  <dc:title>ICONIC</dc:title>
</cp:coreProperties>
</file>